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BE1-55B4-4DBC-B4FD-3E53D148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490-55C3-4553-8183-92FBEB64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9EF-EFB5-45AF-8F7A-BCB8505D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E6A-9151-4DF2-85C1-649C98A3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EBD-F188-4F4E-A6EB-92CBAF6E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EDF-D155-4159-9EBE-3407CE5A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1A0-ABC3-4006-BE21-8DE1BD74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86A2-BF5B-44D9-9512-4863B99A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C0F-6105-4E81-B693-936410C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C49-05B1-453F-8408-20193F6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4EF-BD1D-438C-AE03-C91A330C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7E4-2C55-463B-95B1-3295EE06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C416-9FAC-4597-8AD3-F20FE4D87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12</a:t>
            </a: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Primavera 200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ebidas Alcohólic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3640" y="2928960"/>
            <a:ext cx="5178240" cy="2819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1411200"/>
            <a:ext cx="828036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el crecimiento en suspensión, los organismos están sumergidos y dispersados en el medio nutritivo y su movimiento sigue al del medi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En los sistemas con soporte, los organismos crecen como una monocapa o película sobre una superficie en contacto con un medio nutritivo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06600" y="411120"/>
            <a:ext cx="419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Tipos de fermentador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19640" y="3933720"/>
            <a:ext cx="3313080" cy="218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304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rmas de llevar a cabo un cultivo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769080" cy="3319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08000" y="4508640"/>
            <a:ext cx="13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-4680"/>
            <a:ext cx="849636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Comic Sans MS"/>
              </a:rPr>
              <a:t>Cultivo Batch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(Por Lotes o Tan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Estos bio-reactores operan en forma</a:t>
            </a: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discontinua (carga, fermentación, descarg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6721560" cy="3608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5880" y="2743200"/>
          <a:ext cx="2667240" cy="352260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Velocidad de crecimiento espec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Late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Acel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66cc"/>
                          </a:solidFill>
                          <a:latin typeface="Tahoma"/>
                        </a:rPr>
                        <a:t>Expon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3366cc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400" spc="-1" strike="noStrike" baseline="-25000">
                          <a:solidFill>
                            <a:srgbClr val="3366cc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eclin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4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stacion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ue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755640" y="1628640"/>
            <a:ext cx="1828800" cy="1216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4932360" y="1197000"/>
            <a:ext cx="1828800" cy="120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0"/>
            <a:ext cx="8686800" cy="42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59280" y="566100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5508720" y="4221000"/>
            <a:ext cx="321624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Si </a:t>
            </a:r>
            <a:r>
              <a:rPr b="0" lang="es-ES" sz="1800" spc="-1" strike="noStrike">
                <a:solidFill>
                  <a:srgbClr val="ffff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Esta situación ocurre principalmente en  </a:t>
            </a: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014560" y="2060640"/>
                <a:ext cx="4241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4284720" y="5734080"/>
            <a:ext cx="316692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332000" y="4707000"/>
            <a:ext cx="7812000" cy="2151000"/>
            <a:chOff x="1332000" y="4707000"/>
            <a:chExt cx="7812000" cy="215100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332000" y="5157720"/>
                  <a:ext cx="287964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∗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μ</m:t>
                          </m:r>
                          <m:r>
                            <m:t xml:space="preserve">∗</m:t>
                          </m:r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6329520" y="4707000"/>
              <a:ext cx="281448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284720" y="5661000"/>
              <a:ext cx="3166920" cy="0"/>
            </a:xfrm>
            <a:prstGeom prst="line">
              <a:avLst/>
            </a:prstGeom>
            <a:ln w="57240">
              <a:solidFill>
                <a:srgbClr val="a3ffe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826920" y="63388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Experiment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08720" y="1125360"/>
            <a:ext cx="338436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Black"/>
              </a:rPr>
              <a:t>Cultivo Continu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isten diferentes modos de operar fermentadores continu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ahoma"/>
              </a:rPr>
              <a:t>Quimostat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(Perfectamente agitado, CSTR, R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 el biorreactor está bien mezclado, la corriente de producto que sale del bio-reactor posee la misma composición que el líquido presente en el interior del rea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onsultas</a:t>
            </a: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mlienque@ing.uchile.c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Black"/>
              </a:rPr>
              <a:t>Características del Quimost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990360"/>
            <a:ext cx="8476920" cy="48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le llamó Quimostato dado que la composición química y biológica del medio se mantiene constante, para ello se debe controlar: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volumen del líquido en el reactor se mantiene constante, ajustando los flujos de entrada y salida al mismo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pH del medio mediante la adición de ácido o base. Generalmente se adiciona á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 suministro continuo de O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( o aire), en el caso de sistemas aerób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n nivel de agitación adecuado que garantice la homogeneidad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Los principales componentes de un cultivo continuo so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actor de volumen const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limentación de medio y salida de produ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anque estéril de medio (entrada y salid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ntrol de pH, T, OD (Oxígeno disuel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istema de aireación y agi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905120" y="380880"/>
            <a:ext cx="5409360" cy="5714640"/>
            <a:chOff x="1905120" y="380880"/>
            <a:chExt cx="5409360" cy="5714640"/>
          </a:xfrm>
        </p:grpSpPr>
        <p:sp>
          <p:nvSpPr>
            <p:cNvPr id="108" name=""/>
            <p:cNvSpPr/>
            <p:nvPr/>
          </p:nvSpPr>
          <p:spPr>
            <a:xfrm>
              <a:off x="2541240" y="5810040"/>
              <a:ext cx="477324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.  1 Típico Ferment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9" name=""/>
            <p:cNvGraphicFramePr/>
            <p:nvPr/>
          </p:nvGraphicFramePr>
          <p:xfrm>
            <a:off x="1905120" y="380880"/>
            <a:ext cx="5369760" cy="533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380880"/>
                      <a:ext cx="5369760" cy="53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268280"/>
            <a:ext cx="21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i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616572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835280" y="980640"/>
            <a:ext cx="28872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16360" y="6308280"/>
            <a:ext cx="719280" cy="73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0"/>
            <a:ext cx="86868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Células entran – Células salen + Crecimiento celular – Muerte celular  = Acumulación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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ues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Alimentación estéril,  x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o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Estado estacionario, no hay acumulación.</a:t>
            </a:r>
            <a:r>
              <a:rPr b="0" lang="es-MX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5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y</a:t>
            </a:r>
            <a:r>
              <a:rPr b="0" lang="es-ES" sz="16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x/s </a:t>
            </a:r>
            <a:r>
              <a:rPr b="0" lang="es-E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[gr célula/gr sustrato] : Conversión  (yield) de células referidas a nutriente consumido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90600" y="1341360"/>
                <a:ext cx="657864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4005360"/>
                <a:ext cx="8380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92720" y="2924280"/>
                <a:ext cx="816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5638680"/>
                <a:ext cx="255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16000" y="1268280"/>
            <a:ext cx="3902040" cy="4794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Comic Sans MS"/>
              </a:rPr>
              <a:t>Presentación 1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26 de Septiembre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omic Sans MS"/>
              </a:rPr>
              <a:t>Otros modos de operar una fermen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08-Ago    Cultivo Batch y Contin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5-Ago    FERI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2-Ago    Laboratorio    Experiencia "Normas de Bioseguridad. Parte 1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9-Ago    Laboratorio    Experiencia "Normas de Bioseguridad, Parte 2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05-Sep    Laboratorio    Experiencia "Cultivos Batch en Matraz de 500 m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2-Sep   Taller de como hacer una presentación y redacción de Infor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19-Sep    Vac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26-Sep   Presentación y Entrega Informe I    Investigación de tipos de  fermenta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4383360" cy="4765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08720" y="1125360"/>
            <a:ext cx="338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uede producirse inhibición por sustrato que extiende la etapa de la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050560" y="1989000"/>
            <a:ext cx="3816360" cy="719280"/>
          </a:xfrm>
          <a:prstGeom prst="line">
            <a:avLst/>
          </a:prstGeom>
          <a:ln w="57240">
            <a:solidFill>
              <a:srgbClr val="a3ffe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1819440" cy="238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alendario de Activida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3-Oct    Trabajo Grupal desarrollo de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0-Oct    Semana Olímp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7-Oct    Presentación Informal y Entrega Informe II    Propuesta de Optimización de una fermen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24-Oct    Prueba Prototipo    Se presenta la idea del prototipo. Debe ser aprobada la idea para prosegu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1-Oct  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07-Nov    Prueba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14-Nov    Presentación y Entrega Informe III    Informe Final de teoría y resultados del prototi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6-08-08T21:19:04Z</dcterms:modified>
  <cp:revision>138</cp:revision>
  <dc:subject/>
  <dc:title>Sin título de diapositiva</dc:title>
</cp:coreProperties>
</file>