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B05-7ADB-4320-8A4B-96BD4C59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DE9-5B70-4130-9263-FB859714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ABD-16C3-42BD-8AA0-0D7FE5AA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16E-F137-4B0D-B93C-CDDEFED2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D3E-76A4-42BD-B3DC-103606CE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C3C-BDA4-405A-B555-87D21F9F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3D3-0691-490A-8273-296D8E9E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11F-47C5-4F53-B2A7-B0B75101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0BD-81AD-48F0-8B9E-0A06BA07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E1C-8E0B-4AA8-8B80-CF944F6A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667-14FE-49D4-8E44-7C262714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08B-2053-4B6E-ADD7-62AC5B94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E3A8-2358-4E90-927D-56C9ED140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12</a:t>
            </a: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Primavera 200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Bebidas Alcohólic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ino y vinag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03640" y="2928960"/>
            <a:ext cx="5178240" cy="2819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1411200"/>
            <a:ext cx="82803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el crecimiento en suspensión, los organismos están sumergidos y dispersados en el medio nutritivo y su movimiento sigue al del medio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los sistemas con soporte, los organismos crecen como una monocapa o película sobre una superficie en contacto con un medio nutritivo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06600" y="411120"/>
            <a:ext cx="41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Tipos de fermentador</a:t>
            </a: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: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219640" y="3933720"/>
            <a:ext cx="3313080" cy="218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304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mas de llevar a cabo un cultivo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769080" cy="3319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08000" y="4508640"/>
            <a:ext cx="13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-4680"/>
            <a:ext cx="84963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Cultivo Batc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(Por Lotes o Tan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Estos bio-reactores operan en forma</a:t>
            </a: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continua (carga, fermentación, descarg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6721560" cy="360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095880" y="2743200"/>
          <a:ext cx="2667240" cy="3522600"/>
        </p:xfrm>
        <a:graphic>
          <a:graphicData uri="http://schemas.openxmlformats.org/drawingml/2006/table">
            <a:tbl>
              <a:tblPr/>
              <a:tblGrid>
                <a:gridCol w="1333800"/>
                <a:gridCol w="13334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Velocidad de crecimiento espec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Lat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cel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4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cc"/>
                          </a:solidFill>
                          <a:latin typeface="Tahoma"/>
                        </a:rPr>
                        <a:t>Exponen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3366cc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400" spc="-1" strike="noStrike" baseline="-25000">
                          <a:solidFill>
                            <a:srgbClr val="3366cc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eclin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4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Estacion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ue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1828800" cy="1216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4932360" y="1197000"/>
            <a:ext cx="1828800" cy="120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0"/>
            <a:ext cx="868680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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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u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979560" y="2127240"/>
                <a:ext cx="493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859280" y="5661000"/>
                <a:ext cx="36594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508720" y="4221000"/>
            <a:ext cx="32162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 (cont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i </a:t>
            </a:r>
            <a:r>
              <a:rPr b="0" lang="es-E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Esta situación ocurre principalmente en 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014560" y="2060640"/>
                <a:ext cx="4241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4284720" y="5734080"/>
            <a:ext cx="316692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332000" y="4707000"/>
            <a:ext cx="7812000" cy="2151000"/>
            <a:chOff x="1332000" y="4707000"/>
            <a:chExt cx="7812000" cy="215100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332000" y="5157720"/>
                  <a:ext cx="287964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∗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μ</m:t>
                          </m:r>
                          <m:r>
                            <m:t xml:space="preserve">∗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6329520" y="4707000"/>
              <a:ext cx="281448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284720" y="5661000"/>
              <a:ext cx="3166920" cy="0"/>
            </a:xfrm>
            <a:prstGeom prst="line">
              <a:avLst/>
            </a:prstGeom>
            <a:ln w="57240">
              <a:solidFill>
                <a:srgbClr val="a3ffe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826920" y="63388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Experiment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508720" y="1125360"/>
            <a:ext cx="338436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05-Sep   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Cultivo Continu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isten diferentes modos de operar fermentadores continu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Quimostat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(Perfectamente agitado, CSTR, RP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i el biorreactor está bien mezclado, la corriente de producto que sale del bio-reactor posee la misma composición que el líquido presente en el interior del rea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onsultas</a:t>
            </a:r>
            <a:br>
              <a:rPr sz="3600"/>
            </a:br>
            <a:br>
              <a:rPr sz="3600"/>
            </a:br>
            <a:r>
              <a:rPr b="0" lang="es-ES_tradnl" sz="28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mlienque@ing.uchile.c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Características del Quimostat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990360"/>
            <a:ext cx="8476920" cy="48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le llamó Quimostato dado que la composición química y biológica del medio se mantiene constante, para ello se debe controlar: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volumen del líquido en el reactor se mantiene constante, ajustando los flujos de entrada y salida al mismo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pH del medio mediante la adición de ácido o base. Generalmente se adiciona á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suministro continuo de 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( o aire), en el caso de sistemas aerób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 nivel de agitación adecuado que garantice la homogeneidad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Los principales componentes de un cultivo continuo son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8458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ctor de volumen const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istema de alimentación de medio y salida de produ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anque estéril de medio (entrada y salid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trol de pH, T, OD (Oxígeno disuel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istema de aireación y agi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905120" y="380880"/>
            <a:ext cx="5409360" cy="5714640"/>
            <a:chOff x="1905120" y="380880"/>
            <a:chExt cx="5409360" cy="5714640"/>
          </a:xfrm>
        </p:grpSpPr>
        <p:sp>
          <p:nvSpPr>
            <p:cNvPr id="108" name=""/>
            <p:cNvSpPr/>
            <p:nvPr/>
          </p:nvSpPr>
          <p:spPr>
            <a:xfrm>
              <a:off x="2541240" y="5810040"/>
              <a:ext cx="47732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.  1 Típico Ferment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1905120" y="380880"/>
            <a:ext cx="5369760" cy="5333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380880"/>
                      <a:ext cx="5369760" cy="53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1268280"/>
            <a:ext cx="21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6165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835280" y="980640"/>
            <a:ext cx="28872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16360" y="6308280"/>
            <a:ext cx="719280" cy="7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0"/>
            <a:ext cx="86868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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ues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Alimentación estéril,  x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Estado estacionario, no hay acumulación.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y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x/s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[gr célula/gr sustrato] : Conversión  (yield) de células referidas a nutriente consumido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290600" y="1341360"/>
                <a:ext cx="65786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4005360"/>
                <a:ext cx="838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292720" y="2924280"/>
                <a:ext cx="816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90920" y="5638680"/>
                <a:ext cx="255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3902040" cy="479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Comic Sans MS"/>
              </a:rPr>
              <a:t>Presentación 1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26 de Septiembre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Otros modos de operar una fermen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08-Ago    Cultivo Batch y Continu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5-Ago    FERI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2-Ago    Laboratorio    Experiencia "Normas de Bioseguridad. Parte 1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9-Ago    Laboratorio    Experiencia "Normas de Bioseguridad, Parte 2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05-Sep   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2-Sep   Taller de como hacer una presentación y redacción de Infor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9-Sep    Vaca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6-Sep   Presentación y Entrega Informe I    Investigación de tipos de  ferment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08720" y="1125360"/>
            <a:ext cx="338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1819440" cy="238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3-Oct 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0-Oct    Semana Olímp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7-Oct    Presentación Informal y Entrega Informe II   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24-Oct    Prueba Prototipo    Se presenta la idea del prototipo. Debe ser aprobada la idea para prosegu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1-Oct  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7-Nov 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4-Nov    Presentación y Entrega Informe III    Informe Final de teoría y resultados del prototi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ción de Biomasa a escala Industri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¿Qué es la fermentació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atĭo, -ōni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f. Acción y efecto de fermen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r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ār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intr. Dicho de los hidratos de carbono: Degradarse por acción enzimática, dando lugar a productos sencillos, como el alcohol etíl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Cómo debemos entender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n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ausencia de oxígeno): produce compuestos meno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presencia de oxígeno): produce compuestos algo má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Por qué en un microorganismo se produce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Respuest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ara producir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Ejempl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vadura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Saccharomyces cerevisia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n ausencia de oxíge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ucosa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tanol + C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+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Tipos de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5280" y="1628640"/>
          <a:ext cx="8229600" cy="454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Tipo de fer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Organism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cohó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Etanol +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Levadura (Saccharomyc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del ácido láctico (Streptococcus, lactobacillus, et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mix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Escherichia, Salmonell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, á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Aerobacter, Serrat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i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ítico, ácido acético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butyr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 – bu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, butanol, e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acetobutyl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pionibacte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Ácidos Orgán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minoác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itami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ormonas (estero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ibió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ick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hucr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ceite de ol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ceto balsám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lsa de so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6-08-08T21:19:04Z</dcterms:modified>
  <cp:revision>138</cp:revision>
  <dc:subject/>
  <dc:title>Sin título de diapositiva</dc:title>
</cp:coreProperties>
</file>