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4.wmf" ContentType="image/x-wmf"/>
  <Override PartName="/ppt/media/image25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20.wmf" ContentType="image/x-wmf"/>
  <Override PartName="/ppt/media/image18.png" ContentType="image/png"/>
  <Override PartName="/ppt/media/image4.wmf" ContentType="image/x-wmf"/>
  <Override PartName="/ppt/media/drumroll.wav" ContentType="audio/x-wav"/>
  <Override PartName="/ppt/media/image24.jpeg" ContentType="image/jpeg"/>
  <Override PartName="/ppt/media/image15.png" ContentType="image/png"/>
  <Override PartName="/ppt/media/image2.jpeg" ContentType="image/jpeg"/>
  <Override PartName="/ppt/media/image23.jpeg" ContentType="image/jpe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DC73-D3F7-476B-B713-A4701B49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3A6A-4FFE-4520-8B4F-441EDF3E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0E5F-77A5-4DF6-A293-9B76D8D3A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F564-D9CB-40F1-A116-D38BF862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4312-DAFD-4C69-B4EC-D5DDE2F5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C158-CEA2-473A-82A3-83485BD0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1E70-8B2F-436C-B17D-E45E11A8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8D96-03B0-4E81-ADA7-306D0FB6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1CEE-4B15-4D03-881E-04C9CF68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F834-5202-41BA-95D1-85CB2921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97D9-A303-41F8-87DC-CCA21000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30CD-A3D6-40A3-9642-8FC215A0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913A-E748-4274-B89B-B4E9E60C3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_tradnl" sz="3600" spc="-1" strike="noStrike">
                <a:solidFill>
                  <a:srgbClr val="ffff00"/>
                </a:solidFill>
                <a:latin typeface="Comic Sans MS"/>
              </a:rPr>
              <a:t>Diseño e implementación un proceso de producción de biomasa</a:t>
            </a: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SD20A- Primavera 2006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487692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M.Elena Lienqu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Prof. Auxiliar: Marcelo Cor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Departamento de Ing. Química y Biotecnolog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258920" y="101520"/>
            <a:ext cx="6697800" cy="6583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Etap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omprender en que consiste una fermen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Que formas hay de operarl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Laboratorio para hacer una fermen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775640" y="0"/>
            <a:ext cx="993600" cy="162864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2557800" y="3106080"/>
            <a:ext cx="2621520" cy="2941200"/>
            <a:chOff x="2557800" y="3106080"/>
            <a:chExt cx="2621520" cy="2941200"/>
          </a:xfrm>
        </p:grpSpPr>
        <p:sp>
          <p:nvSpPr>
            <p:cNvPr id="84" name=""/>
            <p:cNvSpPr/>
            <p:nvPr/>
          </p:nvSpPr>
          <p:spPr>
            <a:xfrm rot="20403600">
              <a:off x="2916360" y="3357360"/>
              <a:ext cx="1904400" cy="24379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3002760" y="3357720"/>
              <a:ext cx="1818000" cy="2437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Etap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1 Modos de operar una ferment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Fed-b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élulas inmovilizad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de perfus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en ser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Fermentación en estado sóli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señar una forma de optimizarl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2: Propuestas de forma de optimizar una ferment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ACER UN PROTOTIPO DE LA FORMA OPTIMIZ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3: EL PROTOTIP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308720" y="2852640"/>
            <a:ext cx="1630440" cy="1727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186680" y="5661000"/>
            <a:ext cx="898560" cy="1197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0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Trabajo en Equipo de 3 person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ntregas de Informes escri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3 Infor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resentaciones Orales por cada Infor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3 Presentaci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Desarrollo del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= 10%*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1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+15% 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2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+ 25% 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3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+ 20%*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p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+ 30%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30492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Forma de traba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476360" y="1341360"/>
            <a:ext cx="6737400" cy="4967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547640" y="549360"/>
            <a:ext cx="680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HISTORIA DE LAS FERMENT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15920" y="1117440"/>
            <a:ext cx="680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6000 AC: Arte de fermentar. Los sumerios y babilonios usaban levaduras para fabricar cervez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279396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4000 AC: Los egipcios descubrieron la manera de fermentar pan con la levadura cervec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17440" y="4470480"/>
            <a:ext cx="6604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Libro del Génesis (9: 20,21): “Noé se dedicó a la labranza y plantó una viña. Bebió del vino, se embriagó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11360" y="2743200"/>
            <a:ext cx="782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Siglo XVII: Anthony von Leeuwenhoek (1632-1723) descubre el mundo microbiano con sus microscopios primitiv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406440"/>
            <a:ext cx="7721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Siglo XIV DC: Destilación de bebidas alcohólicas. Uso de bacterias de ácido acético para fabricar vinagre, de bacterias de ácido láctico para conservar la leche (yogur, por ejempl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12880" y="4419720"/>
            <a:ext cx="741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Siglo XIX: El desarrollo técnico de los microscopios permite demostrar el origen de los microbios y vencer la creencia de la “generación espontánea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11360" y="558720"/>
            <a:ext cx="7518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Louis Pasteur (1822-1895): Fue quien sentó las bases de la futura industria biotecnológica al demostrar que todos los procesos de fermentación eran el resultado de la actividad microbia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2880" y="3048120"/>
            <a:ext cx="7518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Edward Buchner (1860-1917): Descubre, dentro de las células microbianas, las sustancias vitales responsables de todas las transformaciones químicas: las enzi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Producción de Biomasa a escala Industri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¿Qué es la fermentació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Fermentación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(Del lat. 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fermentatĭo, -ōnis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).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f. Acción y efecto de ferment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Fermentar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(Del lat. 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fermentāre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).</a:t>
            </a: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intr. Dicho de los hidratos de carbono: Degradarse por acción enzimática, dando lugar a productos sencillos, como el alcohol etíli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8120" y="304812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roducto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Biotecnológico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352680" y="457200"/>
            <a:ext cx="2133720" cy="1595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657600" y="4191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flipH="1" rot="10800000">
            <a:off x="3124080" y="2361960"/>
            <a:ext cx="2895840" cy="787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248520" y="3505320"/>
            <a:ext cx="2563560" cy="2522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228600" y="1371600"/>
            <a:ext cx="2306520" cy="1276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304920" y="762120"/>
            <a:ext cx="2152440" cy="1330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6781680" y="533520"/>
            <a:ext cx="1390680" cy="2135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304920" y="3429000"/>
            <a:ext cx="1984320" cy="3124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1676520" y="4952880"/>
            <a:ext cx="1447560" cy="1352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635280" y="60213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¿Cómo debemos entender la fermentación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Fermentación Anaeróbica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(ausencia de oxígeno): produce compuestos menos oxid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Fermentación Aeróbica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(presencia de oxígeno): produce compuestos algo más oxid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¿Por qué en un microorganismo se produce la fermentación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ahoma"/>
              </a:rPr>
              <a:t>Respuesta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ara producir energ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ahoma"/>
              </a:rPr>
              <a:t>Ejemplo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evadura </a:t>
            </a:r>
            <a:r>
              <a:rPr b="0" i="1" lang="es-ES" sz="2800" spc="-1" strike="noStrike">
                <a:solidFill>
                  <a:srgbClr val="000000"/>
                </a:solidFill>
                <a:latin typeface="Tahoma"/>
              </a:rPr>
              <a:t>Saccharomyces cerevisiae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en ausencia de oxígen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Glucosa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Etanol + CO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+ Energ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Tipos de Fermentación…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95280" y="1628640"/>
          <a:ext cx="8229600" cy="4545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Tipo de fermen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Produ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Organism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lcohól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Etanol + CO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Levadura (Saccharomyc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lác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lác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acterias del ácido láctico (Streptococcus, lactobacillus, et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mix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láctico, ácido acético, etanol, CO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, H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acterias entéricas (Escherichia, Salmonell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utanedi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utanediol, ácido láctico, ácido acético, etanol, CO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, H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Bacterias entéricas (Aerobacter, Serrati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buri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burítico, ácido acético, CO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, H</a:t>
                      </a:r>
                      <a:r>
                        <a:rPr b="0" lang="es-ES" sz="1400" spc="-1" strike="noStrike" baseline="-30000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lgunos clostridios (Clostridium butyricu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etona – butan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etona, butanol, etan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lgunos clostridios (Clostridium acetobutylicu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propión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Acido propión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00"/>
                          </a:solidFill>
                          <a:latin typeface="Tahoma"/>
                          <a:ea typeface="Arial"/>
                        </a:rPr>
                        <a:t>Propionibacte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Productos de la fermentación…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Ácidos Orgán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minoáci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Vitamin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Hormonas (estero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tibiót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ick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hucr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Productos de la fermentación…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ceite de ol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ceto balsám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alsa de soy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Bebidas Alcohólic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Vino y vinag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erve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Consultas</a:t>
            </a:r>
            <a:br>
              <a:rPr sz="3600"/>
            </a:br>
            <a:br>
              <a:rPr sz="3600"/>
            </a:br>
            <a:r>
              <a:rPr b="0" lang="es-ES_tradnl" sz="28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mlienque@ing.uchile.c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908000" y="2421000"/>
            <a:ext cx="5486400" cy="4172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0a236"/>
                </a:solidFill>
                <a:latin typeface="Arial Black"/>
              </a:rPr>
              <a:t>DIAR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7744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nap se expande y asume rol clave en mercado energético”, Economía y negocios, Diario El Mercu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iernes 28 de juli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etrobras interesado en biocombustibles en Chile” , Diario Financie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iernes 28 de juli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inistro de Agricultura asegura que biocombustible podría ser un impulso para el sector”, Diario Financier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iernes 28 de juli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e formó un comité público integrado por Ministerios de Agricultura y Transporte, CONAMA, SEC y CNE. Reunión IC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ayo de 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Volver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>
            <a:off x="7164360" y="6021360"/>
            <a:ext cx="115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ccccff"/>
                </a:solidFill>
                <a:uFillTx/>
                <a:latin typeface="Arial Black"/>
                <a:hlinkClick r:id="rId3" action="ppaction://hlinksldjump"/>
              </a:rPr>
              <a:t>Volv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¿Qué solución podemos dar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35080" y="1413000"/>
            <a:ext cx="3822480" cy="417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427640" y="177336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 Black"/>
              </a:rPr>
              <a:t>Etapas basicas del proceso de producción de Bioetano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71640" y="2060640"/>
          <a:ext cx="7311960" cy="330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060640"/>
                    <a:ext cx="7311960" cy="33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5508720" y="1844640"/>
            <a:ext cx="1512720" cy="367200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129520" cy="6032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68360" y="2421000"/>
            <a:ext cx="936720" cy="72072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228600" y="2133720"/>
          <a:ext cx="8915400" cy="340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133720"/>
                    <a:ext cx="8915400" cy="34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125360"/>
            <a:ext cx="879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iseño e implementación un proceso de producción de bio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21000"/>
            <a:ext cx="1440000" cy="2592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FERMENTAD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Es aquel lugar donde ocurre la fermentación bajo condiciones controladas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la fermentación es un proceso mediante el cual ocurren reacciones químicas debido a la presencia de microorganismos o enzimas de éstos.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Contenedor en el que se mantiene un medio ambiente favorable para la operación de un proceso biológico deseado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4572000" cy="2973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28600" y="3429000"/>
            <a:ext cx="4038480" cy="3390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85800" y="304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bor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6165720"/>
            <a:ext cx="18288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173640" y="3141720"/>
            <a:ext cx="2605320" cy="3475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04000" y="6021360"/>
            <a:ext cx="18288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il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6:21:00Z</dcterms:created>
  <dc:creator>Pc</dc:creator>
  <dc:description/>
  <dc:language>en-US</dc:language>
  <cp:lastModifiedBy>Ing Quimica</cp:lastModifiedBy>
  <dcterms:modified xsi:type="dcterms:W3CDTF">2006-08-01T21:17:38Z</dcterms:modified>
  <cp:revision>127</cp:revision>
  <dc:subject/>
  <dc:title>Sin título de diapositiva</dc:title>
</cp:coreProperties>
</file>