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25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wmf" ContentType="image/x-wmf"/>
  <Override PartName="/ppt/media/image18.png" ContentType="image/png"/>
  <Override PartName="/ppt/media/image4.wmf" ContentType="image/x-wmf"/>
  <Override PartName="/ppt/media/drumroll.wav" ContentType="audio/x-wav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B48-D15B-447B-B5AE-0BFF54DA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4DF-86A2-401D-ADDD-4035C269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1B8-0764-4ACD-A79B-4F36939C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BDF-D09C-4251-817B-57482FE9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97D-2FE4-4322-8913-32EEFF20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E1C-E053-474F-B672-F083FC0A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FD7-2931-4D3D-B212-19E99A19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877-F1FB-4C30-B077-135FE74E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F5C-BF1D-4A3C-8184-A331E6F1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20B-EEFA-4D07-8AEF-5714047D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73A-1F6F-4411-9F63-36C943A4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D92-838E-4F10-97C1-3D0CC9BE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7E7F-459A-46CD-9737-C797C4E22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Primavera 200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Prof. Auxiliar: Marcelo Cor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84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186680" y="5661000"/>
            <a:ext cx="898560" cy="119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1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1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+ 30%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6737400" cy="496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47640" y="549360"/>
            <a:ext cx="68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HISTORIA DE LAS FERMENT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15920" y="1117440"/>
            <a:ext cx="680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6000 AC: Arte de fermentar. Los sumerios y babilonios usaban levaduras para fabricar cerv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79396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4000 AC: Los egipcios descubrieron la manera de fermentar pan con la levadura cervec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17440" y="4470480"/>
            <a:ext cx="660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Libro del Génesis (9: 20,21): “Noé se dedicó a la labranza y plantó una viña. Bebió del vino, se embriagó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11360" y="2743200"/>
            <a:ext cx="78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iglo XVII: Anthony von Leeuwenhoek (1632-1723) descubre el mundo microbiano con sus microscopios primi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406440"/>
            <a:ext cx="772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iglo XIV DC: Destilación de bebidas alcohólicas. Uso de bacterias de ácido acético para fabricar vinagre, de bacterias de ácido láctico para conservar la leche (yogur, por ejempl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2880" y="4419720"/>
            <a:ext cx="741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iglo XIX: El desarrollo técnico de los microscopios permite demostrar el origen de los microbios y vencer la creencia de la “generación espontánea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11360" y="558720"/>
            <a:ext cx="751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Louis Pasteur (1822-1895): Fue quien sentó las bases de la futura industria biotecnológica al demostrar que todos los procesos de fermentación eran el resultado de la actividad microbi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2880" y="3048120"/>
            <a:ext cx="751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Edward Buchner (1860-1917): Descubre, dentro de las células microbianas, las sustancias vitales responsables de todas las transformaciones químicas: las enzi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ción de Biomasa a escala Industri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 la fermentació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atĭo, -ōni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f. Acción y efecto de fermen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r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ār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intr. Dicho de los hidratos de carbono: Degradarse por acción enzimática, dando lugar a productos sencillos, como el alcohol etíl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248520" y="3505320"/>
            <a:ext cx="2563560" cy="2522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35280" y="602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Cómo debemos entender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n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ausencia de oxígeno): produce compuestos meno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presencia de oxígeno): produce compuestos algo má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Por qué en un microorganismo se produce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Respues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producir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Ejempl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vadura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ausencia de oxíge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ucos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tanol + C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+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ipos de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628640"/>
          <a:ext cx="8229600" cy="454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Tipo de fer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Organis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cohó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Etanol +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Levadura (Saccharomy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del ácido láctico (Streptococcus, lactobacillus, e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mix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Escherichia, Salmonell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Aerobacter, Serrat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i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ítico, ácido acético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butyr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 – bu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, butanol, e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acetobutyl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pionibac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Ácidos Orgán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inoác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ormonas (estero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ibió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ck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hucr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ceite de ol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ceto balsá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lsa de so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ebidas Alcohólic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no y vinag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erv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onsultas</a:t>
            </a:r>
            <a:br>
              <a:rPr sz="3600"/>
            </a:br>
            <a:br>
              <a:rPr sz="3600"/>
            </a:br>
            <a:r>
              <a:rPr b="0" lang="es-ES_tradnl" sz="28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mlienque@ing.uchile.c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0a236"/>
                </a:solidFill>
                <a:latin typeface="Arial Black"/>
              </a:rPr>
              <a:t>DIA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74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ap se expande y asume rol clave en mercado energético”, Economía y negocios, Diario El Mercu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trobras interesado en biocombustibles en Chile” 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istro de Agricultura asegura que biocombustible podría ser un impulso para el sector”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formó un comité público integrado por Ministerios de Agricultura y Transporte, CONAMA, SEC y CNE. Reunión I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y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Vol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602136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Volv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Qué solución podemos da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5080" y="1413000"/>
            <a:ext cx="3822480" cy="417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Etapas basicas del proceso de producción de Bioetan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71640" y="2060640"/>
          <a:ext cx="73119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119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508720" y="1844640"/>
            <a:ext cx="1512720" cy="3672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FERMENTAD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s aquel lugar donde ocurre la fermentación bajo condiciones controlad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a fermentación es un proceso mediante el cual ocurren reacciones químicas debido a la presencia de microorganismos o enzimas de ést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tenedor en el que se mantiene un medio ambiente favorable para la operación de un proceso biológico desead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173640" y="3141720"/>
            <a:ext cx="2605320" cy="3475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04000" y="602136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6-08-01T21:17:38Z</dcterms:modified>
  <cp:revision>127</cp:revision>
  <dc:subject/>
  <dc:title>Sin título de diapositiva</dc:title>
</cp:coreProperties>
</file>