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9.wmf" ContentType="image/x-wmf"/>
  <Override PartName="/ppt/media/image14.jpeg" ContentType="image/jpeg"/>
  <Override PartName="/ppt/media/image18.wmf" ContentType="image/x-wmf"/>
  <Override PartName="/ppt/media/image16.png" ContentType="image/png"/>
  <Override PartName="/ppt/media/image15.jpeg" ContentType="image/jpeg"/>
  <Override PartName="/ppt/media/image12.png" ContentType="image/png"/>
  <Override PartName="/ppt/media/image20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17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EC17-900D-422F-B30B-11C9695E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CC87-BA4E-4D99-BE9C-BC5B6F63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0D67-C9C4-4358-BA4C-6C7706CD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9024-65C6-4994-8694-6E1B4A213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3496-9477-4221-BAF7-801B8BFE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270F-F6BF-4CDC-8B57-095ADFA3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61EF-BA23-4020-BB2F-381A4197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440A-D02E-40F6-9B02-C6931467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59CE-FAB6-4821-9B1C-9620DA81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D10D-3949-4172-BB58-B558A0FA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9FE0-A698-4B64-996C-6867218D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E203-F027-4B59-8BEB-5096AE5A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19F8-C8C8-47F2-811E-C362157D0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5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Diseño e implementación un proceso de producción de biomasa</a:t>
            </a: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SD20A- Primavera 2006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87692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M.Elena Lienqu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Departamento de Ing. Química y Biotecn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8120" y="304812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roducto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Biotecnológico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352680" y="457200"/>
            <a:ext cx="2133720" cy="1595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657600" y="4191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flipH="1" rot="10800000">
            <a:off x="3124080" y="2361960"/>
            <a:ext cx="2895840" cy="787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248520" y="3505320"/>
            <a:ext cx="2563560" cy="2522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228600" y="1371600"/>
            <a:ext cx="2306520" cy="1276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304920" y="762120"/>
            <a:ext cx="2152440" cy="1330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581280" y="5943600"/>
            <a:ext cx="2057400" cy="571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781680" y="533520"/>
            <a:ext cx="1390680" cy="2135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304920" y="3429000"/>
            <a:ext cx="198432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1676520" y="4952880"/>
            <a:ext cx="1447560" cy="1352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2286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Enzima Producida en m.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18288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roceso productivo a gran esca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133720" y="3581280"/>
          <a:ext cx="7010280" cy="267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3581280"/>
                    <a:ext cx="7010280" cy="26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2819520" y="2057400"/>
            <a:ext cx="1371600" cy="1981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2133720"/>
            <a:ext cx="761760" cy="106668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553080" y="2742840"/>
            <a:ext cx="609840" cy="106668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5029200"/>
            <a:ext cx="76212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4221000"/>
            <a:ext cx="15238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Materia Pr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bio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Insu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0800" y="5181480"/>
            <a:ext cx="76212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324480" y="304920"/>
            <a:ext cx="2563920" cy="2522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609480" y="990720"/>
            <a:ext cx="1714680" cy="1954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228600" y="2133720"/>
          <a:ext cx="8915400" cy="34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133720"/>
                    <a:ext cx="891540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125360"/>
            <a:ext cx="879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iseño e implementación un proceso de producción de 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21000"/>
            <a:ext cx="1440000" cy="2592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572000" cy="2973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28600" y="3429000"/>
            <a:ext cx="4038480" cy="3390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" y="304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56000" y="6165720"/>
            <a:ext cx="18288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292720" y="692280"/>
            <a:ext cx="3414600" cy="4556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84720" y="4653000"/>
            <a:ext cx="18288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il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258920" y="101520"/>
            <a:ext cx="6697800" cy="6583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omprender en que consiste una fer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Que formas hay de operarl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Diseñar una forma de optimizarl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HACER UN PROTOTIPO DE LA FORMA OPTIMIZ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456320" y="1413000"/>
            <a:ext cx="1317960" cy="216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020000" y="2852640"/>
            <a:ext cx="1630440" cy="1727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788000" y="4221000"/>
            <a:ext cx="1641240" cy="2187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Trabajo en Equipo de 3 perso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ntregas de Informes escri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Infor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resentaciones Orales por cada Infor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Present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esarrollo del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= 10%*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1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+1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2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3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20%*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+ 30%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049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Forma de traba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onsultas</a:t>
            </a:r>
            <a:br>
              <a:rPr sz="3600"/>
            </a:br>
            <a:br>
              <a:rPr sz="3600"/>
            </a:br>
            <a:r>
              <a:rPr b="0" lang="es-ES_tradnl" sz="28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mlienque@ing.uchile.c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6-07-25T21:00:47Z</dcterms:modified>
  <cp:revision>117</cp:revision>
  <dc:subject/>
  <dc:title>Sin título de diapositiva</dc:title>
</cp:coreProperties>
</file>