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5C2-0B63-4AF8-B2D9-8747090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389-C1F1-4D33-87D7-A0521A12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41B-C796-4B73-A904-D8433F33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000-7D80-4C2B-8EE7-FA11D963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A54-3540-40F4-AB89-D4E55FB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350-1EF0-4058-822F-24E1136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033-9E4C-4A36-AE80-2447B885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C5E-11E8-4558-B27E-67B87B6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3FA-2675-43E7-961C-1D838879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A69-E698-489E-8D99-758CFA2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AF9-60DB-400F-98A7-B8CBAF1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A2D-B45A-4AA1-9804-25E2995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9FB4-C9FA-4630-A33E-39C3CED49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581280" y="5943600"/>
            <a:ext cx="20574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28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zima Producida en m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828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roceso productivo a gran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33720" y="3581280"/>
          <a:ext cx="7010280" cy="26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581280"/>
                    <a:ext cx="70102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819520" y="2057400"/>
            <a:ext cx="1371600" cy="19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133720"/>
            <a:ext cx="761760" cy="10666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553080" y="2742840"/>
            <a:ext cx="609840" cy="10666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02920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4221000"/>
            <a:ext cx="15238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su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518148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24480" y="304920"/>
            <a:ext cx="2563920" cy="2522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480" y="990720"/>
            <a:ext cx="1714680" cy="195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292720" y="692280"/>
            <a:ext cx="3414600" cy="4556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84720" y="465300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56320" y="1413000"/>
            <a:ext cx="131796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020000" y="2852640"/>
            <a:ext cx="163044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4221000"/>
            <a:ext cx="164124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1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1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+ 30%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7-25T21:00:47Z</dcterms:modified>
  <cp:revision>117</cp:revision>
  <dc:subject/>
  <dc:title>Sin título de diapositiva</dc:title>
</cp:coreProperties>
</file>