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A3DC-45E2-4252-8ECE-88122530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C047-63CB-4285-9D4B-215B7D6E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FDF3-4454-4109-84A4-F9FB9D23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BE63-4CBC-407D-B5BF-AC0DDC63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5848-8A00-46F8-87C2-E144ACC1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3215-FB16-4706-84A9-10347EBB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8DC3-1933-400B-AB63-0F0D5B27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A51E-EFF8-48F0-923A-C9B6A171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4A59-C0E0-41B9-BB57-92EFFD93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479B-D23B-4898-83D9-B326EB50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F0BF-97DE-424C-823A-21B9C590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3B71-8504-4191-BD54-E77FBD2A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6E27-0B28-4185-8391-26643660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2713-25C1-488D-AACE-ED9156BB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C007-D51A-4C5C-96C4-8647F2A1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7016-90FC-4D7F-80DF-CF5F580F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403D-3FEA-40F3-AEFA-754332F3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E8A3-F7B2-49A7-BE82-A7551A48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5164-18A7-408A-8D46-BB925C9C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2BE3-B63F-4564-B24F-62493A95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3685-803A-4DE6-8598-DC5F754A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B804-D2A7-4F1D-B591-C650C5E8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FF5E-A7E5-43FE-8AD9-5F3962FE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2DE4-5A34-4E68-AAAE-F2C20AE5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C9C1-7D7C-4ED6-A6C3-EC4C11738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829C-900E-47DE-A906-2E7BD0972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Fundamentos de Diseño de Equipo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</a:rPr>
              <a:t>Parámetros de Diseñ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Identifica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Jerarquiza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Cuantifica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jemplos de Parámetros de Diseñ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da ú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sat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02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men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du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rmativa vi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g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iciones en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2286000"/>
            <a:ext cx="8278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ar solución a un proble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20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atisfacer una neces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ignificado del Diseño de Equip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eño de elementos o sistemas de ingeniería que satisfacen una necesidad concre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cá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sión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ergía 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90080"/>
            <a:ext cx="9144000" cy="6476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tapas del Diseñ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1225440"/>
            <a:ext cx="5977080" cy="520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3640" y="2139840"/>
            <a:ext cx="5977080" cy="520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3054240"/>
            <a:ext cx="5977080" cy="520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044960"/>
            <a:ext cx="5977080" cy="520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4959360"/>
            <a:ext cx="5977080" cy="520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5873760"/>
            <a:ext cx="5977080" cy="520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65600" y="1279440"/>
            <a:ext cx="558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NOCIMIENTO DE LA NEC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3680" y="2117880"/>
            <a:ext cx="425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ICION DEL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06080" y="3108240"/>
            <a:ext cx="146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24480" y="4098960"/>
            <a:ext cx="404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ISIS Y OPTIM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96680" y="5013360"/>
            <a:ext cx="207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35480" y="6004080"/>
            <a:ext cx="24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ENT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1752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657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4572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5562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82760" y="1641600"/>
            <a:ext cx="3808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413000"/>
            <a:ext cx="12952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9240" y="2403360"/>
            <a:ext cx="91440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82760" y="2556000"/>
            <a:ext cx="3808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82760" y="2251080"/>
            <a:ext cx="3808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82760" y="4156200"/>
            <a:ext cx="3808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4384800"/>
            <a:ext cx="1295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9240" y="5146560"/>
            <a:ext cx="9144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82760" y="1641600"/>
            <a:ext cx="0" cy="6094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82760" y="2556000"/>
            <a:ext cx="0" cy="16002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49240" y="2403360"/>
            <a:ext cx="0" cy="27432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1413000"/>
            <a:ext cx="0" cy="29718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61240" y="2367000"/>
            <a:ext cx="380880" cy="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61240" y="3129120"/>
            <a:ext cx="3808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761240" y="3510000"/>
            <a:ext cx="380880" cy="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61240" y="4195800"/>
            <a:ext cx="3808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76640" y="3048120"/>
            <a:ext cx="40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61240" y="4424400"/>
            <a:ext cx="380880" cy="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61240" y="5110200"/>
            <a:ext cx="3808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142120" y="2367000"/>
            <a:ext cx="0" cy="7621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142120" y="3510000"/>
            <a:ext cx="0" cy="6858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142120" y="4424400"/>
            <a:ext cx="0" cy="6858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61240" y="1681200"/>
            <a:ext cx="914400" cy="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61240" y="3205080"/>
            <a:ext cx="9144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61240" y="3357720"/>
            <a:ext cx="914400" cy="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61240" y="5262480"/>
            <a:ext cx="9144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675640" y="1681200"/>
            <a:ext cx="0" cy="15238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675640" y="3357720"/>
            <a:ext cx="0" cy="19047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61240" y="1376280"/>
            <a:ext cx="1295280" cy="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61240" y="5415120"/>
            <a:ext cx="1295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056520" y="1376280"/>
            <a:ext cx="0" cy="40388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342720"/>
            <a:ext cx="9144000" cy="1104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econocimiento de la Neces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 diseño a menudo comienza con el reconocimiento de una necesidad o problema y la decisión de hacer algo al resp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s diferente a la definición del problema, lo cual es mucho más 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efinición del Probl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pecificación detallada de lo que se va a diseñ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icación, jerarquización y cuantificación de Factores (Parámetros) de Dis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puts y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acterísticas y dimensiones del espa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tidad de sistemas a constru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da útil 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mitaciones oper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upuesto asig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inte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íntesis de lo más relevante que define el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junto de especificaciones que definen una solución óp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nálisis y Optim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ción no única implica optim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arrollo de la solución mediante un conjunto de decisiones a través de herramientas tale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er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Evalua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ueba final del grado de cumplimiento con las especificaciones originales del dis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ayos de prototipos construidos para el ef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icación y aplicación de corre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ROBERTO CORVALAN PAIVA</dc:creator>
  <dc:description/>
  <dc:language>en-US</dc:language>
  <cp:lastModifiedBy>memorista</cp:lastModifiedBy>
  <cp:lastPrinted>1998-03-22T10:13:26Z</cp:lastPrinted>
  <dcterms:modified xsi:type="dcterms:W3CDTF">2006-08-23T13:22:36Z</dcterms:modified>
  <cp:revision>43</cp:revision>
  <dc:subject/>
  <dc:title>Capacitación</dc:title>
</cp:coreProperties>
</file>