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5BB-2427-4044-87CC-83A3B97C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F7A-07EF-482F-9B80-A1117C3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253-17B5-43E3-A19B-19506D0E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365-A6B6-4ACC-880E-A8E807CD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5613-5C32-40E2-817F-55D2ABA1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957C-6397-4042-BB2C-E0BFF62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F6D1-9165-4272-8B1D-88FC9DE4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6E5B-862C-4FC0-9B59-59F806A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9AA-EFBA-4B03-B220-F1D9FB0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411A-E107-4E9C-9DF5-C38DB4A6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8647-6C9B-436B-B1B5-BA1354B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A0E-6B8F-437E-8045-ED79CC6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9137-6743-4CA0-A6F5-99E9539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5E25-FBFF-4CD2-8B60-DA7CCE3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3674-D1EE-4456-9285-CA1D073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8019-1F9E-4338-807D-6902137C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A09-94A0-4E32-A7FF-56154A82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02A-ED54-4533-991C-64482F3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B73-054A-4D6A-A4C5-67AD7B7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C4A-28E0-4AB1-8F8B-1C982109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2C9-547A-43F7-8493-A3CAAA3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D88-ECB8-492E-8757-7FCEA33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0FC-6B65-4F50-9FBF-5F4169A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E1A-87B1-41EC-9773-35916B6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AD4D-DBB0-4459-95FF-A2EA3EEC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7103-2BEA-454D-96BB-31494E83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Fundamentos de Diseño de Equip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Parámetros de Diseñ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de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erarquiz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uant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jemplos de Parámetros de Diseñ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a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02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ciones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286000"/>
            <a:ext cx="8278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r solución a un proble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atisfacer una 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gnificado del Diseño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eño de elementos o sistemas de ingeniería que satisfacen una necesidad concr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ión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ía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tapas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12254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1398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054240"/>
            <a:ext cx="5977080" cy="520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0449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9593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873760"/>
            <a:ext cx="5977080" cy="52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65600" y="1279440"/>
            <a:ext cx="55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3680" y="211788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ICION DE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6080" y="3108240"/>
            <a:ext cx="14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4480" y="4098960"/>
            <a:ext cx="404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ISIS Y OPTIM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6680" y="5013360"/>
            <a:ext cx="207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5480" y="6004080"/>
            <a:ext cx="24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752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82760" y="16416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24033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2760" y="2556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82760" y="225108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82760" y="4156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38480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9240" y="514656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2760" y="1641600"/>
            <a:ext cx="0" cy="6094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2760" y="2556000"/>
            <a:ext cx="0" cy="1600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9240" y="2403360"/>
            <a:ext cx="0" cy="2743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0" cy="2971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61240" y="2367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312912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61240" y="35100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61240" y="41958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3048120"/>
            <a:ext cx="40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61240" y="44244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61240" y="5110200"/>
            <a:ext cx="380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42120" y="2367000"/>
            <a:ext cx="0" cy="7621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42120" y="35100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42120" y="4424400"/>
            <a:ext cx="0" cy="6858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1240" y="168120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1240" y="32050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61240" y="335772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61240" y="52624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75640" y="1681200"/>
            <a:ext cx="0" cy="1523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75640" y="3357720"/>
            <a:ext cx="0" cy="19047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61240" y="137628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5415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56520" y="1376280"/>
            <a:ext cx="0" cy="40388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conocimiento de la Neces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diseño a menudo comienza con el reconocimiento de una necesidad o problema y la decisión de hacer algo al resp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 diferente a la definición del problema, lo cual es mucho más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pecificación detallada de lo que se va a 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, jerarquización y cuantificación de Factores (Parámetros) de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s y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acterísticas y dimensiones d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tidad de sistem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a útil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cione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puesto asig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int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íntesis de lo más relevante que define el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unto de especificaciones que definen una solución óp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nálisis y 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ción no única implica optim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arrollo de la solución mediante un conjunto de decisiones a través de herramientas tale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ueba final del grado de cumplimiento con las especificaciones originales del 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ayos de prototipos construidos para el ef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ción y aplicación de corre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ROBERTO CORVALAN PAIVA</dc:creator>
  <dc:description/>
  <dc:language>en-US</dc:language>
  <cp:lastModifiedBy>memorista</cp:lastModifiedBy>
  <cp:lastPrinted>1998-03-22T10:13:26Z</cp:lastPrinted>
  <dcterms:modified xsi:type="dcterms:W3CDTF">2006-08-23T13:22:36Z</dcterms:modified>
  <cp:revision>43</cp:revision>
  <dc:subject/>
  <dc:title>Capacitación</dc:title>
</cp:coreProperties>
</file>