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080-1B2A-4E7D-880C-66DAC457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D3C-7C68-4FE7-9B93-F0CA932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0D1-F6B4-44AD-9982-CF94FA3B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817-DA5F-41DC-832C-403EA7C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D711-D62A-46C1-B7CF-6C395174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A00-9C21-49FE-91B9-72822D9F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A93C-C22D-4AB9-B966-1F44C32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62D3-ABA7-4C9E-B16F-999FD78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CF1F-4F3C-42EF-B4BB-B2B3C07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812-BE1D-4AA4-B712-F2B6BE1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3F1-494F-4854-BD80-7BBD606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84F-B1B7-4A70-B49B-5B1B112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CFB-2055-4BEA-93E5-8B9C072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77E-24A7-4181-B22E-7A1EDC2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5C23-C9A5-41FD-A231-37010EE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427-C7C5-4681-996D-3CC3E462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9EB-187A-44BD-A3E1-DD9BEA02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E00-E10A-4C07-8BC9-457FAA8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D92-6038-4907-921C-BD3A538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44E-9E5A-4564-8C4B-7EE991E6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A3B-7FE6-4B80-AEB2-9422360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A54-6452-436A-B344-82E76C8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D75-05AD-4B2A-BF49-18225E2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F65-3F7F-4F41-ABDF-77A55CE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2EF-538C-4586-9594-E411ECFD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967-8D72-40F9-883E-D0F981999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Fundamentos de Diseño de Equip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Parámetros de Diseñ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de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erarquiz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ua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jemplos de Parámetros de Diseñ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a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0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ciones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286000"/>
            <a:ext cx="8278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r solución a un proble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tisfacer una 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gnificado del Diseño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eño de elementos o sistemas de ingeniería que satisfacen una necesidad concr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ión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í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12254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1398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0542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0449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9593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8737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5600" y="1279440"/>
            <a:ext cx="55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3680" y="211788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CION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6080" y="31082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4480" y="4098960"/>
            <a:ext cx="404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ISIS Y OPTI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6680" y="5013360"/>
            <a:ext cx="207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5480" y="6004080"/>
            <a:ext cx="24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752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82760" y="16416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24033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2760" y="2556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82760" y="225108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2760" y="4156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3848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9240" y="51465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2760" y="164160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2760" y="2556000"/>
            <a:ext cx="0" cy="1600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9240" y="2403360"/>
            <a:ext cx="0" cy="2743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0" cy="2971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61240" y="2367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312912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61240" y="3510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61240" y="41958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3048120"/>
            <a:ext cx="40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61240" y="44244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61240" y="5110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42120" y="2367000"/>
            <a:ext cx="0" cy="7621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42120" y="35100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42120" y="44244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240" y="168120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1240" y="32050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61240" y="335772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61240" y="52624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75640" y="1681200"/>
            <a:ext cx="0" cy="1523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75640" y="3357720"/>
            <a:ext cx="0" cy="19047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1240" y="137628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5415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56520" y="1376280"/>
            <a:ext cx="0" cy="40388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diseño a menudo comienza con el reconocimiento de una necesidad o problema y la decisión de hacer algo al resp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 diferente a la definición del problema, lo cual es mucho más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ficación detallada de lo que se va a 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, jerarquización y cuantificación de Factores (Parámetros) de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s y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cterísticas y dimensiones d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tidad de sistem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cione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puesto asig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íntesis de lo más relevante que define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to de especificaciones que definen una solución óp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nálisis y 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ción no única implica optim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arrollo de la solución mediante un conjunto de decisiones a través de herramientas tale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ueba final del grado de cumplimiento con las especificaciones originales del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ayos de prototipos construidos para el ef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 y aplicación de corr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ROBERTO CORVALAN PAIVA</dc:creator>
  <dc:description/>
  <dc:language>en-US</dc:language>
  <cp:lastModifiedBy>memorista</cp:lastModifiedBy>
  <cp:lastPrinted>1998-03-22T10:13:26Z</cp:lastPrinted>
  <dcterms:modified xsi:type="dcterms:W3CDTF">2006-08-23T13:22:36Z</dcterms:modified>
  <cp:revision>43</cp:revision>
  <dc:subject/>
  <dc:title>Capacitación</dc:title>
</cp:coreProperties>
</file>