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C32-16DA-4920-8549-CDF8373B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FB3-69D2-4161-AC66-5CF8B3B9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270-ADC5-4584-B820-D158D585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DC4-8157-4802-A837-D28904BA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EF1-2D3F-4C65-A551-ECAAC2CF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C43-A8D2-49C7-9BFF-16D42F6B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C09-1ED7-4334-A998-FA5DB9DB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11F-40BB-4C03-945E-EC3E62AB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0C9-2836-4DD1-8DDD-F9D4F86D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3BF-5A14-4237-AD2E-27A0BA08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A96-4CC6-4DD7-AA3E-0FB18F0E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206-2DDD-4E78-845E-13887EFD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9985-5EDA-41E0-A3D8-BE86656563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dor de Profund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765000"/>
            <a:ext cx="756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Diseño y construcción de un instrumento, capaz de medir profundidad en el agu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pecif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628640"/>
            <a:ext cx="8532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Rango de Medición 0 a 5 mts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Portátil y autónomo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Materiales de desecho y/o materiales simples 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Fácil de us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Amigable con el medio ambiente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Tener una vida útil de más de 10 med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ámetros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ci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petit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cilidad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mpacto en el 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ateriales uti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68360" y="1268280"/>
          <a:ext cx="8229600" cy="4616640"/>
        </p:xfrm>
        <a:graphic>
          <a:graphicData uri="http://schemas.openxmlformats.org/drawingml/2006/table">
            <a:tbl>
              <a:tblPr/>
              <a:tblGrid>
                <a:gridCol w="1306440"/>
                <a:gridCol w="4165560"/>
                <a:gridCol w="2757600"/>
              </a:tblGrid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 de Cáte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 (28/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lanteamiento Proyecto B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formación de Grupos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geniería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 (05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ceptos de 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 (19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efinición de forma de medición, 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geniería de Detal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2 (26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 (02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,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str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 (09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 (16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Final Proyecto B, Prue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esentaciones Grupos (15 min c/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9: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de esquema de trabajo y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rainStor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nvestigación: Métodos de medición de profund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10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método de medición de profund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mación de consorcios de grup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11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esentaciones por cons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de Método (1 para todo el cur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9-28T15:10:20Z</dcterms:modified>
  <cp:revision>12</cp:revision>
  <dc:subject/>
  <dc:title>EL63A-Taller de Proyecto en Control II</dc:title>
</cp:coreProperties>
</file>