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743-9E6D-4CB6-B7A8-A746F45E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B50-F144-489F-B49A-37062C6D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DBC-7226-4FE4-A40B-27CC125E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EFA-2AB2-41DB-BED3-7DAF8AE4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5F8-4FBF-4FE8-80BF-AE45DCF8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057-3F94-496B-BDD6-75FA3994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75F-39A3-47C9-BCA5-CC17077E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4F4-1257-42C5-A8E8-76A1F1E3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087-9287-4860-A8B9-76F9FE0A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75F-FBC8-4564-8DE6-818F8063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C2F-8B88-4A20-97B7-1B1FAF64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313-F18C-45FC-97D9-73AEB8E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C630-6E71-4E88-BB6E-C92028EF3A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dor de Profund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765000"/>
            <a:ext cx="756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Diseño y construcción de un instrumento, capaz de medir profundidad en el agu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pecif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628640"/>
            <a:ext cx="8532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Rango de Medición 0 a 5 mts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Portátil y autónomo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Materiales de desecho y/o materiales simples 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Fácil de us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Amigable con el medio ambiente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Tener una vida útil de más de 10 med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ámetros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ci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petit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cilidad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mpacto en el 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ateriales uti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68360" y="1268280"/>
          <a:ext cx="8229600" cy="4616640"/>
        </p:xfrm>
        <a:graphic>
          <a:graphicData uri="http://schemas.openxmlformats.org/drawingml/2006/table">
            <a:tbl>
              <a:tblPr/>
              <a:tblGrid>
                <a:gridCol w="1306440"/>
                <a:gridCol w="4165560"/>
                <a:gridCol w="2757600"/>
              </a:tblGrid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 de Cáte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 (28/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lanteamiento Proyecto B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formación de Grupos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geniería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 (05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ceptos de 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 (19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efinición de forma de medición, 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geniería de Detal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2 (26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 (02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,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str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 (09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 (16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Final Proyecto B, Prue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esentaciones Grupos (15 min c/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9: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de esquema de trabajo y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rainStor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nvestigación: Métodos de medición de profund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10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método de medición de profund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mación de consorcios de grup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11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esentaciones por cons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de Método (1 para todo el cur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9-28T15:10:20Z</dcterms:modified>
  <cp:revision>12</cp:revision>
  <dc:subject/>
  <dc:title>EL63A-Taller de Proyecto en Control II</dc:title>
</cp:coreProperties>
</file>