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8CC-C643-49C7-AF09-6246B163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F93-8E7A-46DB-AD8C-7392B31F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57A-38F8-41C3-921B-B8A61DFF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B8B-9E3E-49A4-8301-ACEDCBC6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D0C-947E-4B8B-AAAC-FDAC9F61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B37-5764-445E-A91A-36CC05FE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5EBB-10C3-45DE-9062-783D25F6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9AF-FE3A-4B85-9CFC-A5BB21F4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388-302E-4B3F-BC1C-042E4F72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A2D-4382-4887-9550-9664D01C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D9F8-D0B4-45A9-B14F-68F11744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A45-417C-4F94-B839-749DA3E3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8820-9981-466D-848A-5A3B83558A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didor de Profund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765000"/>
            <a:ext cx="756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Diseño y construcción de un instrumento, capaz de medir profundidad en el agu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pecif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1628640"/>
            <a:ext cx="8532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Rango de Medición 0 a 5 mts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Portátil y autónomo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Materiales de desecho y/o materiales simples 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Fácil de usa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Amigable con el medio ambiente.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Tener una vida útil de más de 10 med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ámetros de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eci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petit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cilidad de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Impacto en el 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ateriales uti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68360" y="1268280"/>
          <a:ext cx="8229600" cy="4616640"/>
        </p:xfrm>
        <a:graphic>
          <a:graphicData uri="http://schemas.openxmlformats.org/drawingml/2006/table">
            <a:tbl>
              <a:tblPr/>
              <a:tblGrid>
                <a:gridCol w="1306440"/>
                <a:gridCol w="4165560"/>
                <a:gridCol w="2757600"/>
              </a:tblGrid>
              <a:tr h="3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Sem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 de Cáted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Ta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 (28/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lanteamiento Proyecto B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formación de Grupos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geniería Concep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 (05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ceptos de Instru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1 (19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Definición de forma de medición, 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geniería de Detal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2 (26/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3 (02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,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onstru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 (09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l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 (16/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ntrega Informe Final Proyecto B, Prue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xa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esentaciones Grupos (15 min c/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Concep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9: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de esquema de trabajo y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rainStor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nvestigación: Métodos de medición de profund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10: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método de medición de profund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ormación de consorcios de grup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mana 11: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resentaciones por consor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ición de Método (1 para todo el cur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9-28T15:10:20Z</dcterms:modified>
  <cp:revision>12</cp:revision>
  <dc:subject/>
  <dc:title>EL63A-Taller de Proyecto en Control II</dc:title>
</cp:coreProperties>
</file>