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7C8-5B36-49CF-A53F-ECF105B7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43D-1B50-4FB2-AC04-33298CC9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C5A-0F22-48A1-922B-73F0A9EB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74F-70D2-49EA-AC71-A9DBC5D6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95A-4262-4AEF-B383-EFBEF14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4FB-3DFA-4B55-A2C7-45D6A23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0FB-A87E-43FE-AE58-983A30F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438-7D9C-4F44-9DAA-9D685049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A2F-9BF0-469B-BD84-FB98865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5B7-CA08-4D51-9C1A-DCB989A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7F2-DCFF-4CAC-8D8B-70802A0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F01-A306-4933-84C6-6C8F956F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00A-9BBA-405D-BD32-E3CCC4E1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rgio Celis: Académico Ingeniería Industrial, Coordinador Centro de Innovación en la Enseñanza y Aprendizaje  (CIE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osa Uribe: Master en Educación, Asesor Metodológico CI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cione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7777080" cy="460800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8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07T18:17:26Z</dcterms:modified>
  <cp:revision>18</cp:revision>
  <dc:subject/>
  <dc:title>EL63A-Taller de Proyecto en Control II</dc:title>
</cp:coreProperties>
</file>