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154-FE11-4AF1-AF1F-87E82FC33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0239-870F-4472-8CFD-7730EFA4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37C5-C571-4377-A142-2B7189BF9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7FB-C345-48BC-8BCD-505D5ECCF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3F7-6065-403C-94E9-B5AAAA1F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AE8F-12C5-40F8-90B2-8F1CE051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720F-F870-408C-84F8-92621DA0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3D1-987D-4EAF-9D40-190ED3DF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4314-80C2-40BF-A790-876DCD0E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811-5A9B-4340-87BA-75B31896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3ED6-0FF9-4A51-98C2-7FC11FB6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F07E-9243-4CEF-94F0-BF8AE4DAB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77A6-16E8-493D-98FE-8DFB0CC70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o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rgio Celis: Académico Ingeniería Industrial, Coordinador Centro de Innovación en la Enseñanza y Aprendizaje  (CIEA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osa Uribe: Master en Educación, Asesor Metodológico CI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aciones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1413000"/>
          <a:ext cx="7777080" cy="460800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80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9-07T18:17:26Z</dcterms:modified>
  <cp:revision>18</cp:revision>
  <dc:subject/>
  <dc:title>EL63A-Taller de Proyecto en Control II</dc:title>
</cp:coreProperties>
</file>