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93B6-9A53-4489-99C9-BE786DC0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8B51-5F7B-478D-A164-DD4772C6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0CB0-BD9A-4AF5-974F-2CDC4BB3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09F-44F3-4F97-BB48-F381C351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ED4-F657-4169-875A-30CCDE17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F7F2-0C8A-4468-B489-E51B1A57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F971-94AB-43DF-A87B-21290A4E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6EC4-AC8F-4FD3-9DBA-1AC11F11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D3E5-FC68-45F0-A928-F95199D6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238-012D-4A2D-AEBA-9994F6D6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CEC7-5909-4F2D-92F7-36239B99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3AAA-E2C1-42EB-A3DD-FED33587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9E16-E943-4DBB-8C64-D810FA496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D15A Introducción a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oy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rgio Celis: Académico Ingeniería Industrial, Coordinador Centro de Innovación en la Enseñanza y Aprendizaje  (CIEA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osa Uribe: Master en Educación, Asesor Metodológico CI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aciones Gru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1968480"/>
            <a:ext cx="83167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11280" y="1413000"/>
          <a:ext cx="7777080" cy="460800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80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éctor Agusto A.</cp:lastModifiedBy>
  <dcterms:modified xsi:type="dcterms:W3CDTF">2006-09-07T18:17:26Z</dcterms:modified>
  <cp:revision>18</cp:revision>
  <dc:subject/>
  <dc:title>EL63A-Taller de Proyecto en Control II</dc:title>
</cp:coreProperties>
</file>