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5450-510C-4A7A-98E7-7EC2A5C9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3892-A6C2-4A2C-8312-8B4DBD2F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3068-61DF-4E74-AE47-F5945A4E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D78-F5F0-4CE8-A89F-0667F58C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D8E9-9E62-4C72-8DAA-49521072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E7C0-C9CB-4FA3-A183-2B8B68DA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6557-22A9-4532-8C3E-65F1C8D7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94D-C59F-46B7-9A36-6D24372E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9CA4-EEBE-4193-B3F0-3DEDCC26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16BD-4D5B-4F3E-8554-C0794299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EA0A-2252-4974-B55D-DFCC719C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F22D-368F-49F5-A19D-82978C62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9348-5E08-4E8C-BD6A-FEC1CD667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D15A Introducción a la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ciones O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oy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ergio Celis: Académico Ingeniería Industrial, Coordinador Centro de Innovación en la Enseñanza y Aprendizaje  (CIEA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osa Uribe: Master en Educación, Asesor Metodológico CI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Porqué hacer una buena presen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aciones Gru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8360" y="1968480"/>
            <a:ext cx="831672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11280" y="1413000"/>
          <a:ext cx="7777080" cy="460800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808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gotado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éctor Agusto A.</cp:lastModifiedBy>
  <dcterms:modified xsi:type="dcterms:W3CDTF">2006-09-07T18:17:26Z</dcterms:modified>
  <cp:revision>18</cp:revision>
  <dc:subject/>
  <dc:title>EL63A-Taller de Proyecto en Control II</dc:title>
</cp:coreProperties>
</file>