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6E81-30DA-4723-B1BB-667327FDDB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2F0AB-B1F6-4C04-A8E7-F3FCCA73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F5E24-A833-4045-943C-D28E06790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CBCC7-F808-4603-B8E7-DF6802642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DB7B-04BB-4F7D-AB04-0BDD83490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761E-1BD7-4B99-BC39-D295A4FD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246C7-A691-4FC3-B933-E6CD58405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7566F-AC16-4C65-940E-0917634FC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8638E-23D7-4CC5-9CF3-88AFA490C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CB39-B135-44C6-9A2E-D371EF3FF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CE7E3-6149-4625-9DA3-D1602FE5D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5DE4E-AAAB-4325-8B6C-1461A4209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CCC5D-EFD1-449F-B832-26477714B3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5960" y="691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D15A Introducción a la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760320" y="299736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ciones O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Apoy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95280" y="1197000"/>
            <a:ext cx="8532720" cy="48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45000"/>
              </a:lnSpc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Sergio Celis: Académico Ingeniería Industrial, Coordinador Centro de Innovación en la Enseñanza y Aprendizaje  (CIEA)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Rosa Uribe: Master en Educación, Asesor Metodológico CIE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¿Porqué hacer una buena presentació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95280" y="2781000"/>
            <a:ext cx="842472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Presentaciones Grup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11280" y="333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Introduc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68360" y="1968480"/>
            <a:ext cx="831672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42560" y="260280"/>
            <a:ext cx="7201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Desarroll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539640" y="1703520"/>
            <a:ext cx="8280360" cy="44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547280" y="333360"/>
            <a:ext cx="597708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ases de la Exposición: Cier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395280" y="2157480"/>
            <a:ext cx="82519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11280" y="1413000"/>
          <a:ext cx="7777080" cy="4608000"/>
        </p:xfrm>
        <a:graphic>
          <a:graphicData uri="http://schemas.openxmlformats.org/drawingml/2006/table">
            <a:tbl>
              <a:tblPr/>
              <a:tblGrid>
                <a:gridCol w="1584360"/>
                <a:gridCol w="6192720"/>
              </a:tblGrid>
              <a:tr h="62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808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. Las ideas expresadas son claras y coherentes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479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. El lenguaje utilizado es rico  en vocabulari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9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. Existió organización, síntesis y jerarquización de ide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27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. Las ideas expresadas demostraron un manejo conceptual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36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 La exposición del tema incorporó las siguientes fases: introducción, desarrollo del tema y cierre. (Introducción 10%, desarrollo 65% y cierre 25%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81000" y="2708280"/>
            <a:ext cx="458640" cy="324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10800000">
            <a:off x="998280" y="1988640"/>
            <a:ext cx="546120" cy="403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11280" y="11592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auta de Evaluac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0920" y="6524640"/>
            <a:ext cx="90723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808080"/>
                </a:solidFill>
                <a:latin typeface="Arial"/>
              </a:rPr>
              <a:t>Escuela de Ingeniería y Ciencias- Universidad de Chile                     SD15A- Introducción a la Ingenierí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34920" y="6381720"/>
            <a:ext cx="407880" cy="47628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611280" y="1197000"/>
          <a:ext cx="8064360" cy="5214960"/>
        </p:xfrm>
        <a:graphic>
          <a:graphicData uri="http://schemas.openxmlformats.org/drawingml/2006/table">
            <a:tbl>
              <a:tblPr/>
              <a:tblGrid>
                <a:gridCol w="1728720"/>
                <a:gridCol w="633564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imens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dicador de evalu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1040400"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 El apoyo audiovisual es claro y permite la compresión de lo que se expone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5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 El recurso Power-point, utiliza el tamaño de letra adecuado (28-44)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 El recurso Power-point, no se encuentra agotado de texto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58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 El expositor hizo Variación en la voz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813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0. El expositor realizó gestos y movimientos corporales para dar énfasis a las ideas expuesta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1. El expositor tuvo contacto visual con los oyente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ef"/>
                    </a:solidFill>
                  </a:tcPr>
                </a:tc>
              </a:tr>
            </a:tbl>
          </a:graphicData>
        </a:graphic>
      </p:graphicFrame>
      <p:sp>
        <p:nvSpPr>
          <p:cNvPr id="83" name=""/>
          <p:cNvSpPr/>
          <p:nvPr/>
        </p:nvSpPr>
        <p:spPr>
          <a:xfrm rot="10800000">
            <a:off x="998280" y="1844640"/>
            <a:ext cx="54612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UNICACIÓN NO VERB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>Héctor Agusto A.</dc:creator>
  <dc:description/>
  <dc:language>en-US</dc:language>
  <cp:lastModifiedBy>Héctor Agusto A.</cp:lastModifiedBy>
  <dcterms:modified xsi:type="dcterms:W3CDTF">2006-09-07T18:17:26Z</dcterms:modified>
  <cp:revision>18</cp:revision>
  <dc:subject/>
  <dc:title>EL63A-Taller de Proyecto en Control II</dc:title>
</cp:coreProperties>
</file>