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5E0-E87E-4654-ABFA-6AEA76C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D34-3839-42EA-884F-C99FDDBD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104-E739-4C21-94BF-C98DF4E2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889-45CE-4D85-9E1B-B33022B9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10E-6C0E-488C-847B-ABE5462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8BF-82E9-4FA3-8112-01043C6B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554-8C2B-4371-A057-DB2B57C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172-9FAE-49D6-9364-3C8306E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BEF-0119-4B89-B4A7-1A0D5E1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8A6-109A-417B-AFA2-678AD7C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0F0-8033-4DBF-B4AB-8179B0B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725-03A0-4357-8C9A-23F670F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980-4A8F-4A0B-AC49-9FB47642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2720" y="371628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Less" w="21600" h="25976">
                <a:moveTo>
                  <a:pt x="5273" y="6173"/>
                </a:moveTo>
                <a:lnTo>
                  <a:pt x="12271" y="6173"/>
                </a:lnTo>
                <a:lnTo>
                  <a:pt x="16327" y="9672"/>
                </a:lnTo>
                <a:lnTo>
                  <a:pt x="16327" y="19803"/>
                </a:lnTo>
                <a:lnTo>
                  <a:pt x="5273" y="19803"/>
                </a:lnTo>
                <a:close/>
              </a:path>
              <a:path fill="darken" w="21600" h="25976">
                <a:moveTo>
                  <a:pt x="12271" y="6173"/>
                </a:moveTo>
                <a:lnTo>
                  <a:pt x="16327" y="9672"/>
                </a:lnTo>
                <a:lnTo>
                  <a:pt x="12271" y="96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1557360"/>
            <a:ext cx="29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ideas preconce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848040"/>
            <a:ext cx="2916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gráficos 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13372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Less" w="21600" h="27088">
                <a:moveTo>
                  <a:pt x="5273" y="6729"/>
                </a:moveTo>
                <a:lnTo>
                  <a:pt x="12271" y="6729"/>
                </a:lnTo>
                <a:lnTo>
                  <a:pt x="16327" y="10228"/>
                </a:lnTo>
                <a:lnTo>
                  <a:pt x="16327" y="20359"/>
                </a:lnTo>
                <a:lnTo>
                  <a:pt x="5273" y="20359"/>
                </a:lnTo>
                <a:close/>
              </a:path>
              <a:path fill="darken" w="21600" h="27088">
                <a:moveTo>
                  <a:pt x="12271" y="6729"/>
                </a:moveTo>
                <a:lnTo>
                  <a:pt x="16327" y="10228"/>
                </a:lnTo>
                <a:lnTo>
                  <a:pt x="12271" y="10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213372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Less" w="21600" h="27088">
                <a:moveTo>
                  <a:pt x="5273" y="6729"/>
                </a:moveTo>
                <a:lnTo>
                  <a:pt x="12271" y="6729"/>
                </a:lnTo>
                <a:lnTo>
                  <a:pt x="16327" y="10228"/>
                </a:lnTo>
                <a:lnTo>
                  <a:pt x="16327" y="20359"/>
                </a:lnTo>
                <a:lnTo>
                  <a:pt x="5273" y="20359"/>
                </a:lnTo>
                <a:close/>
              </a:path>
              <a:path fill="darken" w="21600" h="27088">
                <a:moveTo>
                  <a:pt x="12271" y="6729"/>
                </a:moveTo>
                <a:lnTo>
                  <a:pt x="16327" y="10228"/>
                </a:lnTo>
                <a:lnTo>
                  <a:pt x="12271" y="10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8-17T17:02:01Z</dcterms:modified>
  <cp:revision>11</cp:revision>
  <dc:subject/>
  <dc:title>EL63A-Taller de Proyecto en Control II</dc:title>
</cp:coreProperties>
</file>