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199-2397-4CA6-B9D2-DAE0D3C1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B96-B069-4B20-990D-BE6563D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A3B-41AE-4910-96C3-91FDFFC4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8E9-2B08-4AD4-B363-324C3935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AED-2F36-4635-BA9F-CCC845B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6AA-AB4B-4F8A-ACA7-EA3E844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B9A-0551-4299-87AC-E4564FB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D59-4E55-49BA-A698-A790E5B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684-1523-4F5D-B8C4-ADB20A4B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06C-20A6-4B1E-B2C6-1BD9F98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FF2-BBBA-4E31-B80B-DCAE175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A3E-FE3F-4BEE-A13B-3C654AE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DD9A-F577-4F9A-8475-D7D94A7A2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mulación geoestadística: conceptos y algorit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deloscontinuos" descr=""/>
          <p:cNvPicPr/>
          <p:nvPr/>
        </p:nvPicPr>
        <p:blipFill>
          <a:blip r:embed="rId1"/>
          <a:stretch/>
        </p:blipFill>
        <p:spPr>
          <a:xfrm>
            <a:off x="824040" y="1154160"/>
            <a:ext cx="481464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modeloscategoricos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3432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todas l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indica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ni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0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regular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343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densidad del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013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to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1316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t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t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istint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los valores de una función aleatoria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a la simulación de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546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media conocida = 0). De lo contrari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o se logra reproducir correctamente el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470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bloquear los valores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problemas numéricos cuando se trata de simular un variograma mu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gular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estim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SERRA219%20-%20FIGURE2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237" name="SERRA219%20-%20FIGURE6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2895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os valores de una variable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w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w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wski, se puede calcular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usim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89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marginal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332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tb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75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67652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,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FT techniques for simulating Gaussian random field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edings of the conference in mining geostatistics, Berg-en-dal, South Africa, 19-22 September 199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5430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114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5041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57913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muestre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iori</a:t>
            </a: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/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osteri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 a la distribu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la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666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, variogra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33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scribe el conocimiento 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ivalentemente,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267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18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o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mapas correspondientes a un modelo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46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os mapas 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urso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Minas</cp:lastModifiedBy>
  <dcterms:modified xsi:type="dcterms:W3CDTF">2004-09-21T01:06:02Z</dcterms:modified>
  <cp:revision>144</cp:revision>
  <dc:subject/>
  <dc:title>Sin título de diapositiva</dc:title>
</cp:coreProperties>
</file>