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9A5-0352-41E8-8FBE-A4CDE1C9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FA8-C468-4B81-B15C-94B40023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8FA-092C-4F77-9C81-DC4CE22C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4E3-BF8A-4F84-93FC-C93001DC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D3D-2119-4833-BDAC-4724D8E0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5FC-7075-4FA0-9EFF-CB45EE7D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D58-C638-4D2A-BFA6-29AD7CA4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5C8-BDA6-4B89-816E-86F35231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A51-B11F-4AB2-9AAC-E25BC313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AFE-5313-49E5-8B2F-3E48805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C32-38A7-4DBE-A37E-809B2242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BAB-C5C3-4553-97E7-D2BE4135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9468-A649-4490-B400-5969A0DAB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mulación geoestadística: conceptos y algorit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odeloscontinuos" descr=""/>
          <p:cNvPicPr/>
          <p:nvPr/>
        </p:nvPicPr>
        <p:blipFill>
          <a:blip r:embed="rId1"/>
          <a:stretch/>
        </p:blipFill>
        <p:spPr>
          <a:xfrm>
            <a:off x="824040" y="1154160"/>
            <a:ext cx="4814640" cy="5398920"/>
          </a:xfrm>
          <a:prstGeom prst="rect">
            <a:avLst/>
          </a:prstGeom>
          <a:ln w="0">
            <a:noFill/>
          </a:ln>
        </p:spPr>
      </p:pic>
      <p:pic>
        <p:nvPicPr>
          <p:cNvPr id="103" name="modeloscategoricos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3432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051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todas l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s de indicador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mini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701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regular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343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densidad del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501336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tom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1316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t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t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istint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los valores de una función aleatoria 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a la simulación de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546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 media conocida = 0). De lo contrari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no se logra reproducir correctamente el vari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470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bloquear los valores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problemas numéricos cuando se trata de simular un variograma muy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gular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estim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SERRA219%20-%20FIGURE2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237" name="SERRA219%20-%20FIGURE6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3000" y="2895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895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los valores de una variable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w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w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wski, se puede calcular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usim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889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marginal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332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tb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5775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67652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4,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FFT techniques for simulating Gaussian random field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edings of the conference in mining geostatistics, Berg-en-dal, South Africa, 19-22 September 199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25430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32004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41148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50418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57913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muestre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riori</a:t>
            </a: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/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osteri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288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 a la distribu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la variable regionalizada, sin tomar en cuenta la existencia de datos cerc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666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, variogra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33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scribe el conocimiento 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quivalentemente, la incertidumbre que tenemos sobr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267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: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784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on dato: 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318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ercano a un dato: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men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dispersion qu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336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mapas correspondientes a un modelo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946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os mapas 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urso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Minas</cp:lastModifiedBy>
  <dcterms:modified xsi:type="dcterms:W3CDTF">2004-09-21T01:06:02Z</dcterms:modified>
  <cp:revision>144</cp:revision>
  <dc:subject/>
  <dc:title>Sin título de diapositiva</dc:title>
</cp:coreProperties>
</file>