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CE6E5-063A-4CA8-9776-61BFC90ED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494F-6E11-43E9-AFB4-17E761B13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AC1C7-1045-4178-B435-1C207C28F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AFE50-E8B3-4A88-8EA5-5DD35026D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C096B-8009-4DFA-BC0D-F79C9D269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1D4D6-03C1-4E1A-BE8B-FDA99659F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A8A2F-B979-49FC-8336-71849B20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40A97-2D6A-4906-9789-588C100FE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4A0F6-79C5-4F59-AF71-66563CDDE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0CC5-319A-4AC2-BE10-C436F8F7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E86A7-5322-4086-B8CC-AFF8D351F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EAC4-01A3-4F24-90C6-1C867D41C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24D7-D570-485F-8D0B-0B44D8825C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encia”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6-04-03T19:01:47Z</dcterms:modified>
  <cp:revision>96</cp:revision>
  <dc:subject/>
  <dc:title>Presentación de PowerPoint</dc:title>
</cp:coreProperties>
</file>