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22759-ACCE-49AA-A71E-96A238D85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B735C-F415-46FE-AB56-099A5660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AD5F3-C550-43CD-AEC4-6707DECAC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0A115-04ED-42BE-B28E-C53947ABB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6FDFF-3BB1-401E-A909-0FB1DA67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B3069-714A-4077-8CC6-F0556BF6F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6334-9AE8-4576-9A77-6D5D8ABE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DD91-7FA8-4271-9457-119F4336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018F-7CF1-45B1-B739-4B840FA8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7115-D749-4A51-9E2D-CAFDFE96A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B6F4-A116-494F-8E38-9DE39522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762F-82E9-4547-B1EB-DD1F9C55B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D8AF-A61E-4A4E-86F3-08AFF2BB9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encia”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6-04-03T19:01:47Z</dcterms:modified>
  <cp:revision>96</cp:revision>
  <dc:subject/>
  <dc:title>Presentación de PowerPoint</dc:title>
</cp:coreProperties>
</file>