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AC79-5A0C-4C76-90E6-EB5EF1AB0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33DE-DC8B-441B-9E3C-54E934320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EE11-7318-40BE-99A8-761D8F28C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A2B2-4FC5-41C8-AC2C-07A1C7AD9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E0BF-0225-4C25-A2E0-6F687F52E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0E53-08B0-4A16-89A5-0C72CABE3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05C1-7C2C-4738-893F-D2117F797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32A6-268B-4CDD-AE12-B04735150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84E2-1383-4886-B8B9-5F7156E77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3F55-2A69-4821-9ABE-4EB22BBD7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F545-D6F2-4050-BCFE-5059380D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DC6D-7D05-4CA1-8CF8-F01786757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09DD7-A9B0-4094-9A6F-F966587CDA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Tarea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rea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pide realizar el modelamiento numérico no lineal de las geometrías definidas en el modelo hung2-36.in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o corresponde a una excavación que debe a través una falla la cual pudiese inducir desplazamientos importantes en la pared colgante de un acceso principal a la min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724280" y="2362320"/>
            <a:ext cx="3886200" cy="26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arámetro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 par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ámetros elásticos son estimados en un rango de 10% de desviación estándar. Los parámetros de resistencia han sido estimado con una desviación estándar de 1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495680" y="2057400"/>
            <a:ext cx="4229280" cy="34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nalizar los estados de tensiones en la estructura y en las zonas aledañas a la excav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onitorear las deformaciones en la falla y en la roca de caja de modo de establecer criterios de est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arámetros de resistencia de la estructura y roca de ca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nalizar diferentes modelos constitutivos y establecer rangos de deformaciones en función de estos modelos y los parámetros de resistenc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5T02:25:24Z</dcterms:created>
  <dc:creator>Enrique Rubio</dc:creator>
  <dc:description/>
  <dc:language>en-US</dc:language>
  <cp:lastModifiedBy>Enrique Rubio</cp:lastModifiedBy>
  <dcterms:modified xsi:type="dcterms:W3CDTF">2006-10-25T02:38:00Z</dcterms:modified>
  <cp:revision>3</cp:revision>
  <dc:subject/>
  <dc:title>Slide 1</dc:title>
</cp:coreProperties>
</file>