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5F7-8D13-4148-8BE8-3E4FC29E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5ED-D173-4295-9846-DF6761F5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9A2-AAF6-4896-A0C3-45E1F40E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848-5405-4A92-88D2-604C6CA7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079-564D-4698-BD47-2E999C20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F3E2-8524-467B-94DC-FCDDC1FC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257-B205-4837-8216-71715500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6FF-5521-4FF4-B3E4-A2AB864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CC4-D1CC-4ED2-BC43-779ECF79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072-1C89-4E7E-ABD4-3D1989D8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D54-468A-481E-947C-03C652E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DD2-A60B-4037-9F10-C30C6212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5898-2E58-4836-AE45-778AE6712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 realizar el modelamiento numérico no lineal de las geometrías definidas en el modelo hung2-36.i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o corresponde a una excavación que debe a través una falla la cual pudiese inducir desplazamientos importantes en la pared colgante de un acceso principal a la m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ámet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metros elásticos son estimados en un rango de 10% de desviación estándar. Los parámetros de resistencia han sido estimado con una desviación estándar de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229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los estados de tensiones en la estructura y en las zonas aledañas a la excav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itorear las deformaciones en la falla y en la roca de caja de modo de establecer criterios de 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de resistencia de la estructura y roca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diferentes modelos constitutivos y establecer rangos de deformaciones en función de estos modelos y los parámetros de resist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2:25:24Z</dcterms:created>
  <dc:creator>Enrique Rubio</dc:creator>
  <dc:description/>
  <dc:language>en-US</dc:language>
  <cp:lastModifiedBy>Enrique Rubio</cp:lastModifiedBy>
  <dcterms:modified xsi:type="dcterms:W3CDTF">2006-10-25T02:38:00Z</dcterms:modified>
  <cp:revision>3</cp:revision>
  <dc:subject/>
  <dc:title>Slide 1</dc:title>
</cp:coreProperties>
</file>