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D87-B630-4033-B139-F54D978E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719-5CA2-4354-9DFF-CC57C4DD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CFF-5144-41AA-B00C-DE99837A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ED3-A835-45C8-85F2-1AF07540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128-9573-48C5-97B3-73899F6B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38E-0964-4D89-95B6-DB93F514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FE8-F279-4DE6-BE2E-F658B6CA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82A-49BC-4B8F-A725-E952CF80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452-0904-4E6D-BA4B-C8AA9BDD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32E-EABF-48E5-8BE5-6FF2DB72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2D0-C6C1-4F39-8C05-36AEF65C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1C1-37F7-45D8-BB3F-86C657D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BFC-9D43-4A86-8AD2-1B4060ADB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ide realizar el modelamiento numérico no lineal de las geometrías definidas en el modelo hung2-36.i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o corresponde a una excavación que debe a través una falla la cual pudiese inducir desplazamientos importantes en la pared colgante de un acceso principal a la m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88620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ámet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a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ámetros elásticos son estimados en un rango de 10% de desviación estándar. Los parámetros de resistencia han sido estimado con una desviación estándar de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2292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alizar los estados de tensiones en la estructura y en las zonas aledañas a la excav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nitorear las deformaciones en la falla y en la roca de caja de modo de establecer criterios de es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ámetros de resistencia de la estructura y roca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alizar diferentes modelos constitutivos y establecer rangos de deformaciones en función de estos modelos y los parámetros de resist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2:25:24Z</dcterms:created>
  <dc:creator>Enrique Rubio</dc:creator>
  <dc:description/>
  <dc:language>en-US</dc:language>
  <cp:lastModifiedBy>Enrique Rubio</cp:lastModifiedBy>
  <dcterms:modified xsi:type="dcterms:W3CDTF">2006-10-25T02:38:00Z</dcterms:modified>
  <cp:revision>3</cp:revision>
  <dc:subject/>
  <dc:title>Slide 1</dc:title>
</cp:coreProperties>
</file>