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5491-09D0-4719-B37F-07E94C75D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1268-5899-4B22-B1FD-D400237F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8B1C-81B9-4924-A472-624BD24A0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E6A7-BF1B-46DF-AE24-1AC179D27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161E-3F64-4FC4-A83B-26A0FF12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623D-6373-4535-A172-EA18EB41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4D1E-972E-4FCC-A218-12B6435C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C31D-1ACA-4360-9E05-EF8F282C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24EC-4392-4FCA-9B0D-6B629396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FCF9-163E-4BCA-B32D-46D77C9C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A5EF-575A-470A-A3C2-F5E1D65F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C919-414B-4C8D-8D6E-22634854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700D-3BD3-419B-ADBD-B55972ADA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are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re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pide realizar el modelamiento numérico no lineal de las geometrías definidas en el modelo hung2-36.i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o corresponde a una excavación que debe a través una falla la cual pudiese inducir desplazamientos importantes en la pared colgante de un acceso principal a la mi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724280" y="2362320"/>
            <a:ext cx="3886200" cy="26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arámetr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par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ámetros elásticos son estimados en un rango de 10% de desviación estándar. Los parámetros de resistencia han sido estimado con una desviación estándar de 1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95680" y="2057400"/>
            <a:ext cx="422928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nalizar los estados de tensiones en la estructura y en las zonas aledañas a la excav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onitorear las deformaciones en la falla y en la roca de caja de modo de establecer criterios de est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arámetros de resistencia de la estructura y roca de ca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nalizar diferentes modelos constitutivos y establecer rangos de deformaciones en función de estos modelos y los parámetros de resistenc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02:25:24Z</dcterms:created>
  <dc:creator>Enrique Rubio</dc:creator>
  <dc:description/>
  <dc:language>en-US</dc:language>
  <cp:lastModifiedBy>Enrique Rubio</cp:lastModifiedBy>
  <dcterms:modified xsi:type="dcterms:W3CDTF">2006-10-25T02:38:00Z</dcterms:modified>
  <cp:revision>3</cp:revision>
  <dc:subject/>
  <dc:title>Slide 1</dc:title>
</cp:coreProperties>
</file>