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BDB00-31F6-4D07-AFC3-1A8B07D0EE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0D31-ECB3-439C-B9C0-8EEA74024F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73AF-1334-4557-AAF7-63DDCC063E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0435B-13C5-4BED-B94A-D0809E4660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5A9A-6B90-4674-8463-B5BE86F2D5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79DC-AD53-48A4-BE4B-6F5E0A2293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1115E-65BB-40CC-88AE-82CD307023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791A-42A7-455F-A00D-167014D2CE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DD0BE-70EF-4DDE-9B2F-217510B09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AE837-58A8-4875-AB66-A4F4994AC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FA75C-DBAB-4A53-AA8A-A661974AD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C6885-F6AC-4F19-8C67-BBACC730D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A33A5-67B4-4C72-9D3A-97480C1633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re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rea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e pide realizar el modelamiento numérico no lineal de las geometrías definidas en el modelo hung2-36.in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sto corresponde a una excavación que debe a través una falla la cual pudiese inducir desplazamientos importantes en la pared colgante de un acceso principal a la min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4724280" y="2362320"/>
            <a:ext cx="3886200" cy="26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Parámetro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s par</a:t>
            </a: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ámetros elásticos son estimados en un rango de 10% de desviación estándar. Los parámetros de resistencia han sido estimado con una desviación estándar de 1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4495680" y="2057400"/>
            <a:ext cx="4229280" cy="346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rcici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alizar los estados de tensiones en la estructura y en las zonas aledañas a la excava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Monitorear las deformaciones en la falla y en la roca de caja de modo de establecer criterios de estabilida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arámetros de resistencia de la estructura y roca de caj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Analizar diferentes modelos constitutivos y establecer rangos de deformaciones en función de estos modelos y los parámetros de resistenci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25T02:25:24Z</dcterms:created>
  <dc:creator>Enrique Rubio</dc:creator>
  <dc:description/>
  <dc:language>en-US</dc:language>
  <cp:lastModifiedBy>Enrique Rubio</cp:lastModifiedBy>
  <dcterms:modified xsi:type="dcterms:W3CDTF">2006-10-25T02:38:00Z</dcterms:modified>
  <cp:revision>3</cp:revision>
  <dc:subject/>
  <dc:title>Slide 1</dc:title>
</cp:coreProperties>
</file>