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2.jpeg" ContentType="image/jpeg"/>
  <Override PartName="/ppt/media/image39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2C2722C7-AA7E-4D64-963A-EA0F4741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 txBox="1"/>
          <p:nvPr/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9D260D77-F3FB-4F7B-9055-E8B08A29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848" name=""/>
          <p:cNvGraphicFramePr/>
          <p:nvPr/>
        </p:nvGraphicFramePr>
        <p:xfrm>
          <a:off x="928800" y="5062680"/>
          <a:ext cx="499896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062680"/>
                    <a:ext cx="499896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 Block/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808240" y="1827000"/>
            <a:ext cx="333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ámetros considerados por diferentes métodos de clasificación de roc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28440" y="12600"/>
            <a:ext cx="5929560" cy="684540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2"/>
          <a:stretch/>
        </p:blipFill>
        <p:spPr>
          <a:xfrm>
            <a:off x="5996160" y="579600"/>
            <a:ext cx="30970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7470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799400" cy="47638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"/>
          <a:stretch/>
        </p:blipFill>
        <p:spPr>
          <a:xfrm>
            <a:off x="1066680" y="6019920"/>
            <a:ext cx="590724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066680" y="1084320"/>
            <a:ext cx="7872480" cy="429084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2"/>
          <a:stretch/>
        </p:blipFill>
        <p:spPr>
          <a:xfrm>
            <a:off x="1066680" y="5486400"/>
            <a:ext cx="6697800" cy="50472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15200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407440" cy="40687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609480" y="5486400"/>
            <a:ext cx="6629400" cy="515880"/>
          </a:xfrm>
          <a:prstGeom prst="rect">
            <a:avLst/>
          </a:prstGeom>
          <a:ln w="0">
            <a:noFill/>
          </a:ln>
        </p:spPr>
      </p:pic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991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ización Geotécnic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ores &amp; Karzulovic 200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 del Mét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und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menudo mide en forma cualitativa si un cuerpo hundirá o no y en que forma lo ha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ámetros interesantes son los sigu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undir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área es necesario abrir para inducir el hundimiento- Radio Hidráulico Cr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 que velocidad se propagará el hu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s de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ress Caving, es el estado del caving cuando se encuentra en propagación a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bcidence Caving, cuando el caving se produce en contra de un área previamente hun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066680" y="990720"/>
            <a:ext cx="7315200" cy="586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H and B in block and panel caving 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04960" y="6068880"/>
            <a:ext cx="610236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70496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08440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46708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8465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288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1008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9924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371840" y="6068880"/>
            <a:ext cx="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5452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4044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5180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90220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28164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66576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04376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27880" y="6068880"/>
            <a:ext cx="180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807320" y="6068880"/>
            <a:ext cx="1440" cy="117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78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572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932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098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1621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36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14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893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541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6193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693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716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2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98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07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1510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303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8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4574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5352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687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7623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8401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91464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672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1450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21956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29732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4496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24480" y="6068880"/>
            <a:ext cx="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022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6814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829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908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878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0608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135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92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365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450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5976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6707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9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8230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9752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05484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279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20712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35940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4342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5134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865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7388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8184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8914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97068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1229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960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2756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34868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50096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016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53240" y="6068880"/>
            <a:ext cx="180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732800" y="6068880"/>
            <a:ext cx="1440" cy="3672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667160" y="626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014920" y="626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3565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41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1204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50388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822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2674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6458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02920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086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20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707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5416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939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31772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1840" y="626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08440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46708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28465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2288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61008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9924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437184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475452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14044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180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90220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28164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666576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04376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427880" y="1398240"/>
            <a:ext cx="180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7807320" y="1398240"/>
            <a:ext cx="144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72924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2932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953160" y="6480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07952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74920" y="6480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28148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398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3952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55328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65120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69656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738680" y="6480000"/>
            <a:ext cx="16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8949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3776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050800" y="6480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45840" y="6480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6644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125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352120" y="64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39784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451120" y="64800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583600" y="6480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704960" y="1398240"/>
            <a:ext cx="0" cy="467028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1596960" y="6068880"/>
            <a:ext cx="1080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1596960" y="55976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1596960" y="51325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596960" y="46674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1596960" y="42022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1596960" y="373068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1596960" y="326556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1596960" y="280044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596960" y="23353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596960" y="186372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596960" y="1398600"/>
            <a:ext cx="1080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665360" y="5977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1665360" y="5880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665360" y="57880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665360" y="56959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1665360" y="55069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665360" y="5415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1665360" y="53229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1665360" y="52243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665360" y="50403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665360" y="4950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665360" y="48513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1665360" y="47592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665360" y="4575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665360" y="4478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665360" y="43862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1665360" y="42940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1665360" y="4105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1665360" y="4013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1665360" y="39211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1665360" y="38289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665360" y="36385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665360" y="35481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1665360" y="34560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665360" y="33577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665360" y="31734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665360" y="30830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1665360" y="29844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665360" y="28926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1665360" y="270828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665360" y="261144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1665360" y="25192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1665360" y="242712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665360" y="223668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665360" y="214632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1665360" y="20541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665360" y="196200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1665360" y="177156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1665360" y="168120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1665360" y="1589040"/>
            <a:ext cx="39600" cy="180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1665360" y="1490760"/>
            <a:ext cx="3960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453680" y="599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381320" y="553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316880" y="5059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316880" y="4594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16880" y="4129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316880" y="3664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16880" y="3198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316880" y="2727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316880" y="2262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316880" y="1797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16880" y="1332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704960" y="55976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704960" y="51325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04960" y="46674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704960" y="42022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04960" y="373068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704960" y="326556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704960" y="280044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04960" y="23353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704960" y="186372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704960" y="1398600"/>
            <a:ext cx="6102360" cy="1440"/>
          </a:xfrm>
          <a:prstGeom prst="line">
            <a:avLst/>
          </a:prstGeom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rot="16200000">
            <a:off x="1088280" y="4463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rot="16200000">
            <a:off x="1098360" y="4353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rot="16200000">
            <a:off x="1083240" y="422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rot="16200000">
            <a:off x="1088280" y="4097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rot="16200000">
            <a:off x="1088280" y="3974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rot="16200000">
            <a:off x="1127160" y="388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rot="16200000">
            <a:off x="1127160" y="384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1088280" y="375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rot="16200000">
            <a:off x="1092960" y="36381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rot="16200000">
            <a:off x="1127160" y="3554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rot="16200000">
            <a:off x="1083240" y="3461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rot="16200000">
            <a:off x="1088280" y="333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rot="16200000">
            <a:off x="1098360" y="322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rot="16200000">
            <a:off x="1128600" y="3138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rot="16200000">
            <a:off x="1130400" y="3089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6200000">
            <a:off x="1130400" y="3046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1130400" y="2997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rot="16200000">
            <a:off x="1126080" y="2944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rot="16200000">
            <a:off x="1081800" y="28386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rot="16200000">
            <a:off x="1126080" y="2741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241880" y="54943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3" y="23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3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3" y="46"/>
                </a:lnTo>
                <a:lnTo>
                  <a:pt x="3" y="50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0" y="73"/>
                </a:lnTo>
                <a:lnTo>
                  <a:pt x="30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7" y="69"/>
                </a:lnTo>
                <a:lnTo>
                  <a:pt x="61" y="65"/>
                </a:lnTo>
                <a:lnTo>
                  <a:pt x="65" y="65"/>
                </a:lnTo>
                <a:lnTo>
                  <a:pt x="69" y="62"/>
                </a:lnTo>
                <a:lnTo>
                  <a:pt x="69" y="58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9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1" y="11"/>
                </a:lnTo>
                <a:lnTo>
                  <a:pt x="61" y="8"/>
                </a:lnTo>
                <a:lnTo>
                  <a:pt x="57" y="8"/>
                </a:lnTo>
                <a:lnTo>
                  <a:pt x="57" y="8"/>
                </a:lnTo>
                <a:lnTo>
                  <a:pt x="50" y="4"/>
                </a:lnTo>
                <a:lnTo>
                  <a:pt x="46" y="4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993000" y="4703760"/>
            <a:ext cx="10800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20" y="4"/>
                </a:lnTo>
                <a:lnTo>
                  <a:pt x="12" y="8"/>
                </a:lnTo>
                <a:lnTo>
                  <a:pt x="12" y="8"/>
                </a:lnTo>
                <a:lnTo>
                  <a:pt x="8" y="12"/>
                </a:lnTo>
                <a:lnTo>
                  <a:pt x="4" y="16"/>
                </a:lnTo>
                <a:lnTo>
                  <a:pt x="4" y="20"/>
                </a:lnTo>
                <a:lnTo>
                  <a:pt x="0" y="24"/>
                </a:lnTo>
                <a:lnTo>
                  <a:pt x="0" y="24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7"/>
                </a:lnTo>
                <a:lnTo>
                  <a:pt x="0" y="51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2" y="66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27" y="70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7" y="70"/>
                </a:lnTo>
                <a:lnTo>
                  <a:pt x="47" y="70"/>
                </a:lnTo>
                <a:lnTo>
                  <a:pt x="50" y="70"/>
                </a:lnTo>
                <a:lnTo>
                  <a:pt x="50" y="70"/>
                </a:lnTo>
                <a:lnTo>
                  <a:pt x="54" y="66"/>
                </a:lnTo>
                <a:lnTo>
                  <a:pt x="58" y="66"/>
                </a:lnTo>
                <a:lnTo>
                  <a:pt x="62" y="62"/>
                </a:lnTo>
                <a:lnTo>
                  <a:pt x="66" y="58"/>
                </a:lnTo>
                <a:lnTo>
                  <a:pt x="66" y="54"/>
                </a:lnTo>
                <a:lnTo>
                  <a:pt x="70" y="51"/>
                </a:lnTo>
                <a:lnTo>
                  <a:pt x="70" y="47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0" y="27"/>
                </a:lnTo>
                <a:lnTo>
                  <a:pt x="70" y="24"/>
                </a:lnTo>
                <a:lnTo>
                  <a:pt x="66" y="16"/>
                </a:lnTo>
                <a:lnTo>
                  <a:pt x="66" y="16"/>
                </a:lnTo>
                <a:lnTo>
                  <a:pt x="66" y="12"/>
                </a:lnTo>
                <a:lnTo>
                  <a:pt x="62" y="12"/>
                </a:lnTo>
                <a:lnTo>
                  <a:pt x="62" y="8"/>
                </a:lnTo>
                <a:lnTo>
                  <a:pt x="62" y="8"/>
                </a:lnTo>
                <a:lnTo>
                  <a:pt x="58" y="8"/>
                </a:lnTo>
                <a:lnTo>
                  <a:pt x="58" y="4"/>
                </a:lnTo>
                <a:lnTo>
                  <a:pt x="54" y="4"/>
                </a:lnTo>
                <a:lnTo>
                  <a:pt x="50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451640" y="433080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4"/>
                </a:lnTo>
                <a:lnTo>
                  <a:pt x="15" y="8"/>
                </a:lnTo>
                <a:lnTo>
                  <a:pt x="11" y="8"/>
                </a:lnTo>
                <a:lnTo>
                  <a:pt x="7" y="12"/>
                </a:lnTo>
                <a:lnTo>
                  <a:pt x="4" y="16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66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6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16"/>
                </a:lnTo>
                <a:lnTo>
                  <a:pt x="65" y="16"/>
                </a:lnTo>
                <a:lnTo>
                  <a:pt x="65" y="12"/>
                </a:lnTo>
                <a:lnTo>
                  <a:pt x="61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710160" y="51577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451640" y="3394080"/>
            <a:ext cx="10656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0" y="47"/>
                </a:lnTo>
                <a:lnTo>
                  <a:pt x="4" y="50"/>
                </a:lnTo>
                <a:lnTo>
                  <a:pt x="4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19" y="70"/>
                </a:lnTo>
                <a:lnTo>
                  <a:pt x="23" y="70"/>
                </a:lnTo>
                <a:lnTo>
                  <a:pt x="23" y="74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1" y="62"/>
                </a:lnTo>
                <a:lnTo>
                  <a:pt x="65" y="58"/>
                </a:lnTo>
                <a:lnTo>
                  <a:pt x="69" y="54"/>
                </a:lnTo>
                <a:lnTo>
                  <a:pt x="69" y="50"/>
                </a:lnTo>
                <a:lnTo>
                  <a:pt x="69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9" y="20"/>
                </a:lnTo>
                <a:lnTo>
                  <a:pt x="65" y="16"/>
                </a:lnTo>
                <a:lnTo>
                  <a:pt x="65" y="16"/>
                </a:lnTo>
                <a:lnTo>
                  <a:pt x="61" y="12"/>
                </a:lnTo>
                <a:lnTo>
                  <a:pt x="61" y="12"/>
                </a:lnTo>
                <a:lnTo>
                  <a:pt x="61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78288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3" y="4"/>
                </a:lnTo>
                <a:lnTo>
                  <a:pt x="20" y="8"/>
                </a:lnTo>
                <a:lnTo>
                  <a:pt x="16" y="8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43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66" y="62"/>
                </a:lnTo>
                <a:lnTo>
                  <a:pt x="70" y="58"/>
                </a:lnTo>
                <a:lnTo>
                  <a:pt x="73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73" y="23"/>
                </a:lnTo>
                <a:lnTo>
                  <a:pt x="70" y="19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935520" y="4795920"/>
            <a:ext cx="10944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20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20"/>
                </a:lnTo>
                <a:lnTo>
                  <a:pt x="4" y="20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43"/>
                </a:lnTo>
                <a:lnTo>
                  <a:pt x="4" y="47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20" y="70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4"/>
                </a:lnTo>
                <a:lnTo>
                  <a:pt x="31" y="74"/>
                </a:lnTo>
                <a:lnTo>
                  <a:pt x="35" y="74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4"/>
                </a:lnTo>
                <a:lnTo>
                  <a:pt x="47" y="74"/>
                </a:lnTo>
                <a:lnTo>
                  <a:pt x="47" y="74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7"/>
                </a:lnTo>
                <a:lnTo>
                  <a:pt x="74" y="43"/>
                </a:lnTo>
                <a:lnTo>
                  <a:pt x="74" y="35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62" y="8"/>
                </a:lnTo>
                <a:lnTo>
                  <a:pt x="58" y="4"/>
                </a:lnTo>
                <a:lnTo>
                  <a:pt x="58" y="4"/>
                </a:lnTo>
                <a:lnTo>
                  <a:pt x="50" y="4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230880" y="3584520"/>
            <a:ext cx="10656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5" y="4"/>
                </a:lnTo>
                <a:lnTo>
                  <a:pt x="11" y="7"/>
                </a:lnTo>
                <a:lnTo>
                  <a:pt x="8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0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1" y="65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5"/>
                </a:lnTo>
                <a:lnTo>
                  <a:pt x="65" y="15"/>
                </a:lnTo>
                <a:lnTo>
                  <a:pt x="65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4" y="4"/>
                </a:lnTo>
                <a:lnTo>
                  <a:pt x="50" y="0"/>
                </a:lnTo>
                <a:lnTo>
                  <a:pt x="46" y="0"/>
                </a:lnTo>
                <a:lnTo>
                  <a:pt x="38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557520" y="4979880"/>
            <a:ext cx="108000" cy="122400"/>
          </a:xfrm>
          <a:custGeom>
            <a:avLst/>
            <a:gdLst/>
            <a:ahLst/>
            <a:rect l="l" t="t" r="r" b="b"/>
            <a:pathLst>
              <a:path w="73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8"/>
                </a:lnTo>
                <a:lnTo>
                  <a:pt x="15" y="8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2"/>
                </a:lnTo>
                <a:lnTo>
                  <a:pt x="12" y="65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2"/>
                </a:lnTo>
                <a:lnTo>
                  <a:pt x="69" y="58"/>
                </a:lnTo>
                <a:lnTo>
                  <a:pt x="69" y="54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5"/>
                </a:lnTo>
                <a:lnTo>
                  <a:pt x="73" y="31"/>
                </a:lnTo>
                <a:lnTo>
                  <a:pt x="69" y="23"/>
                </a:lnTo>
                <a:lnTo>
                  <a:pt x="69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0" y="4"/>
                </a:lnTo>
                <a:lnTo>
                  <a:pt x="46" y="4"/>
                </a:lnTo>
                <a:lnTo>
                  <a:pt x="42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365640" y="50785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19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69"/>
                </a:lnTo>
                <a:lnTo>
                  <a:pt x="31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5" y="57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69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673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43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93552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31" y="4"/>
                </a:lnTo>
                <a:lnTo>
                  <a:pt x="23" y="4"/>
                </a:lnTo>
                <a:lnTo>
                  <a:pt x="20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20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0" y="73"/>
                </a:lnTo>
                <a:lnTo>
                  <a:pt x="54" y="73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5"/>
                </a:lnTo>
                <a:lnTo>
                  <a:pt x="70" y="61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0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513240" y="4870440"/>
            <a:ext cx="1062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0" y="46"/>
                </a:lnTo>
                <a:lnTo>
                  <a:pt x="73" y="42"/>
                </a:lnTo>
                <a:lnTo>
                  <a:pt x="73" y="38"/>
                </a:lnTo>
                <a:lnTo>
                  <a:pt x="73" y="30"/>
                </a:lnTo>
                <a:lnTo>
                  <a:pt x="70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41880" y="40989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30" y="0"/>
                </a:lnTo>
                <a:lnTo>
                  <a:pt x="23" y="0"/>
                </a:lnTo>
                <a:lnTo>
                  <a:pt x="19" y="4"/>
                </a:lnTo>
                <a:lnTo>
                  <a:pt x="15" y="4"/>
                </a:lnTo>
                <a:lnTo>
                  <a:pt x="11" y="7"/>
                </a:lnTo>
                <a:lnTo>
                  <a:pt x="7" y="11"/>
                </a:lnTo>
                <a:lnTo>
                  <a:pt x="7" y="15"/>
                </a:lnTo>
                <a:lnTo>
                  <a:pt x="3" y="19"/>
                </a:lnTo>
                <a:lnTo>
                  <a:pt x="3" y="19"/>
                </a:lnTo>
                <a:lnTo>
                  <a:pt x="3" y="23"/>
                </a:lnTo>
                <a:lnTo>
                  <a:pt x="3" y="27"/>
                </a:lnTo>
                <a:lnTo>
                  <a:pt x="3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3" y="42"/>
                </a:lnTo>
                <a:lnTo>
                  <a:pt x="3" y="50"/>
                </a:lnTo>
                <a:lnTo>
                  <a:pt x="7" y="54"/>
                </a:lnTo>
                <a:lnTo>
                  <a:pt x="7" y="58"/>
                </a:lnTo>
                <a:lnTo>
                  <a:pt x="11" y="61"/>
                </a:lnTo>
                <a:lnTo>
                  <a:pt x="15" y="65"/>
                </a:lnTo>
                <a:lnTo>
                  <a:pt x="19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0" y="69"/>
                </a:lnTo>
                <a:lnTo>
                  <a:pt x="30" y="69"/>
                </a:lnTo>
                <a:lnTo>
                  <a:pt x="34" y="69"/>
                </a:lnTo>
                <a:lnTo>
                  <a:pt x="34" y="73"/>
                </a:lnTo>
                <a:lnTo>
                  <a:pt x="38" y="73"/>
                </a:lnTo>
                <a:lnTo>
                  <a:pt x="42" y="73"/>
                </a:lnTo>
                <a:lnTo>
                  <a:pt x="42" y="69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7" y="65"/>
                </a:lnTo>
                <a:lnTo>
                  <a:pt x="61" y="65"/>
                </a:lnTo>
                <a:lnTo>
                  <a:pt x="65" y="61"/>
                </a:lnTo>
                <a:lnTo>
                  <a:pt x="69" y="58"/>
                </a:lnTo>
                <a:lnTo>
                  <a:pt x="69" y="54"/>
                </a:lnTo>
                <a:lnTo>
                  <a:pt x="73" y="50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3" y="27"/>
                </a:lnTo>
                <a:lnTo>
                  <a:pt x="73" y="19"/>
                </a:lnTo>
                <a:lnTo>
                  <a:pt x="69" y="15"/>
                </a:lnTo>
                <a:lnTo>
                  <a:pt x="69" y="15"/>
                </a:lnTo>
                <a:lnTo>
                  <a:pt x="69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4"/>
                </a:lnTo>
                <a:lnTo>
                  <a:pt x="57" y="4"/>
                </a:lnTo>
                <a:lnTo>
                  <a:pt x="57" y="4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546440" y="3767040"/>
            <a:ext cx="10800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38" y="0"/>
                </a:moveTo>
                <a:lnTo>
                  <a:pt x="34" y="0"/>
                </a:lnTo>
                <a:lnTo>
                  <a:pt x="31" y="0"/>
                </a:lnTo>
                <a:lnTo>
                  <a:pt x="27" y="4"/>
                </a:lnTo>
                <a:lnTo>
                  <a:pt x="19" y="4"/>
                </a:lnTo>
                <a:lnTo>
                  <a:pt x="15" y="8"/>
                </a:lnTo>
                <a:lnTo>
                  <a:pt x="11" y="12"/>
                </a:lnTo>
                <a:lnTo>
                  <a:pt x="7" y="16"/>
                </a:lnTo>
                <a:lnTo>
                  <a:pt x="7" y="20"/>
                </a:lnTo>
                <a:lnTo>
                  <a:pt x="4" y="24"/>
                </a:lnTo>
                <a:lnTo>
                  <a:pt x="4" y="24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4" y="31"/>
                </a:lnTo>
                <a:lnTo>
                  <a:pt x="4" y="35"/>
                </a:lnTo>
                <a:lnTo>
                  <a:pt x="0" y="39"/>
                </a:lnTo>
                <a:lnTo>
                  <a:pt x="4" y="43"/>
                </a:lnTo>
                <a:lnTo>
                  <a:pt x="4" y="47"/>
                </a:lnTo>
                <a:lnTo>
                  <a:pt x="4" y="51"/>
                </a:lnTo>
                <a:lnTo>
                  <a:pt x="7" y="54"/>
                </a:lnTo>
                <a:lnTo>
                  <a:pt x="7" y="58"/>
                </a:lnTo>
                <a:lnTo>
                  <a:pt x="11" y="62"/>
                </a:lnTo>
                <a:lnTo>
                  <a:pt x="15" y="66"/>
                </a:lnTo>
                <a:lnTo>
                  <a:pt x="19" y="70"/>
                </a:lnTo>
                <a:lnTo>
                  <a:pt x="23" y="70"/>
                </a:lnTo>
                <a:lnTo>
                  <a:pt x="23" y="70"/>
                </a:lnTo>
                <a:lnTo>
                  <a:pt x="27" y="74"/>
                </a:lnTo>
                <a:lnTo>
                  <a:pt x="31" y="74"/>
                </a:lnTo>
                <a:lnTo>
                  <a:pt x="31" y="74"/>
                </a:lnTo>
                <a:lnTo>
                  <a:pt x="34" y="74"/>
                </a:lnTo>
                <a:lnTo>
                  <a:pt x="34" y="74"/>
                </a:lnTo>
                <a:lnTo>
                  <a:pt x="38" y="74"/>
                </a:lnTo>
                <a:lnTo>
                  <a:pt x="42" y="74"/>
                </a:lnTo>
                <a:lnTo>
                  <a:pt x="42" y="74"/>
                </a:lnTo>
                <a:lnTo>
                  <a:pt x="46" y="74"/>
                </a:lnTo>
                <a:lnTo>
                  <a:pt x="46" y="74"/>
                </a:lnTo>
                <a:lnTo>
                  <a:pt x="50" y="74"/>
                </a:lnTo>
                <a:lnTo>
                  <a:pt x="54" y="70"/>
                </a:lnTo>
                <a:lnTo>
                  <a:pt x="54" y="70"/>
                </a:lnTo>
                <a:lnTo>
                  <a:pt x="58" y="70"/>
                </a:lnTo>
                <a:lnTo>
                  <a:pt x="61" y="66"/>
                </a:lnTo>
                <a:lnTo>
                  <a:pt x="65" y="62"/>
                </a:lnTo>
                <a:lnTo>
                  <a:pt x="69" y="58"/>
                </a:lnTo>
                <a:lnTo>
                  <a:pt x="69" y="54"/>
                </a:lnTo>
                <a:lnTo>
                  <a:pt x="73" y="51"/>
                </a:lnTo>
                <a:lnTo>
                  <a:pt x="73" y="47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4"/>
                </a:lnTo>
                <a:lnTo>
                  <a:pt x="69" y="20"/>
                </a:lnTo>
                <a:lnTo>
                  <a:pt x="69" y="16"/>
                </a:lnTo>
                <a:lnTo>
                  <a:pt x="69" y="16"/>
                </a:lnTo>
                <a:lnTo>
                  <a:pt x="65" y="12"/>
                </a:lnTo>
                <a:lnTo>
                  <a:pt x="65" y="12"/>
                </a:lnTo>
                <a:lnTo>
                  <a:pt x="61" y="8"/>
                </a:lnTo>
                <a:lnTo>
                  <a:pt x="61" y="8"/>
                </a:lnTo>
                <a:lnTo>
                  <a:pt x="58" y="8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93960" y="5078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4" y="0"/>
                </a:lnTo>
                <a:lnTo>
                  <a:pt x="20" y="3"/>
                </a:lnTo>
                <a:lnTo>
                  <a:pt x="12" y="7"/>
                </a:lnTo>
                <a:lnTo>
                  <a:pt x="12" y="7"/>
                </a:lnTo>
                <a:lnTo>
                  <a:pt x="8" y="11"/>
                </a:lnTo>
                <a:lnTo>
                  <a:pt x="4" y="15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2" y="65"/>
                </a:lnTo>
                <a:lnTo>
                  <a:pt x="20" y="65"/>
                </a:lnTo>
                <a:lnTo>
                  <a:pt x="20" y="69"/>
                </a:lnTo>
                <a:lnTo>
                  <a:pt x="24" y="69"/>
                </a:lnTo>
                <a:lnTo>
                  <a:pt x="24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69"/>
                </a:lnTo>
                <a:lnTo>
                  <a:pt x="47" y="69"/>
                </a:lnTo>
                <a:lnTo>
                  <a:pt x="47" y="69"/>
                </a:lnTo>
                <a:lnTo>
                  <a:pt x="51" y="69"/>
                </a:lnTo>
                <a:lnTo>
                  <a:pt x="54" y="69"/>
                </a:lnTo>
                <a:lnTo>
                  <a:pt x="54" y="65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0"/>
                </a:lnTo>
                <a:lnTo>
                  <a:pt x="74" y="27"/>
                </a:lnTo>
                <a:lnTo>
                  <a:pt x="70" y="23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1" y="0"/>
                </a:lnTo>
                <a:lnTo>
                  <a:pt x="47" y="0"/>
                </a:lnTo>
                <a:lnTo>
                  <a:pt x="39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710160" y="419112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69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63060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4"/>
                </a:lnTo>
                <a:lnTo>
                  <a:pt x="19" y="4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7"/>
                </a:lnTo>
                <a:lnTo>
                  <a:pt x="58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557520" y="41418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8"/>
                </a:lnTo>
                <a:lnTo>
                  <a:pt x="69" y="54"/>
                </a:lnTo>
                <a:lnTo>
                  <a:pt x="69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73" y="27"/>
                </a:lnTo>
                <a:lnTo>
                  <a:pt x="69" y="23"/>
                </a:lnTo>
                <a:lnTo>
                  <a:pt x="69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7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2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86244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19"/>
                </a:lnTo>
                <a:lnTo>
                  <a:pt x="4" y="23"/>
                </a:lnTo>
                <a:lnTo>
                  <a:pt x="0" y="23"/>
                </a:lnTo>
                <a:lnTo>
                  <a:pt x="0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4"/>
                </a:lnTo>
                <a:lnTo>
                  <a:pt x="8" y="57"/>
                </a:lnTo>
                <a:lnTo>
                  <a:pt x="12" y="61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1"/>
                </a:lnTo>
                <a:lnTo>
                  <a:pt x="66" y="57"/>
                </a:lnTo>
                <a:lnTo>
                  <a:pt x="70" y="54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0" y="23"/>
                </a:lnTo>
                <a:lnTo>
                  <a:pt x="70" y="19"/>
                </a:lnTo>
                <a:lnTo>
                  <a:pt x="66" y="15"/>
                </a:lnTo>
                <a:lnTo>
                  <a:pt x="66" y="15"/>
                </a:lnTo>
                <a:lnTo>
                  <a:pt x="66" y="11"/>
                </a:lnTo>
                <a:lnTo>
                  <a:pt x="62" y="11"/>
                </a:lnTo>
                <a:lnTo>
                  <a:pt x="62" y="7"/>
                </a:lnTo>
                <a:lnTo>
                  <a:pt x="58" y="7"/>
                </a:lnTo>
                <a:lnTo>
                  <a:pt x="58" y="3"/>
                </a:lnTo>
                <a:lnTo>
                  <a:pt x="54" y="3"/>
                </a:lnTo>
                <a:lnTo>
                  <a:pt x="50" y="3"/>
                </a:lnTo>
                <a:lnTo>
                  <a:pt x="46" y="0"/>
                </a:lnTo>
                <a:lnTo>
                  <a:pt x="43" y="0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935520" y="3584520"/>
            <a:ext cx="10944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20" y="4"/>
                </a:lnTo>
                <a:lnTo>
                  <a:pt x="16" y="7"/>
                </a:lnTo>
                <a:lnTo>
                  <a:pt x="12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1"/>
                </a:lnTo>
                <a:lnTo>
                  <a:pt x="16" y="65"/>
                </a:lnTo>
                <a:lnTo>
                  <a:pt x="20" y="65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31" y="69"/>
                </a:lnTo>
                <a:lnTo>
                  <a:pt x="31" y="69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7" y="69"/>
                </a:lnTo>
                <a:lnTo>
                  <a:pt x="47" y="69"/>
                </a:lnTo>
                <a:lnTo>
                  <a:pt x="50" y="69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50"/>
                </a:lnTo>
                <a:lnTo>
                  <a:pt x="74" y="46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4" y="27"/>
                </a:lnTo>
                <a:lnTo>
                  <a:pt x="74" y="23"/>
                </a:lnTo>
                <a:lnTo>
                  <a:pt x="70" y="15"/>
                </a:lnTo>
                <a:lnTo>
                  <a:pt x="70" y="15"/>
                </a:lnTo>
                <a:lnTo>
                  <a:pt x="70" y="11"/>
                </a:lnTo>
                <a:lnTo>
                  <a:pt x="66" y="11"/>
                </a:lnTo>
                <a:lnTo>
                  <a:pt x="66" y="7"/>
                </a:lnTo>
                <a:lnTo>
                  <a:pt x="62" y="7"/>
                </a:lnTo>
                <a:lnTo>
                  <a:pt x="62" y="7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7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93960" y="460692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4" y="4"/>
                </a:lnTo>
                <a:lnTo>
                  <a:pt x="20" y="7"/>
                </a:lnTo>
                <a:lnTo>
                  <a:pt x="12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4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2" y="65"/>
                </a:lnTo>
                <a:lnTo>
                  <a:pt x="20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7"/>
                </a:lnTo>
                <a:lnTo>
                  <a:pt x="35" y="77"/>
                </a:lnTo>
                <a:lnTo>
                  <a:pt x="39" y="77"/>
                </a:lnTo>
                <a:lnTo>
                  <a:pt x="39" y="73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4"/>
                </a:lnTo>
                <a:lnTo>
                  <a:pt x="74" y="46"/>
                </a:lnTo>
                <a:lnTo>
                  <a:pt x="74" y="42"/>
                </a:lnTo>
                <a:lnTo>
                  <a:pt x="74" y="38"/>
                </a:lnTo>
                <a:lnTo>
                  <a:pt x="74" y="34"/>
                </a:lnTo>
                <a:lnTo>
                  <a:pt x="74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2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1" y="4"/>
                </a:lnTo>
                <a:lnTo>
                  <a:pt x="47" y="4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478320" y="367668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2" y="11"/>
                </a:lnTo>
                <a:lnTo>
                  <a:pt x="8" y="15"/>
                </a:lnTo>
                <a:lnTo>
                  <a:pt x="8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2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2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2" y="65"/>
                </a:lnTo>
                <a:lnTo>
                  <a:pt x="66" y="61"/>
                </a:lnTo>
                <a:lnTo>
                  <a:pt x="66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6" y="15"/>
                </a:lnTo>
                <a:lnTo>
                  <a:pt x="66" y="11"/>
                </a:lnTo>
                <a:lnTo>
                  <a:pt x="66" y="11"/>
                </a:lnTo>
                <a:lnTo>
                  <a:pt x="62" y="7"/>
                </a:lnTo>
                <a:lnTo>
                  <a:pt x="62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173400" y="397656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5" y="0"/>
                </a:lnTo>
                <a:lnTo>
                  <a:pt x="27" y="0"/>
                </a:lnTo>
                <a:lnTo>
                  <a:pt x="23" y="0"/>
                </a:lnTo>
                <a:lnTo>
                  <a:pt x="19" y="3"/>
                </a:lnTo>
                <a:lnTo>
                  <a:pt x="15" y="7"/>
                </a:lnTo>
                <a:lnTo>
                  <a:pt x="11" y="7"/>
                </a:lnTo>
                <a:lnTo>
                  <a:pt x="8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4" y="46"/>
                </a:lnTo>
                <a:lnTo>
                  <a:pt x="4" y="50"/>
                </a:lnTo>
                <a:lnTo>
                  <a:pt x="8" y="54"/>
                </a:lnTo>
                <a:lnTo>
                  <a:pt x="8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69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69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38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5"/>
                </a:lnTo>
                <a:lnTo>
                  <a:pt x="69" y="15"/>
                </a:lnTo>
                <a:lnTo>
                  <a:pt x="65" y="11"/>
                </a:lnTo>
                <a:lnTo>
                  <a:pt x="65" y="11"/>
                </a:lnTo>
                <a:lnTo>
                  <a:pt x="65" y="7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0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630600" y="3351240"/>
            <a:ext cx="108000" cy="117360"/>
          </a:xfrm>
          <a:custGeom>
            <a:avLst/>
            <a:gdLst/>
            <a:ahLst/>
            <a:rect l="l" t="t" r="r" b="b"/>
            <a:pathLst>
              <a:path w="73" h="74">
                <a:moveTo>
                  <a:pt x="39" y="0"/>
                </a:moveTo>
                <a:lnTo>
                  <a:pt x="35" y="0"/>
                </a:lnTo>
                <a:lnTo>
                  <a:pt x="31" y="0"/>
                </a:lnTo>
                <a:lnTo>
                  <a:pt x="23" y="0"/>
                </a:lnTo>
                <a:lnTo>
                  <a:pt x="19" y="4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8" y="16"/>
                </a:lnTo>
                <a:lnTo>
                  <a:pt x="4" y="20"/>
                </a:lnTo>
                <a:lnTo>
                  <a:pt x="4" y="20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4" y="43"/>
                </a:lnTo>
                <a:lnTo>
                  <a:pt x="4" y="50"/>
                </a:lnTo>
                <a:lnTo>
                  <a:pt x="8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6"/>
                </a:lnTo>
                <a:lnTo>
                  <a:pt x="23" y="70"/>
                </a:lnTo>
                <a:lnTo>
                  <a:pt x="23" y="70"/>
                </a:lnTo>
                <a:lnTo>
                  <a:pt x="27" y="70"/>
                </a:lnTo>
                <a:lnTo>
                  <a:pt x="31" y="70"/>
                </a:lnTo>
                <a:lnTo>
                  <a:pt x="31" y="70"/>
                </a:lnTo>
                <a:lnTo>
                  <a:pt x="35" y="70"/>
                </a:lnTo>
                <a:lnTo>
                  <a:pt x="35" y="74"/>
                </a:lnTo>
                <a:lnTo>
                  <a:pt x="39" y="74"/>
                </a:lnTo>
                <a:lnTo>
                  <a:pt x="39" y="74"/>
                </a:lnTo>
                <a:lnTo>
                  <a:pt x="43" y="70"/>
                </a:lnTo>
                <a:lnTo>
                  <a:pt x="46" y="70"/>
                </a:lnTo>
                <a:lnTo>
                  <a:pt x="46" y="70"/>
                </a:lnTo>
                <a:lnTo>
                  <a:pt x="50" y="70"/>
                </a:lnTo>
                <a:lnTo>
                  <a:pt x="54" y="70"/>
                </a:lnTo>
                <a:lnTo>
                  <a:pt x="54" y="70"/>
                </a:lnTo>
                <a:lnTo>
                  <a:pt x="58" y="66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3"/>
                </a:lnTo>
                <a:lnTo>
                  <a:pt x="73" y="39"/>
                </a:lnTo>
                <a:lnTo>
                  <a:pt x="73" y="35"/>
                </a:lnTo>
                <a:lnTo>
                  <a:pt x="73" y="31"/>
                </a:lnTo>
                <a:lnTo>
                  <a:pt x="73" y="27"/>
                </a:lnTo>
                <a:lnTo>
                  <a:pt x="73" y="20"/>
                </a:lnTo>
                <a:lnTo>
                  <a:pt x="70" y="16"/>
                </a:lnTo>
                <a:lnTo>
                  <a:pt x="70" y="16"/>
                </a:lnTo>
                <a:lnTo>
                  <a:pt x="66" y="12"/>
                </a:lnTo>
                <a:lnTo>
                  <a:pt x="66" y="12"/>
                </a:lnTo>
                <a:lnTo>
                  <a:pt x="66" y="8"/>
                </a:lnTo>
                <a:lnTo>
                  <a:pt x="62" y="8"/>
                </a:lnTo>
                <a:lnTo>
                  <a:pt x="62" y="4"/>
                </a:lnTo>
                <a:lnTo>
                  <a:pt x="58" y="4"/>
                </a:lnTo>
                <a:lnTo>
                  <a:pt x="58" y="4"/>
                </a:lnTo>
                <a:lnTo>
                  <a:pt x="50" y="0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710160" y="2739960"/>
            <a:ext cx="10764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5" y="0"/>
                </a:moveTo>
                <a:lnTo>
                  <a:pt x="31" y="4"/>
                </a:lnTo>
                <a:lnTo>
                  <a:pt x="27" y="4"/>
                </a:lnTo>
                <a:lnTo>
                  <a:pt x="23" y="4"/>
                </a:lnTo>
                <a:lnTo>
                  <a:pt x="19" y="7"/>
                </a:lnTo>
                <a:lnTo>
                  <a:pt x="16" y="7"/>
                </a:lnTo>
                <a:lnTo>
                  <a:pt x="12" y="11"/>
                </a:lnTo>
                <a:lnTo>
                  <a:pt x="8" y="15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4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4" y="50"/>
                </a:lnTo>
                <a:lnTo>
                  <a:pt x="4" y="58"/>
                </a:lnTo>
                <a:lnTo>
                  <a:pt x="8" y="61"/>
                </a:lnTo>
                <a:lnTo>
                  <a:pt x="12" y="65"/>
                </a:lnTo>
                <a:lnTo>
                  <a:pt x="16" y="65"/>
                </a:lnTo>
                <a:lnTo>
                  <a:pt x="19" y="69"/>
                </a:lnTo>
                <a:lnTo>
                  <a:pt x="19" y="69"/>
                </a:lnTo>
                <a:lnTo>
                  <a:pt x="23" y="73"/>
                </a:lnTo>
                <a:lnTo>
                  <a:pt x="23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5" y="73"/>
                </a:lnTo>
                <a:lnTo>
                  <a:pt x="39" y="73"/>
                </a:lnTo>
                <a:lnTo>
                  <a:pt x="43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58" y="65"/>
                </a:lnTo>
                <a:lnTo>
                  <a:pt x="62" y="65"/>
                </a:lnTo>
                <a:lnTo>
                  <a:pt x="66" y="61"/>
                </a:lnTo>
                <a:lnTo>
                  <a:pt x="70" y="58"/>
                </a:lnTo>
                <a:lnTo>
                  <a:pt x="70" y="50"/>
                </a:lnTo>
                <a:lnTo>
                  <a:pt x="73" y="46"/>
                </a:lnTo>
                <a:lnTo>
                  <a:pt x="73" y="42"/>
                </a:lnTo>
                <a:lnTo>
                  <a:pt x="73" y="38"/>
                </a:lnTo>
                <a:lnTo>
                  <a:pt x="73" y="34"/>
                </a:lnTo>
                <a:lnTo>
                  <a:pt x="73" y="31"/>
                </a:lnTo>
                <a:lnTo>
                  <a:pt x="70" y="23"/>
                </a:lnTo>
                <a:lnTo>
                  <a:pt x="70" y="19"/>
                </a:lnTo>
                <a:lnTo>
                  <a:pt x="66" y="19"/>
                </a:lnTo>
                <a:lnTo>
                  <a:pt x="66" y="15"/>
                </a:lnTo>
                <a:lnTo>
                  <a:pt x="66" y="15"/>
                </a:lnTo>
                <a:lnTo>
                  <a:pt x="62" y="11"/>
                </a:lnTo>
                <a:lnTo>
                  <a:pt x="62" y="11"/>
                </a:lnTo>
                <a:lnTo>
                  <a:pt x="58" y="7"/>
                </a:lnTo>
                <a:lnTo>
                  <a:pt x="58" y="7"/>
                </a:lnTo>
                <a:lnTo>
                  <a:pt x="54" y="7"/>
                </a:lnTo>
                <a:lnTo>
                  <a:pt x="50" y="4"/>
                </a:lnTo>
                <a:lnTo>
                  <a:pt x="46" y="4"/>
                </a:lnTo>
                <a:lnTo>
                  <a:pt x="43" y="4"/>
                </a:lnTo>
                <a:lnTo>
                  <a:pt x="3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714760" y="4251240"/>
            <a:ext cx="1094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39" y="0"/>
                </a:moveTo>
                <a:lnTo>
                  <a:pt x="35" y="4"/>
                </a:lnTo>
                <a:lnTo>
                  <a:pt x="27" y="4"/>
                </a:lnTo>
                <a:lnTo>
                  <a:pt x="24" y="4"/>
                </a:lnTo>
                <a:lnTo>
                  <a:pt x="20" y="8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8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31"/>
                </a:lnTo>
                <a:lnTo>
                  <a:pt x="0" y="31"/>
                </a:lnTo>
                <a:lnTo>
                  <a:pt x="0" y="35"/>
                </a:lnTo>
                <a:lnTo>
                  <a:pt x="0" y="35"/>
                </a:lnTo>
                <a:lnTo>
                  <a:pt x="0" y="39"/>
                </a:lnTo>
                <a:lnTo>
                  <a:pt x="0" y="42"/>
                </a:lnTo>
                <a:lnTo>
                  <a:pt x="4" y="46"/>
                </a:lnTo>
                <a:lnTo>
                  <a:pt x="4" y="54"/>
                </a:lnTo>
                <a:lnTo>
                  <a:pt x="8" y="58"/>
                </a:lnTo>
                <a:lnTo>
                  <a:pt x="8" y="62"/>
                </a:lnTo>
                <a:lnTo>
                  <a:pt x="12" y="66"/>
                </a:lnTo>
                <a:lnTo>
                  <a:pt x="16" y="69"/>
                </a:lnTo>
                <a:lnTo>
                  <a:pt x="20" y="69"/>
                </a:lnTo>
                <a:lnTo>
                  <a:pt x="24" y="73"/>
                </a:lnTo>
                <a:lnTo>
                  <a:pt x="24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5" y="73"/>
                </a:lnTo>
                <a:lnTo>
                  <a:pt x="35" y="77"/>
                </a:lnTo>
                <a:lnTo>
                  <a:pt x="39" y="77"/>
                </a:lnTo>
                <a:lnTo>
                  <a:pt x="39" y="77"/>
                </a:lnTo>
                <a:lnTo>
                  <a:pt x="43" y="73"/>
                </a:lnTo>
                <a:lnTo>
                  <a:pt x="47" y="73"/>
                </a:lnTo>
                <a:lnTo>
                  <a:pt x="47" y="73"/>
                </a:lnTo>
                <a:lnTo>
                  <a:pt x="51" y="73"/>
                </a:lnTo>
                <a:lnTo>
                  <a:pt x="51" y="73"/>
                </a:lnTo>
                <a:lnTo>
                  <a:pt x="54" y="73"/>
                </a:lnTo>
                <a:lnTo>
                  <a:pt x="58" y="69"/>
                </a:lnTo>
                <a:lnTo>
                  <a:pt x="62" y="69"/>
                </a:lnTo>
                <a:lnTo>
                  <a:pt x="62" y="66"/>
                </a:lnTo>
                <a:lnTo>
                  <a:pt x="66" y="62"/>
                </a:lnTo>
                <a:lnTo>
                  <a:pt x="70" y="58"/>
                </a:lnTo>
                <a:lnTo>
                  <a:pt x="74" y="54"/>
                </a:lnTo>
                <a:lnTo>
                  <a:pt x="74" y="46"/>
                </a:lnTo>
                <a:lnTo>
                  <a:pt x="74" y="42"/>
                </a:lnTo>
                <a:lnTo>
                  <a:pt x="74" y="39"/>
                </a:lnTo>
                <a:lnTo>
                  <a:pt x="74" y="35"/>
                </a:lnTo>
                <a:lnTo>
                  <a:pt x="74" y="31"/>
                </a:lnTo>
                <a:lnTo>
                  <a:pt x="74" y="23"/>
                </a:lnTo>
                <a:lnTo>
                  <a:pt x="70" y="19"/>
                </a:lnTo>
                <a:lnTo>
                  <a:pt x="70" y="19"/>
                </a:lnTo>
                <a:lnTo>
                  <a:pt x="66" y="16"/>
                </a:lnTo>
                <a:lnTo>
                  <a:pt x="66" y="16"/>
                </a:lnTo>
                <a:lnTo>
                  <a:pt x="62" y="12"/>
                </a:lnTo>
                <a:lnTo>
                  <a:pt x="62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1" y="4"/>
                </a:lnTo>
                <a:lnTo>
                  <a:pt x="47" y="4"/>
                </a:lnTo>
                <a:lnTo>
                  <a:pt x="43" y="4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257560" y="4888080"/>
            <a:ext cx="10764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39" y="0"/>
                </a:moveTo>
                <a:lnTo>
                  <a:pt x="35" y="0"/>
                </a:lnTo>
                <a:lnTo>
                  <a:pt x="27" y="0"/>
                </a:lnTo>
                <a:lnTo>
                  <a:pt x="23" y="4"/>
                </a:lnTo>
                <a:lnTo>
                  <a:pt x="19" y="4"/>
                </a:lnTo>
                <a:lnTo>
                  <a:pt x="16" y="8"/>
                </a:lnTo>
                <a:lnTo>
                  <a:pt x="12" y="12"/>
                </a:lnTo>
                <a:lnTo>
                  <a:pt x="8" y="16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4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9"/>
                </a:lnTo>
                <a:lnTo>
                  <a:pt x="0" y="43"/>
                </a:lnTo>
                <a:lnTo>
                  <a:pt x="4" y="46"/>
                </a:lnTo>
                <a:lnTo>
                  <a:pt x="4" y="50"/>
                </a:lnTo>
                <a:lnTo>
                  <a:pt x="4" y="54"/>
                </a:lnTo>
                <a:lnTo>
                  <a:pt x="8" y="58"/>
                </a:lnTo>
                <a:lnTo>
                  <a:pt x="12" y="62"/>
                </a:lnTo>
                <a:lnTo>
                  <a:pt x="16" y="66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5" y="73"/>
                </a:lnTo>
                <a:lnTo>
                  <a:pt x="39" y="73"/>
                </a:lnTo>
                <a:lnTo>
                  <a:pt x="39" y="73"/>
                </a:lnTo>
                <a:lnTo>
                  <a:pt x="43" y="73"/>
                </a:lnTo>
                <a:lnTo>
                  <a:pt x="46" y="73"/>
                </a:lnTo>
                <a:lnTo>
                  <a:pt x="46" y="73"/>
                </a:lnTo>
                <a:lnTo>
                  <a:pt x="50" y="73"/>
                </a:lnTo>
                <a:lnTo>
                  <a:pt x="50" y="73"/>
                </a:lnTo>
                <a:lnTo>
                  <a:pt x="54" y="69"/>
                </a:lnTo>
                <a:lnTo>
                  <a:pt x="54" y="69"/>
                </a:lnTo>
                <a:lnTo>
                  <a:pt x="62" y="66"/>
                </a:lnTo>
                <a:lnTo>
                  <a:pt x="66" y="62"/>
                </a:lnTo>
                <a:lnTo>
                  <a:pt x="66" y="58"/>
                </a:lnTo>
                <a:lnTo>
                  <a:pt x="70" y="54"/>
                </a:lnTo>
                <a:lnTo>
                  <a:pt x="73" y="50"/>
                </a:lnTo>
                <a:lnTo>
                  <a:pt x="73" y="46"/>
                </a:lnTo>
                <a:lnTo>
                  <a:pt x="73" y="43"/>
                </a:lnTo>
                <a:lnTo>
                  <a:pt x="73" y="39"/>
                </a:lnTo>
                <a:lnTo>
                  <a:pt x="73" y="31"/>
                </a:lnTo>
                <a:lnTo>
                  <a:pt x="73" y="27"/>
                </a:lnTo>
                <a:lnTo>
                  <a:pt x="73" y="23"/>
                </a:lnTo>
                <a:lnTo>
                  <a:pt x="70" y="19"/>
                </a:lnTo>
                <a:lnTo>
                  <a:pt x="70" y="16"/>
                </a:lnTo>
                <a:lnTo>
                  <a:pt x="66" y="16"/>
                </a:lnTo>
                <a:lnTo>
                  <a:pt x="66" y="12"/>
                </a:lnTo>
                <a:lnTo>
                  <a:pt x="66" y="12"/>
                </a:lnTo>
                <a:lnTo>
                  <a:pt x="62" y="8"/>
                </a:lnTo>
                <a:lnTo>
                  <a:pt x="58" y="8"/>
                </a:lnTo>
                <a:lnTo>
                  <a:pt x="58" y="8"/>
                </a:lnTo>
                <a:lnTo>
                  <a:pt x="54" y="4"/>
                </a:lnTo>
                <a:lnTo>
                  <a:pt x="50" y="4"/>
                </a:lnTo>
                <a:lnTo>
                  <a:pt x="46" y="0"/>
                </a:lnTo>
                <a:lnTo>
                  <a:pt x="43" y="0"/>
                </a:lnTo>
                <a:lnTo>
                  <a:pt x="3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139920" y="243360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4" y="0"/>
                </a:moveTo>
                <a:lnTo>
                  <a:pt x="31" y="0"/>
                </a:lnTo>
                <a:lnTo>
                  <a:pt x="27" y="0"/>
                </a:lnTo>
                <a:lnTo>
                  <a:pt x="23" y="4"/>
                </a:lnTo>
                <a:lnTo>
                  <a:pt x="15" y="4"/>
                </a:lnTo>
                <a:lnTo>
                  <a:pt x="11" y="8"/>
                </a:lnTo>
                <a:lnTo>
                  <a:pt x="7" y="11"/>
                </a:lnTo>
                <a:lnTo>
                  <a:pt x="7" y="15"/>
                </a:lnTo>
                <a:lnTo>
                  <a:pt x="4" y="19"/>
                </a:lnTo>
                <a:lnTo>
                  <a:pt x="4" y="19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1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50"/>
                </a:lnTo>
                <a:lnTo>
                  <a:pt x="4" y="54"/>
                </a:lnTo>
                <a:lnTo>
                  <a:pt x="7" y="58"/>
                </a:lnTo>
                <a:lnTo>
                  <a:pt x="7" y="62"/>
                </a:lnTo>
                <a:lnTo>
                  <a:pt x="11" y="65"/>
                </a:lnTo>
                <a:lnTo>
                  <a:pt x="15" y="69"/>
                </a:lnTo>
                <a:lnTo>
                  <a:pt x="19" y="69"/>
                </a:lnTo>
                <a:lnTo>
                  <a:pt x="23" y="69"/>
                </a:lnTo>
                <a:lnTo>
                  <a:pt x="23" y="73"/>
                </a:lnTo>
                <a:lnTo>
                  <a:pt x="27" y="73"/>
                </a:lnTo>
                <a:lnTo>
                  <a:pt x="27" y="73"/>
                </a:lnTo>
                <a:lnTo>
                  <a:pt x="31" y="73"/>
                </a:lnTo>
                <a:lnTo>
                  <a:pt x="31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5"/>
                </a:lnTo>
                <a:lnTo>
                  <a:pt x="61" y="62"/>
                </a:lnTo>
                <a:lnTo>
                  <a:pt x="65" y="58"/>
                </a:lnTo>
                <a:lnTo>
                  <a:pt x="65" y="54"/>
                </a:lnTo>
                <a:lnTo>
                  <a:pt x="69" y="50"/>
                </a:lnTo>
                <a:lnTo>
                  <a:pt x="69" y="46"/>
                </a:lnTo>
                <a:lnTo>
                  <a:pt x="73" y="42"/>
                </a:lnTo>
                <a:lnTo>
                  <a:pt x="73" y="38"/>
                </a:lnTo>
                <a:lnTo>
                  <a:pt x="73" y="31"/>
                </a:lnTo>
                <a:lnTo>
                  <a:pt x="69" y="27"/>
                </a:lnTo>
                <a:lnTo>
                  <a:pt x="69" y="23"/>
                </a:lnTo>
                <a:lnTo>
                  <a:pt x="65" y="19"/>
                </a:lnTo>
                <a:lnTo>
                  <a:pt x="65" y="15"/>
                </a:lnTo>
                <a:lnTo>
                  <a:pt x="65" y="15"/>
                </a:lnTo>
                <a:lnTo>
                  <a:pt x="61" y="11"/>
                </a:lnTo>
                <a:lnTo>
                  <a:pt x="61" y="11"/>
                </a:lnTo>
                <a:lnTo>
                  <a:pt x="58" y="8"/>
                </a:lnTo>
                <a:lnTo>
                  <a:pt x="58" y="8"/>
                </a:lnTo>
                <a:lnTo>
                  <a:pt x="54" y="8"/>
                </a:lnTo>
                <a:lnTo>
                  <a:pt x="54" y="4"/>
                </a:lnTo>
                <a:lnTo>
                  <a:pt x="50" y="4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021120" y="1809720"/>
            <a:ext cx="10800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38" y="0"/>
                </a:moveTo>
                <a:lnTo>
                  <a:pt x="34" y="0"/>
                </a:lnTo>
                <a:lnTo>
                  <a:pt x="27" y="0"/>
                </a:lnTo>
                <a:lnTo>
                  <a:pt x="23" y="3"/>
                </a:lnTo>
                <a:lnTo>
                  <a:pt x="19" y="3"/>
                </a:lnTo>
                <a:lnTo>
                  <a:pt x="15" y="7"/>
                </a:lnTo>
                <a:lnTo>
                  <a:pt x="11" y="11"/>
                </a:lnTo>
                <a:lnTo>
                  <a:pt x="7" y="15"/>
                </a:lnTo>
                <a:lnTo>
                  <a:pt x="7" y="19"/>
                </a:lnTo>
                <a:lnTo>
                  <a:pt x="4" y="19"/>
                </a:lnTo>
                <a:lnTo>
                  <a:pt x="4" y="23"/>
                </a:lnTo>
                <a:lnTo>
                  <a:pt x="4" y="23"/>
                </a:lnTo>
                <a:lnTo>
                  <a:pt x="4" y="27"/>
                </a:lnTo>
                <a:lnTo>
                  <a:pt x="0" y="30"/>
                </a:lnTo>
                <a:lnTo>
                  <a:pt x="0" y="30"/>
                </a:lnTo>
                <a:lnTo>
                  <a:pt x="0" y="34"/>
                </a:lnTo>
                <a:lnTo>
                  <a:pt x="0" y="34"/>
                </a:lnTo>
                <a:lnTo>
                  <a:pt x="0" y="42"/>
                </a:lnTo>
                <a:lnTo>
                  <a:pt x="4" y="46"/>
                </a:lnTo>
                <a:lnTo>
                  <a:pt x="4" y="50"/>
                </a:lnTo>
                <a:lnTo>
                  <a:pt x="7" y="54"/>
                </a:lnTo>
                <a:lnTo>
                  <a:pt x="7" y="57"/>
                </a:lnTo>
                <a:lnTo>
                  <a:pt x="11" y="61"/>
                </a:lnTo>
                <a:lnTo>
                  <a:pt x="15" y="65"/>
                </a:lnTo>
                <a:lnTo>
                  <a:pt x="19" y="69"/>
                </a:lnTo>
                <a:lnTo>
                  <a:pt x="23" y="69"/>
                </a:lnTo>
                <a:lnTo>
                  <a:pt x="23" y="69"/>
                </a:lnTo>
                <a:lnTo>
                  <a:pt x="27" y="69"/>
                </a:lnTo>
                <a:lnTo>
                  <a:pt x="27" y="73"/>
                </a:lnTo>
                <a:lnTo>
                  <a:pt x="31" y="73"/>
                </a:lnTo>
                <a:lnTo>
                  <a:pt x="34" y="73"/>
                </a:lnTo>
                <a:lnTo>
                  <a:pt x="34" y="73"/>
                </a:lnTo>
                <a:lnTo>
                  <a:pt x="38" y="73"/>
                </a:lnTo>
                <a:lnTo>
                  <a:pt x="38" y="73"/>
                </a:lnTo>
                <a:lnTo>
                  <a:pt x="42" y="73"/>
                </a:lnTo>
                <a:lnTo>
                  <a:pt x="46" y="73"/>
                </a:lnTo>
                <a:lnTo>
                  <a:pt x="46" y="73"/>
                </a:lnTo>
                <a:lnTo>
                  <a:pt x="50" y="69"/>
                </a:lnTo>
                <a:lnTo>
                  <a:pt x="50" y="69"/>
                </a:lnTo>
                <a:lnTo>
                  <a:pt x="54" y="69"/>
                </a:lnTo>
                <a:lnTo>
                  <a:pt x="58" y="69"/>
                </a:lnTo>
                <a:lnTo>
                  <a:pt x="61" y="65"/>
                </a:lnTo>
                <a:lnTo>
                  <a:pt x="65" y="61"/>
                </a:lnTo>
                <a:lnTo>
                  <a:pt x="65" y="57"/>
                </a:lnTo>
                <a:lnTo>
                  <a:pt x="69" y="54"/>
                </a:lnTo>
                <a:lnTo>
                  <a:pt x="73" y="50"/>
                </a:lnTo>
                <a:lnTo>
                  <a:pt x="73" y="46"/>
                </a:lnTo>
                <a:lnTo>
                  <a:pt x="73" y="42"/>
                </a:lnTo>
                <a:lnTo>
                  <a:pt x="73" y="34"/>
                </a:lnTo>
                <a:lnTo>
                  <a:pt x="73" y="30"/>
                </a:lnTo>
                <a:lnTo>
                  <a:pt x="73" y="27"/>
                </a:lnTo>
                <a:lnTo>
                  <a:pt x="73" y="23"/>
                </a:lnTo>
                <a:lnTo>
                  <a:pt x="69" y="19"/>
                </a:lnTo>
                <a:lnTo>
                  <a:pt x="69" y="15"/>
                </a:lnTo>
                <a:lnTo>
                  <a:pt x="65" y="15"/>
                </a:lnTo>
                <a:lnTo>
                  <a:pt x="65" y="11"/>
                </a:lnTo>
                <a:lnTo>
                  <a:pt x="65" y="11"/>
                </a:lnTo>
                <a:lnTo>
                  <a:pt x="61" y="7"/>
                </a:lnTo>
                <a:lnTo>
                  <a:pt x="61" y="7"/>
                </a:lnTo>
                <a:lnTo>
                  <a:pt x="58" y="3"/>
                </a:lnTo>
                <a:lnTo>
                  <a:pt x="58" y="3"/>
                </a:lnTo>
                <a:lnTo>
                  <a:pt x="50" y="3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1704960" y="1398240"/>
            <a:ext cx="1905120" cy="467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1704960" y="1398240"/>
            <a:ext cx="3813120" cy="46702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360600" y="1197000"/>
            <a:ext cx="43992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35556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5888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97040" y="118440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578040" y="118440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615480" y="1184400"/>
            <a:ext cx="8604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694680" y="118440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343480" y="1197000"/>
            <a:ext cx="362160" cy="17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338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44320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481720" y="1190520"/>
            <a:ext cx="8928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562360" y="1190520"/>
            <a:ext cx="4356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599440" y="1190520"/>
            <a:ext cx="110520" cy="18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37480" y="65214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773360" y="189720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icult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700440" y="1647720"/>
            <a:ext cx="11304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781520" y="2577960"/>
            <a:ext cx="113184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y connection to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dealizado de Inducción de Hundimie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fter Voege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223920" y="1757520"/>
            <a:ext cx="4284720" cy="338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4692600" y="1757520"/>
            <a:ext cx="4337280" cy="340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and pan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2480" y="1557360"/>
            <a:ext cx="811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 de explotación masivo en la cual un bloque de mineral en algunos casos representando el area basal del cuerpo mineralizado se corta en su base y luego a partir de la extracción se produce la propagación del hund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nel ca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forma del método de hundimiento en que bloques consecutivos se hunden en forma continua de modo de evitar la dilución latera y los esfuerzos de relajación producidos en el método convencional de block ca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70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del Hundimiento en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187960" y="1219320"/>
            <a:ext cx="3173400" cy="1145880"/>
          </a:xfrm>
          <a:prstGeom prst="borderCallout1">
            <a:avLst>
              <a:gd name="adj1" fmla="val 18750"/>
              <a:gd name="adj2" fmla="val -8333"/>
              <a:gd name="adj3" fmla="val 46398"/>
              <a:gd name="adj4" fmla="val -39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te inicial define una excavación tabular la cual induce el hundimiento por efecto viga y el modo de falla es básicamente por tra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194440" y="3139920"/>
            <a:ext cx="2919240" cy="1219320"/>
          </a:xfrm>
          <a:prstGeom prst="borderCallout1">
            <a:avLst>
              <a:gd name="adj1" fmla="val 18750"/>
              <a:gd name="adj2" fmla="val -8333"/>
              <a:gd name="adj3" fmla="val 30861"/>
              <a:gd name="adj4" fmla="val -43773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geometría del frente de la cavidad comienza a curvarse producto de fallas por corte o ciz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153040" y="4971960"/>
            <a:ext cx="3651120" cy="1123920"/>
          </a:xfrm>
          <a:prstGeom prst="borderCallout1">
            <a:avLst>
              <a:gd name="adj1" fmla="val 18750"/>
              <a:gd name="adj2" fmla="val -8333"/>
              <a:gd name="adj3" fmla="val 34041"/>
              <a:gd name="adj4" fmla="val -3271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altura sigue predominando el efecto de esfuerzos de corte actuando sobre el techo del hu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220680" y="1154160"/>
            <a:ext cx="3664080" cy="127620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220680" y="2600280"/>
            <a:ext cx="3689280" cy="170496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3"/>
          <a:stretch/>
        </p:blipFill>
        <p:spPr>
          <a:xfrm>
            <a:off x="220680" y="4476600"/>
            <a:ext cx="3714840" cy="225432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6939000" y="6334200"/>
            <a:ext cx="19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lores 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(2004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5624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ráfico de Hundibilidad de Laubscher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ubscher 1988 and Bartlett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áfico de Hundibilidad de Laubscher  – El Ten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050840" y="1295280"/>
            <a:ext cx="5121360" cy="5334120"/>
            <a:chOff x="1050840" y="1295280"/>
            <a:chExt cx="5121360" cy="5334120"/>
          </a:xfrm>
        </p:grpSpPr>
        <p:sp>
          <p:nvSpPr>
            <p:cNvPr id="1626" name=""/>
            <p:cNvSpPr/>
            <p:nvPr/>
          </p:nvSpPr>
          <p:spPr>
            <a:xfrm>
              <a:off x="1066680" y="1295280"/>
              <a:ext cx="5105520" cy="533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1050840" y="1341360"/>
              <a:ext cx="4874760" cy="5260680"/>
              <a:chOff x="1050840" y="1341360"/>
              <a:chExt cx="4874760" cy="5260680"/>
            </a:xfrm>
          </p:grpSpPr>
          <p:sp>
            <p:nvSpPr>
              <p:cNvPr id="1628" name=""/>
              <p:cNvSpPr/>
              <p:nvPr/>
            </p:nvSpPr>
            <p:spPr>
              <a:xfrm>
                <a:off x="3655800" y="3602160"/>
                <a:ext cx="93600" cy="406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735000" y="3444840"/>
                <a:ext cx="30204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51480" y="3238560"/>
                <a:ext cx="9216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751040" y="598500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7510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2626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7752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28788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994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1244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24000" y="5985000"/>
                <a:ext cx="108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33664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48200" y="5985000"/>
                <a:ext cx="1440" cy="522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853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95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05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1610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64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467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57040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672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77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80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83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83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90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4916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94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9828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902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004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07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09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4146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5176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618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72248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9262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288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1314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2340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392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418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644440" y="5985000"/>
                <a:ext cx="144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747040" y="5985000"/>
                <a:ext cx="1080" cy="3168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18280" y="608796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1992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71080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22272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7342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24548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8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2700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784840" y="6087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22626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27752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328788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37994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431244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4824000" y="1390680"/>
                <a:ext cx="108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336640" y="1390680"/>
                <a:ext cx="1440" cy="459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848200" y="1390680"/>
                <a:ext cx="144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1751040" y="1390680"/>
                <a:ext cx="1080" cy="459432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1683360" y="59850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1683360" y="55245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1683360" y="506556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83360" y="460692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1683360" y="41479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1683360" y="368784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1683360" y="322740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1683360" y="276840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1683360" y="230976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1683360" y="1849320"/>
                <a:ext cx="6732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1683360" y="1390680"/>
                <a:ext cx="6732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1710000" y="589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1710000" y="5800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1710000" y="5708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710000" y="5616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710000" y="54338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710000" y="53420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1710000" y="5249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1710000" y="5157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1710000" y="49737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1710000" y="4881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710000" y="4789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710000" y="46972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710000" y="45147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1710000" y="4422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1710000" y="4330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1710000" y="4238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1710000" y="40543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710000" y="39625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1710000" y="38718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1710000" y="3779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710000" y="35956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1710000" y="350352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1710000" y="34113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1710000" y="33210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1710000" y="313668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1710000" y="30448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1710000" y="29527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1710000" y="286056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1710000" y="26766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710000" y="25844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1710000" y="24940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1710000" y="240192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1710000" y="221760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1710000" y="21254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1710000" y="20336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710000" y="194148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1710000" y="175896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1710000" y="166680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1710000" y="1574640"/>
                <a:ext cx="41040" cy="180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1710000" y="1482840"/>
                <a:ext cx="4104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549800" y="5935680"/>
                <a:ext cx="7092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485000" y="54766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485000" y="5016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85000" y="45576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485000" y="40971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85000" y="363996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485000" y="3179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485000" y="272088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485000" y="226044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485000" y="1801800"/>
                <a:ext cx="1407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420560" y="1341360"/>
                <a:ext cx="21096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66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751040" y="2309760"/>
                <a:ext cx="4096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751040" y="1390680"/>
                <a:ext cx="4096800" cy="1440"/>
              </a:xfrm>
              <a:prstGeom prst="line">
                <a:avLst/>
              </a:prstGeom>
              <a:ln w="0">
                <a:solidFill>
                  <a:srgbClr val="f8f8f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751040" y="1390680"/>
                <a:ext cx="3072600" cy="3951360"/>
              </a:xfrm>
              <a:custGeom>
                <a:avLst/>
                <a:gdLst/>
                <a:ahLst/>
                <a:rect l="l" t="t" r="r" b="b"/>
                <a:pathLst>
                  <a:path w="6293" h="9954">
                    <a:moveTo>
                      <a:pt x="0" y="9954"/>
                    </a:moveTo>
                    <a:lnTo>
                      <a:pt x="18" y="9898"/>
                    </a:lnTo>
                    <a:lnTo>
                      <a:pt x="33" y="9840"/>
                    </a:lnTo>
                    <a:lnTo>
                      <a:pt x="50" y="9784"/>
                    </a:lnTo>
                    <a:lnTo>
                      <a:pt x="65" y="9727"/>
                    </a:lnTo>
                    <a:lnTo>
                      <a:pt x="83" y="9670"/>
                    </a:lnTo>
                    <a:lnTo>
                      <a:pt x="100" y="9612"/>
                    </a:lnTo>
                    <a:lnTo>
                      <a:pt x="119" y="9556"/>
                    </a:lnTo>
                    <a:lnTo>
                      <a:pt x="135" y="9499"/>
                    </a:lnTo>
                    <a:lnTo>
                      <a:pt x="153" y="9442"/>
                    </a:lnTo>
                    <a:lnTo>
                      <a:pt x="171" y="9386"/>
                    </a:lnTo>
                    <a:lnTo>
                      <a:pt x="188" y="9328"/>
                    </a:lnTo>
                    <a:lnTo>
                      <a:pt x="206" y="9272"/>
                    </a:lnTo>
                    <a:lnTo>
                      <a:pt x="225" y="9216"/>
                    </a:lnTo>
                    <a:lnTo>
                      <a:pt x="244" y="9159"/>
                    </a:lnTo>
                    <a:lnTo>
                      <a:pt x="262" y="9103"/>
                    </a:lnTo>
                    <a:lnTo>
                      <a:pt x="281" y="9045"/>
                    </a:lnTo>
                    <a:lnTo>
                      <a:pt x="299" y="8990"/>
                    </a:lnTo>
                    <a:lnTo>
                      <a:pt x="317" y="8933"/>
                    </a:lnTo>
                    <a:lnTo>
                      <a:pt x="338" y="8877"/>
                    </a:lnTo>
                    <a:lnTo>
                      <a:pt x="355" y="8820"/>
                    </a:lnTo>
                    <a:lnTo>
                      <a:pt x="374" y="8764"/>
                    </a:lnTo>
                    <a:lnTo>
                      <a:pt x="394" y="8708"/>
                    </a:lnTo>
                    <a:lnTo>
                      <a:pt x="415" y="8651"/>
                    </a:lnTo>
                    <a:lnTo>
                      <a:pt x="432" y="8595"/>
                    </a:lnTo>
                    <a:lnTo>
                      <a:pt x="452" y="8539"/>
                    </a:lnTo>
                    <a:lnTo>
                      <a:pt x="472" y="8483"/>
                    </a:lnTo>
                    <a:lnTo>
                      <a:pt x="491" y="8426"/>
                    </a:lnTo>
                    <a:lnTo>
                      <a:pt x="512" y="8370"/>
                    </a:lnTo>
                    <a:lnTo>
                      <a:pt x="530" y="8314"/>
                    </a:lnTo>
                    <a:lnTo>
                      <a:pt x="552" y="8258"/>
                    </a:lnTo>
                    <a:lnTo>
                      <a:pt x="572" y="8202"/>
                    </a:lnTo>
                    <a:lnTo>
                      <a:pt x="591" y="8147"/>
                    </a:lnTo>
                    <a:lnTo>
                      <a:pt x="611" y="8090"/>
                    </a:lnTo>
                    <a:lnTo>
                      <a:pt x="631" y="8034"/>
                    </a:lnTo>
                    <a:lnTo>
                      <a:pt x="652" y="7977"/>
                    </a:lnTo>
                    <a:lnTo>
                      <a:pt x="672" y="7923"/>
                    </a:lnTo>
                    <a:lnTo>
                      <a:pt x="694" y="7866"/>
                    </a:lnTo>
                    <a:lnTo>
                      <a:pt x="714" y="7810"/>
                    </a:lnTo>
                    <a:lnTo>
                      <a:pt x="735" y="7755"/>
                    </a:lnTo>
                    <a:lnTo>
                      <a:pt x="756" y="7698"/>
                    </a:lnTo>
                    <a:lnTo>
                      <a:pt x="777" y="7643"/>
                    </a:lnTo>
                    <a:lnTo>
                      <a:pt x="798" y="7588"/>
                    </a:lnTo>
                    <a:lnTo>
                      <a:pt x="819" y="7531"/>
                    </a:lnTo>
                    <a:lnTo>
                      <a:pt x="841" y="7475"/>
                    </a:lnTo>
                    <a:lnTo>
                      <a:pt x="862" y="7421"/>
                    </a:lnTo>
                    <a:lnTo>
                      <a:pt x="883" y="7364"/>
                    </a:lnTo>
                    <a:lnTo>
                      <a:pt x="904" y="7309"/>
                    </a:lnTo>
                    <a:lnTo>
                      <a:pt x="927" y="7254"/>
                    </a:lnTo>
                    <a:lnTo>
                      <a:pt x="948" y="7199"/>
                    </a:lnTo>
                    <a:lnTo>
                      <a:pt x="971" y="7142"/>
                    </a:lnTo>
                    <a:lnTo>
                      <a:pt x="992" y="7088"/>
                    </a:lnTo>
                    <a:lnTo>
                      <a:pt x="1014" y="7032"/>
                    </a:lnTo>
                    <a:lnTo>
                      <a:pt x="1038" y="6976"/>
                    </a:lnTo>
                    <a:lnTo>
                      <a:pt x="1059" y="6921"/>
                    </a:lnTo>
                    <a:lnTo>
                      <a:pt x="1082" y="6866"/>
                    </a:lnTo>
                    <a:lnTo>
                      <a:pt x="1104" y="6810"/>
                    </a:lnTo>
                    <a:lnTo>
                      <a:pt x="1128" y="6756"/>
                    </a:lnTo>
                    <a:lnTo>
                      <a:pt x="1152" y="6700"/>
                    </a:lnTo>
                    <a:lnTo>
                      <a:pt x="1174" y="6646"/>
                    </a:lnTo>
                    <a:lnTo>
                      <a:pt x="1198" y="6591"/>
                    </a:lnTo>
                    <a:lnTo>
                      <a:pt x="1220" y="6535"/>
                    </a:lnTo>
                    <a:lnTo>
                      <a:pt x="1245" y="6481"/>
                    </a:lnTo>
                    <a:lnTo>
                      <a:pt x="1269" y="6426"/>
                    </a:lnTo>
                    <a:lnTo>
                      <a:pt x="1291" y="6372"/>
                    </a:lnTo>
                    <a:lnTo>
                      <a:pt x="1316" y="6316"/>
                    </a:lnTo>
                    <a:lnTo>
                      <a:pt x="1340" y="6261"/>
                    </a:lnTo>
                    <a:lnTo>
                      <a:pt x="1366" y="6207"/>
                    </a:lnTo>
                    <a:lnTo>
                      <a:pt x="1390" y="6152"/>
                    </a:lnTo>
                    <a:lnTo>
                      <a:pt x="1414" y="6099"/>
                    </a:lnTo>
                    <a:lnTo>
                      <a:pt x="1438" y="6044"/>
                    </a:lnTo>
                    <a:lnTo>
                      <a:pt x="1464" y="5989"/>
                    </a:lnTo>
                    <a:lnTo>
                      <a:pt x="1489" y="5934"/>
                    </a:lnTo>
                    <a:lnTo>
                      <a:pt x="1514" y="5880"/>
                    </a:lnTo>
                    <a:lnTo>
                      <a:pt x="1539" y="5826"/>
                    </a:lnTo>
                    <a:lnTo>
                      <a:pt x="1565" y="5772"/>
                    </a:lnTo>
                    <a:lnTo>
                      <a:pt x="1591" y="5718"/>
                    </a:lnTo>
                    <a:lnTo>
                      <a:pt x="1616" y="5664"/>
                    </a:lnTo>
                    <a:lnTo>
                      <a:pt x="1643" y="5611"/>
                    </a:lnTo>
                    <a:lnTo>
                      <a:pt x="1669" y="5558"/>
                    </a:lnTo>
                    <a:lnTo>
                      <a:pt x="1695" y="5503"/>
                    </a:lnTo>
                    <a:lnTo>
                      <a:pt x="1721" y="5450"/>
                    </a:lnTo>
                    <a:lnTo>
                      <a:pt x="1748" y="5396"/>
                    </a:lnTo>
                    <a:lnTo>
                      <a:pt x="1775" y="5342"/>
                    </a:lnTo>
                    <a:lnTo>
                      <a:pt x="1803" y="5288"/>
                    </a:lnTo>
                    <a:lnTo>
                      <a:pt x="1830" y="5237"/>
                    </a:lnTo>
                    <a:lnTo>
                      <a:pt x="1857" y="5183"/>
                    </a:lnTo>
                    <a:lnTo>
                      <a:pt x="1885" y="5130"/>
                    </a:lnTo>
                    <a:lnTo>
                      <a:pt x="1914" y="5078"/>
                    </a:lnTo>
                    <a:lnTo>
                      <a:pt x="1942" y="5024"/>
                    </a:lnTo>
                    <a:lnTo>
                      <a:pt x="1971" y="4972"/>
                    </a:lnTo>
                    <a:lnTo>
                      <a:pt x="1999" y="4919"/>
                    </a:lnTo>
                    <a:lnTo>
                      <a:pt x="2029" y="4866"/>
                    </a:lnTo>
                    <a:lnTo>
                      <a:pt x="2058" y="4814"/>
                    </a:lnTo>
                    <a:lnTo>
                      <a:pt x="2089" y="4764"/>
                    </a:lnTo>
                    <a:lnTo>
                      <a:pt x="2119" y="4711"/>
                    </a:lnTo>
                    <a:lnTo>
                      <a:pt x="2149" y="4659"/>
                    </a:lnTo>
                    <a:lnTo>
                      <a:pt x="2181" y="4609"/>
                    </a:lnTo>
                    <a:lnTo>
                      <a:pt x="2212" y="4556"/>
                    </a:lnTo>
                    <a:lnTo>
                      <a:pt x="2244" y="4505"/>
                    </a:lnTo>
                    <a:lnTo>
                      <a:pt x="2275" y="4455"/>
                    </a:lnTo>
                    <a:lnTo>
                      <a:pt x="2308" y="4404"/>
                    </a:lnTo>
                    <a:lnTo>
                      <a:pt x="2340" y="4353"/>
                    </a:lnTo>
                    <a:lnTo>
                      <a:pt x="2373" y="4303"/>
                    </a:lnTo>
                    <a:lnTo>
                      <a:pt x="2406" y="4251"/>
                    </a:lnTo>
                    <a:lnTo>
                      <a:pt x="2438" y="4202"/>
                    </a:lnTo>
                    <a:lnTo>
                      <a:pt x="2472" y="4151"/>
                    </a:lnTo>
                    <a:lnTo>
                      <a:pt x="2507" y="4102"/>
                    </a:lnTo>
                    <a:lnTo>
                      <a:pt x="2541" y="4051"/>
                    </a:lnTo>
                    <a:lnTo>
                      <a:pt x="2575" y="4002"/>
                    </a:lnTo>
                    <a:lnTo>
                      <a:pt x="2608" y="3953"/>
                    </a:lnTo>
                    <a:lnTo>
                      <a:pt x="2644" y="3903"/>
                    </a:lnTo>
                    <a:lnTo>
                      <a:pt x="2678" y="3855"/>
                    </a:lnTo>
                    <a:lnTo>
                      <a:pt x="2714" y="3805"/>
                    </a:lnTo>
                    <a:lnTo>
                      <a:pt x="2749" y="3756"/>
                    </a:lnTo>
                    <a:lnTo>
                      <a:pt x="2785" y="3708"/>
                    </a:lnTo>
                    <a:lnTo>
                      <a:pt x="2821" y="3658"/>
                    </a:lnTo>
                    <a:lnTo>
                      <a:pt x="2857" y="3610"/>
                    </a:lnTo>
                    <a:lnTo>
                      <a:pt x="2894" y="3562"/>
                    </a:lnTo>
                    <a:lnTo>
                      <a:pt x="2931" y="3514"/>
                    </a:lnTo>
                    <a:lnTo>
                      <a:pt x="2968" y="3466"/>
                    </a:lnTo>
                    <a:lnTo>
                      <a:pt x="3005" y="3419"/>
                    </a:lnTo>
                    <a:lnTo>
                      <a:pt x="3042" y="3370"/>
                    </a:lnTo>
                    <a:lnTo>
                      <a:pt x="3081" y="3324"/>
                    </a:lnTo>
                    <a:lnTo>
                      <a:pt x="3118" y="3276"/>
                    </a:lnTo>
                    <a:lnTo>
                      <a:pt x="3158" y="3229"/>
                    </a:lnTo>
                    <a:lnTo>
                      <a:pt x="3195" y="3182"/>
                    </a:lnTo>
                    <a:lnTo>
                      <a:pt x="3234" y="3137"/>
                    </a:lnTo>
                    <a:lnTo>
                      <a:pt x="3273" y="3090"/>
                    </a:lnTo>
                    <a:lnTo>
                      <a:pt x="3313" y="3044"/>
                    </a:lnTo>
                    <a:lnTo>
                      <a:pt x="3352" y="2999"/>
                    </a:lnTo>
                    <a:lnTo>
                      <a:pt x="3392" y="2953"/>
                    </a:lnTo>
                    <a:lnTo>
                      <a:pt x="3431" y="2907"/>
                    </a:lnTo>
                    <a:lnTo>
                      <a:pt x="3472" y="2862"/>
                    </a:lnTo>
                    <a:lnTo>
                      <a:pt x="3513" y="2816"/>
                    </a:lnTo>
                    <a:lnTo>
                      <a:pt x="3553" y="2770"/>
                    </a:lnTo>
                    <a:lnTo>
                      <a:pt x="3593" y="2726"/>
                    </a:lnTo>
                    <a:lnTo>
                      <a:pt x="3634" y="2681"/>
                    </a:lnTo>
                    <a:lnTo>
                      <a:pt x="3676" y="2635"/>
                    </a:lnTo>
                    <a:lnTo>
                      <a:pt x="3717" y="2592"/>
                    </a:lnTo>
                    <a:lnTo>
                      <a:pt x="3757" y="2546"/>
                    </a:lnTo>
                    <a:lnTo>
                      <a:pt x="3799" y="2502"/>
                    </a:lnTo>
                    <a:lnTo>
                      <a:pt x="3840" y="2458"/>
                    </a:lnTo>
                    <a:lnTo>
                      <a:pt x="3883" y="2414"/>
                    </a:lnTo>
                    <a:lnTo>
                      <a:pt x="3924" y="2368"/>
                    </a:lnTo>
                    <a:lnTo>
                      <a:pt x="3966" y="2325"/>
                    </a:lnTo>
                    <a:lnTo>
                      <a:pt x="4008" y="2280"/>
                    </a:lnTo>
                    <a:lnTo>
                      <a:pt x="4050" y="2236"/>
                    </a:lnTo>
                    <a:lnTo>
                      <a:pt x="4092" y="2192"/>
                    </a:lnTo>
                    <a:lnTo>
                      <a:pt x="4134" y="2148"/>
                    </a:lnTo>
                    <a:lnTo>
                      <a:pt x="4175" y="2103"/>
                    </a:lnTo>
                    <a:lnTo>
                      <a:pt x="4218" y="2061"/>
                    </a:lnTo>
                    <a:lnTo>
                      <a:pt x="4260" y="2016"/>
                    </a:lnTo>
                    <a:lnTo>
                      <a:pt x="4302" y="1973"/>
                    </a:lnTo>
                    <a:lnTo>
                      <a:pt x="4344" y="1928"/>
                    </a:lnTo>
                    <a:lnTo>
                      <a:pt x="4387" y="1886"/>
                    </a:lnTo>
                    <a:lnTo>
                      <a:pt x="4430" y="1843"/>
                    </a:lnTo>
                    <a:lnTo>
                      <a:pt x="4472" y="1798"/>
                    </a:lnTo>
                    <a:lnTo>
                      <a:pt x="4514" y="1754"/>
                    </a:lnTo>
                    <a:lnTo>
                      <a:pt x="4556" y="1711"/>
                    </a:lnTo>
                    <a:lnTo>
                      <a:pt x="4599" y="1667"/>
                    </a:lnTo>
                    <a:lnTo>
                      <a:pt x="4641" y="1624"/>
                    </a:lnTo>
                    <a:lnTo>
                      <a:pt x="4684" y="1580"/>
                    </a:lnTo>
                    <a:lnTo>
                      <a:pt x="4727" y="1537"/>
                    </a:lnTo>
                    <a:lnTo>
                      <a:pt x="4769" y="1493"/>
                    </a:lnTo>
                    <a:lnTo>
                      <a:pt x="4812" y="1451"/>
                    </a:lnTo>
                    <a:lnTo>
                      <a:pt x="4854" y="1406"/>
                    </a:lnTo>
                    <a:lnTo>
                      <a:pt x="4898" y="1364"/>
                    </a:lnTo>
                    <a:lnTo>
                      <a:pt x="4941" y="1319"/>
                    </a:lnTo>
                    <a:lnTo>
                      <a:pt x="4983" y="1277"/>
                    </a:lnTo>
                    <a:lnTo>
                      <a:pt x="5026" y="1233"/>
                    </a:lnTo>
                    <a:lnTo>
                      <a:pt x="5069" y="1190"/>
                    </a:lnTo>
                    <a:lnTo>
                      <a:pt x="5114" y="1147"/>
                    </a:lnTo>
                    <a:lnTo>
                      <a:pt x="5156" y="1104"/>
                    </a:lnTo>
                    <a:lnTo>
                      <a:pt x="5199" y="1061"/>
                    </a:lnTo>
                    <a:lnTo>
                      <a:pt x="5243" y="1017"/>
                    </a:lnTo>
                    <a:lnTo>
                      <a:pt x="5285" y="974"/>
                    </a:lnTo>
                    <a:lnTo>
                      <a:pt x="5328" y="932"/>
                    </a:lnTo>
                    <a:lnTo>
                      <a:pt x="5372" y="889"/>
                    </a:lnTo>
                    <a:lnTo>
                      <a:pt x="5414" y="846"/>
                    </a:lnTo>
                    <a:lnTo>
                      <a:pt x="5459" y="804"/>
                    </a:lnTo>
                    <a:lnTo>
                      <a:pt x="5502" y="761"/>
                    </a:lnTo>
                    <a:lnTo>
                      <a:pt x="5546" y="718"/>
                    </a:lnTo>
                    <a:lnTo>
                      <a:pt x="5588" y="676"/>
                    </a:lnTo>
                    <a:lnTo>
                      <a:pt x="5632" y="632"/>
                    </a:lnTo>
                    <a:lnTo>
                      <a:pt x="5676" y="590"/>
                    </a:lnTo>
                    <a:lnTo>
                      <a:pt x="5718" y="546"/>
                    </a:lnTo>
                    <a:lnTo>
                      <a:pt x="5762" y="504"/>
                    </a:lnTo>
                    <a:lnTo>
                      <a:pt x="5806" y="463"/>
                    </a:lnTo>
                    <a:lnTo>
                      <a:pt x="5851" y="419"/>
                    </a:lnTo>
                    <a:lnTo>
                      <a:pt x="5895" y="377"/>
                    </a:lnTo>
                    <a:lnTo>
                      <a:pt x="5938" y="336"/>
                    </a:lnTo>
                    <a:lnTo>
                      <a:pt x="5982" y="294"/>
                    </a:lnTo>
                    <a:lnTo>
                      <a:pt x="6027" y="251"/>
                    </a:lnTo>
                    <a:lnTo>
                      <a:pt x="6071" y="209"/>
                    </a:lnTo>
                    <a:lnTo>
                      <a:pt x="6115" y="168"/>
                    </a:lnTo>
                    <a:lnTo>
                      <a:pt x="6158" y="125"/>
                    </a:lnTo>
                    <a:lnTo>
                      <a:pt x="6205" y="83"/>
                    </a:lnTo>
                    <a:lnTo>
                      <a:pt x="6248" y="42"/>
                    </a:lnTo>
                    <a:lnTo>
                      <a:pt x="6293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751040" y="1574640"/>
                <a:ext cx="4096800" cy="4410360"/>
              </a:xfrm>
              <a:custGeom>
                <a:avLst/>
                <a:gdLst/>
                <a:ahLst/>
                <a:rect l="l" t="t" r="r" b="b"/>
                <a:pathLst>
                  <a:path w="8390" h="11112">
                    <a:moveTo>
                      <a:pt x="0" y="11112"/>
                    </a:moveTo>
                    <a:lnTo>
                      <a:pt x="25" y="11046"/>
                    </a:lnTo>
                    <a:lnTo>
                      <a:pt x="50" y="10980"/>
                    </a:lnTo>
                    <a:lnTo>
                      <a:pt x="75" y="10914"/>
                    </a:lnTo>
                    <a:lnTo>
                      <a:pt x="99" y="10847"/>
                    </a:lnTo>
                    <a:lnTo>
                      <a:pt x="125" y="10783"/>
                    </a:lnTo>
                    <a:lnTo>
                      <a:pt x="149" y="10717"/>
                    </a:lnTo>
                    <a:lnTo>
                      <a:pt x="175" y="10650"/>
                    </a:lnTo>
                    <a:lnTo>
                      <a:pt x="200" y="10585"/>
                    </a:lnTo>
                    <a:lnTo>
                      <a:pt x="226" y="10519"/>
                    </a:lnTo>
                    <a:lnTo>
                      <a:pt x="252" y="10453"/>
                    </a:lnTo>
                    <a:lnTo>
                      <a:pt x="280" y="10387"/>
                    </a:lnTo>
                    <a:lnTo>
                      <a:pt x="304" y="10323"/>
                    </a:lnTo>
                    <a:lnTo>
                      <a:pt x="332" y="10257"/>
                    </a:lnTo>
                    <a:lnTo>
                      <a:pt x="358" y="10191"/>
                    </a:lnTo>
                    <a:lnTo>
                      <a:pt x="384" y="10126"/>
                    </a:lnTo>
                    <a:lnTo>
                      <a:pt x="411" y="10060"/>
                    </a:lnTo>
                    <a:lnTo>
                      <a:pt x="437" y="9994"/>
                    </a:lnTo>
                    <a:lnTo>
                      <a:pt x="463" y="9930"/>
                    </a:lnTo>
                    <a:lnTo>
                      <a:pt x="490" y="9864"/>
                    </a:lnTo>
                    <a:lnTo>
                      <a:pt x="517" y="9801"/>
                    </a:lnTo>
                    <a:lnTo>
                      <a:pt x="545" y="9735"/>
                    </a:lnTo>
                    <a:lnTo>
                      <a:pt x="572" y="9669"/>
                    </a:lnTo>
                    <a:lnTo>
                      <a:pt x="598" y="9603"/>
                    </a:lnTo>
                    <a:lnTo>
                      <a:pt x="626" y="9538"/>
                    </a:lnTo>
                    <a:lnTo>
                      <a:pt x="654" y="9473"/>
                    </a:lnTo>
                    <a:lnTo>
                      <a:pt x="681" y="9409"/>
                    </a:lnTo>
                    <a:lnTo>
                      <a:pt x="709" y="9343"/>
                    </a:lnTo>
                    <a:lnTo>
                      <a:pt x="736" y="9279"/>
                    </a:lnTo>
                    <a:lnTo>
                      <a:pt x="765" y="9214"/>
                    </a:lnTo>
                    <a:lnTo>
                      <a:pt x="792" y="9149"/>
                    </a:lnTo>
                    <a:lnTo>
                      <a:pt x="820" y="9083"/>
                    </a:lnTo>
                    <a:lnTo>
                      <a:pt x="849" y="9019"/>
                    </a:lnTo>
                    <a:lnTo>
                      <a:pt x="877" y="8954"/>
                    </a:lnTo>
                    <a:lnTo>
                      <a:pt x="906" y="8890"/>
                    </a:lnTo>
                    <a:lnTo>
                      <a:pt x="934" y="8824"/>
                    </a:lnTo>
                    <a:lnTo>
                      <a:pt x="962" y="8760"/>
                    </a:lnTo>
                    <a:lnTo>
                      <a:pt x="991" y="8695"/>
                    </a:lnTo>
                    <a:lnTo>
                      <a:pt x="1020" y="8630"/>
                    </a:lnTo>
                    <a:lnTo>
                      <a:pt x="1049" y="8567"/>
                    </a:lnTo>
                    <a:lnTo>
                      <a:pt x="1078" y="8502"/>
                    </a:lnTo>
                    <a:lnTo>
                      <a:pt x="1109" y="8438"/>
                    </a:lnTo>
                    <a:lnTo>
                      <a:pt x="1139" y="8374"/>
                    </a:lnTo>
                    <a:lnTo>
                      <a:pt x="1168" y="8309"/>
                    </a:lnTo>
                    <a:lnTo>
                      <a:pt x="1198" y="8246"/>
                    </a:lnTo>
                    <a:lnTo>
                      <a:pt x="1227" y="8181"/>
                    </a:lnTo>
                    <a:lnTo>
                      <a:pt x="1257" y="8117"/>
                    </a:lnTo>
                    <a:lnTo>
                      <a:pt x="1289" y="8053"/>
                    </a:lnTo>
                    <a:lnTo>
                      <a:pt x="1319" y="7989"/>
                    </a:lnTo>
                    <a:lnTo>
                      <a:pt x="1349" y="7924"/>
                    </a:lnTo>
                    <a:lnTo>
                      <a:pt x="1380" y="7862"/>
                    </a:lnTo>
                    <a:lnTo>
                      <a:pt x="1411" y="7798"/>
                    </a:lnTo>
                    <a:lnTo>
                      <a:pt x="1443" y="7734"/>
                    </a:lnTo>
                    <a:lnTo>
                      <a:pt x="1474" y="7671"/>
                    </a:lnTo>
                    <a:lnTo>
                      <a:pt x="1504" y="7607"/>
                    </a:lnTo>
                    <a:lnTo>
                      <a:pt x="1536" y="7544"/>
                    </a:lnTo>
                    <a:lnTo>
                      <a:pt x="1568" y="7480"/>
                    </a:lnTo>
                    <a:lnTo>
                      <a:pt x="1600" y="7416"/>
                    </a:lnTo>
                    <a:lnTo>
                      <a:pt x="1631" y="7354"/>
                    </a:lnTo>
                    <a:lnTo>
                      <a:pt x="1664" y="7291"/>
                    </a:lnTo>
                    <a:lnTo>
                      <a:pt x="1697" y="7227"/>
                    </a:lnTo>
                    <a:lnTo>
                      <a:pt x="1728" y="7165"/>
                    </a:lnTo>
                    <a:lnTo>
                      <a:pt x="1761" y="7101"/>
                    </a:lnTo>
                    <a:lnTo>
                      <a:pt x="1795" y="7039"/>
                    </a:lnTo>
                    <a:lnTo>
                      <a:pt x="1827" y="6975"/>
                    </a:lnTo>
                    <a:lnTo>
                      <a:pt x="1861" y="6913"/>
                    </a:lnTo>
                    <a:lnTo>
                      <a:pt x="1894" y="6851"/>
                    </a:lnTo>
                    <a:lnTo>
                      <a:pt x="1927" y="6787"/>
                    </a:lnTo>
                    <a:lnTo>
                      <a:pt x="1961" y="6726"/>
                    </a:lnTo>
                    <a:lnTo>
                      <a:pt x="1994" y="6664"/>
                    </a:lnTo>
                    <a:lnTo>
                      <a:pt x="2030" y="6602"/>
                    </a:lnTo>
                    <a:lnTo>
                      <a:pt x="2064" y="6540"/>
                    </a:lnTo>
                    <a:lnTo>
                      <a:pt x="2100" y="6479"/>
                    </a:lnTo>
                    <a:lnTo>
                      <a:pt x="2135" y="6417"/>
                    </a:lnTo>
                    <a:lnTo>
                      <a:pt x="2173" y="6356"/>
                    </a:lnTo>
                    <a:lnTo>
                      <a:pt x="2208" y="6294"/>
                    </a:lnTo>
                    <a:lnTo>
                      <a:pt x="2245" y="6234"/>
                    </a:lnTo>
                    <a:lnTo>
                      <a:pt x="2282" y="6173"/>
                    </a:lnTo>
                    <a:lnTo>
                      <a:pt x="2319" y="6112"/>
                    </a:lnTo>
                    <a:lnTo>
                      <a:pt x="2358" y="6052"/>
                    </a:lnTo>
                    <a:lnTo>
                      <a:pt x="2394" y="5991"/>
                    </a:lnTo>
                    <a:lnTo>
                      <a:pt x="2432" y="5931"/>
                    </a:lnTo>
                    <a:lnTo>
                      <a:pt x="2471" y="5871"/>
                    </a:lnTo>
                    <a:lnTo>
                      <a:pt x="2509" y="5811"/>
                    </a:lnTo>
                    <a:lnTo>
                      <a:pt x="2548" y="5752"/>
                    </a:lnTo>
                    <a:lnTo>
                      <a:pt x="2586" y="5691"/>
                    </a:lnTo>
                    <a:lnTo>
                      <a:pt x="2626" y="5631"/>
                    </a:lnTo>
                    <a:lnTo>
                      <a:pt x="2664" y="5573"/>
                    </a:lnTo>
                    <a:lnTo>
                      <a:pt x="2704" y="5512"/>
                    </a:lnTo>
                    <a:lnTo>
                      <a:pt x="2742" y="5454"/>
                    </a:lnTo>
                    <a:lnTo>
                      <a:pt x="2782" y="5394"/>
                    </a:lnTo>
                    <a:lnTo>
                      <a:pt x="2821" y="5335"/>
                    </a:lnTo>
                    <a:lnTo>
                      <a:pt x="2862" y="5276"/>
                    </a:lnTo>
                    <a:lnTo>
                      <a:pt x="2901" y="5216"/>
                    </a:lnTo>
                    <a:lnTo>
                      <a:pt x="2942" y="5157"/>
                    </a:lnTo>
                    <a:lnTo>
                      <a:pt x="2982" y="5099"/>
                    </a:lnTo>
                    <a:lnTo>
                      <a:pt x="3024" y="5040"/>
                    </a:lnTo>
                    <a:lnTo>
                      <a:pt x="3063" y="4981"/>
                    </a:lnTo>
                    <a:lnTo>
                      <a:pt x="3104" y="4922"/>
                    </a:lnTo>
                    <a:lnTo>
                      <a:pt x="3146" y="4864"/>
                    </a:lnTo>
                    <a:lnTo>
                      <a:pt x="3187" y="4805"/>
                    </a:lnTo>
                    <a:lnTo>
                      <a:pt x="3229" y="4747"/>
                    </a:lnTo>
                    <a:lnTo>
                      <a:pt x="3270" y="4689"/>
                    </a:lnTo>
                    <a:lnTo>
                      <a:pt x="3313" y="4632"/>
                    </a:lnTo>
                    <a:lnTo>
                      <a:pt x="3353" y="4573"/>
                    </a:lnTo>
                    <a:lnTo>
                      <a:pt x="3395" y="4515"/>
                    </a:lnTo>
                    <a:lnTo>
                      <a:pt x="3437" y="4459"/>
                    </a:lnTo>
                    <a:lnTo>
                      <a:pt x="3479" y="4401"/>
                    </a:lnTo>
                    <a:lnTo>
                      <a:pt x="3522" y="4343"/>
                    </a:lnTo>
                    <a:lnTo>
                      <a:pt x="3565" y="4286"/>
                    </a:lnTo>
                    <a:lnTo>
                      <a:pt x="3607" y="4228"/>
                    </a:lnTo>
                    <a:lnTo>
                      <a:pt x="3650" y="4170"/>
                    </a:lnTo>
                    <a:lnTo>
                      <a:pt x="3694" y="4113"/>
                    </a:lnTo>
                    <a:lnTo>
                      <a:pt x="3736" y="4058"/>
                    </a:lnTo>
                    <a:lnTo>
                      <a:pt x="3781" y="4000"/>
                    </a:lnTo>
                    <a:lnTo>
                      <a:pt x="3824" y="3944"/>
                    </a:lnTo>
                    <a:lnTo>
                      <a:pt x="3868" y="3886"/>
                    </a:lnTo>
                    <a:lnTo>
                      <a:pt x="3911" y="3830"/>
                    </a:lnTo>
                    <a:lnTo>
                      <a:pt x="3955" y="3774"/>
                    </a:lnTo>
                    <a:lnTo>
                      <a:pt x="4000" y="3717"/>
                    </a:lnTo>
                    <a:lnTo>
                      <a:pt x="4044" y="3661"/>
                    </a:lnTo>
                    <a:lnTo>
                      <a:pt x="4089" y="3606"/>
                    </a:lnTo>
                    <a:lnTo>
                      <a:pt x="4133" y="3550"/>
                    </a:lnTo>
                    <a:lnTo>
                      <a:pt x="4179" y="3493"/>
                    </a:lnTo>
                    <a:lnTo>
                      <a:pt x="4224" y="3439"/>
                    </a:lnTo>
                    <a:lnTo>
                      <a:pt x="4269" y="3382"/>
                    </a:lnTo>
                    <a:lnTo>
                      <a:pt x="4316" y="3327"/>
                    </a:lnTo>
                    <a:lnTo>
                      <a:pt x="4362" y="3273"/>
                    </a:lnTo>
                    <a:lnTo>
                      <a:pt x="4408" y="3218"/>
                    </a:lnTo>
                    <a:lnTo>
                      <a:pt x="4456" y="3162"/>
                    </a:lnTo>
                    <a:lnTo>
                      <a:pt x="4502" y="3109"/>
                    </a:lnTo>
                    <a:lnTo>
                      <a:pt x="4549" y="3054"/>
                    </a:lnTo>
                    <a:lnTo>
                      <a:pt x="4598" y="3002"/>
                    </a:lnTo>
                    <a:lnTo>
                      <a:pt x="4645" y="2946"/>
                    </a:lnTo>
                    <a:lnTo>
                      <a:pt x="4692" y="2893"/>
                    </a:lnTo>
                    <a:lnTo>
                      <a:pt x="4741" y="2840"/>
                    </a:lnTo>
                    <a:lnTo>
                      <a:pt x="4789" y="2786"/>
                    </a:lnTo>
                    <a:lnTo>
                      <a:pt x="4839" y="2734"/>
                    </a:lnTo>
                    <a:lnTo>
                      <a:pt x="4888" y="2680"/>
                    </a:lnTo>
                    <a:lnTo>
                      <a:pt x="4937" y="2628"/>
                    </a:lnTo>
                    <a:lnTo>
                      <a:pt x="4987" y="2577"/>
                    </a:lnTo>
                    <a:lnTo>
                      <a:pt x="5037" y="2524"/>
                    </a:lnTo>
                    <a:lnTo>
                      <a:pt x="5086" y="2473"/>
                    </a:lnTo>
                    <a:lnTo>
                      <a:pt x="5137" y="2422"/>
                    </a:lnTo>
                    <a:lnTo>
                      <a:pt x="5188" y="2371"/>
                    </a:lnTo>
                    <a:lnTo>
                      <a:pt x="5240" y="2319"/>
                    </a:lnTo>
                    <a:lnTo>
                      <a:pt x="5291" y="2270"/>
                    </a:lnTo>
                    <a:lnTo>
                      <a:pt x="5343" y="2220"/>
                    </a:lnTo>
                    <a:lnTo>
                      <a:pt x="5396" y="2171"/>
                    </a:lnTo>
                    <a:lnTo>
                      <a:pt x="5448" y="2121"/>
                    </a:lnTo>
                    <a:lnTo>
                      <a:pt x="5503" y="2072"/>
                    </a:lnTo>
                    <a:lnTo>
                      <a:pt x="5556" y="2024"/>
                    </a:lnTo>
                    <a:lnTo>
                      <a:pt x="5609" y="1976"/>
                    </a:lnTo>
                    <a:lnTo>
                      <a:pt x="5664" y="1929"/>
                    </a:lnTo>
                    <a:lnTo>
                      <a:pt x="5718" y="1881"/>
                    </a:lnTo>
                    <a:lnTo>
                      <a:pt x="5773" y="1832"/>
                    </a:lnTo>
                    <a:lnTo>
                      <a:pt x="5827" y="1785"/>
                    </a:lnTo>
                    <a:lnTo>
                      <a:pt x="5882" y="1737"/>
                    </a:lnTo>
                    <a:lnTo>
                      <a:pt x="5937" y="1690"/>
                    </a:lnTo>
                    <a:lnTo>
                      <a:pt x="5993" y="1644"/>
                    </a:lnTo>
                    <a:lnTo>
                      <a:pt x="6048" y="1596"/>
                    </a:lnTo>
                    <a:lnTo>
                      <a:pt x="6103" y="1549"/>
                    </a:lnTo>
                    <a:lnTo>
                      <a:pt x="6158" y="1502"/>
                    </a:lnTo>
                    <a:lnTo>
                      <a:pt x="6214" y="1455"/>
                    </a:lnTo>
                    <a:lnTo>
                      <a:pt x="6270" y="1410"/>
                    </a:lnTo>
                    <a:lnTo>
                      <a:pt x="6325" y="1363"/>
                    </a:lnTo>
                    <a:lnTo>
                      <a:pt x="6382" y="1316"/>
                    </a:lnTo>
                    <a:lnTo>
                      <a:pt x="6437" y="1269"/>
                    </a:lnTo>
                    <a:lnTo>
                      <a:pt x="6492" y="1224"/>
                    </a:lnTo>
                    <a:lnTo>
                      <a:pt x="6549" y="1177"/>
                    </a:lnTo>
                    <a:lnTo>
                      <a:pt x="6606" y="1131"/>
                    </a:lnTo>
                    <a:lnTo>
                      <a:pt x="6661" y="1086"/>
                    </a:lnTo>
                    <a:lnTo>
                      <a:pt x="6718" y="1041"/>
                    </a:lnTo>
                    <a:lnTo>
                      <a:pt x="6775" y="995"/>
                    </a:lnTo>
                    <a:lnTo>
                      <a:pt x="6832" y="950"/>
                    </a:lnTo>
                    <a:lnTo>
                      <a:pt x="6891" y="906"/>
                    </a:lnTo>
                    <a:lnTo>
                      <a:pt x="6948" y="862"/>
                    </a:lnTo>
                    <a:lnTo>
                      <a:pt x="7006" y="817"/>
                    </a:lnTo>
                    <a:lnTo>
                      <a:pt x="7064" y="774"/>
                    </a:lnTo>
                    <a:lnTo>
                      <a:pt x="7123" y="730"/>
                    </a:lnTo>
                    <a:lnTo>
                      <a:pt x="7181" y="689"/>
                    </a:lnTo>
                    <a:lnTo>
                      <a:pt x="7241" y="647"/>
                    </a:lnTo>
                    <a:lnTo>
                      <a:pt x="7303" y="607"/>
                    </a:lnTo>
                    <a:lnTo>
                      <a:pt x="7362" y="564"/>
                    </a:lnTo>
                    <a:lnTo>
                      <a:pt x="7425" y="527"/>
                    </a:lnTo>
                    <a:lnTo>
                      <a:pt x="7485" y="487"/>
                    </a:lnTo>
                    <a:lnTo>
                      <a:pt x="7548" y="449"/>
                    </a:lnTo>
                    <a:lnTo>
                      <a:pt x="7610" y="410"/>
                    </a:lnTo>
                    <a:lnTo>
                      <a:pt x="7673" y="373"/>
                    </a:lnTo>
                    <a:lnTo>
                      <a:pt x="7737" y="336"/>
                    </a:lnTo>
                    <a:lnTo>
                      <a:pt x="7801" y="301"/>
                    </a:lnTo>
                    <a:lnTo>
                      <a:pt x="7865" y="266"/>
                    </a:lnTo>
                    <a:lnTo>
                      <a:pt x="7930" y="229"/>
                    </a:lnTo>
                    <a:lnTo>
                      <a:pt x="7995" y="196"/>
                    </a:lnTo>
                    <a:lnTo>
                      <a:pt x="8061" y="161"/>
                    </a:lnTo>
                    <a:lnTo>
                      <a:pt x="8126" y="128"/>
                    </a:lnTo>
                    <a:lnTo>
                      <a:pt x="8191" y="96"/>
                    </a:lnTo>
                    <a:lnTo>
                      <a:pt x="8259" y="63"/>
                    </a:lnTo>
                    <a:lnTo>
                      <a:pt x="8324" y="31"/>
                    </a:lnTo>
                    <a:lnTo>
                      <a:pt x="8390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751040" y="3321000"/>
                <a:ext cx="2048040" cy="2664000"/>
              </a:xfrm>
              <a:custGeom>
                <a:avLst/>
                <a:gdLst/>
                <a:ahLst/>
                <a:rect l="l" t="t" r="r" b="b"/>
                <a:pathLst>
                  <a:path w="4195" h="6712">
                    <a:moveTo>
                      <a:pt x="0" y="6712"/>
                    </a:moveTo>
                    <a:lnTo>
                      <a:pt x="20" y="6678"/>
                    </a:lnTo>
                    <a:lnTo>
                      <a:pt x="41" y="6644"/>
                    </a:lnTo>
                    <a:lnTo>
                      <a:pt x="61" y="6609"/>
                    </a:lnTo>
                    <a:lnTo>
                      <a:pt x="82" y="6574"/>
                    </a:lnTo>
                    <a:lnTo>
                      <a:pt x="101" y="6540"/>
                    </a:lnTo>
                    <a:lnTo>
                      <a:pt x="121" y="6506"/>
                    </a:lnTo>
                    <a:lnTo>
                      <a:pt x="141" y="6472"/>
                    </a:lnTo>
                    <a:lnTo>
                      <a:pt x="161" y="6437"/>
                    </a:lnTo>
                    <a:lnTo>
                      <a:pt x="181" y="6403"/>
                    </a:lnTo>
                    <a:lnTo>
                      <a:pt x="200" y="6369"/>
                    </a:lnTo>
                    <a:lnTo>
                      <a:pt x="220" y="6334"/>
                    </a:lnTo>
                    <a:lnTo>
                      <a:pt x="241" y="6299"/>
                    </a:lnTo>
                    <a:lnTo>
                      <a:pt x="261" y="6265"/>
                    </a:lnTo>
                    <a:lnTo>
                      <a:pt x="281" y="6231"/>
                    </a:lnTo>
                    <a:lnTo>
                      <a:pt x="301" y="6197"/>
                    </a:lnTo>
                    <a:lnTo>
                      <a:pt x="320" y="6161"/>
                    </a:lnTo>
                    <a:lnTo>
                      <a:pt x="340" y="6127"/>
                    </a:lnTo>
                    <a:lnTo>
                      <a:pt x="360" y="6092"/>
                    </a:lnTo>
                    <a:lnTo>
                      <a:pt x="380" y="6059"/>
                    </a:lnTo>
                    <a:lnTo>
                      <a:pt x="400" y="6024"/>
                    </a:lnTo>
                    <a:lnTo>
                      <a:pt x="419" y="5990"/>
                    </a:lnTo>
                    <a:lnTo>
                      <a:pt x="439" y="5955"/>
                    </a:lnTo>
                    <a:lnTo>
                      <a:pt x="459" y="5920"/>
                    </a:lnTo>
                    <a:lnTo>
                      <a:pt x="480" y="5886"/>
                    </a:lnTo>
                    <a:lnTo>
                      <a:pt x="499" y="5852"/>
                    </a:lnTo>
                    <a:lnTo>
                      <a:pt x="519" y="5817"/>
                    </a:lnTo>
                    <a:lnTo>
                      <a:pt x="539" y="5783"/>
                    </a:lnTo>
                    <a:lnTo>
                      <a:pt x="558" y="5747"/>
                    </a:lnTo>
                    <a:lnTo>
                      <a:pt x="577" y="5712"/>
                    </a:lnTo>
                    <a:lnTo>
                      <a:pt x="597" y="5679"/>
                    </a:lnTo>
                    <a:lnTo>
                      <a:pt x="617" y="5644"/>
                    </a:lnTo>
                    <a:lnTo>
                      <a:pt x="637" y="5610"/>
                    </a:lnTo>
                    <a:lnTo>
                      <a:pt x="657" y="5574"/>
                    </a:lnTo>
                    <a:lnTo>
                      <a:pt x="675" y="5540"/>
                    </a:lnTo>
                    <a:lnTo>
                      <a:pt x="695" y="5505"/>
                    </a:lnTo>
                    <a:lnTo>
                      <a:pt x="715" y="5471"/>
                    </a:lnTo>
                    <a:lnTo>
                      <a:pt x="734" y="5436"/>
                    </a:lnTo>
                    <a:lnTo>
                      <a:pt x="753" y="5402"/>
                    </a:lnTo>
                    <a:lnTo>
                      <a:pt x="773" y="5367"/>
                    </a:lnTo>
                    <a:lnTo>
                      <a:pt x="792" y="5332"/>
                    </a:lnTo>
                    <a:lnTo>
                      <a:pt x="812" y="5297"/>
                    </a:lnTo>
                    <a:lnTo>
                      <a:pt x="831" y="5263"/>
                    </a:lnTo>
                    <a:lnTo>
                      <a:pt x="850" y="5228"/>
                    </a:lnTo>
                    <a:lnTo>
                      <a:pt x="870" y="5192"/>
                    </a:lnTo>
                    <a:lnTo>
                      <a:pt x="888" y="5158"/>
                    </a:lnTo>
                    <a:lnTo>
                      <a:pt x="908" y="5123"/>
                    </a:lnTo>
                    <a:lnTo>
                      <a:pt x="927" y="5089"/>
                    </a:lnTo>
                    <a:lnTo>
                      <a:pt x="946" y="5053"/>
                    </a:lnTo>
                    <a:lnTo>
                      <a:pt x="965" y="5019"/>
                    </a:lnTo>
                    <a:lnTo>
                      <a:pt x="984" y="4983"/>
                    </a:lnTo>
                    <a:lnTo>
                      <a:pt x="1003" y="4948"/>
                    </a:lnTo>
                    <a:lnTo>
                      <a:pt x="1020" y="4914"/>
                    </a:lnTo>
                    <a:lnTo>
                      <a:pt x="1040" y="4879"/>
                    </a:lnTo>
                    <a:lnTo>
                      <a:pt x="1059" y="4844"/>
                    </a:lnTo>
                    <a:lnTo>
                      <a:pt x="1077" y="4808"/>
                    </a:lnTo>
                    <a:lnTo>
                      <a:pt x="1096" y="4774"/>
                    </a:lnTo>
                    <a:lnTo>
                      <a:pt x="1114" y="4738"/>
                    </a:lnTo>
                    <a:lnTo>
                      <a:pt x="1133" y="4702"/>
                    </a:lnTo>
                    <a:lnTo>
                      <a:pt x="1152" y="4668"/>
                    </a:lnTo>
                    <a:lnTo>
                      <a:pt x="1169" y="4632"/>
                    </a:lnTo>
                    <a:lnTo>
                      <a:pt x="1188" y="4597"/>
                    </a:lnTo>
                    <a:lnTo>
                      <a:pt x="1205" y="4562"/>
                    </a:lnTo>
                    <a:lnTo>
                      <a:pt x="1224" y="4525"/>
                    </a:lnTo>
                    <a:lnTo>
                      <a:pt x="1242" y="4491"/>
                    </a:lnTo>
                    <a:lnTo>
                      <a:pt x="1261" y="4456"/>
                    </a:lnTo>
                    <a:lnTo>
                      <a:pt x="1278" y="4421"/>
                    </a:lnTo>
                    <a:lnTo>
                      <a:pt x="1296" y="4386"/>
                    </a:lnTo>
                    <a:lnTo>
                      <a:pt x="1314" y="4349"/>
                    </a:lnTo>
                    <a:lnTo>
                      <a:pt x="1333" y="4315"/>
                    </a:lnTo>
                    <a:lnTo>
                      <a:pt x="1352" y="4279"/>
                    </a:lnTo>
                    <a:lnTo>
                      <a:pt x="1368" y="4244"/>
                    </a:lnTo>
                    <a:lnTo>
                      <a:pt x="1387" y="4208"/>
                    </a:lnTo>
                    <a:lnTo>
                      <a:pt x="1405" y="4173"/>
                    </a:lnTo>
                    <a:lnTo>
                      <a:pt x="1424" y="4137"/>
                    </a:lnTo>
                    <a:lnTo>
                      <a:pt x="1440" y="4102"/>
                    </a:lnTo>
                    <a:lnTo>
                      <a:pt x="1459" y="4067"/>
                    </a:lnTo>
                    <a:lnTo>
                      <a:pt x="1478" y="4031"/>
                    </a:lnTo>
                    <a:lnTo>
                      <a:pt x="1495" y="3996"/>
                    </a:lnTo>
                    <a:lnTo>
                      <a:pt x="1514" y="3961"/>
                    </a:lnTo>
                    <a:lnTo>
                      <a:pt x="1532" y="3926"/>
                    </a:lnTo>
                    <a:lnTo>
                      <a:pt x="1551" y="3889"/>
                    </a:lnTo>
                    <a:lnTo>
                      <a:pt x="1568" y="3855"/>
                    </a:lnTo>
                    <a:lnTo>
                      <a:pt x="1586" y="3819"/>
                    </a:lnTo>
                    <a:lnTo>
                      <a:pt x="1605" y="3785"/>
                    </a:lnTo>
                    <a:lnTo>
                      <a:pt x="1623" y="3749"/>
                    </a:lnTo>
                    <a:lnTo>
                      <a:pt x="1642" y="3713"/>
                    </a:lnTo>
                    <a:lnTo>
                      <a:pt x="1659" y="3679"/>
                    </a:lnTo>
                    <a:lnTo>
                      <a:pt x="1678" y="3643"/>
                    </a:lnTo>
                    <a:lnTo>
                      <a:pt x="1697" y="3608"/>
                    </a:lnTo>
                    <a:lnTo>
                      <a:pt x="1715" y="3573"/>
                    </a:lnTo>
                    <a:lnTo>
                      <a:pt x="1734" y="3539"/>
                    </a:lnTo>
                    <a:lnTo>
                      <a:pt x="1752" y="3503"/>
                    </a:lnTo>
                    <a:lnTo>
                      <a:pt x="1772" y="3467"/>
                    </a:lnTo>
                    <a:lnTo>
                      <a:pt x="1791" y="3433"/>
                    </a:lnTo>
                    <a:lnTo>
                      <a:pt x="1810" y="3398"/>
                    </a:lnTo>
                    <a:lnTo>
                      <a:pt x="1829" y="3363"/>
                    </a:lnTo>
                    <a:lnTo>
                      <a:pt x="1848" y="3328"/>
                    </a:lnTo>
                    <a:lnTo>
                      <a:pt x="1865" y="3294"/>
                    </a:lnTo>
                    <a:lnTo>
                      <a:pt x="1885" y="3259"/>
                    </a:lnTo>
                    <a:lnTo>
                      <a:pt x="1906" y="3225"/>
                    </a:lnTo>
                    <a:lnTo>
                      <a:pt x="1924" y="3189"/>
                    </a:lnTo>
                    <a:lnTo>
                      <a:pt x="1943" y="3154"/>
                    </a:lnTo>
                    <a:lnTo>
                      <a:pt x="1964" y="3120"/>
                    </a:lnTo>
                    <a:lnTo>
                      <a:pt x="1984" y="3087"/>
                    </a:lnTo>
                    <a:lnTo>
                      <a:pt x="2004" y="3052"/>
                    </a:lnTo>
                    <a:lnTo>
                      <a:pt x="2023" y="3016"/>
                    </a:lnTo>
                    <a:lnTo>
                      <a:pt x="2043" y="2983"/>
                    </a:lnTo>
                    <a:lnTo>
                      <a:pt x="2064" y="2948"/>
                    </a:lnTo>
                    <a:lnTo>
                      <a:pt x="2084" y="2915"/>
                    </a:lnTo>
                    <a:lnTo>
                      <a:pt x="2106" y="2881"/>
                    </a:lnTo>
                    <a:lnTo>
                      <a:pt x="2126" y="2847"/>
                    </a:lnTo>
                    <a:lnTo>
                      <a:pt x="2147" y="2814"/>
                    </a:lnTo>
                    <a:lnTo>
                      <a:pt x="2168" y="2779"/>
                    </a:lnTo>
                    <a:lnTo>
                      <a:pt x="2190" y="2746"/>
                    </a:lnTo>
                    <a:lnTo>
                      <a:pt x="2211" y="2712"/>
                    </a:lnTo>
                    <a:lnTo>
                      <a:pt x="2232" y="2679"/>
                    </a:lnTo>
                    <a:lnTo>
                      <a:pt x="2255" y="2646"/>
                    </a:lnTo>
                    <a:lnTo>
                      <a:pt x="2276" y="2612"/>
                    </a:lnTo>
                    <a:lnTo>
                      <a:pt x="2297" y="2579"/>
                    </a:lnTo>
                    <a:lnTo>
                      <a:pt x="2321" y="2545"/>
                    </a:lnTo>
                    <a:lnTo>
                      <a:pt x="2343" y="2512"/>
                    </a:lnTo>
                    <a:lnTo>
                      <a:pt x="2365" y="2480"/>
                    </a:lnTo>
                    <a:lnTo>
                      <a:pt x="2387" y="2446"/>
                    </a:lnTo>
                    <a:lnTo>
                      <a:pt x="2410" y="2413"/>
                    </a:lnTo>
                    <a:lnTo>
                      <a:pt x="2432" y="2379"/>
                    </a:lnTo>
                    <a:lnTo>
                      <a:pt x="2456" y="2347"/>
                    </a:lnTo>
                    <a:lnTo>
                      <a:pt x="2478" y="2314"/>
                    </a:lnTo>
                    <a:lnTo>
                      <a:pt x="2501" y="2283"/>
                    </a:lnTo>
                    <a:lnTo>
                      <a:pt x="2523" y="2249"/>
                    </a:lnTo>
                    <a:lnTo>
                      <a:pt x="2547" y="2217"/>
                    </a:lnTo>
                    <a:lnTo>
                      <a:pt x="2569" y="2183"/>
                    </a:lnTo>
                    <a:lnTo>
                      <a:pt x="2592" y="2151"/>
                    </a:lnTo>
                    <a:lnTo>
                      <a:pt x="2616" y="2118"/>
                    </a:lnTo>
                    <a:lnTo>
                      <a:pt x="2638" y="2085"/>
                    </a:lnTo>
                    <a:lnTo>
                      <a:pt x="2662" y="2052"/>
                    </a:lnTo>
                    <a:lnTo>
                      <a:pt x="2685" y="2020"/>
                    </a:lnTo>
                    <a:lnTo>
                      <a:pt x="2708" y="1987"/>
                    </a:lnTo>
                    <a:lnTo>
                      <a:pt x="2733" y="1954"/>
                    </a:lnTo>
                    <a:lnTo>
                      <a:pt x="2755" y="1923"/>
                    </a:lnTo>
                    <a:lnTo>
                      <a:pt x="2779" y="1891"/>
                    </a:lnTo>
                    <a:lnTo>
                      <a:pt x="2801" y="1858"/>
                    </a:lnTo>
                    <a:lnTo>
                      <a:pt x="2826" y="1825"/>
                    </a:lnTo>
                    <a:lnTo>
                      <a:pt x="2849" y="1793"/>
                    </a:lnTo>
                    <a:lnTo>
                      <a:pt x="2872" y="1761"/>
                    </a:lnTo>
                    <a:lnTo>
                      <a:pt x="2897" y="1729"/>
                    </a:lnTo>
                    <a:lnTo>
                      <a:pt x="2920" y="1696"/>
                    </a:lnTo>
                    <a:lnTo>
                      <a:pt x="2943" y="1663"/>
                    </a:lnTo>
                    <a:lnTo>
                      <a:pt x="2968" y="1631"/>
                    </a:lnTo>
                    <a:lnTo>
                      <a:pt x="2991" y="1599"/>
                    </a:lnTo>
                    <a:lnTo>
                      <a:pt x="3016" y="1566"/>
                    </a:lnTo>
                    <a:lnTo>
                      <a:pt x="3039" y="1535"/>
                    </a:lnTo>
                    <a:lnTo>
                      <a:pt x="3062" y="1503"/>
                    </a:lnTo>
                    <a:lnTo>
                      <a:pt x="3087" y="1470"/>
                    </a:lnTo>
                    <a:lnTo>
                      <a:pt x="3110" y="1437"/>
                    </a:lnTo>
                    <a:lnTo>
                      <a:pt x="3134" y="1405"/>
                    </a:lnTo>
                    <a:lnTo>
                      <a:pt x="3159" y="1373"/>
                    </a:lnTo>
                    <a:lnTo>
                      <a:pt x="3181" y="1342"/>
                    </a:lnTo>
                    <a:lnTo>
                      <a:pt x="3206" y="1309"/>
                    </a:lnTo>
                    <a:lnTo>
                      <a:pt x="3230" y="1277"/>
                    </a:lnTo>
                    <a:lnTo>
                      <a:pt x="3253" y="1245"/>
                    </a:lnTo>
                    <a:lnTo>
                      <a:pt x="3277" y="1213"/>
                    </a:lnTo>
                    <a:lnTo>
                      <a:pt x="3301" y="1181"/>
                    </a:lnTo>
                    <a:lnTo>
                      <a:pt x="3324" y="1148"/>
                    </a:lnTo>
                    <a:lnTo>
                      <a:pt x="3349" y="1115"/>
                    </a:lnTo>
                    <a:lnTo>
                      <a:pt x="3373" y="1083"/>
                    </a:lnTo>
                    <a:lnTo>
                      <a:pt x="3395" y="1051"/>
                    </a:lnTo>
                    <a:lnTo>
                      <a:pt x="3420" y="1019"/>
                    </a:lnTo>
                    <a:lnTo>
                      <a:pt x="3444" y="987"/>
                    </a:lnTo>
                    <a:lnTo>
                      <a:pt x="3468" y="955"/>
                    </a:lnTo>
                    <a:lnTo>
                      <a:pt x="3492" y="923"/>
                    </a:lnTo>
                    <a:lnTo>
                      <a:pt x="3516" y="891"/>
                    </a:lnTo>
                    <a:lnTo>
                      <a:pt x="3541" y="858"/>
                    </a:lnTo>
                    <a:lnTo>
                      <a:pt x="3563" y="826"/>
                    </a:lnTo>
                    <a:lnTo>
                      <a:pt x="3587" y="795"/>
                    </a:lnTo>
                    <a:lnTo>
                      <a:pt x="3612" y="762"/>
                    </a:lnTo>
                    <a:lnTo>
                      <a:pt x="3636" y="730"/>
                    </a:lnTo>
                    <a:lnTo>
                      <a:pt x="3660" y="699"/>
                    </a:lnTo>
                    <a:lnTo>
                      <a:pt x="3684" y="667"/>
                    </a:lnTo>
                    <a:lnTo>
                      <a:pt x="3708" y="634"/>
                    </a:lnTo>
                    <a:lnTo>
                      <a:pt x="3733" y="602"/>
                    </a:lnTo>
                    <a:lnTo>
                      <a:pt x="3756" y="571"/>
                    </a:lnTo>
                    <a:lnTo>
                      <a:pt x="3781" y="540"/>
                    </a:lnTo>
                    <a:lnTo>
                      <a:pt x="3805" y="507"/>
                    </a:lnTo>
                    <a:lnTo>
                      <a:pt x="3828" y="475"/>
                    </a:lnTo>
                    <a:lnTo>
                      <a:pt x="3853" y="443"/>
                    </a:lnTo>
                    <a:lnTo>
                      <a:pt x="3877" y="411"/>
                    </a:lnTo>
                    <a:lnTo>
                      <a:pt x="3902" y="378"/>
                    </a:lnTo>
                    <a:lnTo>
                      <a:pt x="3926" y="348"/>
                    </a:lnTo>
                    <a:lnTo>
                      <a:pt x="3950" y="316"/>
                    </a:lnTo>
                    <a:lnTo>
                      <a:pt x="3975" y="284"/>
                    </a:lnTo>
                    <a:lnTo>
                      <a:pt x="4000" y="251"/>
                    </a:lnTo>
                    <a:lnTo>
                      <a:pt x="4024" y="220"/>
                    </a:lnTo>
                    <a:lnTo>
                      <a:pt x="4047" y="189"/>
                    </a:lnTo>
                    <a:lnTo>
                      <a:pt x="4072" y="157"/>
                    </a:lnTo>
                    <a:lnTo>
                      <a:pt x="4097" y="126"/>
                    </a:lnTo>
                    <a:lnTo>
                      <a:pt x="4122" y="94"/>
                    </a:lnTo>
                    <a:lnTo>
                      <a:pt x="4146" y="62"/>
                    </a:lnTo>
                    <a:lnTo>
                      <a:pt x="4172" y="30"/>
                    </a:lnTo>
                    <a:lnTo>
                      <a:pt x="4195" y="0"/>
                    </a:lnTo>
                  </a:path>
                </a:pathLst>
              </a:custGeom>
              <a:solidFill>
                <a:srgbClr val="000000"/>
              </a:solidFill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79440" y="14461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6" y="2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49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10" y="52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3" y="69"/>
                    </a:lnTo>
                    <a:lnTo>
                      <a:pt x="2" y="76"/>
                    </a:lnTo>
                    <a:lnTo>
                      <a:pt x="1" y="81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104"/>
                    </a:lnTo>
                    <a:lnTo>
                      <a:pt x="3" y="116"/>
                    </a:lnTo>
                    <a:lnTo>
                      <a:pt x="8" y="128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2" y="178"/>
                    </a:lnTo>
                    <a:lnTo>
                      <a:pt x="67" y="179"/>
                    </a:lnTo>
                    <a:lnTo>
                      <a:pt x="73" y="182"/>
                    </a:lnTo>
                    <a:lnTo>
                      <a:pt x="79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7" y="184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0" y="176"/>
                    </a:lnTo>
                    <a:lnTo>
                      <a:pt x="148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8" y="128"/>
                    </a:lnTo>
                    <a:lnTo>
                      <a:pt x="193" y="116"/>
                    </a:lnTo>
                    <a:lnTo>
                      <a:pt x="195" y="104"/>
                    </a:lnTo>
                    <a:lnTo>
                      <a:pt x="195" y="92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3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8480" y="2227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9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2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4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80" y="181"/>
                    </a:lnTo>
                    <a:lnTo>
                      <a:pt x="86" y="183"/>
                    </a:lnTo>
                    <a:lnTo>
                      <a:pt x="91" y="183"/>
                    </a:lnTo>
                    <a:lnTo>
                      <a:pt x="99" y="184"/>
                    </a:lnTo>
                    <a:lnTo>
                      <a:pt x="104" y="183"/>
                    </a:lnTo>
                    <a:lnTo>
                      <a:pt x="112" y="183"/>
                    </a:lnTo>
                    <a:lnTo>
                      <a:pt x="118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4"/>
                    </a:lnTo>
                    <a:lnTo>
                      <a:pt x="168" y="157"/>
                    </a:lnTo>
                    <a:lnTo>
                      <a:pt x="177" y="147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6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5" y="34"/>
                    </a:lnTo>
                    <a:lnTo>
                      <a:pt x="172" y="31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7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958480" y="2593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6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2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3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4" y="184"/>
                    </a:lnTo>
                    <a:lnTo>
                      <a:pt x="112" y="184"/>
                    </a:lnTo>
                    <a:lnTo>
                      <a:pt x="118" y="183"/>
                    </a:lnTo>
                    <a:lnTo>
                      <a:pt x="122" y="182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8" y="165"/>
                    </a:lnTo>
                    <a:lnTo>
                      <a:pt x="168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7"/>
                    </a:lnTo>
                    <a:lnTo>
                      <a:pt x="193" y="116"/>
                    </a:lnTo>
                    <a:lnTo>
                      <a:pt x="194" y="104"/>
                    </a:lnTo>
                    <a:lnTo>
                      <a:pt x="197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90" y="57"/>
                    </a:lnTo>
                    <a:lnTo>
                      <a:pt x="184" y="47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2" y="30"/>
                    </a:lnTo>
                    <a:lnTo>
                      <a:pt x="168" y="27"/>
                    </a:lnTo>
                    <a:lnTo>
                      <a:pt x="162" y="22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753280" y="268596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9" y="0"/>
                    </a:moveTo>
                    <a:lnTo>
                      <a:pt x="86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4"/>
                    </a:lnTo>
                    <a:lnTo>
                      <a:pt x="19" y="34"/>
                    </a:lnTo>
                    <a:lnTo>
                      <a:pt x="12" y="44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4" y="62"/>
                    </a:lnTo>
                    <a:lnTo>
                      <a:pt x="3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3" y="114"/>
                    </a:lnTo>
                    <a:lnTo>
                      <a:pt x="8" y="124"/>
                    </a:lnTo>
                    <a:lnTo>
                      <a:pt x="12" y="137"/>
                    </a:lnTo>
                    <a:lnTo>
                      <a:pt x="19" y="147"/>
                    </a:lnTo>
                    <a:lnTo>
                      <a:pt x="29" y="156"/>
                    </a:lnTo>
                    <a:lnTo>
                      <a:pt x="38" y="163"/>
                    </a:lnTo>
                    <a:lnTo>
                      <a:pt x="50" y="170"/>
                    </a:lnTo>
                    <a:lnTo>
                      <a:pt x="56" y="173"/>
                    </a:lnTo>
                    <a:lnTo>
                      <a:pt x="61" y="176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9" y="181"/>
                    </a:lnTo>
                    <a:lnTo>
                      <a:pt x="86" y="182"/>
                    </a:lnTo>
                    <a:lnTo>
                      <a:pt x="92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2"/>
                    </a:lnTo>
                    <a:lnTo>
                      <a:pt x="116" y="181"/>
                    </a:lnTo>
                    <a:lnTo>
                      <a:pt x="122" y="180"/>
                    </a:lnTo>
                    <a:lnTo>
                      <a:pt x="128" y="178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0"/>
                    </a:lnTo>
                    <a:lnTo>
                      <a:pt x="158" y="163"/>
                    </a:lnTo>
                    <a:lnTo>
                      <a:pt x="166" y="156"/>
                    </a:lnTo>
                    <a:lnTo>
                      <a:pt x="174" y="147"/>
                    </a:lnTo>
                    <a:lnTo>
                      <a:pt x="181" y="137"/>
                    </a:lnTo>
                    <a:lnTo>
                      <a:pt x="187" y="124"/>
                    </a:lnTo>
                    <a:lnTo>
                      <a:pt x="192" y="114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7" y="55"/>
                    </a:lnTo>
                    <a:lnTo>
                      <a:pt x="181" y="44"/>
                    </a:lnTo>
                    <a:lnTo>
                      <a:pt x="179" y="40"/>
                    </a:lnTo>
                    <a:lnTo>
                      <a:pt x="174" y="34"/>
                    </a:lnTo>
                    <a:lnTo>
                      <a:pt x="171" y="30"/>
                    </a:lnTo>
                    <a:lnTo>
                      <a:pt x="166" y="24"/>
                    </a:lnTo>
                    <a:lnTo>
                      <a:pt x="163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1"/>
                    </a:lnTo>
                    <a:lnTo>
                      <a:pt x="134" y="6"/>
                    </a:lnTo>
                    <a:lnTo>
                      <a:pt x="122" y="2"/>
                    </a:lnTo>
                    <a:lnTo>
                      <a:pt x="10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71760" y="33750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8" y="27"/>
                    </a:lnTo>
                    <a:lnTo>
                      <a:pt x="20" y="34"/>
                    </a:lnTo>
                    <a:lnTo>
                      <a:pt x="13" y="44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4" y="115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0"/>
                    </a:lnTo>
                    <a:lnTo>
                      <a:pt x="56" y="172"/>
                    </a:lnTo>
                    <a:lnTo>
                      <a:pt x="62" y="176"/>
                    </a:lnTo>
                    <a:lnTo>
                      <a:pt x="67" y="178"/>
                    </a:lnTo>
                    <a:lnTo>
                      <a:pt x="73" y="179"/>
                    </a:lnTo>
                    <a:lnTo>
                      <a:pt x="78" y="181"/>
                    </a:lnTo>
                    <a:lnTo>
                      <a:pt x="85" y="182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0" y="182"/>
                    </a:lnTo>
                    <a:lnTo>
                      <a:pt x="117" y="181"/>
                    </a:lnTo>
                    <a:lnTo>
                      <a:pt x="123" y="179"/>
                    </a:lnTo>
                    <a:lnTo>
                      <a:pt x="129" y="178"/>
                    </a:lnTo>
                    <a:lnTo>
                      <a:pt x="136" y="176"/>
                    </a:lnTo>
                    <a:lnTo>
                      <a:pt x="141" y="172"/>
                    </a:lnTo>
                    <a:lnTo>
                      <a:pt x="147" y="170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5"/>
                    </a:lnTo>
                    <a:lnTo>
                      <a:pt x="195" y="102"/>
                    </a:lnTo>
                    <a:lnTo>
                      <a:pt x="196" y="91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8" y="57"/>
                    </a:lnTo>
                    <a:lnTo>
                      <a:pt x="182" y="44"/>
                    </a:lnTo>
                    <a:lnTo>
                      <a:pt x="180" y="40"/>
                    </a:lnTo>
                    <a:lnTo>
                      <a:pt x="175" y="34"/>
                    </a:lnTo>
                    <a:lnTo>
                      <a:pt x="172" y="30"/>
                    </a:lnTo>
                    <a:lnTo>
                      <a:pt x="167" y="24"/>
                    </a:lnTo>
                    <a:lnTo>
                      <a:pt x="162" y="21"/>
                    </a:lnTo>
                    <a:lnTo>
                      <a:pt x="157" y="18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112840" y="36511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5" y="1"/>
                    </a:lnTo>
                    <a:lnTo>
                      <a:pt x="74" y="4"/>
                    </a:lnTo>
                    <a:lnTo>
                      <a:pt x="61" y="6"/>
                    </a:lnTo>
                    <a:lnTo>
                      <a:pt x="50" y="12"/>
                    </a:lnTo>
                    <a:lnTo>
                      <a:pt x="38" y="18"/>
                    </a:lnTo>
                    <a:lnTo>
                      <a:pt x="29" y="26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0" y="52"/>
                    </a:lnTo>
                    <a:lnTo>
                      <a:pt x="7" y="57"/>
                    </a:lnTo>
                    <a:lnTo>
                      <a:pt x="6" y="63"/>
                    </a:lnTo>
                    <a:lnTo>
                      <a:pt x="3" y="70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3" y="116"/>
                    </a:lnTo>
                    <a:lnTo>
                      <a:pt x="7" y="126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8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1" y="178"/>
                    </a:lnTo>
                    <a:lnTo>
                      <a:pt x="67" y="180"/>
                    </a:lnTo>
                    <a:lnTo>
                      <a:pt x="72" y="182"/>
                    </a:lnTo>
                    <a:lnTo>
                      <a:pt x="80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9" y="184"/>
                    </a:lnTo>
                    <a:lnTo>
                      <a:pt x="103" y="184"/>
                    </a:lnTo>
                    <a:lnTo>
                      <a:pt x="110" y="184"/>
                    </a:lnTo>
                    <a:lnTo>
                      <a:pt x="116" y="183"/>
                    </a:lnTo>
                    <a:lnTo>
                      <a:pt x="122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6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5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2" y="116"/>
                    </a:lnTo>
                    <a:lnTo>
                      <a:pt x="194" y="104"/>
                    </a:lnTo>
                    <a:lnTo>
                      <a:pt x="197" y="92"/>
                    </a:lnTo>
                    <a:lnTo>
                      <a:pt x="194" y="81"/>
                    </a:lnTo>
                    <a:lnTo>
                      <a:pt x="192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5" y="36"/>
                    </a:lnTo>
                    <a:lnTo>
                      <a:pt x="171" y="31"/>
                    </a:lnTo>
                    <a:lnTo>
                      <a:pt x="166" y="26"/>
                    </a:lnTo>
                    <a:lnTo>
                      <a:pt x="162" y="23"/>
                    </a:lnTo>
                    <a:lnTo>
                      <a:pt x="158" y="18"/>
                    </a:lnTo>
                    <a:lnTo>
                      <a:pt x="152" y="16"/>
                    </a:lnTo>
                    <a:lnTo>
                      <a:pt x="146" y="12"/>
                    </a:lnTo>
                    <a:lnTo>
                      <a:pt x="134" y="6"/>
                    </a:lnTo>
                    <a:lnTo>
                      <a:pt x="122" y="4"/>
                    </a:lnTo>
                    <a:lnTo>
                      <a:pt x="109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05400" y="4110120"/>
                <a:ext cx="9648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3" y="2"/>
                    </a:lnTo>
                    <a:lnTo>
                      <a:pt x="61" y="6"/>
                    </a:lnTo>
                    <a:lnTo>
                      <a:pt x="49" y="10"/>
                    </a:lnTo>
                    <a:lnTo>
                      <a:pt x="38" y="16"/>
                    </a:lnTo>
                    <a:lnTo>
                      <a:pt x="28" y="25"/>
                    </a:lnTo>
                    <a:lnTo>
                      <a:pt x="20" y="34"/>
                    </a:lnTo>
                    <a:lnTo>
                      <a:pt x="13" y="45"/>
                    </a:lnTo>
                    <a:lnTo>
                      <a:pt x="9" y="50"/>
                    </a:lnTo>
                    <a:lnTo>
                      <a:pt x="7" y="55"/>
                    </a:lnTo>
                    <a:lnTo>
                      <a:pt x="6" y="61"/>
                    </a:lnTo>
                    <a:lnTo>
                      <a:pt x="2" y="68"/>
                    </a:lnTo>
                    <a:lnTo>
                      <a:pt x="1" y="73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2"/>
                    </a:lnTo>
                    <a:lnTo>
                      <a:pt x="2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7"/>
                    </a:lnTo>
                    <a:lnTo>
                      <a:pt x="28" y="156"/>
                    </a:lnTo>
                    <a:lnTo>
                      <a:pt x="38" y="165"/>
                    </a:lnTo>
                    <a:lnTo>
                      <a:pt x="49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1" y="182"/>
                    </a:lnTo>
                    <a:lnTo>
                      <a:pt x="98" y="185"/>
                    </a:lnTo>
                    <a:lnTo>
                      <a:pt x="104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7" y="165"/>
                    </a:lnTo>
                    <a:lnTo>
                      <a:pt x="168" y="156"/>
                    </a:lnTo>
                    <a:lnTo>
                      <a:pt x="175" y="147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3" y="114"/>
                    </a:lnTo>
                    <a:lnTo>
                      <a:pt x="195" y="102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3" y="68"/>
                    </a:lnTo>
                    <a:lnTo>
                      <a:pt x="189" y="55"/>
                    </a:lnTo>
                    <a:lnTo>
                      <a:pt x="183" y="45"/>
                    </a:lnTo>
                    <a:lnTo>
                      <a:pt x="178" y="40"/>
                    </a:lnTo>
                    <a:lnTo>
                      <a:pt x="175" y="34"/>
                    </a:lnTo>
                    <a:lnTo>
                      <a:pt x="171" y="30"/>
                    </a:lnTo>
                    <a:lnTo>
                      <a:pt x="167" y="25"/>
                    </a:lnTo>
                    <a:lnTo>
                      <a:pt x="162" y="21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6" y="10"/>
                    </a:lnTo>
                    <a:lnTo>
                      <a:pt x="133" y="6"/>
                    </a:lnTo>
                    <a:lnTo>
                      <a:pt x="122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959120" y="365112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9" y="0"/>
                    </a:moveTo>
                    <a:lnTo>
                      <a:pt x="87" y="1"/>
                    </a:lnTo>
                    <a:lnTo>
                      <a:pt x="75" y="4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41" y="18"/>
                    </a:lnTo>
                    <a:lnTo>
                      <a:pt x="30" y="26"/>
                    </a:lnTo>
                    <a:lnTo>
                      <a:pt x="22" y="36"/>
                    </a:lnTo>
                    <a:lnTo>
                      <a:pt x="15" y="46"/>
                    </a:lnTo>
                    <a:lnTo>
                      <a:pt x="12" y="52"/>
                    </a:lnTo>
                    <a:lnTo>
                      <a:pt x="10" y="57"/>
                    </a:lnTo>
                    <a:lnTo>
                      <a:pt x="6" y="63"/>
                    </a:lnTo>
                    <a:lnTo>
                      <a:pt x="5" y="70"/>
                    </a:lnTo>
                    <a:lnTo>
                      <a:pt x="4" y="74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3" y="104"/>
                    </a:lnTo>
                    <a:lnTo>
                      <a:pt x="5" y="116"/>
                    </a:lnTo>
                    <a:lnTo>
                      <a:pt x="10" y="126"/>
                    </a:lnTo>
                    <a:lnTo>
                      <a:pt x="15" y="138"/>
                    </a:lnTo>
                    <a:lnTo>
                      <a:pt x="22" y="149"/>
                    </a:lnTo>
                    <a:lnTo>
                      <a:pt x="30" y="158"/>
                    </a:lnTo>
                    <a:lnTo>
                      <a:pt x="41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9" y="180"/>
                    </a:lnTo>
                    <a:lnTo>
                      <a:pt x="75" y="182"/>
                    </a:lnTo>
                    <a:lnTo>
                      <a:pt x="80" y="183"/>
                    </a:lnTo>
                    <a:lnTo>
                      <a:pt x="86" y="184"/>
                    </a:lnTo>
                    <a:lnTo>
                      <a:pt x="93" y="184"/>
                    </a:lnTo>
                    <a:lnTo>
                      <a:pt x="99" y="184"/>
                    </a:lnTo>
                    <a:lnTo>
                      <a:pt x="106" y="184"/>
                    </a:lnTo>
                    <a:lnTo>
                      <a:pt x="112" y="184"/>
                    </a:lnTo>
                    <a:lnTo>
                      <a:pt x="119" y="183"/>
                    </a:lnTo>
                    <a:lnTo>
                      <a:pt x="125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2"/>
                    </a:lnTo>
                    <a:lnTo>
                      <a:pt x="158" y="165"/>
                    </a:lnTo>
                    <a:lnTo>
                      <a:pt x="168" y="158"/>
                    </a:lnTo>
                    <a:lnTo>
                      <a:pt x="177" y="149"/>
                    </a:lnTo>
                    <a:lnTo>
                      <a:pt x="184" y="138"/>
                    </a:lnTo>
                    <a:lnTo>
                      <a:pt x="190" y="126"/>
                    </a:lnTo>
                    <a:lnTo>
                      <a:pt x="193" y="116"/>
                    </a:lnTo>
                    <a:lnTo>
                      <a:pt x="197" y="104"/>
                    </a:lnTo>
                    <a:lnTo>
                      <a:pt x="197" y="92"/>
                    </a:lnTo>
                    <a:lnTo>
                      <a:pt x="197" y="81"/>
                    </a:lnTo>
                    <a:lnTo>
                      <a:pt x="193" y="70"/>
                    </a:lnTo>
                    <a:lnTo>
                      <a:pt x="190" y="57"/>
                    </a:lnTo>
                    <a:lnTo>
                      <a:pt x="184" y="46"/>
                    </a:lnTo>
                    <a:lnTo>
                      <a:pt x="181" y="41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8" y="26"/>
                    </a:lnTo>
                    <a:lnTo>
                      <a:pt x="164" y="23"/>
                    </a:lnTo>
                    <a:lnTo>
                      <a:pt x="158" y="18"/>
                    </a:lnTo>
                    <a:lnTo>
                      <a:pt x="153" y="16"/>
                    </a:lnTo>
                    <a:lnTo>
                      <a:pt x="147" y="12"/>
                    </a:lnTo>
                    <a:lnTo>
                      <a:pt x="135" y="6"/>
                    </a:lnTo>
                    <a:lnTo>
                      <a:pt x="122" y="4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2154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2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9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2" y="81"/>
                    </a:lnTo>
                    <a:lnTo>
                      <a:pt x="2" y="87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4" y="115"/>
                    </a:lnTo>
                    <a:lnTo>
                      <a:pt x="9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2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80" y="183"/>
                    </a:lnTo>
                    <a:lnTo>
                      <a:pt x="87" y="184"/>
                    </a:lnTo>
                    <a:lnTo>
                      <a:pt x="92" y="184"/>
                    </a:lnTo>
                    <a:lnTo>
                      <a:pt x="98" y="184"/>
                    </a:lnTo>
                    <a:lnTo>
                      <a:pt x="105" y="184"/>
                    </a:lnTo>
                    <a:lnTo>
                      <a:pt x="111" y="184"/>
                    </a:lnTo>
                    <a:lnTo>
                      <a:pt x="118" y="183"/>
                    </a:lnTo>
                    <a:lnTo>
                      <a:pt x="124" y="182"/>
                    </a:lnTo>
                    <a:lnTo>
                      <a:pt x="130" y="180"/>
                    </a:lnTo>
                    <a:lnTo>
                      <a:pt x="134" y="178"/>
                    </a:lnTo>
                    <a:lnTo>
                      <a:pt x="142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8" y="157"/>
                    </a:lnTo>
                    <a:lnTo>
                      <a:pt x="176" y="149"/>
                    </a:lnTo>
                    <a:lnTo>
                      <a:pt x="183" y="137"/>
                    </a:lnTo>
                    <a:lnTo>
                      <a:pt x="189" y="127"/>
                    </a:lnTo>
                    <a:lnTo>
                      <a:pt x="194" y="115"/>
                    </a:lnTo>
                    <a:lnTo>
                      <a:pt x="196" y="104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0"/>
                    </a:lnTo>
                    <a:lnTo>
                      <a:pt x="189" y="57"/>
                    </a:lnTo>
                    <a:lnTo>
                      <a:pt x="183" y="47"/>
                    </a:lnTo>
                    <a:lnTo>
                      <a:pt x="181" y="42"/>
                    </a:lnTo>
                    <a:lnTo>
                      <a:pt x="176" y="36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4" y="7"/>
                    </a:lnTo>
                    <a:lnTo>
                      <a:pt x="123" y="4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471760" y="319068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3" y="5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28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3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2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9"/>
                    </a:lnTo>
                    <a:lnTo>
                      <a:pt x="28" y="159"/>
                    </a:lnTo>
                    <a:lnTo>
                      <a:pt x="39" y="166"/>
                    </a:lnTo>
                    <a:lnTo>
                      <a:pt x="48" y="173"/>
                    </a:lnTo>
                    <a:lnTo>
                      <a:pt x="56" y="175"/>
                    </a:lnTo>
                    <a:lnTo>
                      <a:pt x="62" y="179"/>
                    </a:lnTo>
                    <a:lnTo>
                      <a:pt x="67" y="180"/>
                    </a:lnTo>
                    <a:lnTo>
                      <a:pt x="73" y="182"/>
                    </a:lnTo>
                    <a:lnTo>
                      <a:pt x="78" y="183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5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6" y="179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7" y="166"/>
                    </a:lnTo>
                    <a:lnTo>
                      <a:pt x="167" y="159"/>
                    </a:lnTo>
                    <a:lnTo>
                      <a:pt x="175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5"/>
                    </a:lnTo>
                    <a:lnTo>
                      <a:pt x="196" y="93"/>
                    </a:lnTo>
                    <a:lnTo>
                      <a:pt x="195" y="82"/>
                    </a:lnTo>
                    <a:lnTo>
                      <a:pt x="193" y="70"/>
                    </a:lnTo>
                    <a:lnTo>
                      <a:pt x="188" y="58"/>
                    </a:lnTo>
                    <a:lnTo>
                      <a:pt x="182" y="47"/>
                    </a:lnTo>
                    <a:lnTo>
                      <a:pt x="180" y="42"/>
                    </a:lnTo>
                    <a:lnTo>
                      <a:pt x="175" y="36"/>
                    </a:lnTo>
                    <a:lnTo>
                      <a:pt x="172" y="32"/>
                    </a:lnTo>
                    <a:lnTo>
                      <a:pt x="167" y="27"/>
                    </a:lnTo>
                    <a:lnTo>
                      <a:pt x="162" y="24"/>
                    </a:lnTo>
                    <a:lnTo>
                      <a:pt x="157" y="19"/>
                    </a:lnTo>
                    <a:lnTo>
                      <a:pt x="153" y="17"/>
                    </a:lnTo>
                    <a:lnTo>
                      <a:pt x="147" y="13"/>
                    </a:lnTo>
                    <a:lnTo>
                      <a:pt x="134" y="7"/>
                    </a:lnTo>
                    <a:lnTo>
                      <a:pt x="123" y="5"/>
                    </a:lnTo>
                    <a:lnTo>
                      <a:pt x="110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471760" y="29620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3" y="3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6"/>
                    </a:lnTo>
                    <a:lnTo>
                      <a:pt x="5" y="62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5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4"/>
                    </a:lnTo>
                    <a:lnTo>
                      <a:pt x="48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7" y="178"/>
                    </a:lnTo>
                    <a:lnTo>
                      <a:pt x="73" y="180"/>
                    </a:lnTo>
                    <a:lnTo>
                      <a:pt x="78" y="182"/>
                    </a:lnTo>
                    <a:lnTo>
                      <a:pt x="85" y="183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0" y="183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29" y="178"/>
                    </a:lnTo>
                    <a:lnTo>
                      <a:pt x="136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7" y="164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5"/>
                    </a:lnTo>
                    <a:lnTo>
                      <a:pt x="193" y="114"/>
                    </a:lnTo>
                    <a:lnTo>
                      <a:pt x="195" y="103"/>
                    </a:lnTo>
                    <a:lnTo>
                      <a:pt x="196" y="91"/>
                    </a:lnTo>
                    <a:lnTo>
                      <a:pt x="195" y="79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2" y="46"/>
                    </a:lnTo>
                    <a:lnTo>
                      <a:pt x="180" y="41"/>
                    </a:lnTo>
                    <a:lnTo>
                      <a:pt x="175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7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726640" y="28702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3"/>
                    </a:lnTo>
                    <a:lnTo>
                      <a:pt x="85" y="183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9" y="166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3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726640" y="25938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4">
                    <a:moveTo>
                      <a:pt x="98" y="0"/>
                    </a:moveTo>
                    <a:lnTo>
                      <a:pt x="85" y="1"/>
                    </a:lnTo>
                    <a:lnTo>
                      <a:pt x="75" y="3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7"/>
                    </a:lnTo>
                    <a:lnTo>
                      <a:pt x="20" y="36"/>
                    </a:lnTo>
                    <a:lnTo>
                      <a:pt x="13" y="47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2" y="182"/>
                    </a:lnTo>
                    <a:lnTo>
                      <a:pt x="78" y="183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4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8" y="178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8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2" y="116"/>
                    </a:lnTo>
                    <a:lnTo>
                      <a:pt x="195" y="104"/>
                    </a:lnTo>
                    <a:lnTo>
                      <a:pt x="197" y="91"/>
                    </a:lnTo>
                    <a:lnTo>
                      <a:pt x="195" y="81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2" y="47"/>
                    </a:lnTo>
                    <a:lnTo>
                      <a:pt x="180" y="41"/>
                    </a:lnTo>
                    <a:lnTo>
                      <a:pt x="175" y="36"/>
                    </a:lnTo>
                    <a:lnTo>
                      <a:pt x="171" y="30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8"/>
                    </a:lnTo>
                    <a:lnTo>
                      <a:pt x="153" y="16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726640" y="305424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2" y="7"/>
                    </a:lnTo>
                    <a:lnTo>
                      <a:pt x="50" y="11"/>
                    </a:lnTo>
                    <a:lnTo>
                      <a:pt x="39" y="18"/>
                    </a:lnTo>
                    <a:lnTo>
                      <a:pt x="29" y="26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7"/>
                    </a:lnTo>
                    <a:lnTo>
                      <a:pt x="6" y="61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4" y="115"/>
                    </a:lnTo>
                    <a:lnTo>
                      <a:pt x="7" y="126"/>
                    </a:lnTo>
                    <a:lnTo>
                      <a:pt x="13" y="137"/>
                    </a:lnTo>
                    <a:lnTo>
                      <a:pt x="20" y="147"/>
                    </a:lnTo>
                    <a:lnTo>
                      <a:pt x="29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2"/>
                    </a:lnTo>
                    <a:lnTo>
                      <a:pt x="85" y="184"/>
                    </a:lnTo>
                    <a:lnTo>
                      <a:pt x="91" y="184"/>
                    </a:lnTo>
                    <a:lnTo>
                      <a:pt x="98" y="185"/>
                    </a:lnTo>
                    <a:lnTo>
                      <a:pt x="104" y="184"/>
                    </a:lnTo>
                    <a:lnTo>
                      <a:pt x="111" y="184"/>
                    </a:lnTo>
                    <a:lnTo>
                      <a:pt x="117" y="182"/>
                    </a:lnTo>
                    <a:lnTo>
                      <a:pt x="123" y="181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7" y="157"/>
                    </a:lnTo>
                    <a:lnTo>
                      <a:pt x="175" y="147"/>
                    </a:lnTo>
                    <a:lnTo>
                      <a:pt x="182" y="137"/>
                    </a:lnTo>
                    <a:lnTo>
                      <a:pt x="188" y="126"/>
                    </a:lnTo>
                    <a:lnTo>
                      <a:pt x="192" y="115"/>
                    </a:lnTo>
                    <a:lnTo>
                      <a:pt x="195" y="104"/>
                    </a:lnTo>
                    <a:lnTo>
                      <a:pt x="197" y="93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6"/>
                    </a:lnTo>
                    <a:lnTo>
                      <a:pt x="162" y="21"/>
                    </a:lnTo>
                    <a:lnTo>
                      <a:pt x="156" y="18"/>
                    </a:lnTo>
                    <a:lnTo>
                      <a:pt x="153" y="15"/>
                    </a:lnTo>
                    <a:lnTo>
                      <a:pt x="147" y="11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984760" y="26398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7" y="0"/>
                    </a:moveTo>
                    <a:lnTo>
                      <a:pt x="84" y="1"/>
                    </a:lnTo>
                    <a:lnTo>
                      <a:pt x="73" y="2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5"/>
                    </a:lnTo>
                    <a:lnTo>
                      <a:pt x="11" y="46"/>
                    </a:lnTo>
                    <a:lnTo>
                      <a:pt x="9" y="51"/>
                    </a:lnTo>
                    <a:lnTo>
                      <a:pt x="7" y="58"/>
                    </a:lnTo>
                    <a:lnTo>
                      <a:pt x="4" y="62"/>
                    </a:lnTo>
                    <a:lnTo>
                      <a:pt x="2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8"/>
                    </a:lnTo>
                    <a:lnTo>
                      <a:pt x="19" y="148"/>
                    </a:lnTo>
                    <a:lnTo>
                      <a:pt x="28" y="158"/>
                    </a:lnTo>
                    <a:lnTo>
                      <a:pt x="37" y="166"/>
                    </a:lnTo>
                    <a:lnTo>
                      <a:pt x="49" y="172"/>
                    </a:lnTo>
                    <a:lnTo>
                      <a:pt x="54" y="175"/>
                    </a:lnTo>
                    <a:lnTo>
                      <a:pt x="60" y="177"/>
                    </a:lnTo>
                    <a:lnTo>
                      <a:pt x="66" y="179"/>
                    </a:lnTo>
                    <a:lnTo>
                      <a:pt x="72" y="180"/>
                    </a:lnTo>
                    <a:lnTo>
                      <a:pt x="79" y="184"/>
                    </a:lnTo>
                    <a:lnTo>
                      <a:pt x="84" y="184"/>
                    </a:lnTo>
                    <a:lnTo>
                      <a:pt x="90" y="185"/>
                    </a:lnTo>
                    <a:lnTo>
                      <a:pt x="97" y="185"/>
                    </a:lnTo>
                    <a:lnTo>
                      <a:pt x="103" y="185"/>
                    </a:lnTo>
                    <a:lnTo>
                      <a:pt x="110" y="184"/>
                    </a:lnTo>
                    <a:lnTo>
                      <a:pt x="116" y="184"/>
                    </a:lnTo>
                    <a:lnTo>
                      <a:pt x="121" y="180"/>
                    </a:lnTo>
                    <a:lnTo>
                      <a:pt x="129" y="179"/>
                    </a:lnTo>
                    <a:lnTo>
                      <a:pt x="133" y="177"/>
                    </a:lnTo>
                    <a:lnTo>
                      <a:pt x="139" y="175"/>
                    </a:lnTo>
                    <a:lnTo>
                      <a:pt x="145" y="172"/>
                    </a:lnTo>
                    <a:lnTo>
                      <a:pt x="157" y="166"/>
                    </a:lnTo>
                    <a:lnTo>
                      <a:pt x="166" y="158"/>
                    </a:lnTo>
                    <a:lnTo>
                      <a:pt x="174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0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78" y="40"/>
                    </a:lnTo>
                    <a:lnTo>
                      <a:pt x="174" y="35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2"/>
                    </a:lnTo>
                    <a:lnTo>
                      <a:pt x="157" y="19"/>
                    </a:lnTo>
                    <a:lnTo>
                      <a:pt x="151" y="14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2"/>
                    </a:lnTo>
                    <a:lnTo>
                      <a:pt x="108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137040" y="2732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2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50" y="13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7"/>
                    </a:lnTo>
                    <a:lnTo>
                      <a:pt x="11" y="53"/>
                    </a:lnTo>
                    <a:lnTo>
                      <a:pt x="8" y="57"/>
                    </a:lnTo>
                    <a:lnTo>
                      <a:pt x="5" y="63"/>
                    </a:lnTo>
                    <a:lnTo>
                      <a:pt x="4" y="70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9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8"/>
                    </a:lnTo>
                    <a:lnTo>
                      <a:pt x="68" y="180"/>
                    </a:lnTo>
                    <a:lnTo>
                      <a:pt x="74" y="182"/>
                    </a:lnTo>
                    <a:lnTo>
                      <a:pt x="79" y="183"/>
                    </a:lnTo>
                    <a:lnTo>
                      <a:pt x="85" y="184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4"/>
                    </a:lnTo>
                    <a:lnTo>
                      <a:pt x="117" y="183"/>
                    </a:lnTo>
                    <a:lnTo>
                      <a:pt x="123" y="182"/>
                    </a:lnTo>
                    <a:lnTo>
                      <a:pt x="129" y="180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9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4"/>
                    </a:lnTo>
                    <a:lnTo>
                      <a:pt x="195" y="93"/>
                    </a:lnTo>
                    <a:lnTo>
                      <a:pt x="195" y="81"/>
                    </a:lnTo>
                    <a:lnTo>
                      <a:pt x="193" y="70"/>
                    </a:lnTo>
                    <a:lnTo>
                      <a:pt x="188" y="57"/>
                    </a:lnTo>
                    <a:lnTo>
                      <a:pt x="184" y="47"/>
                    </a:lnTo>
                    <a:lnTo>
                      <a:pt x="180" y="42"/>
                    </a:lnTo>
                    <a:lnTo>
                      <a:pt x="177" y="36"/>
                    </a:lnTo>
                    <a:lnTo>
                      <a:pt x="172" y="31"/>
                    </a:lnTo>
                    <a:lnTo>
                      <a:pt x="167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fff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25840" y="401796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38" y="19"/>
                    </a:lnTo>
                    <a:lnTo>
                      <a:pt x="28" y="27"/>
                    </a:lnTo>
                    <a:lnTo>
                      <a:pt x="21" y="37"/>
                    </a:lnTo>
                    <a:lnTo>
                      <a:pt x="14" y="47"/>
                    </a:lnTo>
                    <a:lnTo>
                      <a:pt x="9" y="52"/>
                    </a:lnTo>
                    <a:lnTo>
                      <a:pt x="7" y="58"/>
                    </a:lnTo>
                    <a:lnTo>
                      <a:pt x="6" y="62"/>
                    </a:lnTo>
                    <a:lnTo>
                      <a:pt x="4" y="69"/>
                    </a:lnTo>
                    <a:lnTo>
                      <a:pt x="1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8" y="166"/>
                    </a:lnTo>
                    <a:lnTo>
                      <a:pt x="49" y="173"/>
                    </a:lnTo>
                    <a:lnTo>
                      <a:pt x="55" y="175"/>
                    </a:lnTo>
                    <a:lnTo>
                      <a:pt x="60" y="178"/>
                    </a:lnTo>
                    <a:lnTo>
                      <a:pt x="66" y="179"/>
                    </a:lnTo>
                    <a:lnTo>
                      <a:pt x="73" y="182"/>
                    </a:lnTo>
                    <a:lnTo>
                      <a:pt x="79" y="183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0" y="185"/>
                    </a:lnTo>
                    <a:lnTo>
                      <a:pt x="116" y="183"/>
                    </a:lnTo>
                    <a:lnTo>
                      <a:pt x="123" y="182"/>
                    </a:lnTo>
                    <a:lnTo>
                      <a:pt x="129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7" y="157"/>
                    </a:lnTo>
                    <a:lnTo>
                      <a:pt x="176" y="148"/>
                    </a:lnTo>
                    <a:lnTo>
                      <a:pt x="183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4" y="105"/>
                    </a:lnTo>
                    <a:lnTo>
                      <a:pt x="195" y="92"/>
                    </a:lnTo>
                    <a:lnTo>
                      <a:pt x="194" y="80"/>
                    </a:lnTo>
                    <a:lnTo>
                      <a:pt x="193" y="69"/>
                    </a:lnTo>
                    <a:lnTo>
                      <a:pt x="188" y="58"/>
                    </a:lnTo>
                    <a:lnTo>
                      <a:pt x="183" y="47"/>
                    </a:lnTo>
                    <a:lnTo>
                      <a:pt x="178" y="41"/>
                    </a:lnTo>
                    <a:lnTo>
                      <a:pt x="176" y="37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3"/>
                    </a:lnTo>
                    <a:lnTo>
                      <a:pt x="157" y="19"/>
                    </a:lnTo>
                    <a:lnTo>
                      <a:pt x="151" y="17"/>
                    </a:lnTo>
                    <a:lnTo>
                      <a:pt x="145" y="12"/>
                    </a:lnTo>
                    <a:lnTo>
                      <a:pt x="135" y="7"/>
                    </a:lnTo>
                    <a:lnTo>
                      <a:pt x="122" y="4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31200" y="263988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3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5"/>
                    </a:lnTo>
                    <a:lnTo>
                      <a:pt x="13" y="46"/>
                    </a:lnTo>
                    <a:lnTo>
                      <a:pt x="11" y="51"/>
                    </a:lnTo>
                    <a:lnTo>
                      <a:pt x="7" y="58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49" y="172"/>
                    </a:lnTo>
                    <a:lnTo>
                      <a:pt x="56" y="175"/>
                    </a:lnTo>
                    <a:lnTo>
                      <a:pt x="62" y="177"/>
                    </a:lnTo>
                    <a:lnTo>
                      <a:pt x="68" y="179"/>
                    </a:lnTo>
                    <a:lnTo>
                      <a:pt x="73" y="180"/>
                    </a:lnTo>
                    <a:lnTo>
                      <a:pt x="78" y="184"/>
                    </a:lnTo>
                    <a:lnTo>
                      <a:pt x="85" y="184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10" y="184"/>
                    </a:lnTo>
                    <a:lnTo>
                      <a:pt x="117" y="184"/>
                    </a:lnTo>
                    <a:lnTo>
                      <a:pt x="123" y="180"/>
                    </a:lnTo>
                    <a:lnTo>
                      <a:pt x="128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7" y="172"/>
                    </a:lnTo>
                    <a:lnTo>
                      <a:pt x="159" y="166"/>
                    </a:lnTo>
                    <a:lnTo>
                      <a:pt x="167" y="158"/>
                    </a:lnTo>
                    <a:lnTo>
                      <a:pt x="175" y="148"/>
                    </a:lnTo>
                    <a:lnTo>
                      <a:pt x="182" y="138"/>
                    </a:lnTo>
                    <a:lnTo>
                      <a:pt x="188" y="127"/>
                    </a:lnTo>
                    <a:lnTo>
                      <a:pt x="192" y="115"/>
                    </a:lnTo>
                    <a:lnTo>
                      <a:pt x="195" y="105"/>
                    </a:lnTo>
                    <a:lnTo>
                      <a:pt x="197" y="92"/>
                    </a:lnTo>
                    <a:lnTo>
                      <a:pt x="195" y="80"/>
                    </a:lnTo>
                    <a:lnTo>
                      <a:pt x="192" y="68"/>
                    </a:lnTo>
                    <a:lnTo>
                      <a:pt x="188" y="58"/>
                    </a:lnTo>
                    <a:lnTo>
                      <a:pt x="182" y="46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1" y="31"/>
                    </a:lnTo>
                    <a:lnTo>
                      <a:pt x="167" y="27"/>
                    </a:lnTo>
                    <a:lnTo>
                      <a:pt x="162" y="22"/>
                    </a:lnTo>
                    <a:lnTo>
                      <a:pt x="156" y="19"/>
                    </a:lnTo>
                    <a:lnTo>
                      <a:pt x="153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84760" y="36972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4" y="2"/>
                    </a:lnTo>
                    <a:lnTo>
                      <a:pt x="73" y="3"/>
                    </a:lnTo>
                    <a:lnTo>
                      <a:pt x="60" y="7"/>
                    </a:lnTo>
                    <a:lnTo>
                      <a:pt x="49" y="12"/>
                    </a:lnTo>
                    <a:lnTo>
                      <a:pt x="37" y="19"/>
                    </a:lnTo>
                    <a:lnTo>
                      <a:pt x="28" y="27"/>
                    </a:lnTo>
                    <a:lnTo>
                      <a:pt x="19" y="36"/>
                    </a:lnTo>
                    <a:lnTo>
                      <a:pt x="11" y="46"/>
                    </a:lnTo>
                    <a:lnTo>
                      <a:pt x="9" y="53"/>
                    </a:lnTo>
                    <a:lnTo>
                      <a:pt x="7" y="57"/>
                    </a:lnTo>
                    <a:lnTo>
                      <a:pt x="4" y="63"/>
                    </a:lnTo>
                    <a:lnTo>
                      <a:pt x="2" y="68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2" y="115"/>
                    </a:lnTo>
                    <a:lnTo>
                      <a:pt x="7" y="127"/>
                    </a:lnTo>
                    <a:lnTo>
                      <a:pt x="11" y="137"/>
                    </a:lnTo>
                    <a:lnTo>
                      <a:pt x="19" y="149"/>
                    </a:lnTo>
                    <a:lnTo>
                      <a:pt x="28" y="157"/>
                    </a:lnTo>
                    <a:lnTo>
                      <a:pt x="37" y="166"/>
                    </a:lnTo>
                    <a:lnTo>
                      <a:pt x="49" y="173"/>
                    </a:lnTo>
                    <a:lnTo>
                      <a:pt x="54" y="175"/>
                    </a:lnTo>
                    <a:lnTo>
                      <a:pt x="60" y="178"/>
                    </a:lnTo>
                    <a:lnTo>
                      <a:pt x="66" y="180"/>
                    </a:lnTo>
                    <a:lnTo>
                      <a:pt x="72" y="182"/>
                    </a:lnTo>
                    <a:lnTo>
                      <a:pt x="79" y="183"/>
                    </a:lnTo>
                    <a:lnTo>
                      <a:pt x="84" y="183"/>
                    </a:lnTo>
                    <a:lnTo>
                      <a:pt x="90" y="184"/>
                    </a:lnTo>
                    <a:lnTo>
                      <a:pt x="97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3"/>
                    </a:lnTo>
                    <a:lnTo>
                      <a:pt x="121" y="182"/>
                    </a:lnTo>
                    <a:lnTo>
                      <a:pt x="129" y="180"/>
                    </a:lnTo>
                    <a:lnTo>
                      <a:pt x="133" y="178"/>
                    </a:lnTo>
                    <a:lnTo>
                      <a:pt x="139" y="175"/>
                    </a:lnTo>
                    <a:lnTo>
                      <a:pt x="145" y="173"/>
                    </a:lnTo>
                    <a:lnTo>
                      <a:pt x="157" y="166"/>
                    </a:lnTo>
                    <a:lnTo>
                      <a:pt x="166" y="157"/>
                    </a:lnTo>
                    <a:lnTo>
                      <a:pt x="174" y="149"/>
                    </a:lnTo>
                    <a:lnTo>
                      <a:pt x="182" y="137"/>
                    </a:lnTo>
                    <a:lnTo>
                      <a:pt x="188" y="127"/>
                    </a:lnTo>
                    <a:lnTo>
                      <a:pt x="190" y="115"/>
                    </a:lnTo>
                    <a:lnTo>
                      <a:pt x="194" y="104"/>
                    </a:lnTo>
                    <a:lnTo>
                      <a:pt x="195" y="93"/>
                    </a:lnTo>
                    <a:lnTo>
                      <a:pt x="194" y="81"/>
                    </a:lnTo>
                    <a:lnTo>
                      <a:pt x="190" y="68"/>
                    </a:lnTo>
                    <a:lnTo>
                      <a:pt x="188" y="57"/>
                    </a:lnTo>
                    <a:lnTo>
                      <a:pt x="182" y="46"/>
                    </a:lnTo>
                    <a:lnTo>
                      <a:pt x="178" y="41"/>
                    </a:lnTo>
                    <a:lnTo>
                      <a:pt x="174" y="36"/>
                    </a:lnTo>
                    <a:lnTo>
                      <a:pt x="171" y="31"/>
                    </a:lnTo>
                    <a:lnTo>
                      <a:pt x="165" y="27"/>
                    </a:lnTo>
                    <a:lnTo>
                      <a:pt x="161" y="23"/>
                    </a:lnTo>
                    <a:lnTo>
                      <a:pt x="157" y="19"/>
                    </a:lnTo>
                    <a:lnTo>
                      <a:pt x="151" y="15"/>
                    </a:lnTo>
                    <a:lnTo>
                      <a:pt x="145" y="12"/>
                    </a:lnTo>
                    <a:lnTo>
                      <a:pt x="132" y="7"/>
                    </a:lnTo>
                    <a:lnTo>
                      <a:pt x="121" y="3"/>
                    </a:lnTo>
                    <a:lnTo>
                      <a:pt x="108" y="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342240" y="3328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1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7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8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3" y="138"/>
                    </a:lnTo>
                    <a:lnTo>
                      <a:pt x="20" y="148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6" y="175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1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1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5"/>
                    </a:lnTo>
                    <a:lnTo>
                      <a:pt x="147" y="173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8"/>
                    </a:lnTo>
                    <a:lnTo>
                      <a:pt x="183" y="138"/>
                    </a:lnTo>
                    <a:lnTo>
                      <a:pt x="187" y="127"/>
                    </a:lnTo>
                    <a:lnTo>
                      <a:pt x="192" y="115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7"/>
                    </a:lnTo>
                    <a:lnTo>
                      <a:pt x="179" y="41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4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342240" y="30988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2"/>
                    </a:lnTo>
                    <a:lnTo>
                      <a:pt x="72" y="3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29" y="27"/>
                    </a:lnTo>
                    <a:lnTo>
                      <a:pt x="20" y="37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7" y="58"/>
                    </a:lnTo>
                    <a:lnTo>
                      <a:pt x="5" y="63"/>
                    </a:lnTo>
                    <a:lnTo>
                      <a:pt x="4" y="69"/>
                    </a:lnTo>
                    <a:lnTo>
                      <a:pt x="1" y="76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3" y="138"/>
                    </a:lnTo>
                    <a:lnTo>
                      <a:pt x="20" y="149"/>
                    </a:lnTo>
                    <a:lnTo>
                      <a:pt x="29" y="158"/>
                    </a:lnTo>
                    <a:lnTo>
                      <a:pt x="39" y="166"/>
                    </a:lnTo>
                    <a:lnTo>
                      <a:pt x="50" y="172"/>
                    </a:lnTo>
                    <a:lnTo>
                      <a:pt x="56" y="176"/>
                    </a:lnTo>
                    <a:lnTo>
                      <a:pt x="62" y="178"/>
                    </a:lnTo>
                    <a:lnTo>
                      <a:pt x="68" y="179"/>
                    </a:lnTo>
                    <a:lnTo>
                      <a:pt x="72" y="182"/>
                    </a:lnTo>
                    <a:lnTo>
                      <a:pt x="78" y="184"/>
                    </a:lnTo>
                    <a:lnTo>
                      <a:pt x="85" y="185"/>
                    </a:lnTo>
                    <a:lnTo>
                      <a:pt x="91" y="185"/>
                    </a:lnTo>
                    <a:lnTo>
                      <a:pt x="98" y="185"/>
                    </a:lnTo>
                    <a:lnTo>
                      <a:pt x="104" y="185"/>
                    </a:lnTo>
                    <a:lnTo>
                      <a:pt x="109" y="185"/>
                    </a:lnTo>
                    <a:lnTo>
                      <a:pt x="116" y="184"/>
                    </a:lnTo>
                    <a:lnTo>
                      <a:pt x="122" y="182"/>
                    </a:lnTo>
                    <a:lnTo>
                      <a:pt x="128" y="179"/>
                    </a:lnTo>
                    <a:lnTo>
                      <a:pt x="135" y="178"/>
                    </a:lnTo>
                    <a:lnTo>
                      <a:pt x="141" y="176"/>
                    </a:lnTo>
                    <a:lnTo>
                      <a:pt x="147" y="172"/>
                    </a:lnTo>
                    <a:lnTo>
                      <a:pt x="158" y="166"/>
                    </a:lnTo>
                    <a:lnTo>
                      <a:pt x="166" y="158"/>
                    </a:lnTo>
                    <a:lnTo>
                      <a:pt x="175" y="149"/>
                    </a:lnTo>
                    <a:lnTo>
                      <a:pt x="183" y="138"/>
                    </a:lnTo>
                    <a:lnTo>
                      <a:pt x="187" y="128"/>
                    </a:lnTo>
                    <a:lnTo>
                      <a:pt x="192" y="116"/>
                    </a:lnTo>
                    <a:lnTo>
                      <a:pt x="194" y="105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2" y="70"/>
                    </a:lnTo>
                    <a:lnTo>
                      <a:pt x="187" y="58"/>
                    </a:lnTo>
                    <a:lnTo>
                      <a:pt x="183" y="46"/>
                    </a:lnTo>
                    <a:lnTo>
                      <a:pt x="179" y="40"/>
                    </a:lnTo>
                    <a:lnTo>
                      <a:pt x="175" y="37"/>
                    </a:lnTo>
                    <a:lnTo>
                      <a:pt x="171" y="31"/>
                    </a:lnTo>
                    <a:lnTo>
                      <a:pt x="166" y="27"/>
                    </a:lnTo>
                    <a:lnTo>
                      <a:pt x="162" y="23"/>
                    </a:lnTo>
                    <a:lnTo>
                      <a:pt x="156" y="19"/>
                    </a:lnTo>
                    <a:lnTo>
                      <a:pt x="152" y="15"/>
                    </a:lnTo>
                    <a:lnTo>
                      <a:pt x="147" y="12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137040" y="2870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4">
                    <a:moveTo>
                      <a:pt x="97" y="0"/>
                    </a:moveTo>
                    <a:lnTo>
                      <a:pt x="87" y="1"/>
                    </a:lnTo>
                    <a:lnTo>
                      <a:pt x="74" y="2"/>
                    </a:lnTo>
                    <a:lnTo>
                      <a:pt x="62" y="7"/>
                    </a:lnTo>
                    <a:lnTo>
                      <a:pt x="50" y="12"/>
                    </a:lnTo>
                    <a:lnTo>
                      <a:pt x="39" y="19"/>
                    </a:lnTo>
                    <a:lnTo>
                      <a:pt x="30" y="27"/>
                    </a:lnTo>
                    <a:lnTo>
                      <a:pt x="21" y="36"/>
                    </a:lnTo>
                    <a:lnTo>
                      <a:pt x="14" y="46"/>
                    </a:lnTo>
                    <a:lnTo>
                      <a:pt x="11" y="52"/>
                    </a:lnTo>
                    <a:lnTo>
                      <a:pt x="8" y="57"/>
                    </a:lnTo>
                    <a:lnTo>
                      <a:pt x="5" y="62"/>
                    </a:lnTo>
                    <a:lnTo>
                      <a:pt x="4" y="68"/>
                    </a:lnTo>
                    <a:lnTo>
                      <a:pt x="3" y="75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103"/>
                    </a:lnTo>
                    <a:lnTo>
                      <a:pt x="4" y="115"/>
                    </a:lnTo>
                    <a:lnTo>
                      <a:pt x="7" y="127"/>
                    </a:lnTo>
                    <a:lnTo>
                      <a:pt x="14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9" y="166"/>
                    </a:lnTo>
                    <a:lnTo>
                      <a:pt x="50" y="173"/>
                    </a:lnTo>
                    <a:lnTo>
                      <a:pt x="55" y="175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1"/>
                    </a:lnTo>
                    <a:lnTo>
                      <a:pt x="79" y="183"/>
                    </a:lnTo>
                    <a:lnTo>
                      <a:pt x="85" y="183"/>
                    </a:lnTo>
                    <a:lnTo>
                      <a:pt x="92" y="184"/>
                    </a:lnTo>
                    <a:lnTo>
                      <a:pt x="97" y="184"/>
                    </a:lnTo>
                    <a:lnTo>
                      <a:pt x="104" y="184"/>
                    </a:lnTo>
                    <a:lnTo>
                      <a:pt x="110" y="183"/>
                    </a:lnTo>
                    <a:lnTo>
                      <a:pt x="117" y="183"/>
                    </a:lnTo>
                    <a:lnTo>
                      <a:pt x="123" y="181"/>
                    </a:lnTo>
                    <a:lnTo>
                      <a:pt x="129" y="179"/>
                    </a:lnTo>
                    <a:lnTo>
                      <a:pt x="135" y="177"/>
                    </a:lnTo>
                    <a:lnTo>
                      <a:pt x="141" y="175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5"/>
                    </a:lnTo>
                    <a:lnTo>
                      <a:pt x="195" y="103"/>
                    </a:lnTo>
                    <a:lnTo>
                      <a:pt x="195" y="92"/>
                    </a:lnTo>
                    <a:lnTo>
                      <a:pt x="195" y="80"/>
                    </a:lnTo>
                    <a:lnTo>
                      <a:pt x="193" y="69"/>
                    </a:lnTo>
                    <a:lnTo>
                      <a:pt x="188" y="57"/>
                    </a:lnTo>
                    <a:lnTo>
                      <a:pt x="184" y="46"/>
                    </a:lnTo>
                    <a:lnTo>
                      <a:pt x="180" y="40"/>
                    </a:lnTo>
                    <a:lnTo>
                      <a:pt x="177" y="36"/>
                    </a:lnTo>
                    <a:lnTo>
                      <a:pt x="172" y="30"/>
                    </a:lnTo>
                    <a:lnTo>
                      <a:pt x="167" y="27"/>
                    </a:lnTo>
                    <a:lnTo>
                      <a:pt x="163" y="22"/>
                    </a:lnTo>
                    <a:lnTo>
                      <a:pt x="158" y="19"/>
                    </a:lnTo>
                    <a:lnTo>
                      <a:pt x="152" y="14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2" y="2"/>
                    </a:lnTo>
                    <a:lnTo>
                      <a:pt x="110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086560" y="535140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5" y="2"/>
                    </a:lnTo>
                    <a:lnTo>
                      <a:pt x="62" y="6"/>
                    </a:lnTo>
                    <a:lnTo>
                      <a:pt x="50" y="11"/>
                    </a:lnTo>
                    <a:lnTo>
                      <a:pt x="39" y="17"/>
                    </a:lnTo>
                    <a:lnTo>
                      <a:pt x="28" y="26"/>
                    </a:lnTo>
                    <a:lnTo>
                      <a:pt x="20" y="35"/>
                    </a:lnTo>
                    <a:lnTo>
                      <a:pt x="13" y="45"/>
                    </a:lnTo>
                    <a:lnTo>
                      <a:pt x="11" y="50"/>
                    </a:lnTo>
                    <a:lnTo>
                      <a:pt x="7" y="56"/>
                    </a:lnTo>
                    <a:lnTo>
                      <a:pt x="6" y="62"/>
                    </a:lnTo>
                    <a:lnTo>
                      <a:pt x="4" y="67"/>
                    </a:lnTo>
                    <a:lnTo>
                      <a:pt x="1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4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0" y="148"/>
                    </a:lnTo>
                    <a:lnTo>
                      <a:pt x="28" y="157"/>
                    </a:lnTo>
                    <a:lnTo>
                      <a:pt x="39" y="165"/>
                    </a:lnTo>
                    <a:lnTo>
                      <a:pt x="50" y="172"/>
                    </a:lnTo>
                    <a:lnTo>
                      <a:pt x="56" y="174"/>
                    </a:lnTo>
                    <a:lnTo>
                      <a:pt x="62" y="175"/>
                    </a:lnTo>
                    <a:lnTo>
                      <a:pt x="67" y="179"/>
                    </a:lnTo>
                    <a:lnTo>
                      <a:pt x="73" y="180"/>
                    </a:lnTo>
                    <a:lnTo>
                      <a:pt x="81" y="182"/>
                    </a:lnTo>
                    <a:lnTo>
                      <a:pt x="85" y="182"/>
                    </a:lnTo>
                    <a:lnTo>
                      <a:pt x="91" y="183"/>
                    </a:lnTo>
                    <a:lnTo>
                      <a:pt x="98" y="183"/>
                    </a:lnTo>
                    <a:lnTo>
                      <a:pt x="104" y="183"/>
                    </a:lnTo>
                    <a:lnTo>
                      <a:pt x="111" y="182"/>
                    </a:lnTo>
                    <a:lnTo>
                      <a:pt x="117" y="182"/>
                    </a:lnTo>
                    <a:lnTo>
                      <a:pt x="123" y="180"/>
                    </a:lnTo>
                    <a:lnTo>
                      <a:pt x="130" y="179"/>
                    </a:lnTo>
                    <a:lnTo>
                      <a:pt x="135" y="175"/>
                    </a:lnTo>
                    <a:lnTo>
                      <a:pt x="141" y="174"/>
                    </a:lnTo>
                    <a:lnTo>
                      <a:pt x="147" y="172"/>
                    </a:lnTo>
                    <a:lnTo>
                      <a:pt x="159" y="165"/>
                    </a:lnTo>
                    <a:lnTo>
                      <a:pt x="168" y="157"/>
                    </a:lnTo>
                    <a:lnTo>
                      <a:pt x="176" y="148"/>
                    </a:lnTo>
                    <a:lnTo>
                      <a:pt x="183" y="136"/>
                    </a:lnTo>
                    <a:lnTo>
                      <a:pt x="189" y="126"/>
                    </a:lnTo>
                    <a:lnTo>
                      <a:pt x="194" y="114"/>
                    </a:lnTo>
                    <a:lnTo>
                      <a:pt x="195" y="103"/>
                    </a:lnTo>
                    <a:lnTo>
                      <a:pt x="196" y="92"/>
                    </a:lnTo>
                    <a:lnTo>
                      <a:pt x="195" y="80"/>
                    </a:lnTo>
                    <a:lnTo>
                      <a:pt x="194" y="67"/>
                    </a:lnTo>
                    <a:lnTo>
                      <a:pt x="189" y="56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5" y="35"/>
                    </a:lnTo>
                    <a:lnTo>
                      <a:pt x="173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4" y="6"/>
                    </a:lnTo>
                    <a:lnTo>
                      <a:pt x="123" y="2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318040" y="50752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5" h="183">
                    <a:moveTo>
                      <a:pt x="98" y="0"/>
                    </a:moveTo>
                    <a:lnTo>
                      <a:pt x="85" y="1"/>
                    </a:lnTo>
                    <a:lnTo>
                      <a:pt x="74" y="3"/>
                    </a:lnTo>
                    <a:lnTo>
                      <a:pt x="63" y="6"/>
                    </a:lnTo>
                    <a:lnTo>
                      <a:pt x="50" y="12"/>
                    </a:lnTo>
                    <a:lnTo>
                      <a:pt x="38" y="19"/>
                    </a:lnTo>
                    <a:lnTo>
                      <a:pt x="30" y="26"/>
                    </a:lnTo>
                    <a:lnTo>
                      <a:pt x="21" y="35"/>
                    </a:lnTo>
                    <a:lnTo>
                      <a:pt x="14" y="46"/>
                    </a:lnTo>
                    <a:lnTo>
                      <a:pt x="10" y="51"/>
                    </a:lnTo>
                    <a:lnTo>
                      <a:pt x="8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1" y="74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1" y="103"/>
                    </a:lnTo>
                    <a:lnTo>
                      <a:pt x="3" y="114"/>
                    </a:lnTo>
                    <a:lnTo>
                      <a:pt x="7" y="127"/>
                    </a:lnTo>
                    <a:lnTo>
                      <a:pt x="13" y="137"/>
                    </a:lnTo>
                    <a:lnTo>
                      <a:pt x="21" y="148"/>
                    </a:lnTo>
                    <a:lnTo>
                      <a:pt x="30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6" y="174"/>
                    </a:lnTo>
                    <a:lnTo>
                      <a:pt x="61" y="177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79" y="182"/>
                    </a:lnTo>
                    <a:lnTo>
                      <a:pt x="85" y="183"/>
                    </a:lnTo>
                    <a:lnTo>
                      <a:pt x="92" y="183"/>
                    </a:lnTo>
                    <a:lnTo>
                      <a:pt x="98" y="183"/>
                    </a:lnTo>
                    <a:lnTo>
                      <a:pt x="106" y="183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3" y="181"/>
                    </a:lnTo>
                    <a:lnTo>
                      <a:pt x="129" y="178"/>
                    </a:lnTo>
                    <a:lnTo>
                      <a:pt x="135" y="177"/>
                    </a:lnTo>
                    <a:lnTo>
                      <a:pt x="141" y="174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88" y="127"/>
                    </a:lnTo>
                    <a:lnTo>
                      <a:pt x="193" y="114"/>
                    </a:lnTo>
                    <a:lnTo>
                      <a:pt x="194" y="103"/>
                    </a:lnTo>
                    <a:lnTo>
                      <a:pt x="195" y="91"/>
                    </a:lnTo>
                    <a:lnTo>
                      <a:pt x="194" y="81"/>
                    </a:lnTo>
                    <a:lnTo>
                      <a:pt x="193" y="69"/>
                    </a:lnTo>
                    <a:lnTo>
                      <a:pt x="188" y="56"/>
                    </a:lnTo>
                    <a:lnTo>
                      <a:pt x="184" y="46"/>
                    </a:lnTo>
                    <a:lnTo>
                      <a:pt x="179" y="41"/>
                    </a:lnTo>
                    <a:lnTo>
                      <a:pt x="177" y="35"/>
                    </a:lnTo>
                    <a:lnTo>
                      <a:pt x="172" y="30"/>
                    </a:lnTo>
                    <a:lnTo>
                      <a:pt x="167" y="26"/>
                    </a:lnTo>
                    <a:lnTo>
                      <a:pt x="162" y="22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6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99560" y="4616280"/>
                <a:ext cx="94680" cy="7308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99" y="0"/>
                    </a:moveTo>
                    <a:lnTo>
                      <a:pt x="88" y="1"/>
                    </a:lnTo>
                    <a:lnTo>
                      <a:pt x="75" y="3"/>
                    </a:lnTo>
                    <a:lnTo>
                      <a:pt x="63" y="6"/>
                    </a:lnTo>
                    <a:lnTo>
                      <a:pt x="51" y="11"/>
                    </a:lnTo>
                    <a:lnTo>
                      <a:pt x="40" y="17"/>
                    </a:lnTo>
                    <a:lnTo>
                      <a:pt x="31" y="26"/>
                    </a:lnTo>
                    <a:lnTo>
                      <a:pt x="22" y="35"/>
                    </a:lnTo>
                    <a:lnTo>
                      <a:pt x="15" y="46"/>
                    </a:lnTo>
                    <a:lnTo>
                      <a:pt x="11" y="51"/>
                    </a:lnTo>
                    <a:lnTo>
                      <a:pt x="10" y="56"/>
                    </a:lnTo>
                    <a:lnTo>
                      <a:pt x="6" y="62"/>
                    </a:lnTo>
                    <a:lnTo>
                      <a:pt x="5" y="69"/>
                    </a:lnTo>
                    <a:lnTo>
                      <a:pt x="4" y="74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3" y="103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4" y="137"/>
                    </a:lnTo>
                    <a:lnTo>
                      <a:pt x="22" y="148"/>
                    </a:lnTo>
                    <a:lnTo>
                      <a:pt x="31" y="157"/>
                    </a:lnTo>
                    <a:lnTo>
                      <a:pt x="40" y="164"/>
                    </a:lnTo>
                    <a:lnTo>
                      <a:pt x="51" y="171"/>
                    </a:lnTo>
                    <a:lnTo>
                      <a:pt x="56" y="173"/>
                    </a:lnTo>
                    <a:lnTo>
                      <a:pt x="62" y="177"/>
                    </a:lnTo>
                    <a:lnTo>
                      <a:pt x="68" y="178"/>
                    </a:lnTo>
                    <a:lnTo>
                      <a:pt x="75" y="180"/>
                    </a:lnTo>
                    <a:lnTo>
                      <a:pt x="81" y="182"/>
                    </a:lnTo>
                    <a:lnTo>
                      <a:pt x="86" y="183"/>
                    </a:lnTo>
                    <a:lnTo>
                      <a:pt x="93" y="183"/>
                    </a:lnTo>
                    <a:lnTo>
                      <a:pt x="99" y="183"/>
                    </a:lnTo>
                    <a:lnTo>
                      <a:pt x="106" y="183"/>
                    </a:lnTo>
                    <a:lnTo>
                      <a:pt x="112" y="183"/>
                    </a:lnTo>
                    <a:lnTo>
                      <a:pt x="118" y="182"/>
                    </a:lnTo>
                    <a:lnTo>
                      <a:pt x="125" y="180"/>
                    </a:lnTo>
                    <a:lnTo>
                      <a:pt x="131" y="178"/>
                    </a:lnTo>
                    <a:lnTo>
                      <a:pt x="135" y="177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9" y="164"/>
                    </a:lnTo>
                    <a:lnTo>
                      <a:pt x="169" y="157"/>
                    </a:lnTo>
                    <a:lnTo>
                      <a:pt x="177" y="148"/>
                    </a:lnTo>
                    <a:lnTo>
                      <a:pt x="184" y="137"/>
                    </a:lnTo>
                    <a:lnTo>
                      <a:pt x="190" y="125"/>
                    </a:lnTo>
                    <a:lnTo>
                      <a:pt x="195" y="114"/>
                    </a:lnTo>
                    <a:lnTo>
                      <a:pt x="197" y="103"/>
                    </a:lnTo>
                    <a:lnTo>
                      <a:pt x="197" y="91"/>
                    </a:lnTo>
                    <a:lnTo>
                      <a:pt x="197" y="80"/>
                    </a:lnTo>
                    <a:lnTo>
                      <a:pt x="195" y="69"/>
                    </a:lnTo>
                    <a:lnTo>
                      <a:pt x="190" y="56"/>
                    </a:lnTo>
                    <a:lnTo>
                      <a:pt x="184" y="46"/>
                    </a:lnTo>
                    <a:lnTo>
                      <a:pt x="180" y="41"/>
                    </a:lnTo>
                    <a:lnTo>
                      <a:pt x="177" y="35"/>
                    </a:lnTo>
                    <a:lnTo>
                      <a:pt x="173" y="30"/>
                    </a:lnTo>
                    <a:lnTo>
                      <a:pt x="169" y="26"/>
                    </a:lnTo>
                    <a:lnTo>
                      <a:pt x="163" y="22"/>
                    </a:lnTo>
                    <a:lnTo>
                      <a:pt x="159" y="17"/>
                    </a:lnTo>
                    <a:lnTo>
                      <a:pt x="153" y="14"/>
                    </a:lnTo>
                    <a:lnTo>
                      <a:pt x="147" y="11"/>
                    </a:lnTo>
                    <a:lnTo>
                      <a:pt x="135" y="6"/>
                    </a:lnTo>
                    <a:lnTo>
                      <a:pt x="124" y="3"/>
                    </a:lnTo>
                    <a:lnTo>
                      <a:pt x="112" y="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55880" y="40640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2"/>
                    </a:lnTo>
                    <a:lnTo>
                      <a:pt x="74" y="3"/>
                    </a:lnTo>
                    <a:lnTo>
                      <a:pt x="62" y="7"/>
                    </a:lnTo>
                    <a:lnTo>
                      <a:pt x="49" y="12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8" y="58"/>
                    </a:lnTo>
                    <a:lnTo>
                      <a:pt x="6" y="63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0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14" y="138"/>
                    </a:lnTo>
                    <a:lnTo>
                      <a:pt x="21" y="149"/>
                    </a:lnTo>
                    <a:lnTo>
                      <a:pt x="30" y="158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55" y="176"/>
                    </a:lnTo>
                    <a:lnTo>
                      <a:pt x="61" y="177"/>
                    </a:lnTo>
                    <a:lnTo>
                      <a:pt x="68" y="179"/>
                    </a:lnTo>
                    <a:lnTo>
                      <a:pt x="74" y="180"/>
                    </a:lnTo>
                    <a:lnTo>
                      <a:pt x="80" y="184"/>
                    </a:lnTo>
                    <a:lnTo>
                      <a:pt x="85" y="184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4"/>
                    </a:lnTo>
                    <a:lnTo>
                      <a:pt x="118" y="184"/>
                    </a:lnTo>
                    <a:lnTo>
                      <a:pt x="124" y="180"/>
                    </a:lnTo>
                    <a:lnTo>
                      <a:pt x="130" y="179"/>
                    </a:lnTo>
                    <a:lnTo>
                      <a:pt x="135" y="177"/>
                    </a:lnTo>
                    <a:lnTo>
                      <a:pt x="141" y="176"/>
                    </a:lnTo>
                    <a:lnTo>
                      <a:pt x="148" y="172"/>
                    </a:lnTo>
                    <a:lnTo>
                      <a:pt x="158" y="166"/>
                    </a:lnTo>
                    <a:lnTo>
                      <a:pt x="168" y="158"/>
                    </a:lnTo>
                    <a:lnTo>
                      <a:pt x="176" y="149"/>
                    </a:lnTo>
                    <a:lnTo>
                      <a:pt x="183" y="138"/>
                    </a:lnTo>
                    <a:lnTo>
                      <a:pt x="189" y="127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2"/>
                    </a:lnTo>
                    <a:lnTo>
                      <a:pt x="196" y="80"/>
                    </a:lnTo>
                    <a:lnTo>
                      <a:pt x="194" y="69"/>
                    </a:lnTo>
                    <a:lnTo>
                      <a:pt x="189" y="58"/>
                    </a:lnTo>
                    <a:lnTo>
                      <a:pt x="183" y="45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1"/>
                    </a:lnTo>
                    <a:lnTo>
                      <a:pt x="168" y="27"/>
                    </a:lnTo>
                    <a:lnTo>
                      <a:pt x="163" y="23"/>
                    </a:lnTo>
                    <a:lnTo>
                      <a:pt x="158" y="19"/>
                    </a:lnTo>
                    <a:lnTo>
                      <a:pt x="152" y="15"/>
                    </a:lnTo>
                    <a:lnTo>
                      <a:pt x="146" y="12"/>
                    </a:lnTo>
                    <a:lnTo>
                      <a:pt x="135" y="7"/>
                    </a:lnTo>
                    <a:lnTo>
                      <a:pt x="123" y="3"/>
                    </a:lnTo>
                    <a:lnTo>
                      <a:pt x="111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366800" y="245736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7" h="185">
                    <a:moveTo>
                      <a:pt x="98" y="0"/>
                    </a:moveTo>
                    <a:lnTo>
                      <a:pt x="85" y="0"/>
                    </a:lnTo>
                    <a:lnTo>
                      <a:pt x="75" y="2"/>
                    </a:lnTo>
                    <a:lnTo>
                      <a:pt x="63" y="6"/>
                    </a:lnTo>
                    <a:lnTo>
                      <a:pt x="50" y="10"/>
                    </a:lnTo>
                    <a:lnTo>
                      <a:pt x="38" y="16"/>
                    </a:lnTo>
                    <a:lnTo>
                      <a:pt x="30" y="25"/>
                    </a:lnTo>
                    <a:lnTo>
                      <a:pt x="21" y="34"/>
                    </a:lnTo>
                    <a:lnTo>
                      <a:pt x="14" y="45"/>
                    </a:lnTo>
                    <a:lnTo>
                      <a:pt x="10" y="50"/>
                    </a:lnTo>
                    <a:lnTo>
                      <a:pt x="8" y="55"/>
                    </a:lnTo>
                    <a:lnTo>
                      <a:pt x="6" y="62"/>
                    </a:lnTo>
                    <a:lnTo>
                      <a:pt x="5" y="68"/>
                    </a:lnTo>
                    <a:lnTo>
                      <a:pt x="1" y="73"/>
                    </a:lnTo>
                    <a:lnTo>
                      <a:pt x="1" y="80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102"/>
                    </a:lnTo>
                    <a:lnTo>
                      <a:pt x="3" y="114"/>
                    </a:lnTo>
                    <a:lnTo>
                      <a:pt x="7" y="126"/>
                    </a:lnTo>
                    <a:lnTo>
                      <a:pt x="13" y="136"/>
                    </a:lnTo>
                    <a:lnTo>
                      <a:pt x="21" y="147"/>
                    </a:lnTo>
                    <a:lnTo>
                      <a:pt x="30" y="156"/>
                    </a:lnTo>
                    <a:lnTo>
                      <a:pt x="38" y="165"/>
                    </a:lnTo>
                    <a:lnTo>
                      <a:pt x="50" y="171"/>
                    </a:lnTo>
                    <a:lnTo>
                      <a:pt x="56" y="173"/>
                    </a:lnTo>
                    <a:lnTo>
                      <a:pt x="62" y="176"/>
                    </a:lnTo>
                    <a:lnTo>
                      <a:pt x="68" y="179"/>
                    </a:lnTo>
                    <a:lnTo>
                      <a:pt x="75" y="180"/>
                    </a:lnTo>
                    <a:lnTo>
                      <a:pt x="79" y="181"/>
                    </a:lnTo>
                    <a:lnTo>
                      <a:pt x="85" y="182"/>
                    </a:lnTo>
                    <a:lnTo>
                      <a:pt x="92" y="182"/>
                    </a:lnTo>
                    <a:lnTo>
                      <a:pt x="98" y="185"/>
                    </a:lnTo>
                    <a:lnTo>
                      <a:pt x="105" y="182"/>
                    </a:lnTo>
                    <a:lnTo>
                      <a:pt x="111" y="182"/>
                    </a:lnTo>
                    <a:lnTo>
                      <a:pt x="117" y="181"/>
                    </a:lnTo>
                    <a:lnTo>
                      <a:pt x="124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7" y="171"/>
                    </a:lnTo>
                    <a:lnTo>
                      <a:pt x="158" y="165"/>
                    </a:lnTo>
                    <a:lnTo>
                      <a:pt x="168" y="156"/>
                    </a:lnTo>
                    <a:lnTo>
                      <a:pt x="176" y="147"/>
                    </a:lnTo>
                    <a:lnTo>
                      <a:pt x="184" y="136"/>
                    </a:lnTo>
                    <a:lnTo>
                      <a:pt x="190" y="126"/>
                    </a:lnTo>
                    <a:lnTo>
                      <a:pt x="193" y="114"/>
                    </a:lnTo>
                    <a:lnTo>
                      <a:pt x="194" y="102"/>
                    </a:lnTo>
                    <a:lnTo>
                      <a:pt x="197" y="92"/>
                    </a:lnTo>
                    <a:lnTo>
                      <a:pt x="194" y="80"/>
                    </a:lnTo>
                    <a:lnTo>
                      <a:pt x="193" y="68"/>
                    </a:lnTo>
                    <a:lnTo>
                      <a:pt x="190" y="55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6" y="34"/>
                    </a:lnTo>
                    <a:lnTo>
                      <a:pt x="172" y="30"/>
                    </a:lnTo>
                    <a:lnTo>
                      <a:pt x="168" y="25"/>
                    </a:lnTo>
                    <a:lnTo>
                      <a:pt x="162" y="21"/>
                    </a:lnTo>
                    <a:lnTo>
                      <a:pt x="158" y="16"/>
                    </a:lnTo>
                    <a:lnTo>
                      <a:pt x="153" y="14"/>
                    </a:lnTo>
                    <a:lnTo>
                      <a:pt x="147" y="10"/>
                    </a:lnTo>
                    <a:lnTo>
                      <a:pt x="135" y="6"/>
                    </a:lnTo>
                    <a:lnTo>
                      <a:pt x="122" y="2"/>
                    </a:lnTo>
                    <a:lnTo>
                      <a:pt x="111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61600" y="2549520"/>
                <a:ext cx="96480" cy="73080"/>
              </a:xfrm>
              <a:custGeom>
                <a:avLst/>
                <a:gdLst/>
                <a:ahLst/>
                <a:rect l="l" t="t" r="r" b="b"/>
                <a:pathLst>
                  <a:path w="196" h="184">
                    <a:moveTo>
                      <a:pt x="98" y="0"/>
                    </a:moveTo>
                    <a:lnTo>
                      <a:pt x="85" y="0"/>
                    </a:lnTo>
                    <a:lnTo>
                      <a:pt x="74" y="3"/>
                    </a:lnTo>
                    <a:lnTo>
                      <a:pt x="61" y="7"/>
                    </a:lnTo>
                    <a:lnTo>
                      <a:pt x="50" y="11"/>
                    </a:lnTo>
                    <a:lnTo>
                      <a:pt x="38" y="18"/>
                    </a:lnTo>
                    <a:lnTo>
                      <a:pt x="29" y="27"/>
                    </a:lnTo>
                    <a:lnTo>
                      <a:pt x="19" y="35"/>
                    </a:lnTo>
                    <a:lnTo>
                      <a:pt x="12" y="45"/>
                    </a:lnTo>
                    <a:lnTo>
                      <a:pt x="10" y="50"/>
                    </a:lnTo>
                    <a:lnTo>
                      <a:pt x="7" y="56"/>
                    </a:lnTo>
                    <a:lnTo>
                      <a:pt x="5" y="63"/>
                    </a:lnTo>
                    <a:lnTo>
                      <a:pt x="3" y="68"/>
                    </a:lnTo>
                    <a:lnTo>
                      <a:pt x="1" y="74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103"/>
                    </a:lnTo>
                    <a:lnTo>
                      <a:pt x="3" y="115"/>
                    </a:lnTo>
                    <a:lnTo>
                      <a:pt x="7" y="125"/>
                    </a:lnTo>
                    <a:lnTo>
                      <a:pt x="12" y="137"/>
                    </a:lnTo>
                    <a:lnTo>
                      <a:pt x="19" y="148"/>
                    </a:lnTo>
                    <a:lnTo>
                      <a:pt x="29" y="157"/>
                    </a:lnTo>
                    <a:lnTo>
                      <a:pt x="38" y="164"/>
                    </a:lnTo>
                    <a:lnTo>
                      <a:pt x="50" y="171"/>
                    </a:lnTo>
                    <a:lnTo>
                      <a:pt x="55" y="173"/>
                    </a:lnTo>
                    <a:lnTo>
                      <a:pt x="61" y="176"/>
                    </a:lnTo>
                    <a:lnTo>
                      <a:pt x="67" y="179"/>
                    </a:lnTo>
                    <a:lnTo>
                      <a:pt x="72" y="180"/>
                    </a:lnTo>
                    <a:lnTo>
                      <a:pt x="80" y="182"/>
                    </a:lnTo>
                    <a:lnTo>
                      <a:pt x="85" y="183"/>
                    </a:lnTo>
                    <a:lnTo>
                      <a:pt x="90" y="184"/>
                    </a:lnTo>
                    <a:lnTo>
                      <a:pt x="98" y="184"/>
                    </a:lnTo>
                    <a:lnTo>
                      <a:pt x="103" y="184"/>
                    </a:lnTo>
                    <a:lnTo>
                      <a:pt x="110" y="183"/>
                    </a:lnTo>
                    <a:lnTo>
                      <a:pt x="116" y="182"/>
                    </a:lnTo>
                    <a:lnTo>
                      <a:pt x="122" y="180"/>
                    </a:lnTo>
                    <a:lnTo>
                      <a:pt x="129" y="179"/>
                    </a:lnTo>
                    <a:lnTo>
                      <a:pt x="135" y="176"/>
                    </a:lnTo>
                    <a:lnTo>
                      <a:pt x="141" y="173"/>
                    </a:lnTo>
                    <a:lnTo>
                      <a:pt x="146" y="171"/>
                    </a:lnTo>
                    <a:lnTo>
                      <a:pt x="158" y="164"/>
                    </a:lnTo>
                    <a:lnTo>
                      <a:pt x="167" y="157"/>
                    </a:lnTo>
                    <a:lnTo>
                      <a:pt x="174" y="148"/>
                    </a:lnTo>
                    <a:lnTo>
                      <a:pt x="184" y="137"/>
                    </a:lnTo>
                    <a:lnTo>
                      <a:pt x="188" y="125"/>
                    </a:lnTo>
                    <a:lnTo>
                      <a:pt x="192" y="115"/>
                    </a:lnTo>
                    <a:lnTo>
                      <a:pt x="194" y="103"/>
                    </a:lnTo>
                    <a:lnTo>
                      <a:pt x="196" y="92"/>
                    </a:lnTo>
                    <a:lnTo>
                      <a:pt x="194" y="81"/>
                    </a:lnTo>
                    <a:lnTo>
                      <a:pt x="192" y="68"/>
                    </a:lnTo>
                    <a:lnTo>
                      <a:pt x="188" y="57"/>
                    </a:lnTo>
                    <a:lnTo>
                      <a:pt x="184" y="45"/>
                    </a:lnTo>
                    <a:lnTo>
                      <a:pt x="179" y="40"/>
                    </a:lnTo>
                    <a:lnTo>
                      <a:pt x="174" y="35"/>
                    </a:lnTo>
                    <a:lnTo>
                      <a:pt x="171" y="30"/>
                    </a:lnTo>
                    <a:lnTo>
                      <a:pt x="166" y="25"/>
                    </a:lnTo>
                    <a:lnTo>
                      <a:pt x="162" y="21"/>
                    </a:lnTo>
                    <a:lnTo>
                      <a:pt x="158" y="18"/>
                    </a:lnTo>
                    <a:lnTo>
                      <a:pt x="152" y="15"/>
                    </a:lnTo>
                    <a:lnTo>
                      <a:pt x="146" y="11"/>
                    </a:lnTo>
                    <a:lnTo>
                      <a:pt x="134" y="7"/>
                    </a:lnTo>
                    <a:lnTo>
                      <a:pt x="122" y="3"/>
                    </a:lnTo>
                    <a:lnTo>
                      <a:pt x="109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55880" y="392580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196" h="185">
                    <a:moveTo>
                      <a:pt x="98" y="0"/>
                    </a:moveTo>
                    <a:lnTo>
                      <a:pt x="87" y="3"/>
                    </a:lnTo>
                    <a:lnTo>
                      <a:pt x="74" y="4"/>
                    </a:lnTo>
                    <a:lnTo>
                      <a:pt x="62" y="7"/>
                    </a:lnTo>
                    <a:lnTo>
                      <a:pt x="49" y="13"/>
                    </a:lnTo>
                    <a:lnTo>
                      <a:pt x="40" y="19"/>
                    </a:lnTo>
                    <a:lnTo>
                      <a:pt x="30" y="27"/>
                    </a:lnTo>
                    <a:lnTo>
                      <a:pt x="21" y="37"/>
                    </a:lnTo>
                    <a:lnTo>
                      <a:pt x="14" y="46"/>
                    </a:lnTo>
                    <a:lnTo>
                      <a:pt x="12" y="53"/>
                    </a:lnTo>
                    <a:lnTo>
                      <a:pt x="8" y="58"/>
                    </a:lnTo>
                    <a:lnTo>
                      <a:pt x="6" y="64"/>
                    </a:lnTo>
                    <a:lnTo>
                      <a:pt x="4" y="69"/>
                    </a:lnTo>
                    <a:lnTo>
                      <a:pt x="3" y="76"/>
                    </a:lnTo>
                    <a:lnTo>
                      <a:pt x="1" y="81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105"/>
                    </a:lnTo>
                    <a:lnTo>
                      <a:pt x="4" y="116"/>
                    </a:lnTo>
                    <a:lnTo>
                      <a:pt x="7" y="128"/>
                    </a:lnTo>
                    <a:lnTo>
                      <a:pt x="14" y="138"/>
                    </a:lnTo>
                    <a:lnTo>
                      <a:pt x="21" y="150"/>
                    </a:lnTo>
                    <a:lnTo>
                      <a:pt x="30" y="159"/>
                    </a:lnTo>
                    <a:lnTo>
                      <a:pt x="40" y="166"/>
                    </a:lnTo>
                    <a:lnTo>
                      <a:pt x="49" y="173"/>
                    </a:lnTo>
                    <a:lnTo>
                      <a:pt x="55" y="176"/>
                    </a:lnTo>
                    <a:lnTo>
                      <a:pt x="61" y="179"/>
                    </a:lnTo>
                    <a:lnTo>
                      <a:pt x="68" y="180"/>
                    </a:lnTo>
                    <a:lnTo>
                      <a:pt x="74" y="183"/>
                    </a:lnTo>
                    <a:lnTo>
                      <a:pt x="80" y="184"/>
                    </a:lnTo>
                    <a:lnTo>
                      <a:pt x="85" y="185"/>
                    </a:lnTo>
                    <a:lnTo>
                      <a:pt x="92" y="185"/>
                    </a:lnTo>
                    <a:lnTo>
                      <a:pt x="98" y="185"/>
                    </a:lnTo>
                    <a:lnTo>
                      <a:pt x="105" y="185"/>
                    </a:lnTo>
                    <a:lnTo>
                      <a:pt x="111" y="185"/>
                    </a:lnTo>
                    <a:lnTo>
                      <a:pt x="118" y="184"/>
                    </a:lnTo>
                    <a:lnTo>
                      <a:pt x="124" y="183"/>
                    </a:lnTo>
                    <a:lnTo>
                      <a:pt x="130" y="180"/>
                    </a:lnTo>
                    <a:lnTo>
                      <a:pt x="135" y="179"/>
                    </a:lnTo>
                    <a:lnTo>
                      <a:pt x="141" y="176"/>
                    </a:lnTo>
                    <a:lnTo>
                      <a:pt x="148" y="173"/>
                    </a:lnTo>
                    <a:lnTo>
                      <a:pt x="158" y="166"/>
                    </a:lnTo>
                    <a:lnTo>
                      <a:pt x="168" y="159"/>
                    </a:lnTo>
                    <a:lnTo>
                      <a:pt x="176" y="150"/>
                    </a:lnTo>
                    <a:lnTo>
                      <a:pt x="183" y="138"/>
                    </a:lnTo>
                    <a:lnTo>
                      <a:pt x="189" y="128"/>
                    </a:lnTo>
                    <a:lnTo>
                      <a:pt x="194" y="116"/>
                    </a:lnTo>
                    <a:lnTo>
                      <a:pt x="196" y="105"/>
                    </a:lnTo>
                    <a:lnTo>
                      <a:pt x="196" y="93"/>
                    </a:lnTo>
                    <a:lnTo>
                      <a:pt x="196" y="81"/>
                    </a:lnTo>
                    <a:lnTo>
                      <a:pt x="194" y="71"/>
                    </a:lnTo>
                    <a:lnTo>
                      <a:pt x="189" y="58"/>
                    </a:lnTo>
                    <a:lnTo>
                      <a:pt x="183" y="46"/>
                    </a:lnTo>
                    <a:lnTo>
                      <a:pt x="180" y="40"/>
                    </a:lnTo>
                    <a:lnTo>
                      <a:pt x="176" y="37"/>
                    </a:lnTo>
                    <a:lnTo>
                      <a:pt x="172" y="32"/>
                    </a:lnTo>
                    <a:lnTo>
                      <a:pt x="168" y="27"/>
                    </a:lnTo>
                    <a:lnTo>
                      <a:pt x="163" y="24"/>
                    </a:lnTo>
                    <a:lnTo>
                      <a:pt x="158" y="19"/>
                    </a:lnTo>
                    <a:lnTo>
                      <a:pt x="152" y="16"/>
                    </a:lnTo>
                    <a:lnTo>
                      <a:pt x="146" y="13"/>
                    </a:lnTo>
                    <a:lnTo>
                      <a:pt x="135" y="7"/>
                    </a:lnTo>
                    <a:lnTo>
                      <a:pt x="123" y="4"/>
                    </a:lnTo>
                    <a:lnTo>
                      <a:pt x="111" y="3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748320" y="3784680"/>
                <a:ext cx="19188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8900000">
                <a:off x="4520880" y="189072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8900000">
                <a:off x="4554360" y="1863360"/>
                <a:ext cx="40320" cy="167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6200000">
                <a:off x="-248760" y="3427560"/>
                <a:ext cx="290700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Mining Rock Mass Rating , MR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064600" y="6265800"/>
                <a:ext cx="3731760" cy="33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Hydraulic radius of the undercut area, </a:t>
                </a:r>
                <a:r>
                  <a:rPr b="0" i="1" lang="en-US" sz="1400" spc="-1" strike="noStrike">
                    <a:solidFill>
                      <a:srgbClr val="ffff66"/>
                    </a:solidFill>
                    <a:latin typeface="Arial"/>
                  </a:rPr>
                  <a:t>H</a:t>
                </a:r>
                <a:r>
                  <a:rPr b="0" i="1" lang="en-US" sz="1400" spc="-1" strike="noStrike" baseline="-25000">
                    <a:solidFill>
                      <a:srgbClr val="ffff66"/>
                    </a:solidFill>
                    <a:latin typeface="Arial"/>
                  </a:rPr>
                  <a:t>R</a:t>
                </a: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 (m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371480" y="5014800"/>
                <a:ext cx="11728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Caving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977120" y="1557360"/>
                <a:ext cx="112392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Stable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9131600">
                <a:off x="3492720" y="2023200"/>
                <a:ext cx="1540080" cy="30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Transitional z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012920" y="3359160"/>
                <a:ext cx="125532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INCA OESTE SE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974760" y="3719520"/>
                <a:ext cx="95796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NORTHPARK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8696600">
                <a:off x="2544840" y="4074840"/>
                <a:ext cx="1328400" cy="33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EL TENIENTE”S CURV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66"/>
                    </a:solidFill>
                    <a:latin typeface="Arial"/>
                  </a:rPr>
                  <a:t>(PRIMARY OR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 de Mathews para Estimar Ca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wdesl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990720" y="990720"/>
            <a:ext cx="7583400" cy="5472720"/>
            <a:chOff x="990720" y="990720"/>
            <a:chExt cx="7583400" cy="5472720"/>
          </a:xfrm>
        </p:grpSpPr>
        <p:pic>
          <p:nvPicPr>
            <p:cNvPr id="1800" name="" descr=""/>
            <p:cNvPicPr/>
            <p:nvPr/>
          </p:nvPicPr>
          <p:blipFill>
            <a:blip r:embed="rId1"/>
            <a:stretch/>
          </p:blipFill>
          <p:spPr>
            <a:xfrm>
              <a:off x="990720" y="990720"/>
              <a:ext cx="7583400" cy="54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3497040" y="6156360"/>
              <a:ext cx="398304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hape Factor, S or Hydraulic Radius (in metr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200000">
              <a:off x="317160" y="3256920"/>
              <a:ext cx="17182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Arial"/>
                </a:rPr>
                <a:t>Stability Number,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 Numérico Para Estimar Hund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2169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n de Roca Hundida en Función del Tiempo y el Radio Hidraú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846840" cy="529272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228600" y="3429000"/>
            <a:ext cx="2590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La velocidad de Hundimiento o Propagación del hundimiento aumenta en altu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1"/>
          <a:srcRect l="0" t="0" r="1349" b="1181"/>
          <a:stretch/>
        </p:blipFill>
        <p:spPr>
          <a:xfrm>
            <a:off x="1295280" y="1447920"/>
            <a:ext cx="61722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ción de Hundibilidad a partir de TDRs Instalados en DOZ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. Szwedzic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Velocidad de hundimiento para diferentes tipos de r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rble 0.25 to 1.10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gnetite skarn 0.15 to 0.95 m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forterite skarn 0.08 to 0.30 m per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519800" cy="394956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4997880" y="1600200"/>
            <a:ext cx="320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azón de Hund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7080" y="11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ing propagation factor (CPF) (Flores,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1"/>
          <a:stretch/>
        </p:blipFill>
        <p:spPr>
          <a:xfrm>
            <a:off x="155520" y="1317600"/>
            <a:ext cx="5465880" cy="138744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2"/>
          <a:stretch/>
        </p:blipFill>
        <p:spPr>
          <a:xfrm>
            <a:off x="152280" y="2825640"/>
            <a:ext cx="5454720" cy="1433520"/>
          </a:xfrm>
          <a:prstGeom prst="rect">
            <a:avLst/>
          </a:prstGeom>
          <a:ln w="0">
            <a:noFill/>
          </a:ln>
        </p:spPr>
      </p:pic>
      <p:pic>
        <p:nvPicPr>
          <p:cNvPr id="1818" name="" descr=""/>
          <p:cNvPicPr/>
          <p:nvPr/>
        </p:nvPicPr>
        <p:blipFill>
          <a:blip r:embed="rId3"/>
          <a:stretch/>
        </p:blipFill>
        <p:spPr>
          <a:xfrm>
            <a:off x="158760" y="4533840"/>
            <a:ext cx="5424480" cy="14875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819" name=""/>
          <p:cNvSpPr/>
          <p:nvPr/>
        </p:nvSpPr>
        <p:spPr>
          <a:xfrm>
            <a:off x="5799240" y="3392640"/>
            <a:ext cx="303516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 y S3 se determinan de modelos numéricos, los otros parámetros de la caracterización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591160" y="4191120"/>
            <a:ext cx="211320" cy="8287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30320" y="533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Flores 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00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" descr=""/>
          <p:cNvPicPr/>
          <p:nvPr/>
        </p:nvPicPr>
        <p:blipFill>
          <a:blip r:embed="rId1"/>
          <a:stretch/>
        </p:blipFill>
        <p:spPr>
          <a:xfrm>
            <a:off x="663480" y="1263600"/>
            <a:ext cx="7840800" cy="527040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/>
          <p:nvPr/>
        </p:nvSpPr>
        <p:spPr>
          <a:xfrm>
            <a:off x="914400" y="6192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Estimación de S1 y S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Minero de Block C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1828800"/>
            <a:ext cx="8469360" cy="5029200"/>
            <a:chOff x="228600" y="1828800"/>
            <a:chExt cx="8469360" cy="50292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82880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42480" y="187452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72160" y="244188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58880" y="286200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6680" y="328500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07920" y="471096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06120" y="520344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8560" y="617076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3440" y="579204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9120" y="409932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03696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5680" y="359496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1480" y="427248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5040" y="403668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09800" y="430488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5440" y="457632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4200" y="494280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565200" y="1295280"/>
            <a:ext cx="7440480" cy="524664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F para un Determinado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94920" y="-14760"/>
            <a:ext cx="71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Ditintos Macizos Roc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334800" y="1143000"/>
            <a:ext cx="83077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47560" y="-84600"/>
            <a:ext cx="70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 para Sector Inca Salvador (Flo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1"/>
          <a:stretch/>
        </p:blipFill>
        <p:spPr>
          <a:xfrm>
            <a:off x="1308240" y="1166760"/>
            <a:ext cx="6527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ustración de Hundimiento y su conección con un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787320" y="1160640"/>
            <a:ext cx="1738440" cy="2512800"/>
          </a:xfrm>
          <a:prstGeom prst="rect">
            <a:avLst/>
          </a:prstGeom>
          <a:ln w="0">
            <a:noFill/>
          </a:ln>
        </p:spPr>
      </p:pic>
      <p:pic>
        <p:nvPicPr>
          <p:cNvPr id="1832" name="" descr=""/>
          <p:cNvPicPr/>
          <p:nvPr/>
        </p:nvPicPr>
        <p:blipFill>
          <a:blip r:embed="rId2"/>
          <a:stretch/>
        </p:blipFill>
        <p:spPr>
          <a:xfrm>
            <a:off x="3240000" y="1160640"/>
            <a:ext cx="1722600" cy="2514600"/>
          </a:xfrm>
          <a:prstGeom prst="rect">
            <a:avLst/>
          </a:prstGeom>
          <a:ln w="0">
            <a:noFill/>
          </a:ln>
        </p:spPr>
      </p:pic>
      <p:pic>
        <p:nvPicPr>
          <p:cNvPr id="1833" name="" descr=""/>
          <p:cNvPicPr/>
          <p:nvPr/>
        </p:nvPicPr>
        <p:blipFill>
          <a:blip r:embed="rId3"/>
          <a:stretch/>
        </p:blipFill>
        <p:spPr>
          <a:xfrm>
            <a:off x="5824440" y="1170000"/>
            <a:ext cx="1720800" cy="2503440"/>
          </a:xfrm>
          <a:prstGeom prst="rect">
            <a:avLst/>
          </a:prstGeom>
          <a:ln w="0">
            <a:noFill/>
          </a:ln>
        </p:spPr>
      </p:pic>
      <p:pic>
        <p:nvPicPr>
          <p:cNvPr id="1834" name="" descr=""/>
          <p:cNvPicPr/>
          <p:nvPr/>
        </p:nvPicPr>
        <p:blipFill>
          <a:blip r:embed="rId4"/>
          <a:stretch/>
        </p:blipFill>
        <p:spPr>
          <a:xfrm>
            <a:off x="770040" y="4051440"/>
            <a:ext cx="1757160" cy="254628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5"/>
          <a:stretch/>
        </p:blipFill>
        <p:spPr>
          <a:xfrm>
            <a:off x="3257640" y="4094280"/>
            <a:ext cx="1727280" cy="2485800"/>
          </a:xfrm>
          <a:prstGeom prst="rect">
            <a:avLst/>
          </a:prstGeom>
          <a:ln w="0">
            <a:noFill/>
          </a:ln>
        </p:spPr>
      </p:pic>
      <p:pic>
        <p:nvPicPr>
          <p:cNvPr id="1836" name="" descr=""/>
          <p:cNvPicPr/>
          <p:nvPr/>
        </p:nvPicPr>
        <p:blipFill>
          <a:blip r:embed="rId6"/>
          <a:stretch/>
        </p:blipFill>
        <p:spPr>
          <a:xfrm>
            <a:off x="5851440" y="4114800"/>
            <a:ext cx="1736640" cy="2525760"/>
          </a:xfrm>
          <a:prstGeom prst="rect">
            <a:avLst/>
          </a:prstGeom>
          <a:ln w="0">
            <a:noFill/>
          </a:ln>
        </p:spPr>
      </p:pic>
      <p:sp>
        <p:nvSpPr>
          <p:cNvPr id="1837" name=""/>
          <p:cNvSpPr/>
          <p:nvPr/>
        </p:nvSpPr>
        <p:spPr>
          <a:xfrm>
            <a:off x="977400" y="368388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66"/>
                </a:solidFill>
                <a:latin typeface="Arial"/>
              </a:rPr>
              <a:t>CAVING INITIATION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003480" y="37188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594040" y="370620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AVING WITHOUT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17600" y="6644520"/>
            <a:ext cx="23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CONNECTION TO THE PIT BOT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261600" y="66412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TRANSITIONAL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780880" y="668268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STEADY-STATE  CA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048360" y="428760"/>
            <a:ext cx="26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(Flores &amp; Karzulovic 2003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isticas del 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ét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tilizado por las minas subterráneas más grande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ta producción: 5,000 to 45,000 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menor costo de producción por tone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elente productividad por persona y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puede automat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ee una bajo grado de sel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 requiere de una fuerza de trabajo con conocimiento de las labores subterrá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estéril de techo debe ser hun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ductividad 12000 a 48000 t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lución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ción 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sto 2.1-5$/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Block Caving relev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contrast="-28000"/>
          </a:blip>
          <a:srcRect l="2343" t="13333" r="11716" b="13333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990720" y="5334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Sal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562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An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79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El T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Bingham Can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38080" y="4952880"/>
            <a:ext cx="1218960" cy="276480"/>
            <a:chOff x="838080" y="4952880"/>
            <a:chExt cx="1218960" cy="276480"/>
          </a:xfrm>
        </p:grpSpPr>
        <p:sp>
          <p:nvSpPr>
            <p:cNvPr id="82" name=""/>
            <p:cNvSpPr/>
            <p:nvPr/>
          </p:nvSpPr>
          <p:spPr>
            <a:xfrm>
              <a:off x="838080" y="49528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Chuquicam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4760" y="50292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905120" y="54100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590920"/>
            <a:ext cx="15264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5867280"/>
            <a:ext cx="15228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77120" y="4191120"/>
            <a:ext cx="1218960" cy="380880"/>
            <a:chOff x="6477120" y="4191120"/>
            <a:chExt cx="1218960" cy="380880"/>
          </a:xfrm>
        </p:grpSpPr>
        <p:sp>
          <p:nvSpPr>
            <p:cNvPr id="91" name=""/>
            <p:cNvSpPr/>
            <p:nvPr/>
          </p:nvSpPr>
          <p:spPr>
            <a:xfrm>
              <a:off x="6477120" y="4191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Freeport_DO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0280" y="4419720"/>
              <a:ext cx="15192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560" y="4419720"/>
              <a:ext cx="15192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77120" y="5029200"/>
            <a:ext cx="1218960" cy="276480"/>
            <a:chOff x="6477120" y="5029200"/>
            <a:chExt cx="1218960" cy="276480"/>
          </a:xfrm>
        </p:grpSpPr>
        <p:sp>
          <p:nvSpPr>
            <p:cNvPr id="95" name=""/>
            <p:cNvSpPr/>
            <p:nvPr/>
          </p:nvSpPr>
          <p:spPr>
            <a:xfrm>
              <a:off x="6477120" y="50292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Argy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10552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648320" y="4724280"/>
            <a:ext cx="1295280" cy="459000"/>
            <a:chOff x="4648320" y="4724280"/>
            <a:chExt cx="1295280" cy="459000"/>
          </a:xfrm>
        </p:grpSpPr>
        <p:sp>
          <p:nvSpPr>
            <p:cNvPr id="98" name=""/>
            <p:cNvSpPr/>
            <p:nvPr/>
          </p:nvSpPr>
          <p:spPr>
            <a:xfrm>
              <a:off x="4724280" y="4724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Fins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4952880"/>
              <a:ext cx="15228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20120" y="5029200"/>
            <a:ext cx="1523880" cy="457200"/>
            <a:chOff x="7620120" y="5029200"/>
            <a:chExt cx="1523880" cy="457200"/>
          </a:xfrm>
        </p:grpSpPr>
        <p:sp>
          <p:nvSpPr>
            <p:cNvPr id="101" name=""/>
            <p:cNvSpPr/>
            <p:nvPr/>
          </p:nvSpPr>
          <p:spPr>
            <a:xfrm>
              <a:off x="7620120" y="5029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Northpark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05920" y="53341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553080" y="3733920"/>
            <a:ext cx="1219320" cy="380880"/>
            <a:chOff x="6553080" y="3733920"/>
            <a:chExt cx="1219320" cy="380880"/>
          </a:xfrm>
        </p:grpSpPr>
        <p:sp>
          <p:nvSpPr>
            <p:cNvPr id="104" name=""/>
            <p:cNvSpPr/>
            <p:nvPr/>
          </p:nvSpPr>
          <p:spPr>
            <a:xfrm>
              <a:off x="6553080" y="3733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Philex_Pad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96252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00600" y="5181480"/>
            <a:ext cx="1295280" cy="276480"/>
            <a:chOff x="4800600" y="5181480"/>
            <a:chExt cx="1295280" cy="276480"/>
          </a:xfrm>
        </p:grpSpPr>
        <p:sp>
          <p:nvSpPr>
            <p:cNvPr id="107" name=""/>
            <p:cNvSpPr/>
            <p:nvPr/>
          </p:nvSpPr>
          <p:spPr>
            <a:xfrm>
              <a:off x="4800600" y="52578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5181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RTZ_Palab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33920" y="5105520"/>
            <a:ext cx="1218960" cy="459000"/>
            <a:chOff x="3733920" y="5105520"/>
            <a:chExt cx="1218960" cy="459000"/>
          </a:xfrm>
        </p:grpSpPr>
        <p:sp>
          <p:nvSpPr>
            <p:cNvPr id="110" name=""/>
            <p:cNvSpPr/>
            <p:nvPr/>
          </p:nvSpPr>
          <p:spPr>
            <a:xfrm>
              <a:off x="4572000" y="5181480"/>
              <a:ext cx="152280" cy="15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51055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De Beers-Prem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19920" y="2895480"/>
            <a:ext cx="1218960" cy="276480"/>
            <a:chOff x="6019920" y="2895480"/>
            <a:chExt cx="1218960" cy="276480"/>
          </a:xfrm>
        </p:grpSpPr>
        <p:sp>
          <p:nvSpPr>
            <p:cNvPr id="113" name=""/>
            <p:cNvSpPr/>
            <p:nvPr/>
          </p:nvSpPr>
          <p:spPr>
            <a:xfrm>
              <a:off x="6019920" y="289548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IVANHO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2971440"/>
              <a:ext cx="151920" cy="152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00600" y="6324480"/>
            <a:ext cx="1371600" cy="276480"/>
            <a:chOff x="4800600" y="6324480"/>
            <a:chExt cx="1371600" cy="276480"/>
          </a:xfrm>
        </p:grpSpPr>
        <p:sp>
          <p:nvSpPr>
            <p:cNvPr id="116" name=""/>
            <p:cNvSpPr/>
            <p:nvPr/>
          </p:nvSpPr>
          <p:spPr>
            <a:xfrm>
              <a:off x="4952880" y="63244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New M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600" y="6400800"/>
              <a:ext cx="152280" cy="152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00600" y="6583320"/>
            <a:ext cx="2362320" cy="276480"/>
            <a:chOff x="4800600" y="6583320"/>
            <a:chExt cx="2362320" cy="276480"/>
          </a:xfrm>
        </p:grpSpPr>
        <p:sp>
          <p:nvSpPr>
            <p:cNvPr id="119" name=""/>
            <p:cNvSpPr/>
            <p:nvPr/>
          </p:nvSpPr>
          <p:spPr>
            <a:xfrm>
              <a:off x="4876920" y="65833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4d4d4d"/>
                  </a:solidFill>
                  <a:latin typeface="Arial"/>
                </a:rPr>
                <a:t>Mines in operations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66294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38080" y="3048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048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unos Ind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44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daily production rates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large undergroun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2200" y="522144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2200" y="47242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42274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2200" y="37288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2200" y="323208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2200" y="27352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2200" y="2238480"/>
            <a:ext cx="717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22200" y="1741320"/>
            <a:ext cx="717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2200" y="1741320"/>
            <a:ext cx="7174080" cy="39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22200" y="1741320"/>
            <a:ext cx="1800" cy="397692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71440" y="57182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1440" y="522144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1440" y="47242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71440" y="42274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1440" y="37288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71440" y="323208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71440" y="27352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71440" y="2238480"/>
            <a:ext cx="5076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71440" y="1741320"/>
            <a:ext cx="5076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5718240"/>
            <a:ext cx="717408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2220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193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16080" y="5718240"/>
            <a:ext cx="180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132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9960" y="5718240"/>
            <a:ext cx="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0564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0240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9952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396280" y="5718240"/>
            <a:ext cx="1440" cy="55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38960" y="524340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1"/>
                </a:lnTo>
                <a:lnTo>
                  <a:pt x="60" y="121"/>
                </a:lnTo>
                <a:lnTo>
                  <a:pt x="0" y="61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83240" y="5372280"/>
            <a:ext cx="604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51703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73960" y="4878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18240" y="464652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61"/>
                </a:lnTo>
                <a:lnTo>
                  <a:pt x="61" y="121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62880" y="46944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7160" y="4883040"/>
            <a:ext cx="604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12160" y="3884760"/>
            <a:ext cx="58680" cy="633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1520" y="5189400"/>
            <a:ext cx="6012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760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71880" y="518940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2200" y="4616280"/>
            <a:ext cx="6012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454176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72200" y="460368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271840" y="4605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2080" y="46371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271840" y="4637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302080" y="46054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600" y="56228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214680" y="56224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3480" y="5656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14680" y="5656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243480" y="56224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594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257880" y="5459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88120" y="5491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57880" y="5491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288120" y="5459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2520" y="536256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303960" y="536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34200" y="539424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03960" y="539424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34200" y="5362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8240" y="50896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349680" y="5089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8480" y="5121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49680" y="5121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8480" y="5089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928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39288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2312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92880" y="50468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23120" y="501444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716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438600" y="489060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7400" y="4923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38600" y="4923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67400" y="489060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3240" y="485316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83240" y="4853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2040" y="4884840"/>
            <a:ext cx="316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483240" y="488484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512040" y="485316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26080" y="484020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527880" y="48420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812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527880" y="48736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55812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72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5736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02400" y="49100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5736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02400" y="48783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18240" y="49021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618240" y="490176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48480" y="49356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18240" y="49356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48480" y="490176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488952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662520" y="489060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2760" y="4923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62520" y="492300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92760" y="489060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7160" y="48783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706800" y="48783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5600" y="491004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06800" y="4910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35600" y="4878360"/>
            <a:ext cx="320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5840" y="566244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627280" y="566208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7520" y="5695920"/>
            <a:ext cx="284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27280" y="5695920"/>
            <a:ext cx="3024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57520" y="566208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7520" y="5662080"/>
            <a:ext cx="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7520" y="5695920"/>
            <a:ext cx="0" cy="316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1920" y="5637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671560" y="56372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1800" y="56689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71560" y="56689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01800" y="563724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01800" y="56372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1800" y="56689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16200" y="5629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716200" y="56293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6440" y="5661000"/>
            <a:ext cx="28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16200" y="5661000"/>
            <a:ext cx="302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746440" y="56293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6440" y="562932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6440" y="5661000"/>
            <a:ext cx="1440" cy="334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60840" y="5610240"/>
            <a:ext cx="6156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76048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90720" y="5643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60480" y="564372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90720" y="5611320"/>
            <a:ext cx="302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90720" y="561132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720" y="5643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06560" y="560088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806560" y="56008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35360" y="5632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06560" y="56325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35360" y="5600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835360" y="5600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35360" y="5632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9400" y="5572080"/>
            <a:ext cx="637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851200" y="557388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81440" y="56055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851200" y="560556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81440" y="557388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81440" y="55738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81440" y="56055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5627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896920" y="556272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5720" y="559440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6920" y="559440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25720" y="5562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25720" y="55627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25720" y="55944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40120" y="5611680"/>
            <a:ext cx="601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41560" y="561132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0360" y="5643720"/>
            <a:ext cx="2988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941560" y="5643720"/>
            <a:ext cx="2880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970360" y="561132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70360" y="5611320"/>
            <a:ext cx="1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0360" y="5643720"/>
            <a:ext cx="1440" cy="331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4400" y="554688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984400" y="554832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16080" y="558000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84400" y="5580000"/>
            <a:ext cx="316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16080" y="554832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016080" y="554832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16080" y="558000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0480" y="5640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030480" y="564048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67216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30480" y="56721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059280" y="564048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59280" y="564048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5672160"/>
            <a:ext cx="1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75120" y="550548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076200" y="5506560"/>
            <a:ext cx="2844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05000" y="553896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76200" y="553896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105000" y="550656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05000" y="550656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05000" y="553896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19400" y="5443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120840" y="5444640"/>
            <a:ext cx="2988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51080" y="5477040"/>
            <a:ext cx="28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120840" y="5477040"/>
            <a:ext cx="2988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51080" y="5444640"/>
            <a:ext cx="28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51080" y="5444640"/>
            <a:ext cx="1800" cy="320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1080" y="5477040"/>
            <a:ext cx="180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64040" y="542124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165120" y="5423040"/>
            <a:ext cx="284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93920" y="5454720"/>
            <a:ext cx="30240" cy="31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165120" y="5068800"/>
            <a:ext cx="1316160" cy="523800"/>
            <a:chOff x="3165120" y="5068800"/>
            <a:chExt cx="1316160" cy="523800"/>
          </a:xfrm>
        </p:grpSpPr>
        <p:sp>
          <p:nvSpPr>
            <p:cNvPr id="328" name=""/>
            <p:cNvSpPr/>
            <p:nvPr/>
          </p:nvSpPr>
          <p:spPr>
            <a:xfrm flipH="1">
              <a:off x="3165120" y="545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194640" y="54223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194640" y="54223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94640" y="545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9040" y="541656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21048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4000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210480" y="5449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240000" y="5418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240000" y="5418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40000" y="5449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54760" y="5391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325440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83920" y="54226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254400" y="542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8392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8392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83920" y="54226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00120" y="53514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329976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2964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2997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329640" y="535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329640" y="5351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96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4040" y="5357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3343680" y="535788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3200" y="53910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343680" y="539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373200" y="535788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373200" y="535788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73200" y="5391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7960" y="538164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38940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1892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8940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1892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1892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1892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33680" y="543240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3434760" y="54338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4280" y="54655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434760" y="54655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464280" y="54338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464280" y="54338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4280" y="54655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79040" y="53067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3479040" y="53064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9640" y="53388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479040" y="53388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09640" y="5306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509640" y="5306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9640" y="53388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22960" y="5526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524400" y="552564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53920" y="555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524400" y="555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553920" y="55256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53920" y="552564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53920" y="5559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68320" y="53816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567960" y="538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97840" y="54147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567960" y="5414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597840" y="53830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597840" y="5383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7840" y="5414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368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3613680" y="52365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320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613680" y="5268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4320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64320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4320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57960" y="53323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65868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8856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658680" y="5365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688560" y="53334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688560" y="53334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8560" y="5365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2960" y="53546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702960" y="5356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32480" y="538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702960" y="53877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32480" y="5356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732480" y="5356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2480" y="53877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47240" y="5164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374832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7784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748320" y="5195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77840" y="5164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77840" y="5164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77840" y="5195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92600" y="5235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3792240" y="52365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23560" y="5268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3792240" y="52689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823560" y="52365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23560" y="52365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3560" y="5268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37960" y="52419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383760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712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837600" y="5275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867120" y="5243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867120" y="5243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67120" y="5275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1880" y="529884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1520" y="529848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12840" y="533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881520" y="5330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12840" y="5298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912840" y="5298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12840" y="5330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27600" y="516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392724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676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927240" y="519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956760" y="516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956760" y="516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56760" y="519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71160" y="514512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97260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0212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972600" y="5176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002120" y="5145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002120" y="5145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02120" y="5176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6880" y="50720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018320" y="5073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7840" y="5105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018320" y="510516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047840" y="5073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4047840" y="5073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7840" y="5105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0800" y="50878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406188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9176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061880" y="51210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91760" y="5089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91760" y="5089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1760" y="5121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6160" y="5137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105800" y="51386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7120" y="5170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105800" y="51703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137120" y="5138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137120" y="5138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71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51880" y="53467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4151520" y="5346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81040" y="537840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51520" y="537840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181040" y="5346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181040" y="5346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81040" y="537840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5800" y="516708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4196880" y="51688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26400" y="5200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196880" y="5200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226400" y="5168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226400" y="5168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0" y="5200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1160" y="50832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24080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7032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240800" y="5114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270320" y="5083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270320" y="5083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0320" y="5114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5080" y="51861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86520" y="51879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16040" y="5219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286520" y="5219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16040" y="51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316040" y="51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6040" y="5219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30440" y="5151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4331520" y="51508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1040" y="5184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331520" y="5184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361040" y="515088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61040" y="515088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61040" y="5184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75800" y="506880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4375800" y="50698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05320" y="51022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375800" y="51022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05320" y="50698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405320" y="50698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05320" y="5102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0080" y="50720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4420800" y="5072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50680" y="51037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420800" y="5103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450680" y="5072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450680" y="5072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50680" y="5103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465800" y="4151160"/>
            <a:ext cx="1315440" cy="1204920"/>
            <a:chOff x="4465800" y="4151160"/>
            <a:chExt cx="1315440" cy="1204920"/>
          </a:xfrm>
        </p:grpSpPr>
        <p:sp>
          <p:nvSpPr>
            <p:cNvPr id="529" name=""/>
            <p:cNvSpPr/>
            <p:nvPr/>
          </p:nvSpPr>
          <p:spPr>
            <a:xfrm>
              <a:off x="4465800" y="5168880"/>
              <a:ext cx="6156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4465800" y="5170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5320" y="52020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465800" y="52020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495320" y="5170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495320" y="51703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5320" y="52020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09720" y="528948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510800" y="52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0320" y="532116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510800" y="53211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540320" y="52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40320" y="52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40320" y="532116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4720" y="512748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455616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8568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556160" y="51591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585680" y="5127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585680" y="5127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85680" y="515916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9000" y="5010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600080" y="501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29600" y="504324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600080" y="50432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629600" y="50115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4629600" y="5011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29600" y="50432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44000" y="49975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64544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7496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645440" y="5030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674960" y="4997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74960" y="499752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74960" y="50306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9720" y="497340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4689360" y="49752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20320" y="5006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689360" y="5006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20320" y="4975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720320" y="49752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0320" y="5006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35080" y="49892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73472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6424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34720" y="5022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764240" y="4991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764240" y="4991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64240" y="5022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79000" y="496080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78008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960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8008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0960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80960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960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24360" y="50101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482400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5352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824000" y="5041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853520" y="5010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853520" y="5010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3520" y="50418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68280" y="49593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486936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9888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869360" y="49924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898880" y="495936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898880" y="4959360"/>
              <a:ext cx="108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98880" y="49924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13640" y="50925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4913640" y="50943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4240" y="51260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913640" y="512604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944240" y="5094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44240" y="5094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240" y="51260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9000" y="49608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95864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8816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958640" y="4994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988160" y="49626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988160" y="49626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88160" y="4994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02920" y="49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002920" y="493020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3520" y="4962600"/>
              <a:ext cx="2952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002920" y="4962600"/>
              <a:ext cx="302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33520" y="493020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33520" y="493020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3520" y="496260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920" y="506412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047920" y="5064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77440" y="50958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047920" y="5095800"/>
              <a:ext cx="2952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077440" y="506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77440" y="506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77440" y="50958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92200" y="485604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093280" y="4857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22800" y="48895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09328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122800" y="485712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122800" y="4857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2280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4887720"/>
              <a:ext cx="6156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513864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816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138640" y="492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168160" y="488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5168160" y="488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68160" y="492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81480" y="4821120"/>
              <a:ext cx="6264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182560" y="4821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2080" y="4852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182560" y="4852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212080" y="4821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212080" y="48211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12080" y="4852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6480" y="474804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522792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744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227920" y="47797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257440" y="4748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257440" y="4748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7440" y="477972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72200" y="45766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5271840" y="457776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1360" y="4610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271840" y="4610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301360" y="457776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301360" y="457776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01360" y="46101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5760" y="45370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531720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4672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317200" y="456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346720" y="4537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346720" y="4537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46720" y="456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1480" y="45752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361120" y="457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0640" y="46083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361120" y="4608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5390640" y="45766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390640" y="45766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90640" y="46083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05040" y="4281480"/>
              <a:ext cx="63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540648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3600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406480" y="431460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436000" y="42829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436000" y="42829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36000" y="431460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0760" y="4375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45184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136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451840" y="4408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81360" y="43747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481360" y="43747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1360" y="4408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96120" y="427968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5495760" y="42793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25280" y="4313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5495760" y="4313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525280" y="427932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525280" y="427932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5280" y="4313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9680" y="42940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54112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7064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541120" y="432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570640" y="4294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570640" y="42940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0640" y="432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85400" y="4254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5585040" y="4254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4560" y="42861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85040" y="4286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614560" y="42544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614560" y="42544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14560" y="42861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30760" y="421956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563040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5992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630400" y="42526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659920" y="4221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659920" y="42210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59920" y="42526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4680" y="4179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5675400" y="4181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05280" y="42130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675400" y="42130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705280" y="41814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705280" y="4181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5280" y="42130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18240" y="415116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5719680" y="41511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4920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719680" y="41828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749920" y="2230200"/>
            <a:ext cx="1288800" cy="2824560"/>
            <a:chOff x="5749920" y="2230200"/>
            <a:chExt cx="1288800" cy="2824560"/>
          </a:xfrm>
        </p:grpSpPr>
        <p:sp>
          <p:nvSpPr>
            <p:cNvPr id="730" name=""/>
            <p:cNvSpPr/>
            <p:nvPr/>
          </p:nvSpPr>
          <p:spPr>
            <a:xfrm flipV="1">
              <a:off x="5749920" y="4151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749920" y="41515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49920" y="4183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4320" y="407700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5765400" y="40780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94920" y="4110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765400" y="4110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794920" y="40780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794920" y="407808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94920" y="4110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10040" y="401652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810040" y="401832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40640" y="40500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810040" y="405000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84064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584064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0640" y="40500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55040" y="39866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854680" y="3986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4560" y="40183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854680" y="40183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884560" y="39866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84560" y="3986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4560" y="40183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9320" y="3800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899320" y="38008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29920" y="3832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899320" y="38325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5929920" y="3800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929920" y="3800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29920" y="38325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44680" y="34563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5944320" y="34578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73840" y="34894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4320" y="34894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973840" y="345780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973840" y="34578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73840" y="34894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8960" y="3389400"/>
              <a:ext cx="6264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598968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1956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989680" y="3422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019560" y="338904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019560" y="338904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19560" y="3422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33960" y="3448440"/>
              <a:ext cx="612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6033600" y="344988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64920" y="34815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033600" y="34815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064920" y="34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064920" y="34498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64920" y="34815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8240" y="35974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607932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0884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7932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108840" y="35971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108840" y="35971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0884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3600" y="370692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123240" y="3706560"/>
              <a:ext cx="3060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54560" y="3740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123240" y="3740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154560" y="370656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154560" y="370656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54560" y="3740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69320" y="363096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16896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9848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168960" y="36626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98480" y="3630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198480" y="36309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98480" y="36626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13240" y="350064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21432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4384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214320" y="3534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243840" y="350028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243840" y="350028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840" y="3534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58600" y="346896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625824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8776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58240" y="3502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87760" y="34700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287760" y="347004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87760" y="350244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02520" y="3333960"/>
              <a:ext cx="63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630396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3348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303960" y="3367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33480" y="3335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333480" y="3335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33480" y="3367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48240" y="328644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6349320" y="328644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79200" y="33181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349320" y="331812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379200" y="3286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379200" y="3286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79200" y="33181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93600" y="3305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6393240" y="3306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22760" y="333864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393240" y="333864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422760" y="330696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422760" y="3306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2760" y="333864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37520" y="33418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38960" y="3343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68480" y="33753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6438960" y="337536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68480" y="3343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468480" y="3343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8480" y="33753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3240" y="328464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48288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2400" y="3316680"/>
              <a:ext cx="302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48288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512400" y="3284280"/>
              <a:ext cx="302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51240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1240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27160" y="3284640"/>
              <a:ext cx="630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528240" y="3284280"/>
              <a:ext cx="2952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58120" y="33166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528240" y="3316680"/>
              <a:ext cx="2952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558120" y="328428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558120" y="3284280"/>
              <a:ext cx="108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58120" y="33166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72520" y="33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657360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0312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573600" y="3362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603120" y="332892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603120" y="3328920"/>
              <a:ext cx="144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03120" y="336276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17880" y="3306960"/>
              <a:ext cx="615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617520" y="330876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48840" y="33404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617520" y="334044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48840" y="33087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48840" y="33087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48840" y="33404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62160" y="335952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>
              <a:off x="666288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9276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662880" y="3391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692760" y="33595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692760" y="33595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92760" y="3391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07160" y="3354480"/>
              <a:ext cx="6156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706800" y="3354120"/>
              <a:ext cx="2916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36680" y="3386520"/>
              <a:ext cx="3060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706800" y="3386520"/>
              <a:ext cx="2916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36680" y="3354120"/>
              <a:ext cx="3060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736680" y="3354120"/>
              <a:ext cx="1440" cy="320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36680" y="3386520"/>
              <a:ext cx="1440" cy="33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52880" y="2516400"/>
              <a:ext cx="612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675252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204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52520" y="25498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82040" y="25182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782040" y="25182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82040" y="254988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96800" y="2454480"/>
              <a:ext cx="63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679824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776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798240" y="248796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827760" y="245628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827760" y="245628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27760" y="248796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4252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68421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7168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8421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87168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871680" y="243072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1680" y="2462400"/>
              <a:ext cx="144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8644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88752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1704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88752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91704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691704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1704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31800" y="2429280"/>
              <a:ext cx="612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931440" y="243072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62760" y="246240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931440" y="2462400"/>
              <a:ext cx="3060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962760" y="243072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962760" y="243072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62760" y="246240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77520" y="2230560"/>
              <a:ext cx="6120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97716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668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977160" y="2264040"/>
              <a:ext cx="2916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006680" y="2230200"/>
              <a:ext cx="2916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006680" y="2230200"/>
              <a:ext cx="1080" cy="334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06680" y="2264040"/>
              <a:ext cx="1080" cy="316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69320" y="4991400"/>
              <a:ext cx="5832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573960" y="5213520"/>
            <a:ext cx="58680" cy="64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07160" y="5064120"/>
            <a:ext cx="60480" cy="65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719680" y="50148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749920" y="5014440"/>
            <a:ext cx="144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49920" y="5046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5721120" y="50468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49920" y="50468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4680" y="5113440"/>
            <a:ext cx="601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154560" y="51148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54560" y="5146560"/>
            <a:ext cx="180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124320" y="5146560"/>
            <a:ext cx="2988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4560" y="5146560"/>
            <a:ext cx="2880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168960" y="45673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199200" y="45673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199200" y="45990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68960" y="459900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99200" y="459900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213600" y="484020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243480" y="48420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243480" y="487368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214680" y="48736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43480" y="48736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57880" y="4964040"/>
            <a:ext cx="61920" cy="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288120" y="49658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88120" y="4997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257880" y="499752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88120" y="499752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02520" y="4765680"/>
            <a:ext cx="6336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6334200" y="4766760"/>
            <a:ext cx="0" cy="320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334200" y="4799160"/>
            <a:ext cx="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03960" y="479916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34200" y="479916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348240" y="449280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378480" y="449280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78480" y="4524480"/>
            <a:ext cx="180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349680" y="452448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378480" y="452448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9288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423120" y="4541400"/>
            <a:ext cx="144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23120" y="457524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39288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2312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37160" y="45417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467400" y="4541400"/>
            <a:ext cx="1800" cy="334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467400" y="4575240"/>
            <a:ext cx="180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438600" y="4575240"/>
            <a:ext cx="284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67400" y="4575240"/>
            <a:ext cx="3024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48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512040" y="48420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2040" y="48736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483240" y="4873680"/>
            <a:ext cx="2880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512040" y="4873680"/>
            <a:ext cx="31680" cy="1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526080" y="4915080"/>
            <a:ext cx="63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558120" y="491652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58120" y="494820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527880" y="494820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8120" y="494820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72160" y="479124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602400" y="4791240"/>
            <a:ext cx="1440" cy="331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02400" y="48243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573600" y="48243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02400" y="48243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938840"/>
            <a:ext cx="6048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648480" y="494028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648480" y="4971960"/>
            <a:ext cx="1440" cy="31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618240" y="4971960"/>
            <a:ext cx="302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48480" y="4971960"/>
            <a:ext cx="28440" cy="18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199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243480" y="5464080"/>
            <a:ext cx="320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8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3420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37848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23120" y="5464080"/>
            <a:ext cx="30240" cy="11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67400" y="551340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12040" y="5538960"/>
            <a:ext cx="316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58120" y="5538960"/>
            <a:ext cx="29880" cy="10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602400" y="5562720"/>
            <a:ext cx="302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648480" y="5575320"/>
            <a:ext cx="28440" cy="1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10400" y="4916520"/>
            <a:ext cx="6012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168960" y="472608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5040" y="4737240"/>
            <a:ext cx="604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57880" y="473076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303960" y="465120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50040" y="456876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92880" y="4600440"/>
            <a:ext cx="60480" cy="12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38960" y="462276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83240" y="4683240"/>
            <a:ext cx="604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527880" y="4840200"/>
            <a:ext cx="6012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73960" y="4726080"/>
            <a:ext cx="58680" cy="1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618240" y="4834080"/>
            <a:ext cx="58680" cy="1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94360" y="5138640"/>
            <a:ext cx="58680" cy="6516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60" y="0"/>
                </a:moveTo>
                <a:lnTo>
                  <a:pt x="120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27880" y="484200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60"/>
                </a:lnTo>
                <a:lnTo>
                  <a:pt x="60" y="121"/>
                </a:ln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209760" y="5238720"/>
            <a:ext cx="5904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254400" y="5238720"/>
            <a:ext cx="604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00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343320" y="5238720"/>
            <a:ext cx="6012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38940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35480" y="5238720"/>
            <a:ext cx="58680" cy="63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32240" y="5646600"/>
            <a:ext cx="58680" cy="6372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0" y="0"/>
                </a:moveTo>
                <a:lnTo>
                  <a:pt x="121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556160" y="5589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780080" y="5481720"/>
            <a:ext cx="58680" cy="63360"/>
          </a:xfrm>
          <a:custGeom>
            <a:avLst/>
            <a:gdLst/>
            <a:ahLst/>
            <a:rect l="l" t="t" r="r" b="b"/>
            <a:pathLst>
              <a:path w="121" h="120">
                <a:moveTo>
                  <a:pt x="61" y="0"/>
                </a:moveTo>
                <a:lnTo>
                  <a:pt x="121" y="120"/>
                </a:lnTo>
                <a:lnTo>
                  <a:pt x="0" y="120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229360" y="5424480"/>
            <a:ext cx="56880" cy="6336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60" y="0"/>
                </a:moveTo>
                <a:lnTo>
                  <a:pt x="120" y="120"/>
                </a:lnTo>
                <a:lnTo>
                  <a:pt x="0" y="120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15040" y="494028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7880" y="4890960"/>
            <a:ext cx="58680" cy="637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18240" y="5076720"/>
            <a:ext cx="58680" cy="651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1" y="0"/>
                </a:moveTo>
                <a:lnTo>
                  <a:pt x="121" y="121"/>
                </a:lnTo>
                <a:lnTo>
                  <a:pt x="0" y="121"/>
                </a:lnTo>
                <a:lnTo>
                  <a:pt x="61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662880" y="5040360"/>
            <a:ext cx="58680" cy="633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60" y="0"/>
                </a:moveTo>
                <a:lnTo>
                  <a:pt x="121" y="121"/>
                </a:lnTo>
                <a:lnTo>
                  <a:pt x="0" y="121"/>
                </a:lnTo>
                <a:lnTo>
                  <a:pt x="6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392880" y="543708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639288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2312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392880" y="546876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423120" y="543708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572160" y="506412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6573600" y="506412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02400" y="5095800"/>
            <a:ext cx="302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573600" y="5095800"/>
            <a:ext cx="28440" cy="33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602400" y="5064120"/>
            <a:ext cx="302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53240" y="484020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6752880" y="484200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487368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752880" y="4873680"/>
            <a:ext cx="2844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781680" y="4842000"/>
            <a:ext cx="28800" cy="3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07160" y="4938840"/>
            <a:ext cx="6192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6706800" y="494028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35600" y="497196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706800" y="4971960"/>
            <a:ext cx="284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735600" y="4940280"/>
            <a:ext cx="3204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6735600" y="494028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35600" y="4971960"/>
            <a:ext cx="1800" cy="3168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76840" y="5313240"/>
            <a:ext cx="58680" cy="63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1080" y="5040360"/>
            <a:ext cx="60120" cy="633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8240" y="5535720"/>
            <a:ext cx="604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648480" y="55371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48480" y="5568840"/>
            <a:ext cx="144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6618240" y="556884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48480" y="556884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661080" y="5362560"/>
            <a:ext cx="619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6692760" y="536256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92760" y="53942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6662520" y="5394240"/>
            <a:ext cx="2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692760" y="539424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7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735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35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6706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735600" y="5370480"/>
            <a:ext cx="32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7532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781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75288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81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796080" y="5337000"/>
            <a:ext cx="6336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82776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82776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679752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2776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2160" y="5337000"/>
            <a:ext cx="619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87060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7060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841800" y="5370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7060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886440" y="5337000"/>
            <a:ext cx="6048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916680" y="5336640"/>
            <a:ext cx="180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916680" y="53704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6886440" y="5370480"/>
            <a:ext cx="30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916680" y="5370480"/>
            <a:ext cx="28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02080" y="4630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705640" y="4270320"/>
            <a:ext cx="316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4594320"/>
            <a:ext cx="2988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99200" y="473724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43480" y="4687920"/>
            <a:ext cx="320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88120" y="47084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334200" y="47926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378480" y="4668840"/>
            <a:ext cx="30240" cy="111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423120" y="4906800"/>
            <a:ext cx="3024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467400" y="5210280"/>
            <a:ext cx="3024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12040" y="5359320"/>
            <a:ext cx="31680" cy="12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558120" y="5457960"/>
            <a:ext cx="29880" cy="126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83520" y="561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9360" y="51213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9360" y="46227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39360" y="41259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39360" y="3629160"/>
            <a:ext cx="4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8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3680" y="31320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3680" y="26352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53680" y="21384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4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53680" y="1639800"/>
            <a:ext cx="5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27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92420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20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7180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61484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51196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4087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0512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201880" y="5873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80640" y="61689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rot="16200000">
            <a:off x="-324360" y="3588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Times New Roman"/>
              </a:rPr>
              <a:t>TONNES 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179480" y="3809880"/>
            <a:ext cx="89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716080" y="443556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722560" y="552780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711040" y="4753080"/>
            <a:ext cx="3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08440" y="55278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764680" y="4203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 Man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050960" y="23940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827080" y="51894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76440" y="5289480"/>
            <a:ext cx="51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09960" y="1728720"/>
            <a:ext cx="97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97520" y="1728720"/>
            <a:ext cx="7920" cy="3954600"/>
          </a:xfrm>
          <a:custGeom>
            <a:avLst/>
            <a:gdLst/>
            <a:ahLst/>
            <a:rect l="l" t="t" r="r" b="b"/>
            <a:pathLst>
              <a:path w="19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2" y="7405"/>
                </a:lnTo>
                <a:lnTo>
                  <a:pt x="3" y="7403"/>
                </a:lnTo>
                <a:lnTo>
                  <a:pt x="6" y="7400"/>
                </a:lnTo>
                <a:lnTo>
                  <a:pt x="7" y="7400"/>
                </a:lnTo>
                <a:lnTo>
                  <a:pt x="10" y="7400"/>
                </a:lnTo>
                <a:lnTo>
                  <a:pt x="12" y="7400"/>
                </a:lnTo>
                <a:lnTo>
                  <a:pt x="13" y="7400"/>
                </a:lnTo>
                <a:lnTo>
                  <a:pt x="16" y="7403"/>
                </a:lnTo>
                <a:lnTo>
                  <a:pt x="18" y="7405"/>
                </a:lnTo>
                <a:lnTo>
                  <a:pt x="19" y="7407"/>
                </a:lnTo>
                <a:lnTo>
                  <a:pt x="19" y="7408"/>
                </a:lnTo>
                <a:lnTo>
                  <a:pt x="19" y="7463"/>
                </a:lnTo>
                <a:lnTo>
                  <a:pt x="19" y="7464"/>
                </a:lnTo>
                <a:lnTo>
                  <a:pt x="18" y="7466"/>
                </a:lnTo>
                <a:lnTo>
                  <a:pt x="16" y="7469"/>
                </a:lnTo>
                <a:lnTo>
                  <a:pt x="13" y="7470"/>
                </a:lnTo>
                <a:lnTo>
                  <a:pt x="12" y="7472"/>
                </a:lnTo>
                <a:lnTo>
                  <a:pt x="10" y="7472"/>
                </a:lnTo>
                <a:lnTo>
                  <a:pt x="7" y="7472"/>
                </a:lnTo>
                <a:lnTo>
                  <a:pt x="6" y="7470"/>
                </a:lnTo>
                <a:lnTo>
                  <a:pt x="3" y="7469"/>
                </a:lnTo>
                <a:lnTo>
                  <a:pt x="2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2" y="7279"/>
                </a:lnTo>
                <a:lnTo>
                  <a:pt x="3" y="7276"/>
                </a:lnTo>
                <a:lnTo>
                  <a:pt x="6" y="7274"/>
                </a:lnTo>
                <a:lnTo>
                  <a:pt x="7" y="7273"/>
                </a:lnTo>
                <a:lnTo>
                  <a:pt x="10" y="7273"/>
                </a:lnTo>
                <a:lnTo>
                  <a:pt x="12" y="7273"/>
                </a:lnTo>
                <a:lnTo>
                  <a:pt x="13" y="7274"/>
                </a:lnTo>
                <a:lnTo>
                  <a:pt x="16" y="7276"/>
                </a:lnTo>
                <a:lnTo>
                  <a:pt x="18" y="7279"/>
                </a:lnTo>
                <a:lnTo>
                  <a:pt x="19" y="7280"/>
                </a:lnTo>
                <a:lnTo>
                  <a:pt x="19" y="7283"/>
                </a:lnTo>
                <a:lnTo>
                  <a:pt x="19" y="7336"/>
                </a:lnTo>
                <a:lnTo>
                  <a:pt x="19" y="7338"/>
                </a:lnTo>
                <a:lnTo>
                  <a:pt x="18" y="7339"/>
                </a:lnTo>
                <a:lnTo>
                  <a:pt x="16" y="7342"/>
                </a:lnTo>
                <a:lnTo>
                  <a:pt x="13" y="7345"/>
                </a:lnTo>
                <a:lnTo>
                  <a:pt x="12" y="7345"/>
                </a:lnTo>
                <a:lnTo>
                  <a:pt x="10" y="7345"/>
                </a:lnTo>
                <a:lnTo>
                  <a:pt x="7" y="7345"/>
                </a:lnTo>
                <a:lnTo>
                  <a:pt x="6" y="7345"/>
                </a:lnTo>
                <a:lnTo>
                  <a:pt x="3" y="7342"/>
                </a:lnTo>
                <a:lnTo>
                  <a:pt x="2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2" y="7153"/>
                </a:lnTo>
                <a:lnTo>
                  <a:pt x="3" y="7151"/>
                </a:lnTo>
                <a:lnTo>
                  <a:pt x="6" y="7148"/>
                </a:lnTo>
                <a:lnTo>
                  <a:pt x="7" y="7148"/>
                </a:lnTo>
                <a:lnTo>
                  <a:pt x="10" y="7148"/>
                </a:lnTo>
                <a:lnTo>
                  <a:pt x="12" y="7148"/>
                </a:lnTo>
                <a:lnTo>
                  <a:pt x="13" y="7148"/>
                </a:lnTo>
                <a:lnTo>
                  <a:pt x="16" y="7151"/>
                </a:lnTo>
                <a:lnTo>
                  <a:pt x="18" y="7153"/>
                </a:lnTo>
                <a:lnTo>
                  <a:pt x="19" y="7155"/>
                </a:lnTo>
                <a:lnTo>
                  <a:pt x="19" y="7156"/>
                </a:lnTo>
                <a:lnTo>
                  <a:pt x="19" y="7211"/>
                </a:lnTo>
                <a:lnTo>
                  <a:pt x="19" y="7212"/>
                </a:lnTo>
                <a:lnTo>
                  <a:pt x="18" y="7214"/>
                </a:lnTo>
                <a:lnTo>
                  <a:pt x="16" y="7217"/>
                </a:lnTo>
                <a:lnTo>
                  <a:pt x="13" y="7218"/>
                </a:lnTo>
                <a:lnTo>
                  <a:pt x="12" y="7220"/>
                </a:lnTo>
                <a:lnTo>
                  <a:pt x="10" y="7220"/>
                </a:lnTo>
                <a:lnTo>
                  <a:pt x="7" y="7220"/>
                </a:lnTo>
                <a:lnTo>
                  <a:pt x="6" y="7218"/>
                </a:lnTo>
                <a:lnTo>
                  <a:pt x="3" y="7217"/>
                </a:lnTo>
                <a:lnTo>
                  <a:pt x="2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2" y="7027"/>
                </a:lnTo>
                <a:lnTo>
                  <a:pt x="3" y="7024"/>
                </a:lnTo>
                <a:lnTo>
                  <a:pt x="6" y="7022"/>
                </a:lnTo>
                <a:lnTo>
                  <a:pt x="7" y="7021"/>
                </a:lnTo>
                <a:lnTo>
                  <a:pt x="10" y="7021"/>
                </a:lnTo>
                <a:lnTo>
                  <a:pt x="12" y="7021"/>
                </a:lnTo>
                <a:lnTo>
                  <a:pt x="13" y="7022"/>
                </a:lnTo>
                <a:lnTo>
                  <a:pt x="16" y="7024"/>
                </a:lnTo>
                <a:lnTo>
                  <a:pt x="18" y="7027"/>
                </a:lnTo>
                <a:lnTo>
                  <a:pt x="19" y="7028"/>
                </a:lnTo>
                <a:lnTo>
                  <a:pt x="19" y="7031"/>
                </a:lnTo>
                <a:lnTo>
                  <a:pt x="19" y="7084"/>
                </a:lnTo>
                <a:lnTo>
                  <a:pt x="19" y="7086"/>
                </a:lnTo>
                <a:lnTo>
                  <a:pt x="18" y="7087"/>
                </a:lnTo>
                <a:lnTo>
                  <a:pt x="16" y="7090"/>
                </a:lnTo>
                <a:lnTo>
                  <a:pt x="13" y="7093"/>
                </a:lnTo>
                <a:lnTo>
                  <a:pt x="12" y="7093"/>
                </a:lnTo>
                <a:lnTo>
                  <a:pt x="10" y="7093"/>
                </a:lnTo>
                <a:lnTo>
                  <a:pt x="7" y="7093"/>
                </a:lnTo>
                <a:lnTo>
                  <a:pt x="6" y="7093"/>
                </a:lnTo>
                <a:lnTo>
                  <a:pt x="3" y="7090"/>
                </a:lnTo>
                <a:lnTo>
                  <a:pt x="2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2" y="6901"/>
                </a:lnTo>
                <a:lnTo>
                  <a:pt x="3" y="6899"/>
                </a:lnTo>
                <a:lnTo>
                  <a:pt x="6" y="6896"/>
                </a:lnTo>
                <a:lnTo>
                  <a:pt x="7" y="6896"/>
                </a:lnTo>
                <a:lnTo>
                  <a:pt x="10" y="6896"/>
                </a:lnTo>
                <a:lnTo>
                  <a:pt x="12" y="6896"/>
                </a:lnTo>
                <a:lnTo>
                  <a:pt x="13" y="6896"/>
                </a:lnTo>
                <a:lnTo>
                  <a:pt x="16" y="6899"/>
                </a:lnTo>
                <a:lnTo>
                  <a:pt x="18" y="6901"/>
                </a:lnTo>
                <a:lnTo>
                  <a:pt x="19" y="6903"/>
                </a:lnTo>
                <a:lnTo>
                  <a:pt x="19" y="6904"/>
                </a:lnTo>
                <a:lnTo>
                  <a:pt x="19" y="6959"/>
                </a:lnTo>
                <a:lnTo>
                  <a:pt x="19" y="6961"/>
                </a:lnTo>
                <a:lnTo>
                  <a:pt x="18" y="6962"/>
                </a:lnTo>
                <a:lnTo>
                  <a:pt x="16" y="6965"/>
                </a:lnTo>
                <a:lnTo>
                  <a:pt x="13" y="6966"/>
                </a:lnTo>
                <a:lnTo>
                  <a:pt x="12" y="6968"/>
                </a:lnTo>
                <a:lnTo>
                  <a:pt x="10" y="6968"/>
                </a:lnTo>
                <a:lnTo>
                  <a:pt x="7" y="6968"/>
                </a:lnTo>
                <a:lnTo>
                  <a:pt x="6" y="6966"/>
                </a:lnTo>
                <a:lnTo>
                  <a:pt x="3" y="6965"/>
                </a:lnTo>
                <a:lnTo>
                  <a:pt x="2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2" y="6775"/>
                </a:lnTo>
                <a:lnTo>
                  <a:pt x="3" y="6772"/>
                </a:lnTo>
                <a:lnTo>
                  <a:pt x="6" y="6770"/>
                </a:lnTo>
                <a:lnTo>
                  <a:pt x="7" y="6769"/>
                </a:lnTo>
                <a:lnTo>
                  <a:pt x="10" y="6769"/>
                </a:lnTo>
                <a:lnTo>
                  <a:pt x="12" y="6769"/>
                </a:lnTo>
                <a:lnTo>
                  <a:pt x="13" y="6770"/>
                </a:lnTo>
                <a:lnTo>
                  <a:pt x="16" y="6772"/>
                </a:lnTo>
                <a:lnTo>
                  <a:pt x="18" y="6775"/>
                </a:lnTo>
                <a:lnTo>
                  <a:pt x="19" y="6776"/>
                </a:lnTo>
                <a:lnTo>
                  <a:pt x="19" y="6779"/>
                </a:lnTo>
                <a:lnTo>
                  <a:pt x="19" y="6832"/>
                </a:lnTo>
                <a:lnTo>
                  <a:pt x="19" y="6834"/>
                </a:lnTo>
                <a:lnTo>
                  <a:pt x="18" y="6835"/>
                </a:lnTo>
                <a:lnTo>
                  <a:pt x="16" y="6838"/>
                </a:lnTo>
                <a:lnTo>
                  <a:pt x="13" y="6841"/>
                </a:lnTo>
                <a:lnTo>
                  <a:pt x="12" y="6841"/>
                </a:lnTo>
                <a:lnTo>
                  <a:pt x="10" y="6841"/>
                </a:lnTo>
                <a:lnTo>
                  <a:pt x="7" y="6841"/>
                </a:lnTo>
                <a:lnTo>
                  <a:pt x="6" y="6841"/>
                </a:lnTo>
                <a:lnTo>
                  <a:pt x="3" y="6838"/>
                </a:lnTo>
                <a:lnTo>
                  <a:pt x="2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2" y="6650"/>
                </a:lnTo>
                <a:lnTo>
                  <a:pt x="3" y="6647"/>
                </a:lnTo>
                <a:lnTo>
                  <a:pt x="6" y="6644"/>
                </a:lnTo>
                <a:lnTo>
                  <a:pt x="7" y="6644"/>
                </a:lnTo>
                <a:lnTo>
                  <a:pt x="10" y="6644"/>
                </a:lnTo>
                <a:lnTo>
                  <a:pt x="12" y="6644"/>
                </a:lnTo>
                <a:lnTo>
                  <a:pt x="13" y="6644"/>
                </a:lnTo>
                <a:lnTo>
                  <a:pt x="16" y="6647"/>
                </a:lnTo>
                <a:lnTo>
                  <a:pt x="18" y="6650"/>
                </a:lnTo>
                <a:lnTo>
                  <a:pt x="19" y="6651"/>
                </a:lnTo>
                <a:lnTo>
                  <a:pt x="19" y="6652"/>
                </a:lnTo>
                <a:lnTo>
                  <a:pt x="19" y="6707"/>
                </a:lnTo>
                <a:lnTo>
                  <a:pt x="19" y="6709"/>
                </a:lnTo>
                <a:lnTo>
                  <a:pt x="18" y="6710"/>
                </a:lnTo>
                <a:lnTo>
                  <a:pt x="16" y="6713"/>
                </a:lnTo>
                <a:lnTo>
                  <a:pt x="13" y="6714"/>
                </a:lnTo>
                <a:lnTo>
                  <a:pt x="12" y="6716"/>
                </a:lnTo>
                <a:lnTo>
                  <a:pt x="10" y="6716"/>
                </a:lnTo>
                <a:lnTo>
                  <a:pt x="7" y="6716"/>
                </a:lnTo>
                <a:lnTo>
                  <a:pt x="6" y="6714"/>
                </a:lnTo>
                <a:lnTo>
                  <a:pt x="3" y="6713"/>
                </a:lnTo>
                <a:lnTo>
                  <a:pt x="2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2" y="6523"/>
                </a:lnTo>
                <a:lnTo>
                  <a:pt x="3" y="6520"/>
                </a:lnTo>
                <a:lnTo>
                  <a:pt x="6" y="6519"/>
                </a:lnTo>
                <a:lnTo>
                  <a:pt x="7" y="6517"/>
                </a:lnTo>
                <a:lnTo>
                  <a:pt x="10" y="6517"/>
                </a:lnTo>
                <a:lnTo>
                  <a:pt x="12" y="6517"/>
                </a:lnTo>
                <a:lnTo>
                  <a:pt x="13" y="6519"/>
                </a:lnTo>
                <a:lnTo>
                  <a:pt x="16" y="6520"/>
                </a:lnTo>
                <a:lnTo>
                  <a:pt x="18" y="6523"/>
                </a:lnTo>
                <a:lnTo>
                  <a:pt x="19" y="6524"/>
                </a:lnTo>
                <a:lnTo>
                  <a:pt x="19" y="6527"/>
                </a:lnTo>
                <a:lnTo>
                  <a:pt x="19" y="6580"/>
                </a:lnTo>
                <a:lnTo>
                  <a:pt x="19" y="6582"/>
                </a:lnTo>
                <a:lnTo>
                  <a:pt x="18" y="6583"/>
                </a:lnTo>
                <a:lnTo>
                  <a:pt x="16" y="6586"/>
                </a:lnTo>
                <a:lnTo>
                  <a:pt x="13" y="6589"/>
                </a:lnTo>
                <a:lnTo>
                  <a:pt x="12" y="6589"/>
                </a:lnTo>
                <a:lnTo>
                  <a:pt x="10" y="6589"/>
                </a:lnTo>
                <a:lnTo>
                  <a:pt x="7" y="6589"/>
                </a:lnTo>
                <a:lnTo>
                  <a:pt x="6" y="6589"/>
                </a:lnTo>
                <a:lnTo>
                  <a:pt x="3" y="6586"/>
                </a:lnTo>
                <a:lnTo>
                  <a:pt x="2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2" y="6398"/>
                </a:lnTo>
                <a:lnTo>
                  <a:pt x="3" y="6395"/>
                </a:lnTo>
                <a:lnTo>
                  <a:pt x="6" y="6392"/>
                </a:lnTo>
                <a:lnTo>
                  <a:pt x="7" y="6392"/>
                </a:lnTo>
                <a:lnTo>
                  <a:pt x="10" y="6392"/>
                </a:lnTo>
                <a:lnTo>
                  <a:pt x="12" y="6392"/>
                </a:lnTo>
                <a:lnTo>
                  <a:pt x="13" y="6392"/>
                </a:lnTo>
                <a:lnTo>
                  <a:pt x="16" y="6395"/>
                </a:lnTo>
                <a:lnTo>
                  <a:pt x="18" y="6398"/>
                </a:lnTo>
                <a:lnTo>
                  <a:pt x="19" y="6399"/>
                </a:lnTo>
                <a:lnTo>
                  <a:pt x="19" y="6400"/>
                </a:lnTo>
                <a:lnTo>
                  <a:pt x="19" y="6455"/>
                </a:lnTo>
                <a:lnTo>
                  <a:pt x="19" y="6457"/>
                </a:lnTo>
                <a:lnTo>
                  <a:pt x="18" y="6458"/>
                </a:lnTo>
                <a:lnTo>
                  <a:pt x="16" y="6461"/>
                </a:lnTo>
                <a:lnTo>
                  <a:pt x="13" y="6462"/>
                </a:lnTo>
                <a:lnTo>
                  <a:pt x="12" y="6464"/>
                </a:lnTo>
                <a:lnTo>
                  <a:pt x="10" y="6464"/>
                </a:lnTo>
                <a:lnTo>
                  <a:pt x="7" y="6464"/>
                </a:lnTo>
                <a:lnTo>
                  <a:pt x="6" y="6462"/>
                </a:lnTo>
                <a:lnTo>
                  <a:pt x="3" y="6461"/>
                </a:lnTo>
                <a:lnTo>
                  <a:pt x="2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2" y="6271"/>
                </a:lnTo>
                <a:lnTo>
                  <a:pt x="3" y="6268"/>
                </a:lnTo>
                <a:lnTo>
                  <a:pt x="6" y="6267"/>
                </a:lnTo>
                <a:lnTo>
                  <a:pt x="7" y="6265"/>
                </a:lnTo>
                <a:lnTo>
                  <a:pt x="10" y="6265"/>
                </a:lnTo>
                <a:lnTo>
                  <a:pt x="12" y="6265"/>
                </a:lnTo>
                <a:lnTo>
                  <a:pt x="13" y="6267"/>
                </a:lnTo>
                <a:lnTo>
                  <a:pt x="16" y="6268"/>
                </a:lnTo>
                <a:lnTo>
                  <a:pt x="18" y="6271"/>
                </a:lnTo>
                <a:lnTo>
                  <a:pt x="19" y="6272"/>
                </a:lnTo>
                <a:lnTo>
                  <a:pt x="19" y="6275"/>
                </a:lnTo>
                <a:lnTo>
                  <a:pt x="19" y="6328"/>
                </a:lnTo>
                <a:lnTo>
                  <a:pt x="19" y="6330"/>
                </a:lnTo>
                <a:lnTo>
                  <a:pt x="18" y="6331"/>
                </a:lnTo>
                <a:lnTo>
                  <a:pt x="16" y="6334"/>
                </a:lnTo>
                <a:lnTo>
                  <a:pt x="13" y="6337"/>
                </a:lnTo>
                <a:lnTo>
                  <a:pt x="12" y="6337"/>
                </a:lnTo>
                <a:lnTo>
                  <a:pt x="10" y="6337"/>
                </a:lnTo>
                <a:lnTo>
                  <a:pt x="7" y="6337"/>
                </a:lnTo>
                <a:lnTo>
                  <a:pt x="6" y="6337"/>
                </a:lnTo>
                <a:lnTo>
                  <a:pt x="3" y="6334"/>
                </a:lnTo>
                <a:lnTo>
                  <a:pt x="2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2" y="6146"/>
                </a:lnTo>
                <a:lnTo>
                  <a:pt x="3" y="6143"/>
                </a:lnTo>
                <a:lnTo>
                  <a:pt x="6" y="6140"/>
                </a:lnTo>
                <a:lnTo>
                  <a:pt x="7" y="6140"/>
                </a:lnTo>
                <a:lnTo>
                  <a:pt x="10" y="6140"/>
                </a:lnTo>
                <a:lnTo>
                  <a:pt x="12" y="6140"/>
                </a:lnTo>
                <a:lnTo>
                  <a:pt x="13" y="6140"/>
                </a:lnTo>
                <a:lnTo>
                  <a:pt x="16" y="6143"/>
                </a:lnTo>
                <a:lnTo>
                  <a:pt x="18" y="6146"/>
                </a:lnTo>
                <a:lnTo>
                  <a:pt x="19" y="6147"/>
                </a:lnTo>
                <a:lnTo>
                  <a:pt x="19" y="6149"/>
                </a:lnTo>
                <a:lnTo>
                  <a:pt x="19" y="6203"/>
                </a:lnTo>
                <a:lnTo>
                  <a:pt x="19" y="6205"/>
                </a:lnTo>
                <a:lnTo>
                  <a:pt x="18" y="6206"/>
                </a:lnTo>
                <a:lnTo>
                  <a:pt x="16" y="6209"/>
                </a:lnTo>
                <a:lnTo>
                  <a:pt x="13" y="6210"/>
                </a:lnTo>
                <a:lnTo>
                  <a:pt x="12" y="6212"/>
                </a:lnTo>
                <a:lnTo>
                  <a:pt x="10" y="6212"/>
                </a:lnTo>
                <a:lnTo>
                  <a:pt x="7" y="6212"/>
                </a:lnTo>
                <a:lnTo>
                  <a:pt x="6" y="6210"/>
                </a:lnTo>
                <a:lnTo>
                  <a:pt x="3" y="6209"/>
                </a:lnTo>
                <a:lnTo>
                  <a:pt x="2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2" y="6019"/>
                </a:lnTo>
                <a:lnTo>
                  <a:pt x="3" y="6016"/>
                </a:lnTo>
                <a:lnTo>
                  <a:pt x="6" y="6015"/>
                </a:lnTo>
                <a:lnTo>
                  <a:pt x="7" y="6013"/>
                </a:lnTo>
                <a:lnTo>
                  <a:pt x="10" y="6013"/>
                </a:lnTo>
                <a:lnTo>
                  <a:pt x="12" y="6013"/>
                </a:lnTo>
                <a:lnTo>
                  <a:pt x="13" y="6015"/>
                </a:lnTo>
                <a:lnTo>
                  <a:pt x="16" y="6016"/>
                </a:lnTo>
                <a:lnTo>
                  <a:pt x="18" y="6019"/>
                </a:lnTo>
                <a:lnTo>
                  <a:pt x="19" y="6020"/>
                </a:lnTo>
                <a:lnTo>
                  <a:pt x="19" y="6023"/>
                </a:lnTo>
                <a:lnTo>
                  <a:pt x="19" y="6077"/>
                </a:lnTo>
                <a:lnTo>
                  <a:pt x="19" y="6078"/>
                </a:lnTo>
                <a:lnTo>
                  <a:pt x="18" y="6079"/>
                </a:lnTo>
                <a:lnTo>
                  <a:pt x="16" y="6082"/>
                </a:lnTo>
                <a:lnTo>
                  <a:pt x="13" y="6085"/>
                </a:lnTo>
                <a:lnTo>
                  <a:pt x="12" y="6085"/>
                </a:lnTo>
                <a:lnTo>
                  <a:pt x="10" y="6085"/>
                </a:lnTo>
                <a:lnTo>
                  <a:pt x="7" y="6085"/>
                </a:lnTo>
                <a:lnTo>
                  <a:pt x="6" y="6085"/>
                </a:lnTo>
                <a:lnTo>
                  <a:pt x="3" y="6082"/>
                </a:lnTo>
                <a:lnTo>
                  <a:pt x="2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2" y="5894"/>
                </a:lnTo>
                <a:lnTo>
                  <a:pt x="3" y="5891"/>
                </a:lnTo>
                <a:lnTo>
                  <a:pt x="6" y="5888"/>
                </a:lnTo>
                <a:lnTo>
                  <a:pt x="7" y="5888"/>
                </a:lnTo>
                <a:lnTo>
                  <a:pt x="10" y="5888"/>
                </a:lnTo>
                <a:lnTo>
                  <a:pt x="12" y="5888"/>
                </a:lnTo>
                <a:lnTo>
                  <a:pt x="13" y="5888"/>
                </a:lnTo>
                <a:lnTo>
                  <a:pt x="16" y="5891"/>
                </a:lnTo>
                <a:lnTo>
                  <a:pt x="18" y="5894"/>
                </a:lnTo>
                <a:lnTo>
                  <a:pt x="19" y="5895"/>
                </a:lnTo>
                <a:lnTo>
                  <a:pt x="19" y="5897"/>
                </a:lnTo>
                <a:lnTo>
                  <a:pt x="19" y="5951"/>
                </a:lnTo>
                <a:lnTo>
                  <a:pt x="19" y="5953"/>
                </a:lnTo>
                <a:lnTo>
                  <a:pt x="18" y="5954"/>
                </a:lnTo>
                <a:lnTo>
                  <a:pt x="16" y="5957"/>
                </a:lnTo>
                <a:lnTo>
                  <a:pt x="13" y="5958"/>
                </a:lnTo>
                <a:lnTo>
                  <a:pt x="12" y="5960"/>
                </a:lnTo>
                <a:lnTo>
                  <a:pt x="10" y="5960"/>
                </a:lnTo>
                <a:lnTo>
                  <a:pt x="7" y="5960"/>
                </a:lnTo>
                <a:lnTo>
                  <a:pt x="6" y="5958"/>
                </a:lnTo>
                <a:lnTo>
                  <a:pt x="3" y="5957"/>
                </a:lnTo>
                <a:lnTo>
                  <a:pt x="2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2" y="5767"/>
                </a:lnTo>
                <a:lnTo>
                  <a:pt x="3" y="5764"/>
                </a:lnTo>
                <a:lnTo>
                  <a:pt x="6" y="5763"/>
                </a:lnTo>
                <a:lnTo>
                  <a:pt x="7" y="5761"/>
                </a:lnTo>
                <a:lnTo>
                  <a:pt x="10" y="5761"/>
                </a:lnTo>
                <a:lnTo>
                  <a:pt x="12" y="5761"/>
                </a:lnTo>
                <a:lnTo>
                  <a:pt x="13" y="5763"/>
                </a:lnTo>
                <a:lnTo>
                  <a:pt x="16" y="5764"/>
                </a:lnTo>
                <a:lnTo>
                  <a:pt x="18" y="5767"/>
                </a:lnTo>
                <a:lnTo>
                  <a:pt x="19" y="5768"/>
                </a:lnTo>
                <a:lnTo>
                  <a:pt x="19" y="5771"/>
                </a:lnTo>
                <a:lnTo>
                  <a:pt x="19" y="5825"/>
                </a:lnTo>
                <a:lnTo>
                  <a:pt x="19" y="5826"/>
                </a:lnTo>
                <a:lnTo>
                  <a:pt x="18" y="5827"/>
                </a:lnTo>
                <a:lnTo>
                  <a:pt x="16" y="5830"/>
                </a:lnTo>
                <a:lnTo>
                  <a:pt x="13" y="5833"/>
                </a:lnTo>
                <a:lnTo>
                  <a:pt x="12" y="5833"/>
                </a:lnTo>
                <a:lnTo>
                  <a:pt x="10" y="5833"/>
                </a:lnTo>
                <a:lnTo>
                  <a:pt x="7" y="5833"/>
                </a:lnTo>
                <a:lnTo>
                  <a:pt x="6" y="5833"/>
                </a:lnTo>
                <a:lnTo>
                  <a:pt x="3" y="5830"/>
                </a:lnTo>
                <a:lnTo>
                  <a:pt x="2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2" y="5642"/>
                </a:lnTo>
                <a:lnTo>
                  <a:pt x="3" y="5639"/>
                </a:lnTo>
                <a:lnTo>
                  <a:pt x="6" y="5636"/>
                </a:lnTo>
                <a:lnTo>
                  <a:pt x="7" y="5636"/>
                </a:lnTo>
                <a:lnTo>
                  <a:pt x="10" y="5636"/>
                </a:lnTo>
                <a:lnTo>
                  <a:pt x="12" y="5636"/>
                </a:lnTo>
                <a:lnTo>
                  <a:pt x="13" y="5636"/>
                </a:lnTo>
                <a:lnTo>
                  <a:pt x="16" y="5639"/>
                </a:lnTo>
                <a:lnTo>
                  <a:pt x="18" y="5642"/>
                </a:lnTo>
                <a:lnTo>
                  <a:pt x="19" y="5643"/>
                </a:lnTo>
                <a:lnTo>
                  <a:pt x="19" y="5645"/>
                </a:lnTo>
                <a:lnTo>
                  <a:pt x="19" y="5699"/>
                </a:lnTo>
                <a:lnTo>
                  <a:pt x="19" y="5701"/>
                </a:lnTo>
                <a:lnTo>
                  <a:pt x="18" y="5702"/>
                </a:lnTo>
                <a:lnTo>
                  <a:pt x="16" y="5705"/>
                </a:lnTo>
                <a:lnTo>
                  <a:pt x="13" y="5707"/>
                </a:lnTo>
                <a:lnTo>
                  <a:pt x="12" y="5708"/>
                </a:lnTo>
                <a:lnTo>
                  <a:pt x="10" y="5708"/>
                </a:lnTo>
                <a:lnTo>
                  <a:pt x="7" y="5708"/>
                </a:lnTo>
                <a:lnTo>
                  <a:pt x="6" y="5707"/>
                </a:lnTo>
                <a:lnTo>
                  <a:pt x="3" y="5705"/>
                </a:lnTo>
                <a:lnTo>
                  <a:pt x="2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2" y="5515"/>
                </a:lnTo>
                <a:lnTo>
                  <a:pt x="3" y="5512"/>
                </a:lnTo>
                <a:lnTo>
                  <a:pt x="6" y="5511"/>
                </a:lnTo>
                <a:lnTo>
                  <a:pt x="7" y="5509"/>
                </a:lnTo>
                <a:lnTo>
                  <a:pt x="10" y="5509"/>
                </a:lnTo>
                <a:lnTo>
                  <a:pt x="12" y="5509"/>
                </a:lnTo>
                <a:lnTo>
                  <a:pt x="13" y="5511"/>
                </a:lnTo>
                <a:lnTo>
                  <a:pt x="16" y="5512"/>
                </a:lnTo>
                <a:lnTo>
                  <a:pt x="18" y="5515"/>
                </a:lnTo>
                <a:lnTo>
                  <a:pt x="19" y="5516"/>
                </a:lnTo>
                <a:lnTo>
                  <a:pt x="19" y="5519"/>
                </a:lnTo>
                <a:lnTo>
                  <a:pt x="19" y="5573"/>
                </a:lnTo>
                <a:lnTo>
                  <a:pt x="19" y="5574"/>
                </a:lnTo>
                <a:lnTo>
                  <a:pt x="18" y="5576"/>
                </a:lnTo>
                <a:lnTo>
                  <a:pt x="16" y="5578"/>
                </a:lnTo>
                <a:lnTo>
                  <a:pt x="13" y="5581"/>
                </a:lnTo>
                <a:lnTo>
                  <a:pt x="12" y="5581"/>
                </a:lnTo>
                <a:lnTo>
                  <a:pt x="10" y="5581"/>
                </a:lnTo>
                <a:lnTo>
                  <a:pt x="7" y="5581"/>
                </a:lnTo>
                <a:lnTo>
                  <a:pt x="6" y="5581"/>
                </a:lnTo>
                <a:lnTo>
                  <a:pt x="3" y="5578"/>
                </a:lnTo>
                <a:lnTo>
                  <a:pt x="2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2" y="5390"/>
                </a:lnTo>
                <a:lnTo>
                  <a:pt x="3" y="5387"/>
                </a:lnTo>
                <a:lnTo>
                  <a:pt x="6" y="5384"/>
                </a:lnTo>
                <a:lnTo>
                  <a:pt x="7" y="5384"/>
                </a:lnTo>
                <a:lnTo>
                  <a:pt x="10" y="5384"/>
                </a:lnTo>
                <a:lnTo>
                  <a:pt x="12" y="5384"/>
                </a:lnTo>
                <a:lnTo>
                  <a:pt x="13" y="5384"/>
                </a:lnTo>
                <a:lnTo>
                  <a:pt x="16" y="5387"/>
                </a:lnTo>
                <a:lnTo>
                  <a:pt x="18" y="5390"/>
                </a:lnTo>
                <a:lnTo>
                  <a:pt x="19" y="5391"/>
                </a:lnTo>
                <a:lnTo>
                  <a:pt x="19" y="5393"/>
                </a:lnTo>
                <a:lnTo>
                  <a:pt x="19" y="5447"/>
                </a:lnTo>
                <a:lnTo>
                  <a:pt x="19" y="5449"/>
                </a:lnTo>
                <a:lnTo>
                  <a:pt x="18" y="5450"/>
                </a:lnTo>
                <a:lnTo>
                  <a:pt x="16" y="5453"/>
                </a:lnTo>
                <a:lnTo>
                  <a:pt x="13" y="5455"/>
                </a:lnTo>
                <a:lnTo>
                  <a:pt x="12" y="5456"/>
                </a:lnTo>
                <a:lnTo>
                  <a:pt x="10" y="5456"/>
                </a:lnTo>
                <a:lnTo>
                  <a:pt x="7" y="5456"/>
                </a:lnTo>
                <a:lnTo>
                  <a:pt x="6" y="5455"/>
                </a:lnTo>
                <a:lnTo>
                  <a:pt x="3" y="5453"/>
                </a:lnTo>
                <a:lnTo>
                  <a:pt x="2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2" y="5263"/>
                </a:lnTo>
                <a:lnTo>
                  <a:pt x="3" y="5260"/>
                </a:lnTo>
                <a:lnTo>
                  <a:pt x="6" y="5259"/>
                </a:lnTo>
                <a:lnTo>
                  <a:pt x="7" y="5257"/>
                </a:lnTo>
                <a:lnTo>
                  <a:pt x="10" y="5257"/>
                </a:lnTo>
                <a:lnTo>
                  <a:pt x="12" y="5257"/>
                </a:lnTo>
                <a:lnTo>
                  <a:pt x="13" y="5259"/>
                </a:lnTo>
                <a:lnTo>
                  <a:pt x="16" y="5260"/>
                </a:lnTo>
                <a:lnTo>
                  <a:pt x="18" y="5263"/>
                </a:lnTo>
                <a:lnTo>
                  <a:pt x="19" y="5265"/>
                </a:lnTo>
                <a:lnTo>
                  <a:pt x="19" y="5267"/>
                </a:lnTo>
                <a:lnTo>
                  <a:pt x="19" y="5321"/>
                </a:lnTo>
                <a:lnTo>
                  <a:pt x="19" y="5322"/>
                </a:lnTo>
                <a:lnTo>
                  <a:pt x="18" y="5324"/>
                </a:lnTo>
                <a:lnTo>
                  <a:pt x="16" y="5326"/>
                </a:lnTo>
                <a:lnTo>
                  <a:pt x="13" y="5329"/>
                </a:lnTo>
                <a:lnTo>
                  <a:pt x="12" y="5329"/>
                </a:lnTo>
                <a:lnTo>
                  <a:pt x="10" y="5329"/>
                </a:lnTo>
                <a:lnTo>
                  <a:pt x="7" y="5329"/>
                </a:lnTo>
                <a:lnTo>
                  <a:pt x="6" y="5329"/>
                </a:lnTo>
                <a:lnTo>
                  <a:pt x="3" y="5326"/>
                </a:lnTo>
                <a:lnTo>
                  <a:pt x="2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2" y="5138"/>
                </a:lnTo>
                <a:lnTo>
                  <a:pt x="3" y="5135"/>
                </a:lnTo>
                <a:lnTo>
                  <a:pt x="6" y="5132"/>
                </a:lnTo>
                <a:lnTo>
                  <a:pt x="7" y="5132"/>
                </a:lnTo>
                <a:lnTo>
                  <a:pt x="10" y="5132"/>
                </a:lnTo>
                <a:lnTo>
                  <a:pt x="12" y="5132"/>
                </a:lnTo>
                <a:lnTo>
                  <a:pt x="13" y="5132"/>
                </a:lnTo>
                <a:lnTo>
                  <a:pt x="16" y="5135"/>
                </a:lnTo>
                <a:lnTo>
                  <a:pt x="18" y="5138"/>
                </a:lnTo>
                <a:lnTo>
                  <a:pt x="19" y="5139"/>
                </a:lnTo>
                <a:lnTo>
                  <a:pt x="19" y="5141"/>
                </a:lnTo>
                <a:lnTo>
                  <a:pt x="19" y="5195"/>
                </a:lnTo>
                <a:lnTo>
                  <a:pt x="19" y="5197"/>
                </a:lnTo>
                <a:lnTo>
                  <a:pt x="18" y="5198"/>
                </a:lnTo>
                <a:lnTo>
                  <a:pt x="16" y="5201"/>
                </a:lnTo>
                <a:lnTo>
                  <a:pt x="13" y="5203"/>
                </a:lnTo>
                <a:lnTo>
                  <a:pt x="12" y="5204"/>
                </a:lnTo>
                <a:lnTo>
                  <a:pt x="10" y="5204"/>
                </a:lnTo>
                <a:lnTo>
                  <a:pt x="7" y="5204"/>
                </a:lnTo>
                <a:lnTo>
                  <a:pt x="6" y="5203"/>
                </a:lnTo>
                <a:lnTo>
                  <a:pt x="3" y="5201"/>
                </a:lnTo>
                <a:lnTo>
                  <a:pt x="2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2" y="5011"/>
                </a:lnTo>
                <a:lnTo>
                  <a:pt x="3" y="5008"/>
                </a:lnTo>
                <a:lnTo>
                  <a:pt x="6" y="5007"/>
                </a:lnTo>
                <a:lnTo>
                  <a:pt x="7" y="5005"/>
                </a:lnTo>
                <a:lnTo>
                  <a:pt x="10" y="5005"/>
                </a:lnTo>
                <a:lnTo>
                  <a:pt x="12" y="5005"/>
                </a:lnTo>
                <a:lnTo>
                  <a:pt x="13" y="5007"/>
                </a:lnTo>
                <a:lnTo>
                  <a:pt x="16" y="5008"/>
                </a:lnTo>
                <a:lnTo>
                  <a:pt x="18" y="5011"/>
                </a:lnTo>
                <a:lnTo>
                  <a:pt x="19" y="5013"/>
                </a:lnTo>
                <a:lnTo>
                  <a:pt x="19" y="5015"/>
                </a:lnTo>
                <a:lnTo>
                  <a:pt x="19" y="5069"/>
                </a:lnTo>
                <a:lnTo>
                  <a:pt x="19" y="5070"/>
                </a:lnTo>
                <a:lnTo>
                  <a:pt x="18" y="5072"/>
                </a:lnTo>
                <a:lnTo>
                  <a:pt x="16" y="5074"/>
                </a:lnTo>
                <a:lnTo>
                  <a:pt x="13" y="5077"/>
                </a:lnTo>
                <a:lnTo>
                  <a:pt x="12" y="5077"/>
                </a:lnTo>
                <a:lnTo>
                  <a:pt x="10" y="5077"/>
                </a:lnTo>
                <a:lnTo>
                  <a:pt x="7" y="5077"/>
                </a:lnTo>
                <a:lnTo>
                  <a:pt x="6" y="5077"/>
                </a:lnTo>
                <a:lnTo>
                  <a:pt x="3" y="5074"/>
                </a:lnTo>
                <a:lnTo>
                  <a:pt x="2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2" y="4886"/>
                </a:lnTo>
                <a:lnTo>
                  <a:pt x="3" y="4883"/>
                </a:lnTo>
                <a:lnTo>
                  <a:pt x="6" y="4880"/>
                </a:lnTo>
                <a:lnTo>
                  <a:pt x="7" y="4880"/>
                </a:lnTo>
                <a:lnTo>
                  <a:pt x="10" y="4880"/>
                </a:lnTo>
                <a:lnTo>
                  <a:pt x="12" y="4880"/>
                </a:lnTo>
                <a:lnTo>
                  <a:pt x="13" y="4880"/>
                </a:lnTo>
                <a:lnTo>
                  <a:pt x="16" y="4883"/>
                </a:lnTo>
                <a:lnTo>
                  <a:pt x="18" y="4886"/>
                </a:lnTo>
                <a:lnTo>
                  <a:pt x="19" y="4887"/>
                </a:lnTo>
                <a:lnTo>
                  <a:pt x="19" y="4889"/>
                </a:lnTo>
                <a:lnTo>
                  <a:pt x="19" y="4943"/>
                </a:lnTo>
                <a:lnTo>
                  <a:pt x="19" y="4945"/>
                </a:lnTo>
                <a:lnTo>
                  <a:pt x="18" y="4946"/>
                </a:lnTo>
                <a:lnTo>
                  <a:pt x="16" y="4949"/>
                </a:lnTo>
                <a:lnTo>
                  <a:pt x="13" y="4951"/>
                </a:lnTo>
                <a:lnTo>
                  <a:pt x="12" y="4952"/>
                </a:lnTo>
                <a:lnTo>
                  <a:pt x="10" y="4952"/>
                </a:lnTo>
                <a:lnTo>
                  <a:pt x="7" y="4952"/>
                </a:lnTo>
                <a:lnTo>
                  <a:pt x="6" y="4951"/>
                </a:lnTo>
                <a:lnTo>
                  <a:pt x="3" y="4949"/>
                </a:lnTo>
                <a:lnTo>
                  <a:pt x="2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2" y="4759"/>
                </a:lnTo>
                <a:lnTo>
                  <a:pt x="3" y="4756"/>
                </a:lnTo>
                <a:lnTo>
                  <a:pt x="6" y="4755"/>
                </a:lnTo>
                <a:lnTo>
                  <a:pt x="7" y="4753"/>
                </a:lnTo>
                <a:lnTo>
                  <a:pt x="10" y="4753"/>
                </a:lnTo>
                <a:lnTo>
                  <a:pt x="12" y="4753"/>
                </a:lnTo>
                <a:lnTo>
                  <a:pt x="13" y="4755"/>
                </a:lnTo>
                <a:lnTo>
                  <a:pt x="16" y="4756"/>
                </a:lnTo>
                <a:lnTo>
                  <a:pt x="18" y="4759"/>
                </a:lnTo>
                <a:lnTo>
                  <a:pt x="19" y="4761"/>
                </a:lnTo>
                <a:lnTo>
                  <a:pt x="19" y="4764"/>
                </a:lnTo>
                <a:lnTo>
                  <a:pt x="19" y="4817"/>
                </a:lnTo>
                <a:lnTo>
                  <a:pt x="19" y="4818"/>
                </a:lnTo>
                <a:lnTo>
                  <a:pt x="18" y="4820"/>
                </a:lnTo>
                <a:lnTo>
                  <a:pt x="16" y="4823"/>
                </a:lnTo>
                <a:lnTo>
                  <a:pt x="13" y="4825"/>
                </a:lnTo>
                <a:lnTo>
                  <a:pt x="12" y="4825"/>
                </a:lnTo>
                <a:lnTo>
                  <a:pt x="10" y="4825"/>
                </a:lnTo>
                <a:lnTo>
                  <a:pt x="7" y="4825"/>
                </a:lnTo>
                <a:lnTo>
                  <a:pt x="6" y="4825"/>
                </a:lnTo>
                <a:lnTo>
                  <a:pt x="3" y="4823"/>
                </a:lnTo>
                <a:lnTo>
                  <a:pt x="2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2" y="4634"/>
                </a:lnTo>
                <a:lnTo>
                  <a:pt x="3" y="4631"/>
                </a:lnTo>
                <a:lnTo>
                  <a:pt x="6" y="4628"/>
                </a:lnTo>
                <a:lnTo>
                  <a:pt x="7" y="4628"/>
                </a:lnTo>
                <a:lnTo>
                  <a:pt x="10" y="4628"/>
                </a:lnTo>
                <a:lnTo>
                  <a:pt x="12" y="4628"/>
                </a:lnTo>
                <a:lnTo>
                  <a:pt x="13" y="4628"/>
                </a:lnTo>
                <a:lnTo>
                  <a:pt x="16" y="4631"/>
                </a:lnTo>
                <a:lnTo>
                  <a:pt x="18" y="4634"/>
                </a:lnTo>
                <a:lnTo>
                  <a:pt x="19" y="4635"/>
                </a:lnTo>
                <a:lnTo>
                  <a:pt x="19" y="4637"/>
                </a:lnTo>
                <a:lnTo>
                  <a:pt x="19" y="4692"/>
                </a:lnTo>
                <a:lnTo>
                  <a:pt x="19" y="4693"/>
                </a:lnTo>
                <a:lnTo>
                  <a:pt x="18" y="4694"/>
                </a:lnTo>
                <a:lnTo>
                  <a:pt x="16" y="4697"/>
                </a:lnTo>
                <a:lnTo>
                  <a:pt x="13" y="4699"/>
                </a:lnTo>
                <a:lnTo>
                  <a:pt x="12" y="4700"/>
                </a:lnTo>
                <a:lnTo>
                  <a:pt x="10" y="4700"/>
                </a:lnTo>
                <a:lnTo>
                  <a:pt x="7" y="4700"/>
                </a:lnTo>
                <a:lnTo>
                  <a:pt x="6" y="4699"/>
                </a:lnTo>
                <a:lnTo>
                  <a:pt x="3" y="4697"/>
                </a:lnTo>
                <a:lnTo>
                  <a:pt x="2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2" y="4507"/>
                </a:lnTo>
                <a:lnTo>
                  <a:pt x="3" y="4504"/>
                </a:lnTo>
                <a:lnTo>
                  <a:pt x="6" y="4503"/>
                </a:lnTo>
                <a:lnTo>
                  <a:pt x="7" y="4501"/>
                </a:lnTo>
                <a:lnTo>
                  <a:pt x="10" y="4501"/>
                </a:lnTo>
                <a:lnTo>
                  <a:pt x="12" y="4501"/>
                </a:lnTo>
                <a:lnTo>
                  <a:pt x="13" y="4503"/>
                </a:lnTo>
                <a:lnTo>
                  <a:pt x="16" y="4504"/>
                </a:lnTo>
                <a:lnTo>
                  <a:pt x="18" y="4507"/>
                </a:lnTo>
                <a:lnTo>
                  <a:pt x="19" y="4509"/>
                </a:lnTo>
                <a:lnTo>
                  <a:pt x="19" y="4512"/>
                </a:lnTo>
                <a:lnTo>
                  <a:pt x="19" y="4565"/>
                </a:lnTo>
                <a:lnTo>
                  <a:pt x="19" y="4566"/>
                </a:lnTo>
                <a:lnTo>
                  <a:pt x="18" y="4568"/>
                </a:lnTo>
                <a:lnTo>
                  <a:pt x="16" y="4571"/>
                </a:lnTo>
                <a:lnTo>
                  <a:pt x="13" y="4573"/>
                </a:lnTo>
                <a:lnTo>
                  <a:pt x="12" y="4573"/>
                </a:lnTo>
                <a:lnTo>
                  <a:pt x="10" y="4573"/>
                </a:lnTo>
                <a:lnTo>
                  <a:pt x="7" y="4573"/>
                </a:lnTo>
                <a:lnTo>
                  <a:pt x="6" y="4573"/>
                </a:lnTo>
                <a:lnTo>
                  <a:pt x="3" y="4571"/>
                </a:lnTo>
                <a:lnTo>
                  <a:pt x="2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2" y="4382"/>
                </a:lnTo>
                <a:lnTo>
                  <a:pt x="3" y="4379"/>
                </a:lnTo>
                <a:lnTo>
                  <a:pt x="6" y="4376"/>
                </a:lnTo>
                <a:lnTo>
                  <a:pt x="7" y="4376"/>
                </a:lnTo>
                <a:lnTo>
                  <a:pt x="10" y="4376"/>
                </a:lnTo>
                <a:lnTo>
                  <a:pt x="12" y="4376"/>
                </a:lnTo>
                <a:lnTo>
                  <a:pt x="13" y="4376"/>
                </a:lnTo>
                <a:lnTo>
                  <a:pt x="16" y="4379"/>
                </a:lnTo>
                <a:lnTo>
                  <a:pt x="18" y="4382"/>
                </a:lnTo>
                <a:lnTo>
                  <a:pt x="19" y="4383"/>
                </a:lnTo>
                <a:lnTo>
                  <a:pt x="19" y="4385"/>
                </a:lnTo>
                <a:lnTo>
                  <a:pt x="19" y="4440"/>
                </a:lnTo>
                <a:lnTo>
                  <a:pt x="19" y="4441"/>
                </a:lnTo>
                <a:lnTo>
                  <a:pt x="18" y="4442"/>
                </a:lnTo>
                <a:lnTo>
                  <a:pt x="16" y="4445"/>
                </a:lnTo>
                <a:lnTo>
                  <a:pt x="13" y="4447"/>
                </a:lnTo>
                <a:lnTo>
                  <a:pt x="12" y="4448"/>
                </a:lnTo>
                <a:lnTo>
                  <a:pt x="10" y="4448"/>
                </a:lnTo>
                <a:lnTo>
                  <a:pt x="7" y="4448"/>
                </a:lnTo>
                <a:lnTo>
                  <a:pt x="6" y="4447"/>
                </a:lnTo>
                <a:lnTo>
                  <a:pt x="3" y="4445"/>
                </a:lnTo>
                <a:lnTo>
                  <a:pt x="2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2" y="4255"/>
                </a:lnTo>
                <a:lnTo>
                  <a:pt x="3" y="4252"/>
                </a:lnTo>
                <a:lnTo>
                  <a:pt x="6" y="4251"/>
                </a:lnTo>
                <a:lnTo>
                  <a:pt x="7" y="4250"/>
                </a:lnTo>
                <a:lnTo>
                  <a:pt x="10" y="4250"/>
                </a:lnTo>
                <a:lnTo>
                  <a:pt x="12" y="4250"/>
                </a:lnTo>
                <a:lnTo>
                  <a:pt x="13" y="4251"/>
                </a:lnTo>
                <a:lnTo>
                  <a:pt x="16" y="4252"/>
                </a:lnTo>
                <a:lnTo>
                  <a:pt x="18" y="4255"/>
                </a:lnTo>
                <a:lnTo>
                  <a:pt x="19" y="4257"/>
                </a:lnTo>
                <a:lnTo>
                  <a:pt x="19" y="4260"/>
                </a:lnTo>
                <a:lnTo>
                  <a:pt x="19" y="4313"/>
                </a:lnTo>
                <a:lnTo>
                  <a:pt x="19" y="4314"/>
                </a:lnTo>
                <a:lnTo>
                  <a:pt x="18" y="4316"/>
                </a:lnTo>
                <a:lnTo>
                  <a:pt x="16" y="4319"/>
                </a:lnTo>
                <a:lnTo>
                  <a:pt x="13" y="4322"/>
                </a:lnTo>
                <a:lnTo>
                  <a:pt x="12" y="4322"/>
                </a:lnTo>
                <a:lnTo>
                  <a:pt x="10" y="4322"/>
                </a:lnTo>
                <a:lnTo>
                  <a:pt x="7" y="4322"/>
                </a:lnTo>
                <a:lnTo>
                  <a:pt x="6" y="4322"/>
                </a:lnTo>
                <a:lnTo>
                  <a:pt x="3" y="4319"/>
                </a:lnTo>
                <a:lnTo>
                  <a:pt x="2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2" y="4130"/>
                </a:lnTo>
                <a:lnTo>
                  <a:pt x="3" y="4127"/>
                </a:lnTo>
                <a:lnTo>
                  <a:pt x="6" y="4124"/>
                </a:lnTo>
                <a:lnTo>
                  <a:pt x="7" y="4124"/>
                </a:lnTo>
                <a:lnTo>
                  <a:pt x="10" y="4124"/>
                </a:lnTo>
                <a:lnTo>
                  <a:pt x="12" y="4124"/>
                </a:lnTo>
                <a:lnTo>
                  <a:pt x="13" y="4124"/>
                </a:lnTo>
                <a:lnTo>
                  <a:pt x="16" y="4127"/>
                </a:lnTo>
                <a:lnTo>
                  <a:pt x="18" y="4130"/>
                </a:lnTo>
                <a:lnTo>
                  <a:pt x="19" y="4131"/>
                </a:lnTo>
                <a:lnTo>
                  <a:pt x="19" y="4133"/>
                </a:lnTo>
                <a:lnTo>
                  <a:pt x="19" y="4188"/>
                </a:lnTo>
                <a:lnTo>
                  <a:pt x="19" y="4189"/>
                </a:lnTo>
                <a:lnTo>
                  <a:pt x="18" y="4191"/>
                </a:lnTo>
                <a:lnTo>
                  <a:pt x="16" y="4193"/>
                </a:lnTo>
                <a:lnTo>
                  <a:pt x="13" y="4195"/>
                </a:lnTo>
                <a:lnTo>
                  <a:pt x="12" y="4196"/>
                </a:lnTo>
                <a:lnTo>
                  <a:pt x="10" y="4196"/>
                </a:lnTo>
                <a:lnTo>
                  <a:pt x="7" y="4196"/>
                </a:lnTo>
                <a:lnTo>
                  <a:pt x="6" y="4195"/>
                </a:lnTo>
                <a:lnTo>
                  <a:pt x="3" y="4193"/>
                </a:lnTo>
                <a:lnTo>
                  <a:pt x="2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2" y="4003"/>
                </a:lnTo>
                <a:lnTo>
                  <a:pt x="3" y="4000"/>
                </a:lnTo>
                <a:lnTo>
                  <a:pt x="6" y="3999"/>
                </a:lnTo>
                <a:lnTo>
                  <a:pt x="7" y="3998"/>
                </a:lnTo>
                <a:lnTo>
                  <a:pt x="10" y="3998"/>
                </a:lnTo>
                <a:lnTo>
                  <a:pt x="12" y="3998"/>
                </a:lnTo>
                <a:lnTo>
                  <a:pt x="13" y="3999"/>
                </a:lnTo>
                <a:lnTo>
                  <a:pt x="16" y="4000"/>
                </a:lnTo>
                <a:lnTo>
                  <a:pt x="18" y="4003"/>
                </a:lnTo>
                <a:lnTo>
                  <a:pt x="19" y="4005"/>
                </a:lnTo>
                <a:lnTo>
                  <a:pt x="19" y="4008"/>
                </a:lnTo>
                <a:lnTo>
                  <a:pt x="19" y="4061"/>
                </a:lnTo>
                <a:lnTo>
                  <a:pt x="19" y="4062"/>
                </a:lnTo>
                <a:lnTo>
                  <a:pt x="18" y="4064"/>
                </a:lnTo>
                <a:lnTo>
                  <a:pt x="16" y="4067"/>
                </a:lnTo>
                <a:lnTo>
                  <a:pt x="13" y="4070"/>
                </a:lnTo>
                <a:lnTo>
                  <a:pt x="12" y="4070"/>
                </a:lnTo>
                <a:lnTo>
                  <a:pt x="10" y="4070"/>
                </a:lnTo>
                <a:lnTo>
                  <a:pt x="7" y="4070"/>
                </a:lnTo>
                <a:lnTo>
                  <a:pt x="6" y="4070"/>
                </a:lnTo>
                <a:lnTo>
                  <a:pt x="3" y="4067"/>
                </a:lnTo>
                <a:lnTo>
                  <a:pt x="2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2" y="3878"/>
                </a:lnTo>
                <a:lnTo>
                  <a:pt x="3" y="3875"/>
                </a:lnTo>
                <a:lnTo>
                  <a:pt x="6" y="3872"/>
                </a:lnTo>
                <a:lnTo>
                  <a:pt x="7" y="3872"/>
                </a:lnTo>
                <a:lnTo>
                  <a:pt x="10" y="3872"/>
                </a:lnTo>
                <a:lnTo>
                  <a:pt x="12" y="3872"/>
                </a:lnTo>
                <a:lnTo>
                  <a:pt x="13" y="3872"/>
                </a:lnTo>
                <a:lnTo>
                  <a:pt x="16" y="3875"/>
                </a:lnTo>
                <a:lnTo>
                  <a:pt x="18" y="3878"/>
                </a:lnTo>
                <a:lnTo>
                  <a:pt x="19" y="3880"/>
                </a:lnTo>
                <a:lnTo>
                  <a:pt x="19" y="3881"/>
                </a:lnTo>
                <a:lnTo>
                  <a:pt x="19" y="3936"/>
                </a:lnTo>
                <a:lnTo>
                  <a:pt x="19" y="3937"/>
                </a:lnTo>
                <a:lnTo>
                  <a:pt x="18" y="3939"/>
                </a:lnTo>
                <a:lnTo>
                  <a:pt x="16" y="3941"/>
                </a:lnTo>
                <a:lnTo>
                  <a:pt x="13" y="3943"/>
                </a:lnTo>
                <a:lnTo>
                  <a:pt x="12" y="3944"/>
                </a:lnTo>
                <a:lnTo>
                  <a:pt x="10" y="3944"/>
                </a:lnTo>
                <a:lnTo>
                  <a:pt x="7" y="3944"/>
                </a:lnTo>
                <a:lnTo>
                  <a:pt x="6" y="3943"/>
                </a:lnTo>
                <a:lnTo>
                  <a:pt x="3" y="3941"/>
                </a:lnTo>
                <a:lnTo>
                  <a:pt x="2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2" y="3751"/>
                </a:lnTo>
                <a:lnTo>
                  <a:pt x="3" y="3749"/>
                </a:lnTo>
                <a:lnTo>
                  <a:pt x="6" y="3747"/>
                </a:lnTo>
                <a:lnTo>
                  <a:pt x="7" y="3746"/>
                </a:lnTo>
                <a:lnTo>
                  <a:pt x="10" y="3746"/>
                </a:lnTo>
                <a:lnTo>
                  <a:pt x="12" y="3746"/>
                </a:lnTo>
                <a:lnTo>
                  <a:pt x="13" y="3747"/>
                </a:lnTo>
                <a:lnTo>
                  <a:pt x="16" y="3749"/>
                </a:lnTo>
                <a:lnTo>
                  <a:pt x="18" y="3751"/>
                </a:lnTo>
                <a:lnTo>
                  <a:pt x="19" y="3753"/>
                </a:lnTo>
                <a:lnTo>
                  <a:pt x="19" y="3756"/>
                </a:lnTo>
                <a:lnTo>
                  <a:pt x="19" y="3809"/>
                </a:lnTo>
                <a:lnTo>
                  <a:pt x="19" y="3810"/>
                </a:lnTo>
                <a:lnTo>
                  <a:pt x="18" y="3812"/>
                </a:lnTo>
                <a:lnTo>
                  <a:pt x="16" y="3815"/>
                </a:lnTo>
                <a:lnTo>
                  <a:pt x="13" y="3818"/>
                </a:lnTo>
                <a:lnTo>
                  <a:pt x="12" y="3818"/>
                </a:lnTo>
                <a:lnTo>
                  <a:pt x="10" y="3818"/>
                </a:lnTo>
                <a:lnTo>
                  <a:pt x="7" y="3818"/>
                </a:lnTo>
                <a:lnTo>
                  <a:pt x="6" y="3818"/>
                </a:lnTo>
                <a:lnTo>
                  <a:pt x="3" y="3815"/>
                </a:lnTo>
                <a:lnTo>
                  <a:pt x="2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2" y="3626"/>
                </a:lnTo>
                <a:lnTo>
                  <a:pt x="3" y="3623"/>
                </a:lnTo>
                <a:lnTo>
                  <a:pt x="6" y="3620"/>
                </a:lnTo>
                <a:lnTo>
                  <a:pt x="7" y="3620"/>
                </a:lnTo>
                <a:lnTo>
                  <a:pt x="10" y="3620"/>
                </a:lnTo>
                <a:lnTo>
                  <a:pt x="12" y="3620"/>
                </a:lnTo>
                <a:lnTo>
                  <a:pt x="13" y="3620"/>
                </a:lnTo>
                <a:lnTo>
                  <a:pt x="16" y="3623"/>
                </a:lnTo>
                <a:lnTo>
                  <a:pt x="18" y="3626"/>
                </a:lnTo>
                <a:lnTo>
                  <a:pt x="19" y="3628"/>
                </a:lnTo>
                <a:lnTo>
                  <a:pt x="19" y="3629"/>
                </a:lnTo>
                <a:lnTo>
                  <a:pt x="19" y="3684"/>
                </a:lnTo>
                <a:lnTo>
                  <a:pt x="19" y="3685"/>
                </a:lnTo>
                <a:lnTo>
                  <a:pt x="18" y="3687"/>
                </a:lnTo>
                <a:lnTo>
                  <a:pt x="16" y="3689"/>
                </a:lnTo>
                <a:lnTo>
                  <a:pt x="13" y="3691"/>
                </a:lnTo>
                <a:lnTo>
                  <a:pt x="12" y="3692"/>
                </a:lnTo>
                <a:lnTo>
                  <a:pt x="10" y="3692"/>
                </a:lnTo>
                <a:lnTo>
                  <a:pt x="7" y="3692"/>
                </a:lnTo>
                <a:lnTo>
                  <a:pt x="6" y="3691"/>
                </a:lnTo>
                <a:lnTo>
                  <a:pt x="3" y="3689"/>
                </a:lnTo>
                <a:lnTo>
                  <a:pt x="2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2" y="3499"/>
                </a:lnTo>
                <a:lnTo>
                  <a:pt x="3" y="3497"/>
                </a:lnTo>
                <a:lnTo>
                  <a:pt x="6" y="3495"/>
                </a:lnTo>
                <a:lnTo>
                  <a:pt x="7" y="3494"/>
                </a:lnTo>
                <a:lnTo>
                  <a:pt x="10" y="3494"/>
                </a:lnTo>
                <a:lnTo>
                  <a:pt x="12" y="3494"/>
                </a:lnTo>
                <a:lnTo>
                  <a:pt x="13" y="3495"/>
                </a:lnTo>
                <a:lnTo>
                  <a:pt x="16" y="3497"/>
                </a:lnTo>
                <a:lnTo>
                  <a:pt x="18" y="3499"/>
                </a:lnTo>
                <a:lnTo>
                  <a:pt x="19" y="3501"/>
                </a:lnTo>
                <a:lnTo>
                  <a:pt x="19" y="3504"/>
                </a:lnTo>
                <a:lnTo>
                  <a:pt x="19" y="3557"/>
                </a:lnTo>
                <a:lnTo>
                  <a:pt x="19" y="3558"/>
                </a:lnTo>
                <a:lnTo>
                  <a:pt x="18" y="3560"/>
                </a:lnTo>
                <a:lnTo>
                  <a:pt x="16" y="3563"/>
                </a:lnTo>
                <a:lnTo>
                  <a:pt x="13" y="3566"/>
                </a:lnTo>
                <a:lnTo>
                  <a:pt x="12" y="3566"/>
                </a:lnTo>
                <a:lnTo>
                  <a:pt x="10" y="3566"/>
                </a:lnTo>
                <a:lnTo>
                  <a:pt x="7" y="3566"/>
                </a:lnTo>
                <a:lnTo>
                  <a:pt x="6" y="3566"/>
                </a:lnTo>
                <a:lnTo>
                  <a:pt x="3" y="3563"/>
                </a:lnTo>
                <a:lnTo>
                  <a:pt x="2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2" y="3374"/>
                </a:lnTo>
                <a:lnTo>
                  <a:pt x="3" y="3371"/>
                </a:lnTo>
                <a:lnTo>
                  <a:pt x="6" y="3368"/>
                </a:lnTo>
                <a:lnTo>
                  <a:pt x="7" y="3368"/>
                </a:lnTo>
                <a:lnTo>
                  <a:pt x="10" y="3368"/>
                </a:lnTo>
                <a:lnTo>
                  <a:pt x="12" y="3368"/>
                </a:lnTo>
                <a:lnTo>
                  <a:pt x="13" y="3368"/>
                </a:lnTo>
                <a:lnTo>
                  <a:pt x="16" y="3371"/>
                </a:lnTo>
                <a:lnTo>
                  <a:pt x="18" y="3374"/>
                </a:lnTo>
                <a:lnTo>
                  <a:pt x="19" y="3376"/>
                </a:lnTo>
                <a:lnTo>
                  <a:pt x="19" y="3377"/>
                </a:lnTo>
                <a:lnTo>
                  <a:pt x="19" y="3432"/>
                </a:lnTo>
                <a:lnTo>
                  <a:pt x="19" y="3433"/>
                </a:lnTo>
                <a:lnTo>
                  <a:pt x="18" y="3435"/>
                </a:lnTo>
                <a:lnTo>
                  <a:pt x="16" y="3438"/>
                </a:lnTo>
                <a:lnTo>
                  <a:pt x="13" y="3439"/>
                </a:lnTo>
                <a:lnTo>
                  <a:pt x="12" y="3440"/>
                </a:lnTo>
                <a:lnTo>
                  <a:pt x="10" y="3440"/>
                </a:lnTo>
                <a:lnTo>
                  <a:pt x="7" y="3440"/>
                </a:lnTo>
                <a:lnTo>
                  <a:pt x="6" y="3439"/>
                </a:lnTo>
                <a:lnTo>
                  <a:pt x="3" y="3438"/>
                </a:lnTo>
                <a:lnTo>
                  <a:pt x="2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2" y="3247"/>
                </a:lnTo>
                <a:lnTo>
                  <a:pt x="3" y="3245"/>
                </a:lnTo>
                <a:lnTo>
                  <a:pt x="6" y="3243"/>
                </a:lnTo>
                <a:lnTo>
                  <a:pt x="7" y="3242"/>
                </a:lnTo>
                <a:lnTo>
                  <a:pt x="10" y="3242"/>
                </a:lnTo>
                <a:lnTo>
                  <a:pt x="12" y="3242"/>
                </a:lnTo>
                <a:lnTo>
                  <a:pt x="13" y="3243"/>
                </a:lnTo>
                <a:lnTo>
                  <a:pt x="16" y="3245"/>
                </a:lnTo>
                <a:lnTo>
                  <a:pt x="18" y="3247"/>
                </a:lnTo>
                <a:lnTo>
                  <a:pt x="19" y="3249"/>
                </a:lnTo>
                <a:lnTo>
                  <a:pt x="19" y="3252"/>
                </a:lnTo>
                <a:lnTo>
                  <a:pt x="19" y="3305"/>
                </a:lnTo>
                <a:lnTo>
                  <a:pt x="19" y="3307"/>
                </a:lnTo>
                <a:lnTo>
                  <a:pt x="18" y="3308"/>
                </a:lnTo>
                <a:lnTo>
                  <a:pt x="16" y="3311"/>
                </a:lnTo>
                <a:lnTo>
                  <a:pt x="13" y="3314"/>
                </a:lnTo>
                <a:lnTo>
                  <a:pt x="12" y="3314"/>
                </a:lnTo>
                <a:lnTo>
                  <a:pt x="10" y="3314"/>
                </a:lnTo>
                <a:lnTo>
                  <a:pt x="7" y="3314"/>
                </a:lnTo>
                <a:lnTo>
                  <a:pt x="6" y="3314"/>
                </a:lnTo>
                <a:lnTo>
                  <a:pt x="3" y="3311"/>
                </a:lnTo>
                <a:lnTo>
                  <a:pt x="2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2" y="3122"/>
                </a:lnTo>
                <a:lnTo>
                  <a:pt x="3" y="3119"/>
                </a:lnTo>
                <a:lnTo>
                  <a:pt x="6" y="3116"/>
                </a:lnTo>
                <a:lnTo>
                  <a:pt x="7" y="3116"/>
                </a:lnTo>
                <a:lnTo>
                  <a:pt x="10" y="3116"/>
                </a:lnTo>
                <a:lnTo>
                  <a:pt x="12" y="3116"/>
                </a:lnTo>
                <a:lnTo>
                  <a:pt x="13" y="3116"/>
                </a:lnTo>
                <a:lnTo>
                  <a:pt x="16" y="3119"/>
                </a:lnTo>
                <a:lnTo>
                  <a:pt x="18" y="3122"/>
                </a:lnTo>
                <a:lnTo>
                  <a:pt x="19" y="3124"/>
                </a:lnTo>
                <a:lnTo>
                  <a:pt x="19" y="3125"/>
                </a:lnTo>
                <a:lnTo>
                  <a:pt x="19" y="3180"/>
                </a:lnTo>
                <a:lnTo>
                  <a:pt x="19" y="3181"/>
                </a:lnTo>
                <a:lnTo>
                  <a:pt x="18" y="3183"/>
                </a:lnTo>
                <a:lnTo>
                  <a:pt x="16" y="3186"/>
                </a:lnTo>
                <a:lnTo>
                  <a:pt x="13" y="3187"/>
                </a:lnTo>
                <a:lnTo>
                  <a:pt x="12" y="3188"/>
                </a:lnTo>
                <a:lnTo>
                  <a:pt x="10" y="3188"/>
                </a:lnTo>
                <a:lnTo>
                  <a:pt x="7" y="3188"/>
                </a:lnTo>
                <a:lnTo>
                  <a:pt x="6" y="3187"/>
                </a:lnTo>
                <a:lnTo>
                  <a:pt x="3" y="3186"/>
                </a:lnTo>
                <a:lnTo>
                  <a:pt x="2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2" y="2996"/>
                </a:lnTo>
                <a:lnTo>
                  <a:pt x="3" y="2993"/>
                </a:lnTo>
                <a:lnTo>
                  <a:pt x="6" y="2991"/>
                </a:lnTo>
                <a:lnTo>
                  <a:pt x="7" y="2990"/>
                </a:lnTo>
                <a:lnTo>
                  <a:pt x="10" y="2990"/>
                </a:lnTo>
                <a:lnTo>
                  <a:pt x="12" y="2990"/>
                </a:lnTo>
                <a:lnTo>
                  <a:pt x="13" y="2991"/>
                </a:lnTo>
                <a:lnTo>
                  <a:pt x="16" y="2993"/>
                </a:lnTo>
                <a:lnTo>
                  <a:pt x="18" y="2996"/>
                </a:lnTo>
                <a:lnTo>
                  <a:pt x="19" y="2997"/>
                </a:lnTo>
                <a:lnTo>
                  <a:pt x="19" y="3000"/>
                </a:lnTo>
                <a:lnTo>
                  <a:pt x="19" y="3053"/>
                </a:lnTo>
                <a:lnTo>
                  <a:pt x="19" y="3055"/>
                </a:lnTo>
                <a:lnTo>
                  <a:pt x="18" y="3056"/>
                </a:lnTo>
                <a:lnTo>
                  <a:pt x="16" y="3059"/>
                </a:lnTo>
                <a:lnTo>
                  <a:pt x="13" y="3062"/>
                </a:lnTo>
                <a:lnTo>
                  <a:pt x="12" y="3062"/>
                </a:lnTo>
                <a:lnTo>
                  <a:pt x="10" y="3062"/>
                </a:lnTo>
                <a:lnTo>
                  <a:pt x="7" y="3062"/>
                </a:lnTo>
                <a:lnTo>
                  <a:pt x="6" y="3062"/>
                </a:lnTo>
                <a:lnTo>
                  <a:pt x="3" y="3059"/>
                </a:lnTo>
                <a:lnTo>
                  <a:pt x="2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2" y="2870"/>
                </a:lnTo>
                <a:lnTo>
                  <a:pt x="3" y="2867"/>
                </a:lnTo>
                <a:lnTo>
                  <a:pt x="6" y="2865"/>
                </a:lnTo>
                <a:lnTo>
                  <a:pt x="7" y="2865"/>
                </a:lnTo>
                <a:lnTo>
                  <a:pt x="10" y="2865"/>
                </a:lnTo>
                <a:lnTo>
                  <a:pt x="12" y="2865"/>
                </a:lnTo>
                <a:lnTo>
                  <a:pt x="13" y="2865"/>
                </a:lnTo>
                <a:lnTo>
                  <a:pt x="16" y="2867"/>
                </a:lnTo>
                <a:lnTo>
                  <a:pt x="18" y="2870"/>
                </a:lnTo>
                <a:lnTo>
                  <a:pt x="19" y="2872"/>
                </a:lnTo>
                <a:lnTo>
                  <a:pt x="19" y="2873"/>
                </a:lnTo>
                <a:lnTo>
                  <a:pt x="19" y="2928"/>
                </a:lnTo>
                <a:lnTo>
                  <a:pt x="19" y="2929"/>
                </a:lnTo>
                <a:lnTo>
                  <a:pt x="18" y="2931"/>
                </a:lnTo>
                <a:lnTo>
                  <a:pt x="16" y="2934"/>
                </a:lnTo>
                <a:lnTo>
                  <a:pt x="13" y="2935"/>
                </a:lnTo>
                <a:lnTo>
                  <a:pt x="12" y="2937"/>
                </a:lnTo>
                <a:lnTo>
                  <a:pt x="10" y="2937"/>
                </a:lnTo>
                <a:lnTo>
                  <a:pt x="7" y="2937"/>
                </a:lnTo>
                <a:lnTo>
                  <a:pt x="6" y="2935"/>
                </a:lnTo>
                <a:lnTo>
                  <a:pt x="3" y="2934"/>
                </a:lnTo>
                <a:lnTo>
                  <a:pt x="2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2" y="2744"/>
                </a:lnTo>
                <a:lnTo>
                  <a:pt x="3" y="2741"/>
                </a:lnTo>
                <a:lnTo>
                  <a:pt x="6" y="2739"/>
                </a:lnTo>
                <a:lnTo>
                  <a:pt x="7" y="2738"/>
                </a:lnTo>
                <a:lnTo>
                  <a:pt x="10" y="2738"/>
                </a:lnTo>
                <a:lnTo>
                  <a:pt x="12" y="2738"/>
                </a:lnTo>
                <a:lnTo>
                  <a:pt x="13" y="2739"/>
                </a:lnTo>
                <a:lnTo>
                  <a:pt x="16" y="2741"/>
                </a:lnTo>
                <a:lnTo>
                  <a:pt x="18" y="2744"/>
                </a:lnTo>
                <a:lnTo>
                  <a:pt x="19" y="2745"/>
                </a:lnTo>
                <a:lnTo>
                  <a:pt x="19" y="2748"/>
                </a:lnTo>
                <a:lnTo>
                  <a:pt x="19" y="2801"/>
                </a:lnTo>
                <a:lnTo>
                  <a:pt x="19" y="2803"/>
                </a:lnTo>
                <a:lnTo>
                  <a:pt x="18" y="2804"/>
                </a:lnTo>
                <a:lnTo>
                  <a:pt x="16" y="2807"/>
                </a:lnTo>
                <a:lnTo>
                  <a:pt x="13" y="2810"/>
                </a:lnTo>
                <a:lnTo>
                  <a:pt x="12" y="2810"/>
                </a:lnTo>
                <a:lnTo>
                  <a:pt x="10" y="2810"/>
                </a:lnTo>
                <a:lnTo>
                  <a:pt x="7" y="2810"/>
                </a:lnTo>
                <a:lnTo>
                  <a:pt x="6" y="2810"/>
                </a:lnTo>
                <a:lnTo>
                  <a:pt x="3" y="2807"/>
                </a:lnTo>
                <a:lnTo>
                  <a:pt x="2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2" y="2618"/>
                </a:lnTo>
                <a:lnTo>
                  <a:pt x="3" y="2615"/>
                </a:lnTo>
                <a:lnTo>
                  <a:pt x="6" y="2613"/>
                </a:lnTo>
                <a:lnTo>
                  <a:pt x="7" y="2613"/>
                </a:lnTo>
                <a:lnTo>
                  <a:pt x="10" y="2613"/>
                </a:lnTo>
                <a:lnTo>
                  <a:pt x="12" y="2613"/>
                </a:lnTo>
                <a:lnTo>
                  <a:pt x="13" y="2613"/>
                </a:lnTo>
                <a:lnTo>
                  <a:pt x="16" y="2615"/>
                </a:lnTo>
                <a:lnTo>
                  <a:pt x="18" y="2618"/>
                </a:lnTo>
                <a:lnTo>
                  <a:pt x="19" y="2620"/>
                </a:lnTo>
                <a:lnTo>
                  <a:pt x="19" y="2621"/>
                </a:lnTo>
                <a:lnTo>
                  <a:pt x="19" y="2676"/>
                </a:lnTo>
                <a:lnTo>
                  <a:pt x="19" y="2677"/>
                </a:lnTo>
                <a:lnTo>
                  <a:pt x="18" y="2679"/>
                </a:lnTo>
                <a:lnTo>
                  <a:pt x="16" y="2682"/>
                </a:lnTo>
                <a:lnTo>
                  <a:pt x="13" y="2683"/>
                </a:lnTo>
                <a:lnTo>
                  <a:pt x="12" y="2685"/>
                </a:lnTo>
                <a:lnTo>
                  <a:pt x="10" y="2685"/>
                </a:lnTo>
                <a:lnTo>
                  <a:pt x="7" y="2685"/>
                </a:lnTo>
                <a:lnTo>
                  <a:pt x="6" y="2683"/>
                </a:lnTo>
                <a:lnTo>
                  <a:pt x="3" y="2682"/>
                </a:lnTo>
                <a:lnTo>
                  <a:pt x="2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2" y="2492"/>
                </a:lnTo>
                <a:lnTo>
                  <a:pt x="3" y="2489"/>
                </a:lnTo>
                <a:lnTo>
                  <a:pt x="6" y="2487"/>
                </a:lnTo>
                <a:lnTo>
                  <a:pt x="7" y="2486"/>
                </a:lnTo>
                <a:lnTo>
                  <a:pt x="10" y="2486"/>
                </a:lnTo>
                <a:lnTo>
                  <a:pt x="12" y="2486"/>
                </a:lnTo>
                <a:lnTo>
                  <a:pt x="13" y="2487"/>
                </a:lnTo>
                <a:lnTo>
                  <a:pt x="16" y="2489"/>
                </a:lnTo>
                <a:lnTo>
                  <a:pt x="18" y="2492"/>
                </a:lnTo>
                <a:lnTo>
                  <a:pt x="19" y="2493"/>
                </a:lnTo>
                <a:lnTo>
                  <a:pt x="19" y="2496"/>
                </a:lnTo>
                <a:lnTo>
                  <a:pt x="19" y="2549"/>
                </a:lnTo>
                <a:lnTo>
                  <a:pt x="19" y="2551"/>
                </a:lnTo>
                <a:lnTo>
                  <a:pt x="18" y="2552"/>
                </a:lnTo>
                <a:lnTo>
                  <a:pt x="16" y="2555"/>
                </a:lnTo>
                <a:lnTo>
                  <a:pt x="13" y="2558"/>
                </a:lnTo>
                <a:lnTo>
                  <a:pt x="12" y="2558"/>
                </a:lnTo>
                <a:lnTo>
                  <a:pt x="10" y="2558"/>
                </a:lnTo>
                <a:lnTo>
                  <a:pt x="7" y="2558"/>
                </a:lnTo>
                <a:lnTo>
                  <a:pt x="6" y="2558"/>
                </a:lnTo>
                <a:lnTo>
                  <a:pt x="3" y="2555"/>
                </a:lnTo>
                <a:lnTo>
                  <a:pt x="2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2" y="2366"/>
                </a:lnTo>
                <a:lnTo>
                  <a:pt x="3" y="2364"/>
                </a:lnTo>
                <a:lnTo>
                  <a:pt x="6" y="2361"/>
                </a:lnTo>
                <a:lnTo>
                  <a:pt x="7" y="2361"/>
                </a:lnTo>
                <a:lnTo>
                  <a:pt x="10" y="2361"/>
                </a:lnTo>
                <a:lnTo>
                  <a:pt x="12" y="2361"/>
                </a:lnTo>
                <a:lnTo>
                  <a:pt x="13" y="2361"/>
                </a:lnTo>
                <a:lnTo>
                  <a:pt x="16" y="2364"/>
                </a:lnTo>
                <a:lnTo>
                  <a:pt x="18" y="2366"/>
                </a:lnTo>
                <a:lnTo>
                  <a:pt x="19" y="2368"/>
                </a:lnTo>
                <a:lnTo>
                  <a:pt x="19" y="2369"/>
                </a:lnTo>
                <a:lnTo>
                  <a:pt x="19" y="2424"/>
                </a:lnTo>
                <a:lnTo>
                  <a:pt x="19" y="2425"/>
                </a:lnTo>
                <a:lnTo>
                  <a:pt x="18" y="2427"/>
                </a:lnTo>
                <a:lnTo>
                  <a:pt x="16" y="2430"/>
                </a:lnTo>
                <a:lnTo>
                  <a:pt x="13" y="2431"/>
                </a:lnTo>
                <a:lnTo>
                  <a:pt x="12" y="2433"/>
                </a:lnTo>
                <a:lnTo>
                  <a:pt x="10" y="2433"/>
                </a:lnTo>
                <a:lnTo>
                  <a:pt x="7" y="2433"/>
                </a:lnTo>
                <a:lnTo>
                  <a:pt x="6" y="2431"/>
                </a:lnTo>
                <a:lnTo>
                  <a:pt x="3" y="2430"/>
                </a:lnTo>
                <a:lnTo>
                  <a:pt x="2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2" y="2240"/>
                </a:lnTo>
                <a:lnTo>
                  <a:pt x="3" y="2237"/>
                </a:lnTo>
                <a:lnTo>
                  <a:pt x="6" y="2235"/>
                </a:lnTo>
                <a:lnTo>
                  <a:pt x="7" y="2234"/>
                </a:lnTo>
                <a:lnTo>
                  <a:pt x="10" y="2234"/>
                </a:lnTo>
                <a:lnTo>
                  <a:pt x="12" y="2234"/>
                </a:lnTo>
                <a:lnTo>
                  <a:pt x="13" y="2235"/>
                </a:lnTo>
                <a:lnTo>
                  <a:pt x="16" y="2237"/>
                </a:lnTo>
                <a:lnTo>
                  <a:pt x="18" y="2240"/>
                </a:lnTo>
                <a:lnTo>
                  <a:pt x="19" y="2241"/>
                </a:lnTo>
                <a:lnTo>
                  <a:pt x="19" y="2244"/>
                </a:lnTo>
                <a:lnTo>
                  <a:pt x="19" y="2297"/>
                </a:lnTo>
                <a:lnTo>
                  <a:pt x="19" y="2299"/>
                </a:lnTo>
                <a:lnTo>
                  <a:pt x="18" y="2300"/>
                </a:lnTo>
                <a:lnTo>
                  <a:pt x="16" y="2303"/>
                </a:lnTo>
                <a:lnTo>
                  <a:pt x="13" y="2306"/>
                </a:lnTo>
                <a:lnTo>
                  <a:pt x="12" y="2306"/>
                </a:lnTo>
                <a:lnTo>
                  <a:pt x="10" y="2306"/>
                </a:lnTo>
                <a:lnTo>
                  <a:pt x="7" y="2306"/>
                </a:lnTo>
                <a:lnTo>
                  <a:pt x="6" y="2306"/>
                </a:lnTo>
                <a:lnTo>
                  <a:pt x="3" y="2303"/>
                </a:lnTo>
                <a:lnTo>
                  <a:pt x="2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2" y="2114"/>
                </a:lnTo>
                <a:lnTo>
                  <a:pt x="3" y="2112"/>
                </a:lnTo>
                <a:lnTo>
                  <a:pt x="6" y="2109"/>
                </a:lnTo>
                <a:lnTo>
                  <a:pt x="7" y="2109"/>
                </a:lnTo>
                <a:lnTo>
                  <a:pt x="10" y="2109"/>
                </a:lnTo>
                <a:lnTo>
                  <a:pt x="12" y="2109"/>
                </a:lnTo>
                <a:lnTo>
                  <a:pt x="13" y="2109"/>
                </a:lnTo>
                <a:lnTo>
                  <a:pt x="16" y="2112"/>
                </a:lnTo>
                <a:lnTo>
                  <a:pt x="18" y="2114"/>
                </a:lnTo>
                <a:lnTo>
                  <a:pt x="19" y="2116"/>
                </a:lnTo>
                <a:lnTo>
                  <a:pt x="19" y="2117"/>
                </a:lnTo>
                <a:lnTo>
                  <a:pt x="19" y="2172"/>
                </a:lnTo>
                <a:lnTo>
                  <a:pt x="19" y="2173"/>
                </a:lnTo>
                <a:lnTo>
                  <a:pt x="18" y="2175"/>
                </a:lnTo>
                <a:lnTo>
                  <a:pt x="16" y="2178"/>
                </a:lnTo>
                <a:lnTo>
                  <a:pt x="13" y="2179"/>
                </a:lnTo>
                <a:lnTo>
                  <a:pt x="12" y="2181"/>
                </a:lnTo>
                <a:lnTo>
                  <a:pt x="10" y="2181"/>
                </a:lnTo>
                <a:lnTo>
                  <a:pt x="7" y="2181"/>
                </a:lnTo>
                <a:lnTo>
                  <a:pt x="6" y="2179"/>
                </a:lnTo>
                <a:lnTo>
                  <a:pt x="3" y="2178"/>
                </a:lnTo>
                <a:lnTo>
                  <a:pt x="2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2" y="1988"/>
                </a:lnTo>
                <a:lnTo>
                  <a:pt x="3" y="1985"/>
                </a:lnTo>
                <a:lnTo>
                  <a:pt x="6" y="1983"/>
                </a:lnTo>
                <a:lnTo>
                  <a:pt x="7" y="1982"/>
                </a:lnTo>
                <a:lnTo>
                  <a:pt x="10" y="1982"/>
                </a:lnTo>
                <a:lnTo>
                  <a:pt x="12" y="1982"/>
                </a:lnTo>
                <a:lnTo>
                  <a:pt x="13" y="1983"/>
                </a:lnTo>
                <a:lnTo>
                  <a:pt x="16" y="1985"/>
                </a:lnTo>
                <a:lnTo>
                  <a:pt x="18" y="1988"/>
                </a:lnTo>
                <a:lnTo>
                  <a:pt x="19" y="1989"/>
                </a:lnTo>
                <a:lnTo>
                  <a:pt x="19" y="1992"/>
                </a:lnTo>
                <a:lnTo>
                  <a:pt x="19" y="2045"/>
                </a:lnTo>
                <a:lnTo>
                  <a:pt x="19" y="2047"/>
                </a:lnTo>
                <a:lnTo>
                  <a:pt x="18" y="2048"/>
                </a:lnTo>
                <a:lnTo>
                  <a:pt x="16" y="2051"/>
                </a:lnTo>
                <a:lnTo>
                  <a:pt x="13" y="2054"/>
                </a:lnTo>
                <a:lnTo>
                  <a:pt x="12" y="2054"/>
                </a:lnTo>
                <a:lnTo>
                  <a:pt x="10" y="2054"/>
                </a:lnTo>
                <a:lnTo>
                  <a:pt x="7" y="2054"/>
                </a:lnTo>
                <a:lnTo>
                  <a:pt x="6" y="2054"/>
                </a:lnTo>
                <a:lnTo>
                  <a:pt x="3" y="2051"/>
                </a:lnTo>
                <a:lnTo>
                  <a:pt x="2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2" y="1862"/>
                </a:lnTo>
                <a:lnTo>
                  <a:pt x="3" y="1860"/>
                </a:lnTo>
                <a:lnTo>
                  <a:pt x="6" y="1857"/>
                </a:lnTo>
                <a:lnTo>
                  <a:pt x="7" y="1857"/>
                </a:lnTo>
                <a:lnTo>
                  <a:pt x="10" y="1857"/>
                </a:lnTo>
                <a:lnTo>
                  <a:pt x="12" y="1857"/>
                </a:lnTo>
                <a:lnTo>
                  <a:pt x="13" y="1857"/>
                </a:lnTo>
                <a:lnTo>
                  <a:pt x="16" y="1860"/>
                </a:lnTo>
                <a:lnTo>
                  <a:pt x="18" y="1862"/>
                </a:lnTo>
                <a:lnTo>
                  <a:pt x="19" y="1864"/>
                </a:lnTo>
                <a:lnTo>
                  <a:pt x="19" y="1865"/>
                </a:lnTo>
                <a:lnTo>
                  <a:pt x="19" y="1920"/>
                </a:lnTo>
                <a:lnTo>
                  <a:pt x="19" y="1922"/>
                </a:lnTo>
                <a:lnTo>
                  <a:pt x="18" y="1923"/>
                </a:lnTo>
                <a:lnTo>
                  <a:pt x="16" y="1926"/>
                </a:lnTo>
                <a:lnTo>
                  <a:pt x="13" y="1927"/>
                </a:lnTo>
                <a:lnTo>
                  <a:pt x="12" y="1929"/>
                </a:lnTo>
                <a:lnTo>
                  <a:pt x="10" y="1929"/>
                </a:lnTo>
                <a:lnTo>
                  <a:pt x="7" y="1929"/>
                </a:lnTo>
                <a:lnTo>
                  <a:pt x="6" y="1927"/>
                </a:lnTo>
                <a:lnTo>
                  <a:pt x="3" y="1926"/>
                </a:lnTo>
                <a:lnTo>
                  <a:pt x="2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2" y="1736"/>
                </a:lnTo>
                <a:lnTo>
                  <a:pt x="3" y="1733"/>
                </a:lnTo>
                <a:lnTo>
                  <a:pt x="6" y="1731"/>
                </a:lnTo>
                <a:lnTo>
                  <a:pt x="7" y="1730"/>
                </a:lnTo>
                <a:lnTo>
                  <a:pt x="10" y="1730"/>
                </a:lnTo>
                <a:lnTo>
                  <a:pt x="12" y="1730"/>
                </a:lnTo>
                <a:lnTo>
                  <a:pt x="13" y="1731"/>
                </a:lnTo>
                <a:lnTo>
                  <a:pt x="16" y="1733"/>
                </a:lnTo>
                <a:lnTo>
                  <a:pt x="18" y="1736"/>
                </a:lnTo>
                <a:lnTo>
                  <a:pt x="19" y="1737"/>
                </a:lnTo>
                <a:lnTo>
                  <a:pt x="19" y="1740"/>
                </a:lnTo>
                <a:lnTo>
                  <a:pt x="19" y="1793"/>
                </a:lnTo>
                <a:lnTo>
                  <a:pt x="19" y="1795"/>
                </a:lnTo>
                <a:lnTo>
                  <a:pt x="18" y="1796"/>
                </a:lnTo>
                <a:lnTo>
                  <a:pt x="16" y="1799"/>
                </a:lnTo>
                <a:lnTo>
                  <a:pt x="13" y="1802"/>
                </a:lnTo>
                <a:lnTo>
                  <a:pt x="12" y="1802"/>
                </a:lnTo>
                <a:lnTo>
                  <a:pt x="10" y="1802"/>
                </a:lnTo>
                <a:lnTo>
                  <a:pt x="7" y="1802"/>
                </a:lnTo>
                <a:lnTo>
                  <a:pt x="6" y="1802"/>
                </a:lnTo>
                <a:lnTo>
                  <a:pt x="3" y="1799"/>
                </a:lnTo>
                <a:lnTo>
                  <a:pt x="2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2" y="1611"/>
                </a:lnTo>
                <a:lnTo>
                  <a:pt x="3" y="1608"/>
                </a:lnTo>
                <a:lnTo>
                  <a:pt x="6" y="1605"/>
                </a:lnTo>
                <a:lnTo>
                  <a:pt x="7" y="1605"/>
                </a:lnTo>
                <a:lnTo>
                  <a:pt x="10" y="1605"/>
                </a:lnTo>
                <a:lnTo>
                  <a:pt x="12" y="1605"/>
                </a:lnTo>
                <a:lnTo>
                  <a:pt x="13" y="1605"/>
                </a:lnTo>
                <a:lnTo>
                  <a:pt x="16" y="1608"/>
                </a:lnTo>
                <a:lnTo>
                  <a:pt x="18" y="1611"/>
                </a:lnTo>
                <a:lnTo>
                  <a:pt x="19" y="1612"/>
                </a:lnTo>
                <a:lnTo>
                  <a:pt x="19" y="1613"/>
                </a:lnTo>
                <a:lnTo>
                  <a:pt x="19" y="1668"/>
                </a:lnTo>
                <a:lnTo>
                  <a:pt x="19" y="1670"/>
                </a:lnTo>
                <a:lnTo>
                  <a:pt x="18" y="1671"/>
                </a:lnTo>
                <a:lnTo>
                  <a:pt x="16" y="1674"/>
                </a:lnTo>
                <a:lnTo>
                  <a:pt x="13" y="1675"/>
                </a:lnTo>
                <a:lnTo>
                  <a:pt x="12" y="1677"/>
                </a:lnTo>
                <a:lnTo>
                  <a:pt x="10" y="1677"/>
                </a:lnTo>
                <a:lnTo>
                  <a:pt x="7" y="1677"/>
                </a:lnTo>
                <a:lnTo>
                  <a:pt x="6" y="1675"/>
                </a:lnTo>
                <a:lnTo>
                  <a:pt x="3" y="1674"/>
                </a:lnTo>
                <a:lnTo>
                  <a:pt x="2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2" y="1484"/>
                </a:lnTo>
                <a:lnTo>
                  <a:pt x="3" y="1481"/>
                </a:lnTo>
                <a:lnTo>
                  <a:pt x="6" y="1480"/>
                </a:lnTo>
                <a:lnTo>
                  <a:pt x="7" y="1478"/>
                </a:lnTo>
                <a:lnTo>
                  <a:pt x="10" y="1478"/>
                </a:lnTo>
                <a:lnTo>
                  <a:pt x="12" y="1478"/>
                </a:lnTo>
                <a:lnTo>
                  <a:pt x="13" y="1480"/>
                </a:lnTo>
                <a:lnTo>
                  <a:pt x="16" y="1481"/>
                </a:lnTo>
                <a:lnTo>
                  <a:pt x="18" y="1484"/>
                </a:lnTo>
                <a:lnTo>
                  <a:pt x="19" y="1485"/>
                </a:lnTo>
                <a:lnTo>
                  <a:pt x="19" y="1488"/>
                </a:lnTo>
                <a:lnTo>
                  <a:pt x="19" y="1541"/>
                </a:lnTo>
                <a:lnTo>
                  <a:pt x="19" y="1543"/>
                </a:lnTo>
                <a:lnTo>
                  <a:pt x="18" y="1544"/>
                </a:lnTo>
                <a:lnTo>
                  <a:pt x="16" y="1547"/>
                </a:lnTo>
                <a:lnTo>
                  <a:pt x="13" y="1550"/>
                </a:lnTo>
                <a:lnTo>
                  <a:pt x="12" y="1550"/>
                </a:lnTo>
                <a:lnTo>
                  <a:pt x="10" y="1550"/>
                </a:lnTo>
                <a:lnTo>
                  <a:pt x="7" y="1550"/>
                </a:lnTo>
                <a:lnTo>
                  <a:pt x="6" y="1550"/>
                </a:lnTo>
                <a:lnTo>
                  <a:pt x="3" y="1547"/>
                </a:lnTo>
                <a:lnTo>
                  <a:pt x="2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2" y="1359"/>
                </a:lnTo>
                <a:lnTo>
                  <a:pt x="3" y="1356"/>
                </a:lnTo>
                <a:lnTo>
                  <a:pt x="6" y="1353"/>
                </a:lnTo>
                <a:lnTo>
                  <a:pt x="7" y="1353"/>
                </a:lnTo>
                <a:lnTo>
                  <a:pt x="10" y="1353"/>
                </a:lnTo>
                <a:lnTo>
                  <a:pt x="12" y="1353"/>
                </a:lnTo>
                <a:lnTo>
                  <a:pt x="13" y="1353"/>
                </a:lnTo>
                <a:lnTo>
                  <a:pt x="16" y="1356"/>
                </a:lnTo>
                <a:lnTo>
                  <a:pt x="18" y="1359"/>
                </a:lnTo>
                <a:lnTo>
                  <a:pt x="19" y="1360"/>
                </a:lnTo>
                <a:lnTo>
                  <a:pt x="19" y="1361"/>
                </a:lnTo>
                <a:lnTo>
                  <a:pt x="19" y="1416"/>
                </a:lnTo>
                <a:lnTo>
                  <a:pt x="19" y="1418"/>
                </a:lnTo>
                <a:lnTo>
                  <a:pt x="18" y="1419"/>
                </a:lnTo>
                <a:lnTo>
                  <a:pt x="16" y="1422"/>
                </a:lnTo>
                <a:lnTo>
                  <a:pt x="13" y="1423"/>
                </a:lnTo>
                <a:lnTo>
                  <a:pt x="12" y="1425"/>
                </a:lnTo>
                <a:lnTo>
                  <a:pt x="10" y="1425"/>
                </a:lnTo>
                <a:lnTo>
                  <a:pt x="7" y="1425"/>
                </a:lnTo>
                <a:lnTo>
                  <a:pt x="6" y="1423"/>
                </a:lnTo>
                <a:lnTo>
                  <a:pt x="3" y="1422"/>
                </a:lnTo>
                <a:lnTo>
                  <a:pt x="2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2" y="1232"/>
                </a:lnTo>
                <a:lnTo>
                  <a:pt x="3" y="1229"/>
                </a:lnTo>
                <a:lnTo>
                  <a:pt x="6" y="1228"/>
                </a:lnTo>
                <a:lnTo>
                  <a:pt x="7" y="1226"/>
                </a:lnTo>
                <a:lnTo>
                  <a:pt x="10" y="1226"/>
                </a:lnTo>
                <a:lnTo>
                  <a:pt x="12" y="1226"/>
                </a:lnTo>
                <a:lnTo>
                  <a:pt x="13" y="1228"/>
                </a:lnTo>
                <a:lnTo>
                  <a:pt x="16" y="1229"/>
                </a:lnTo>
                <a:lnTo>
                  <a:pt x="18" y="1232"/>
                </a:lnTo>
                <a:lnTo>
                  <a:pt x="19" y="1233"/>
                </a:lnTo>
                <a:lnTo>
                  <a:pt x="19" y="1236"/>
                </a:lnTo>
                <a:lnTo>
                  <a:pt x="19" y="1289"/>
                </a:lnTo>
                <a:lnTo>
                  <a:pt x="19" y="1291"/>
                </a:lnTo>
                <a:lnTo>
                  <a:pt x="18" y="1292"/>
                </a:lnTo>
                <a:lnTo>
                  <a:pt x="16" y="1295"/>
                </a:lnTo>
                <a:lnTo>
                  <a:pt x="13" y="1298"/>
                </a:lnTo>
                <a:lnTo>
                  <a:pt x="12" y="1298"/>
                </a:lnTo>
                <a:lnTo>
                  <a:pt x="10" y="1298"/>
                </a:lnTo>
                <a:lnTo>
                  <a:pt x="7" y="1298"/>
                </a:lnTo>
                <a:lnTo>
                  <a:pt x="6" y="1298"/>
                </a:lnTo>
                <a:lnTo>
                  <a:pt x="3" y="1295"/>
                </a:lnTo>
                <a:lnTo>
                  <a:pt x="2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2" y="1107"/>
                </a:lnTo>
                <a:lnTo>
                  <a:pt x="3" y="1104"/>
                </a:lnTo>
                <a:lnTo>
                  <a:pt x="6" y="1101"/>
                </a:lnTo>
                <a:lnTo>
                  <a:pt x="7" y="1101"/>
                </a:lnTo>
                <a:lnTo>
                  <a:pt x="10" y="1101"/>
                </a:lnTo>
                <a:lnTo>
                  <a:pt x="12" y="1101"/>
                </a:lnTo>
                <a:lnTo>
                  <a:pt x="13" y="1101"/>
                </a:lnTo>
                <a:lnTo>
                  <a:pt x="16" y="1104"/>
                </a:lnTo>
                <a:lnTo>
                  <a:pt x="18" y="1107"/>
                </a:lnTo>
                <a:lnTo>
                  <a:pt x="19" y="1108"/>
                </a:lnTo>
                <a:lnTo>
                  <a:pt x="19" y="1110"/>
                </a:lnTo>
                <a:lnTo>
                  <a:pt x="19" y="1164"/>
                </a:lnTo>
                <a:lnTo>
                  <a:pt x="19" y="1166"/>
                </a:lnTo>
                <a:lnTo>
                  <a:pt x="18" y="1167"/>
                </a:lnTo>
                <a:lnTo>
                  <a:pt x="16" y="1170"/>
                </a:lnTo>
                <a:lnTo>
                  <a:pt x="13" y="1171"/>
                </a:lnTo>
                <a:lnTo>
                  <a:pt x="12" y="1173"/>
                </a:lnTo>
                <a:lnTo>
                  <a:pt x="10" y="1173"/>
                </a:lnTo>
                <a:lnTo>
                  <a:pt x="7" y="1173"/>
                </a:lnTo>
                <a:lnTo>
                  <a:pt x="6" y="1171"/>
                </a:lnTo>
                <a:lnTo>
                  <a:pt x="3" y="1170"/>
                </a:lnTo>
                <a:lnTo>
                  <a:pt x="2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2" y="980"/>
                </a:lnTo>
                <a:lnTo>
                  <a:pt x="3" y="977"/>
                </a:lnTo>
                <a:lnTo>
                  <a:pt x="6" y="976"/>
                </a:lnTo>
                <a:lnTo>
                  <a:pt x="7" y="974"/>
                </a:lnTo>
                <a:lnTo>
                  <a:pt x="10" y="974"/>
                </a:lnTo>
                <a:lnTo>
                  <a:pt x="12" y="974"/>
                </a:lnTo>
                <a:lnTo>
                  <a:pt x="13" y="976"/>
                </a:lnTo>
                <a:lnTo>
                  <a:pt x="16" y="977"/>
                </a:lnTo>
                <a:lnTo>
                  <a:pt x="18" y="980"/>
                </a:lnTo>
                <a:lnTo>
                  <a:pt x="19" y="981"/>
                </a:lnTo>
                <a:lnTo>
                  <a:pt x="19" y="984"/>
                </a:lnTo>
                <a:lnTo>
                  <a:pt x="19" y="1038"/>
                </a:lnTo>
                <a:lnTo>
                  <a:pt x="19" y="1039"/>
                </a:lnTo>
                <a:lnTo>
                  <a:pt x="18" y="1040"/>
                </a:lnTo>
                <a:lnTo>
                  <a:pt x="16" y="1043"/>
                </a:lnTo>
                <a:lnTo>
                  <a:pt x="13" y="1046"/>
                </a:lnTo>
                <a:lnTo>
                  <a:pt x="12" y="1046"/>
                </a:lnTo>
                <a:lnTo>
                  <a:pt x="10" y="1046"/>
                </a:lnTo>
                <a:lnTo>
                  <a:pt x="7" y="1046"/>
                </a:lnTo>
                <a:lnTo>
                  <a:pt x="6" y="1046"/>
                </a:lnTo>
                <a:lnTo>
                  <a:pt x="3" y="1043"/>
                </a:lnTo>
                <a:lnTo>
                  <a:pt x="2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2" y="855"/>
                </a:lnTo>
                <a:lnTo>
                  <a:pt x="3" y="852"/>
                </a:lnTo>
                <a:lnTo>
                  <a:pt x="6" y="849"/>
                </a:lnTo>
                <a:lnTo>
                  <a:pt x="7" y="849"/>
                </a:lnTo>
                <a:lnTo>
                  <a:pt x="10" y="849"/>
                </a:lnTo>
                <a:lnTo>
                  <a:pt x="12" y="849"/>
                </a:lnTo>
                <a:lnTo>
                  <a:pt x="13" y="849"/>
                </a:lnTo>
                <a:lnTo>
                  <a:pt x="16" y="852"/>
                </a:lnTo>
                <a:lnTo>
                  <a:pt x="18" y="855"/>
                </a:lnTo>
                <a:lnTo>
                  <a:pt x="19" y="856"/>
                </a:lnTo>
                <a:lnTo>
                  <a:pt x="19" y="858"/>
                </a:lnTo>
                <a:lnTo>
                  <a:pt x="19" y="912"/>
                </a:lnTo>
                <a:lnTo>
                  <a:pt x="19" y="914"/>
                </a:lnTo>
                <a:lnTo>
                  <a:pt x="18" y="915"/>
                </a:lnTo>
                <a:lnTo>
                  <a:pt x="16" y="918"/>
                </a:lnTo>
                <a:lnTo>
                  <a:pt x="13" y="919"/>
                </a:lnTo>
                <a:lnTo>
                  <a:pt x="12" y="921"/>
                </a:lnTo>
                <a:lnTo>
                  <a:pt x="10" y="921"/>
                </a:lnTo>
                <a:lnTo>
                  <a:pt x="7" y="921"/>
                </a:lnTo>
                <a:lnTo>
                  <a:pt x="6" y="919"/>
                </a:lnTo>
                <a:lnTo>
                  <a:pt x="3" y="918"/>
                </a:lnTo>
                <a:lnTo>
                  <a:pt x="2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2" y="728"/>
                </a:lnTo>
                <a:lnTo>
                  <a:pt x="3" y="725"/>
                </a:lnTo>
                <a:lnTo>
                  <a:pt x="6" y="724"/>
                </a:lnTo>
                <a:lnTo>
                  <a:pt x="7" y="722"/>
                </a:lnTo>
                <a:lnTo>
                  <a:pt x="10" y="722"/>
                </a:lnTo>
                <a:lnTo>
                  <a:pt x="12" y="722"/>
                </a:lnTo>
                <a:lnTo>
                  <a:pt x="13" y="724"/>
                </a:lnTo>
                <a:lnTo>
                  <a:pt x="16" y="725"/>
                </a:lnTo>
                <a:lnTo>
                  <a:pt x="18" y="728"/>
                </a:lnTo>
                <a:lnTo>
                  <a:pt x="19" y="729"/>
                </a:lnTo>
                <a:lnTo>
                  <a:pt x="19" y="732"/>
                </a:lnTo>
                <a:lnTo>
                  <a:pt x="19" y="786"/>
                </a:lnTo>
                <a:lnTo>
                  <a:pt x="19" y="787"/>
                </a:lnTo>
                <a:lnTo>
                  <a:pt x="18" y="788"/>
                </a:lnTo>
                <a:lnTo>
                  <a:pt x="16" y="791"/>
                </a:lnTo>
                <a:lnTo>
                  <a:pt x="13" y="794"/>
                </a:lnTo>
                <a:lnTo>
                  <a:pt x="12" y="794"/>
                </a:lnTo>
                <a:lnTo>
                  <a:pt x="10" y="794"/>
                </a:lnTo>
                <a:lnTo>
                  <a:pt x="7" y="794"/>
                </a:lnTo>
                <a:lnTo>
                  <a:pt x="6" y="794"/>
                </a:lnTo>
                <a:lnTo>
                  <a:pt x="3" y="791"/>
                </a:lnTo>
                <a:lnTo>
                  <a:pt x="2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2" y="603"/>
                </a:lnTo>
                <a:lnTo>
                  <a:pt x="3" y="600"/>
                </a:lnTo>
                <a:lnTo>
                  <a:pt x="6" y="597"/>
                </a:lnTo>
                <a:lnTo>
                  <a:pt x="7" y="597"/>
                </a:lnTo>
                <a:lnTo>
                  <a:pt x="10" y="597"/>
                </a:lnTo>
                <a:lnTo>
                  <a:pt x="12" y="597"/>
                </a:lnTo>
                <a:lnTo>
                  <a:pt x="13" y="597"/>
                </a:lnTo>
                <a:lnTo>
                  <a:pt x="16" y="600"/>
                </a:lnTo>
                <a:lnTo>
                  <a:pt x="18" y="603"/>
                </a:lnTo>
                <a:lnTo>
                  <a:pt x="19" y="604"/>
                </a:lnTo>
                <a:lnTo>
                  <a:pt x="19" y="606"/>
                </a:lnTo>
                <a:lnTo>
                  <a:pt x="19" y="660"/>
                </a:lnTo>
                <a:lnTo>
                  <a:pt x="19" y="662"/>
                </a:lnTo>
                <a:lnTo>
                  <a:pt x="18" y="663"/>
                </a:lnTo>
                <a:lnTo>
                  <a:pt x="16" y="666"/>
                </a:lnTo>
                <a:lnTo>
                  <a:pt x="13" y="668"/>
                </a:lnTo>
                <a:lnTo>
                  <a:pt x="12" y="669"/>
                </a:lnTo>
                <a:lnTo>
                  <a:pt x="10" y="669"/>
                </a:lnTo>
                <a:lnTo>
                  <a:pt x="7" y="669"/>
                </a:lnTo>
                <a:lnTo>
                  <a:pt x="6" y="668"/>
                </a:lnTo>
                <a:lnTo>
                  <a:pt x="3" y="666"/>
                </a:lnTo>
                <a:lnTo>
                  <a:pt x="2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2" y="476"/>
                </a:lnTo>
                <a:lnTo>
                  <a:pt x="3" y="473"/>
                </a:lnTo>
                <a:lnTo>
                  <a:pt x="6" y="472"/>
                </a:lnTo>
                <a:lnTo>
                  <a:pt x="7" y="470"/>
                </a:lnTo>
                <a:lnTo>
                  <a:pt x="10" y="470"/>
                </a:lnTo>
                <a:lnTo>
                  <a:pt x="12" y="470"/>
                </a:lnTo>
                <a:lnTo>
                  <a:pt x="13" y="472"/>
                </a:lnTo>
                <a:lnTo>
                  <a:pt x="16" y="473"/>
                </a:lnTo>
                <a:lnTo>
                  <a:pt x="18" y="476"/>
                </a:lnTo>
                <a:lnTo>
                  <a:pt x="19" y="477"/>
                </a:lnTo>
                <a:lnTo>
                  <a:pt x="19" y="480"/>
                </a:lnTo>
                <a:lnTo>
                  <a:pt x="19" y="534"/>
                </a:lnTo>
                <a:lnTo>
                  <a:pt x="19" y="535"/>
                </a:lnTo>
                <a:lnTo>
                  <a:pt x="18" y="537"/>
                </a:lnTo>
                <a:lnTo>
                  <a:pt x="16" y="539"/>
                </a:lnTo>
                <a:lnTo>
                  <a:pt x="13" y="542"/>
                </a:lnTo>
                <a:lnTo>
                  <a:pt x="12" y="542"/>
                </a:lnTo>
                <a:lnTo>
                  <a:pt x="10" y="542"/>
                </a:lnTo>
                <a:lnTo>
                  <a:pt x="7" y="542"/>
                </a:lnTo>
                <a:lnTo>
                  <a:pt x="6" y="542"/>
                </a:lnTo>
                <a:lnTo>
                  <a:pt x="3" y="539"/>
                </a:lnTo>
                <a:lnTo>
                  <a:pt x="2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2" y="351"/>
                </a:lnTo>
                <a:lnTo>
                  <a:pt x="3" y="348"/>
                </a:lnTo>
                <a:lnTo>
                  <a:pt x="6" y="345"/>
                </a:lnTo>
                <a:lnTo>
                  <a:pt x="7" y="345"/>
                </a:lnTo>
                <a:lnTo>
                  <a:pt x="10" y="345"/>
                </a:lnTo>
                <a:lnTo>
                  <a:pt x="12" y="345"/>
                </a:lnTo>
                <a:lnTo>
                  <a:pt x="13" y="345"/>
                </a:lnTo>
                <a:lnTo>
                  <a:pt x="16" y="348"/>
                </a:lnTo>
                <a:lnTo>
                  <a:pt x="18" y="351"/>
                </a:lnTo>
                <a:lnTo>
                  <a:pt x="19" y="352"/>
                </a:lnTo>
                <a:lnTo>
                  <a:pt x="19" y="354"/>
                </a:lnTo>
                <a:lnTo>
                  <a:pt x="19" y="408"/>
                </a:lnTo>
                <a:lnTo>
                  <a:pt x="19" y="410"/>
                </a:lnTo>
                <a:lnTo>
                  <a:pt x="18" y="411"/>
                </a:lnTo>
                <a:lnTo>
                  <a:pt x="16" y="414"/>
                </a:lnTo>
                <a:lnTo>
                  <a:pt x="13" y="416"/>
                </a:lnTo>
                <a:lnTo>
                  <a:pt x="12" y="417"/>
                </a:lnTo>
                <a:lnTo>
                  <a:pt x="10" y="417"/>
                </a:lnTo>
                <a:lnTo>
                  <a:pt x="7" y="417"/>
                </a:lnTo>
                <a:lnTo>
                  <a:pt x="6" y="416"/>
                </a:lnTo>
                <a:lnTo>
                  <a:pt x="3" y="414"/>
                </a:lnTo>
                <a:lnTo>
                  <a:pt x="2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2" y="224"/>
                </a:lnTo>
                <a:lnTo>
                  <a:pt x="3" y="221"/>
                </a:lnTo>
                <a:lnTo>
                  <a:pt x="6" y="220"/>
                </a:lnTo>
                <a:lnTo>
                  <a:pt x="7" y="218"/>
                </a:lnTo>
                <a:lnTo>
                  <a:pt x="10" y="218"/>
                </a:lnTo>
                <a:lnTo>
                  <a:pt x="12" y="218"/>
                </a:lnTo>
                <a:lnTo>
                  <a:pt x="13" y="220"/>
                </a:lnTo>
                <a:lnTo>
                  <a:pt x="16" y="221"/>
                </a:lnTo>
                <a:lnTo>
                  <a:pt x="18" y="224"/>
                </a:lnTo>
                <a:lnTo>
                  <a:pt x="19" y="226"/>
                </a:lnTo>
                <a:lnTo>
                  <a:pt x="19" y="228"/>
                </a:lnTo>
                <a:lnTo>
                  <a:pt x="19" y="282"/>
                </a:lnTo>
                <a:lnTo>
                  <a:pt x="19" y="283"/>
                </a:lnTo>
                <a:lnTo>
                  <a:pt x="18" y="285"/>
                </a:lnTo>
                <a:lnTo>
                  <a:pt x="16" y="287"/>
                </a:lnTo>
                <a:lnTo>
                  <a:pt x="13" y="290"/>
                </a:lnTo>
                <a:lnTo>
                  <a:pt x="12" y="290"/>
                </a:lnTo>
                <a:lnTo>
                  <a:pt x="10" y="290"/>
                </a:lnTo>
                <a:lnTo>
                  <a:pt x="7" y="290"/>
                </a:lnTo>
                <a:lnTo>
                  <a:pt x="6" y="290"/>
                </a:lnTo>
                <a:lnTo>
                  <a:pt x="3" y="287"/>
                </a:lnTo>
                <a:lnTo>
                  <a:pt x="2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2" y="99"/>
                </a:lnTo>
                <a:lnTo>
                  <a:pt x="3" y="96"/>
                </a:lnTo>
                <a:lnTo>
                  <a:pt x="6" y="93"/>
                </a:lnTo>
                <a:lnTo>
                  <a:pt x="7" y="93"/>
                </a:lnTo>
                <a:lnTo>
                  <a:pt x="10" y="93"/>
                </a:lnTo>
                <a:lnTo>
                  <a:pt x="12" y="93"/>
                </a:lnTo>
                <a:lnTo>
                  <a:pt x="13" y="93"/>
                </a:lnTo>
                <a:lnTo>
                  <a:pt x="16" y="96"/>
                </a:lnTo>
                <a:lnTo>
                  <a:pt x="18" y="99"/>
                </a:lnTo>
                <a:lnTo>
                  <a:pt x="19" y="100"/>
                </a:lnTo>
                <a:lnTo>
                  <a:pt x="19" y="102"/>
                </a:lnTo>
                <a:lnTo>
                  <a:pt x="19" y="156"/>
                </a:lnTo>
                <a:lnTo>
                  <a:pt x="19" y="158"/>
                </a:lnTo>
                <a:lnTo>
                  <a:pt x="18" y="159"/>
                </a:lnTo>
                <a:lnTo>
                  <a:pt x="16" y="162"/>
                </a:lnTo>
                <a:lnTo>
                  <a:pt x="13" y="164"/>
                </a:lnTo>
                <a:lnTo>
                  <a:pt x="12" y="165"/>
                </a:lnTo>
                <a:lnTo>
                  <a:pt x="10" y="165"/>
                </a:lnTo>
                <a:lnTo>
                  <a:pt x="7" y="165"/>
                </a:lnTo>
                <a:lnTo>
                  <a:pt x="6" y="164"/>
                </a:lnTo>
                <a:lnTo>
                  <a:pt x="3" y="162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6" y="2"/>
                </a:lnTo>
                <a:lnTo>
                  <a:pt x="18" y="5"/>
                </a:lnTo>
                <a:lnTo>
                  <a:pt x="19" y="7"/>
                </a:lnTo>
                <a:lnTo>
                  <a:pt x="19" y="10"/>
                </a:lnTo>
                <a:lnTo>
                  <a:pt x="19" y="30"/>
                </a:lnTo>
                <a:lnTo>
                  <a:pt x="19" y="31"/>
                </a:lnTo>
                <a:lnTo>
                  <a:pt x="18" y="33"/>
                </a:lnTo>
                <a:lnTo>
                  <a:pt x="16" y="35"/>
                </a:lnTo>
                <a:lnTo>
                  <a:pt x="13" y="38"/>
                </a:lnTo>
                <a:lnTo>
                  <a:pt x="12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3" y="35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5608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549760" y="1728720"/>
            <a:ext cx="7920" cy="3954600"/>
          </a:xfrm>
          <a:custGeom>
            <a:avLst/>
            <a:gdLst/>
            <a:ahLst/>
            <a:rect l="l" t="t" r="r" b="b"/>
            <a:pathLst>
              <a:path w="18" h="7472">
                <a:moveTo>
                  <a:pt x="0" y="7463"/>
                </a:moveTo>
                <a:lnTo>
                  <a:pt x="0" y="7408"/>
                </a:lnTo>
                <a:lnTo>
                  <a:pt x="0" y="7407"/>
                </a:lnTo>
                <a:lnTo>
                  <a:pt x="1" y="7405"/>
                </a:lnTo>
                <a:lnTo>
                  <a:pt x="2" y="7403"/>
                </a:lnTo>
                <a:lnTo>
                  <a:pt x="5" y="7400"/>
                </a:lnTo>
                <a:lnTo>
                  <a:pt x="7" y="7400"/>
                </a:lnTo>
                <a:lnTo>
                  <a:pt x="10" y="7400"/>
                </a:lnTo>
                <a:lnTo>
                  <a:pt x="11" y="7400"/>
                </a:lnTo>
                <a:lnTo>
                  <a:pt x="13" y="7400"/>
                </a:lnTo>
                <a:lnTo>
                  <a:pt x="15" y="7403"/>
                </a:lnTo>
                <a:lnTo>
                  <a:pt x="17" y="7405"/>
                </a:lnTo>
                <a:lnTo>
                  <a:pt x="18" y="7407"/>
                </a:lnTo>
                <a:lnTo>
                  <a:pt x="18" y="7408"/>
                </a:lnTo>
                <a:lnTo>
                  <a:pt x="18" y="7463"/>
                </a:lnTo>
                <a:lnTo>
                  <a:pt x="18" y="7464"/>
                </a:lnTo>
                <a:lnTo>
                  <a:pt x="17" y="7466"/>
                </a:lnTo>
                <a:lnTo>
                  <a:pt x="15" y="7469"/>
                </a:lnTo>
                <a:lnTo>
                  <a:pt x="13" y="7470"/>
                </a:lnTo>
                <a:lnTo>
                  <a:pt x="11" y="7472"/>
                </a:lnTo>
                <a:lnTo>
                  <a:pt x="10" y="7472"/>
                </a:lnTo>
                <a:lnTo>
                  <a:pt x="7" y="7472"/>
                </a:lnTo>
                <a:lnTo>
                  <a:pt x="5" y="7470"/>
                </a:lnTo>
                <a:lnTo>
                  <a:pt x="2" y="7469"/>
                </a:lnTo>
                <a:lnTo>
                  <a:pt x="1" y="7466"/>
                </a:lnTo>
                <a:lnTo>
                  <a:pt x="0" y="7464"/>
                </a:lnTo>
                <a:lnTo>
                  <a:pt x="0" y="7463"/>
                </a:lnTo>
                <a:lnTo>
                  <a:pt x="0" y="7463"/>
                </a:lnTo>
                <a:close/>
                <a:moveTo>
                  <a:pt x="0" y="7336"/>
                </a:moveTo>
                <a:lnTo>
                  <a:pt x="0" y="7283"/>
                </a:lnTo>
                <a:lnTo>
                  <a:pt x="0" y="7280"/>
                </a:lnTo>
                <a:lnTo>
                  <a:pt x="1" y="7279"/>
                </a:lnTo>
                <a:lnTo>
                  <a:pt x="2" y="7276"/>
                </a:lnTo>
                <a:lnTo>
                  <a:pt x="5" y="7274"/>
                </a:lnTo>
                <a:lnTo>
                  <a:pt x="7" y="7273"/>
                </a:lnTo>
                <a:lnTo>
                  <a:pt x="10" y="7273"/>
                </a:lnTo>
                <a:lnTo>
                  <a:pt x="11" y="7273"/>
                </a:lnTo>
                <a:lnTo>
                  <a:pt x="13" y="7274"/>
                </a:lnTo>
                <a:lnTo>
                  <a:pt x="15" y="7276"/>
                </a:lnTo>
                <a:lnTo>
                  <a:pt x="17" y="7279"/>
                </a:lnTo>
                <a:lnTo>
                  <a:pt x="18" y="7280"/>
                </a:lnTo>
                <a:lnTo>
                  <a:pt x="18" y="7283"/>
                </a:lnTo>
                <a:lnTo>
                  <a:pt x="18" y="7336"/>
                </a:lnTo>
                <a:lnTo>
                  <a:pt x="18" y="7338"/>
                </a:lnTo>
                <a:lnTo>
                  <a:pt x="17" y="7339"/>
                </a:lnTo>
                <a:lnTo>
                  <a:pt x="15" y="7342"/>
                </a:lnTo>
                <a:lnTo>
                  <a:pt x="13" y="7345"/>
                </a:lnTo>
                <a:lnTo>
                  <a:pt x="11" y="7345"/>
                </a:lnTo>
                <a:lnTo>
                  <a:pt x="10" y="7345"/>
                </a:lnTo>
                <a:lnTo>
                  <a:pt x="7" y="7345"/>
                </a:lnTo>
                <a:lnTo>
                  <a:pt x="5" y="7345"/>
                </a:lnTo>
                <a:lnTo>
                  <a:pt x="2" y="7342"/>
                </a:lnTo>
                <a:lnTo>
                  <a:pt x="1" y="7339"/>
                </a:lnTo>
                <a:lnTo>
                  <a:pt x="0" y="7338"/>
                </a:lnTo>
                <a:lnTo>
                  <a:pt x="0" y="7336"/>
                </a:lnTo>
                <a:lnTo>
                  <a:pt x="0" y="7336"/>
                </a:lnTo>
                <a:close/>
                <a:moveTo>
                  <a:pt x="0" y="7211"/>
                </a:moveTo>
                <a:lnTo>
                  <a:pt x="0" y="7156"/>
                </a:lnTo>
                <a:lnTo>
                  <a:pt x="0" y="7155"/>
                </a:lnTo>
                <a:lnTo>
                  <a:pt x="1" y="7153"/>
                </a:lnTo>
                <a:lnTo>
                  <a:pt x="2" y="7151"/>
                </a:lnTo>
                <a:lnTo>
                  <a:pt x="5" y="7148"/>
                </a:lnTo>
                <a:lnTo>
                  <a:pt x="7" y="7148"/>
                </a:lnTo>
                <a:lnTo>
                  <a:pt x="10" y="7148"/>
                </a:lnTo>
                <a:lnTo>
                  <a:pt x="11" y="7148"/>
                </a:lnTo>
                <a:lnTo>
                  <a:pt x="13" y="7148"/>
                </a:lnTo>
                <a:lnTo>
                  <a:pt x="15" y="7151"/>
                </a:lnTo>
                <a:lnTo>
                  <a:pt x="17" y="7153"/>
                </a:lnTo>
                <a:lnTo>
                  <a:pt x="18" y="7155"/>
                </a:lnTo>
                <a:lnTo>
                  <a:pt x="18" y="7156"/>
                </a:lnTo>
                <a:lnTo>
                  <a:pt x="18" y="7211"/>
                </a:lnTo>
                <a:lnTo>
                  <a:pt x="18" y="7212"/>
                </a:lnTo>
                <a:lnTo>
                  <a:pt x="17" y="7214"/>
                </a:lnTo>
                <a:lnTo>
                  <a:pt x="15" y="7217"/>
                </a:lnTo>
                <a:lnTo>
                  <a:pt x="13" y="7218"/>
                </a:lnTo>
                <a:lnTo>
                  <a:pt x="11" y="7220"/>
                </a:lnTo>
                <a:lnTo>
                  <a:pt x="10" y="7220"/>
                </a:lnTo>
                <a:lnTo>
                  <a:pt x="7" y="7220"/>
                </a:lnTo>
                <a:lnTo>
                  <a:pt x="5" y="7218"/>
                </a:lnTo>
                <a:lnTo>
                  <a:pt x="2" y="7217"/>
                </a:lnTo>
                <a:lnTo>
                  <a:pt x="1" y="7214"/>
                </a:lnTo>
                <a:lnTo>
                  <a:pt x="0" y="7212"/>
                </a:lnTo>
                <a:lnTo>
                  <a:pt x="0" y="7211"/>
                </a:lnTo>
                <a:lnTo>
                  <a:pt x="0" y="7211"/>
                </a:lnTo>
                <a:close/>
                <a:moveTo>
                  <a:pt x="0" y="7084"/>
                </a:moveTo>
                <a:lnTo>
                  <a:pt x="0" y="7031"/>
                </a:lnTo>
                <a:lnTo>
                  <a:pt x="0" y="7028"/>
                </a:lnTo>
                <a:lnTo>
                  <a:pt x="1" y="7027"/>
                </a:lnTo>
                <a:lnTo>
                  <a:pt x="2" y="7024"/>
                </a:lnTo>
                <a:lnTo>
                  <a:pt x="5" y="7022"/>
                </a:lnTo>
                <a:lnTo>
                  <a:pt x="7" y="7021"/>
                </a:lnTo>
                <a:lnTo>
                  <a:pt x="10" y="7021"/>
                </a:lnTo>
                <a:lnTo>
                  <a:pt x="11" y="7021"/>
                </a:lnTo>
                <a:lnTo>
                  <a:pt x="13" y="7022"/>
                </a:lnTo>
                <a:lnTo>
                  <a:pt x="15" y="7024"/>
                </a:lnTo>
                <a:lnTo>
                  <a:pt x="17" y="7027"/>
                </a:lnTo>
                <a:lnTo>
                  <a:pt x="18" y="7028"/>
                </a:lnTo>
                <a:lnTo>
                  <a:pt x="18" y="7031"/>
                </a:lnTo>
                <a:lnTo>
                  <a:pt x="18" y="7084"/>
                </a:lnTo>
                <a:lnTo>
                  <a:pt x="18" y="7086"/>
                </a:lnTo>
                <a:lnTo>
                  <a:pt x="17" y="7087"/>
                </a:lnTo>
                <a:lnTo>
                  <a:pt x="15" y="7090"/>
                </a:lnTo>
                <a:lnTo>
                  <a:pt x="13" y="7093"/>
                </a:lnTo>
                <a:lnTo>
                  <a:pt x="11" y="7093"/>
                </a:lnTo>
                <a:lnTo>
                  <a:pt x="10" y="7093"/>
                </a:lnTo>
                <a:lnTo>
                  <a:pt x="7" y="7093"/>
                </a:lnTo>
                <a:lnTo>
                  <a:pt x="5" y="7093"/>
                </a:lnTo>
                <a:lnTo>
                  <a:pt x="2" y="7090"/>
                </a:lnTo>
                <a:lnTo>
                  <a:pt x="1" y="7087"/>
                </a:lnTo>
                <a:lnTo>
                  <a:pt x="0" y="7086"/>
                </a:lnTo>
                <a:lnTo>
                  <a:pt x="0" y="7084"/>
                </a:lnTo>
                <a:lnTo>
                  <a:pt x="0" y="7084"/>
                </a:lnTo>
                <a:close/>
                <a:moveTo>
                  <a:pt x="0" y="6959"/>
                </a:moveTo>
                <a:lnTo>
                  <a:pt x="0" y="6904"/>
                </a:lnTo>
                <a:lnTo>
                  <a:pt x="0" y="6903"/>
                </a:lnTo>
                <a:lnTo>
                  <a:pt x="1" y="6901"/>
                </a:lnTo>
                <a:lnTo>
                  <a:pt x="2" y="6899"/>
                </a:lnTo>
                <a:lnTo>
                  <a:pt x="5" y="6896"/>
                </a:lnTo>
                <a:lnTo>
                  <a:pt x="7" y="6896"/>
                </a:lnTo>
                <a:lnTo>
                  <a:pt x="10" y="6896"/>
                </a:lnTo>
                <a:lnTo>
                  <a:pt x="11" y="6896"/>
                </a:lnTo>
                <a:lnTo>
                  <a:pt x="13" y="6896"/>
                </a:lnTo>
                <a:lnTo>
                  <a:pt x="15" y="6899"/>
                </a:lnTo>
                <a:lnTo>
                  <a:pt x="17" y="6901"/>
                </a:lnTo>
                <a:lnTo>
                  <a:pt x="18" y="6903"/>
                </a:lnTo>
                <a:lnTo>
                  <a:pt x="18" y="6904"/>
                </a:lnTo>
                <a:lnTo>
                  <a:pt x="18" y="6959"/>
                </a:lnTo>
                <a:lnTo>
                  <a:pt x="18" y="6961"/>
                </a:lnTo>
                <a:lnTo>
                  <a:pt x="17" y="6962"/>
                </a:lnTo>
                <a:lnTo>
                  <a:pt x="15" y="6965"/>
                </a:lnTo>
                <a:lnTo>
                  <a:pt x="13" y="6966"/>
                </a:lnTo>
                <a:lnTo>
                  <a:pt x="11" y="6968"/>
                </a:lnTo>
                <a:lnTo>
                  <a:pt x="10" y="6968"/>
                </a:lnTo>
                <a:lnTo>
                  <a:pt x="7" y="6968"/>
                </a:lnTo>
                <a:lnTo>
                  <a:pt x="5" y="6966"/>
                </a:lnTo>
                <a:lnTo>
                  <a:pt x="2" y="6965"/>
                </a:lnTo>
                <a:lnTo>
                  <a:pt x="1" y="6962"/>
                </a:lnTo>
                <a:lnTo>
                  <a:pt x="0" y="6961"/>
                </a:lnTo>
                <a:lnTo>
                  <a:pt x="0" y="6959"/>
                </a:lnTo>
                <a:lnTo>
                  <a:pt x="0" y="6959"/>
                </a:lnTo>
                <a:close/>
                <a:moveTo>
                  <a:pt x="0" y="6832"/>
                </a:moveTo>
                <a:lnTo>
                  <a:pt x="0" y="6779"/>
                </a:lnTo>
                <a:lnTo>
                  <a:pt x="0" y="6776"/>
                </a:lnTo>
                <a:lnTo>
                  <a:pt x="1" y="6775"/>
                </a:lnTo>
                <a:lnTo>
                  <a:pt x="2" y="6772"/>
                </a:lnTo>
                <a:lnTo>
                  <a:pt x="5" y="6770"/>
                </a:lnTo>
                <a:lnTo>
                  <a:pt x="7" y="6769"/>
                </a:lnTo>
                <a:lnTo>
                  <a:pt x="10" y="6769"/>
                </a:lnTo>
                <a:lnTo>
                  <a:pt x="11" y="6769"/>
                </a:lnTo>
                <a:lnTo>
                  <a:pt x="13" y="6770"/>
                </a:lnTo>
                <a:lnTo>
                  <a:pt x="15" y="6772"/>
                </a:lnTo>
                <a:lnTo>
                  <a:pt x="17" y="6775"/>
                </a:lnTo>
                <a:lnTo>
                  <a:pt x="18" y="6776"/>
                </a:lnTo>
                <a:lnTo>
                  <a:pt x="18" y="6779"/>
                </a:lnTo>
                <a:lnTo>
                  <a:pt x="18" y="6832"/>
                </a:lnTo>
                <a:lnTo>
                  <a:pt x="18" y="6834"/>
                </a:lnTo>
                <a:lnTo>
                  <a:pt x="17" y="6835"/>
                </a:lnTo>
                <a:lnTo>
                  <a:pt x="15" y="6838"/>
                </a:lnTo>
                <a:lnTo>
                  <a:pt x="13" y="6841"/>
                </a:lnTo>
                <a:lnTo>
                  <a:pt x="11" y="6841"/>
                </a:lnTo>
                <a:lnTo>
                  <a:pt x="10" y="6841"/>
                </a:lnTo>
                <a:lnTo>
                  <a:pt x="7" y="6841"/>
                </a:lnTo>
                <a:lnTo>
                  <a:pt x="5" y="6841"/>
                </a:lnTo>
                <a:lnTo>
                  <a:pt x="2" y="6838"/>
                </a:lnTo>
                <a:lnTo>
                  <a:pt x="1" y="6835"/>
                </a:lnTo>
                <a:lnTo>
                  <a:pt x="0" y="6834"/>
                </a:lnTo>
                <a:lnTo>
                  <a:pt x="0" y="6832"/>
                </a:lnTo>
                <a:lnTo>
                  <a:pt x="0" y="6832"/>
                </a:lnTo>
                <a:close/>
                <a:moveTo>
                  <a:pt x="0" y="6707"/>
                </a:moveTo>
                <a:lnTo>
                  <a:pt x="0" y="6652"/>
                </a:lnTo>
                <a:lnTo>
                  <a:pt x="0" y="6651"/>
                </a:lnTo>
                <a:lnTo>
                  <a:pt x="1" y="6650"/>
                </a:lnTo>
                <a:lnTo>
                  <a:pt x="2" y="6647"/>
                </a:lnTo>
                <a:lnTo>
                  <a:pt x="5" y="6644"/>
                </a:lnTo>
                <a:lnTo>
                  <a:pt x="7" y="6644"/>
                </a:lnTo>
                <a:lnTo>
                  <a:pt x="10" y="6644"/>
                </a:lnTo>
                <a:lnTo>
                  <a:pt x="11" y="6644"/>
                </a:lnTo>
                <a:lnTo>
                  <a:pt x="13" y="6644"/>
                </a:lnTo>
                <a:lnTo>
                  <a:pt x="15" y="6647"/>
                </a:lnTo>
                <a:lnTo>
                  <a:pt x="17" y="6650"/>
                </a:lnTo>
                <a:lnTo>
                  <a:pt x="18" y="6651"/>
                </a:lnTo>
                <a:lnTo>
                  <a:pt x="18" y="6652"/>
                </a:lnTo>
                <a:lnTo>
                  <a:pt x="18" y="6707"/>
                </a:lnTo>
                <a:lnTo>
                  <a:pt x="18" y="6709"/>
                </a:lnTo>
                <a:lnTo>
                  <a:pt x="17" y="6710"/>
                </a:lnTo>
                <a:lnTo>
                  <a:pt x="15" y="6713"/>
                </a:lnTo>
                <a:lnTo>
                  <a:pt x="13" y="6714"/>
                </a:lnTo>
                <a:lnTo>
                  <a:pt x="11" y="6716"/>
                </a:lnTo>
                <a:lnTo>
                  <a:pt x="10" y="6716"/>
                </a:lnTo>
                <a:lnTo>
                  <a:pt x="7" y="6716"/>
                </a:lnTo>
                <a:lnTo>
                  <a:pt x="5" y="6714"/>
                </a:lnTo>
                <a:lnTo>
                  <a:pt x="2" y="6713"/>
                </a:lnTo>
                <a:lnTo>
                  <a:pt x="1" y="6710"/>
                </a:lnTo>
                <a:lnTo>
                  <a:pt x="0" y="6709"/>
                </a:lnTo>
                <a:lnTo>
                  <a:pt x="0" y="6707"/>
                </a:lnTo>
                <a:lnTo>
                  <a:pt x="0" y="6707"/>
                </a:lnTo>
                <a:close/>
                <a:moveTo>
                  <a:pt x="0" y="6580"/>
                </a:moveTo>
                <a:lnTo>
                  <a:pt x="0" y="6527"/>
                </a:lnTo>
                <a:lnTo>
                  <a:pt x="0" y="6524"/>
                </a:lnTo>
                <a:lnTo>
                  <a:pt x="1" y="6523"/>
                </a:lnTo>
                <a:lnTo>
                  <a:pt x="2" y="6520"/>
                </a:lnTo>
                <a:lnTo>
                  <a:pt x="5" y="6519"/>
                </a:lnTo>
                <a:lnTo>
                  <a:pt x="7" y="6517"/>
                </a:lnTo>
                <a:lnTo>
                  <a:pt x="10" y="6517"/>
                </a:lnTo>
                <a:lnTo>
                  <a:pt x="11" y="6517"/>
                </a:lnTo>
                <a:lnTo>
                  <a:pt x="13" y="6519"/>
                </a:lnTo>
                <a:lnTo>
                  <a:pt x="15" y="6520"/>
                </a:lnTo>
                <a:lnTo>
                  <a:pt x="17" y="6523"/>
                </a:lnTo>
                <a:lnTo>
                  <a:pt x="18" y="6524"/>
                </a:lnTo>
                <a:lnTo>
                  <a:pt x="18" y="6527"/>
                </a:lnTo>
                <a:lnTo>
                  <a:pt x="18" y="6580"/>
                </a:lnTo>
                <a:lnTo>
                  <a:pt x="18" y="6582"/>
                </a:lnTo>
                <a:lnTo>
                  <a:pt x="17" y="6583"/>
                </a:lnTo>
                <a:lnTo>
                  <a:pt x="15" y="6586"/>
                </a:lnTo>
                <a:lnTo>
                  <a:pt x="13" y="6589"/>
                </a:lnTo>
                <a:lnTo>
                  <a:pt x="11" y="6589"/>
                </a:lnTo>
                <a:lnTo>
                  <a:pt x="10" y="6589"/>
                </a:lnTo>
                <a:lnTo>
                  <a:pt x="7" y="6589"/>
                </a:lnTo>
                <a:lnTo>
                  <a:pt x="5" y="6589"/>
                </a:lnTo>
                <a:lnTo>
                  <a:pt x="2" y="6586"/>
                </a:lnTo>
                <a:lnTo>
                  <a:pt x="1" y="6583"/>
                </a:lnTo>
                <a:lnTo>
                  <a:pt x="0" y="6582"/>
                </a:lnTo>
                <a:lnTo>
                  <a:pt x="0" y="6580"/>
                </a:lnTo>
                <a:lnTo>
                  <a:pt x="0" y="6580"/>
                </a:lnTo>
                <a:close/>
                <a:moveTo>
                  <a:pt x="0" y="6455"/>
                </a:moveTo>
                <a:lnTo>
                  <a:pt x="0" y="6400"/>
                </a:lnTo>
                <a:lnTo>
                  <a:pt x="0" y="6399"/>
                </a:lnTo>
                <a:lnTo>
                  <a:pt x="1" y="6398"/>
                </a:lnTo>
                <a:lnTo>
                  <a:pt x="2" y="6395"/>
                </a:lnTo>
                <a:lnTo>
                  <a:pt x="5" y="6392"/>
                </a:lnTo>
                <a:lnTo>
                  <a:pt x="7" y="6392"/>
                </a:lnTo>
                <a:lnTo>
                  <a:pt x="10" y="6392"/>
                </a:lnTo>
                <a:lnTo>
                  <a:pt x="11" y="6392"/>
                </a:lnTo>
                <a:lnTo>
                  <a:pt x="13" y="6392"/>
                </a:lnTo>
                <a:lnTo>
                  <a:pt x="15" y="6395"/>
                </a:lnTo>
                <a:lnTo>
                  <a:pt x="17" y="6398"/>
                </a:lnTo>
                <a:lnTo>
                  <a:pt x="18" y="6399"/>
                </a:lnTo>
                <a:lnTo>
                  <a:pt x="18" y="6400"/>
                </a:lnTo>
                <a:lnTo>
                  <a:pt x="18" y="6455"/>
                </a:lnTo>
                <a:lnTo>
                  <a:pt x="18" y="6457"/>
                </a:lnTo>
                <a:lnTo>
                  <a:pt x="17" y="6458"/>
                </a:lnTo>
                <a:lnTo>
                  <a:pt x="15" y="6461"/>
                </a:lnTo>
                <a:lnTo>
                  <a:pt x="13" y="6462"/>
                </a:lnTo>
                <a:lnTo>
                  <a:pt x="11" y="6464"/>
                </a:lnTo>
                <a:lnTo>
                  <a:pt x="10" y="6464"/>
                </a:lnTo>
                <a:lnTo>
                  <a:pt x="7" y="6464"/>
                </a:lnTo>
                <a:lnTo>
                  <a:pt x="5" y="6462"/>
                </a:lnTo>
                <a:lnTo>
                  <a:pt x="2" y="6461"/>
                </a:lnTo>
                <a:lnTo>
                  <a:pt x="1" y="6458"/>
                </a:lnTo>
                <a:lnTo>
                  <a:pt x="0" y="6457"/>
                </a:lnTo>
                <a:lnTo>
                  <a:pt x="0" y="6455"/>
                </a:lnTo>
                <a:lnTo>
                  <a:pt x="0" y="6455"/>
                </a:lnTo>
                <a:close/>
                <a:moveTo>
                  <a:pt x="0" y="6328"/>
                </a:moveTo>
                <a:lnTo>
                  <a:pt x="0" y="6275"/>
                </a:lnTo>
                <a:lnTo>
                  <a:pt x="0" y="6272"/>
                </a:lnTo>
                <a:lnTo>
                  <a:pt x="1" y="6271"/>
                </a:lnTo>
                <a:lnTo>
                  <a:pt x="2" y="6268"/>
                </a:lnTo>
                <a:lnTo>
                  <a:pt x="5" y="6267"/>
                </a:lnTo>
                <a:lnTo>
                  <a:pt x="7" y="6265"/>
                </a:lnTo>
                <a:lnTo>
                  <a:pt x="10" y="6265"/>
                </a:lnTo>
                <a:lnTo>
                  <a:pt x="11" y="6265"/>
                </a:lnTo>
                <a:lnTo>
                  <a:pt x="13" y="6267"/>
                </a:lnTo>
                <a:lnTo>
                  <a:pt x="15" y="6268"/>
                </a:lnTo>
                <a:lnTo>
                  <a:pt x="17" y="6271"/>
                </a:lnTo>
                <a:lnTo>
                  <a:pt x="18" y="6272"/>
                </a:lnTo>
                <a:lnTo>
                  <a:pt x="18" y="6275"/>
                </a:lnTo>
                <a:lnTo>
                  <a:pt x="18" y="6328"/>
                </a:lnTo>
                <a:lnTo>
                  <a:pt x="18" y="6330"/>
                </a:lnTo>
                <a:lnTo>
                  <a:pt x="17" y="6331"/>
                </a:lnTo>
                <a:lnTo>
                  <a:pt x="15" y="6334"/>
                </a:lnTo>
                <a:lnTo>
                  <a:pt x="13" y="6337"/>
                </a:lnTo>
                <a:lnTo>
                  <a:pt x="11" y="6337"/>
                </a:lnTo>
                <a:lnTo>
                  <a:pt x="10" y="6337"/>
                </a:lnTo>
                <a:lnTo>
                  <a:pt x="7" y="6337"/>
                </a:lnTo>
                <a:lnTo>
                  <a:pt x="5" y="6337"/>
                </a:lnTo>
                <a:lnTo>
                  <a:pt x="2" y="6334"/>
                </a:lnTo>
                <a:lnTo>
                  <a:pt x="1" y="6331"/>
                </a:lnTo>
                <a:lnTo>
                  <a:pt x="0" y="6330"/>
                </a:lnTo>
                <a:lnTo>
                  <a:pt x="0" y="6328"/>
                </a:lnTo>
                <a:lnTo>
                  <a:pt x="0" y="6328"/>
                </a:lnTo>
                <a:close/>
                <a:moveTo>
                  <a:pt x="0" y="6203"/>
                </a:moveTo>
                <a:lnTo>
                  <a:pt x="0" y="6149"/>
                </a:lnTo>
                <a:lnTo>
                  <a:pt x="0" y="6147"/>
                </a:lnTo>
                <a:lnTo>
                  <a:pt x="1" y="6146"/>
                </a:lnTo>
                <a:lnTo>
                  <a:pt x="2" y="6143"/>
                </a:lnTo>
                <a:lnTo>
                  <a:pt x="5" y="6140"/>
                </a:lnTo>
                <a:lnTo>
                  <a:pt x="7" y="6140"/>
                </a:lnTo>
                <a:lnTo>
                  <a:pt x="10" y="6140"/>
                </a:lnTo>
                <a:lnTo>
                  <a:pt x="11" y="6140"/>
                </a:lnTo>
                <a:lnTo>
                  <a:pt x="13" y="6140"/>
                </a:lnTo>
                <a:lnTo>
                  <a:pt x="15" y="6143"/>
                </a:lnTo>
                <a:lnTo>
                  <a:pt x="17" y="6146"/>
                </a:lnTo>
                <a:lnTo>
                  <a:pt x="18" y="6147"/>
                </a:lnTo>
                <a:lnTo>
                  <a:pt x="18" y="6149"/>
                </a:lnTo>
                <a:lnTo>
                  <a:pt x="18" y="6203"/>
                </a:lnTo>
                <a:lnTo>
                  <a:pt x="18" y="6205"/>
                </a:lnTo>
                <a:lnTo>
                  <a:pt x="17" y="6206"/>
                </a:lnTo>
                <a:lnTo>
                  <a:pt x="15" y="6209"/>
                </a:lnTo>
                <a:lnTo>
                  <a:pt x="13" y="6210"/>
                </a:lnTo>
                <a:lnTo>
                  <a:pt x="11" y="6212"/>
                </a:lnTo>
                <a:lnTo>
                  <a:pt x="10" y="6212"/>
                </a:lnTo>
                <a:lnTo>
                  <a:pt x="7" y="6212"/>
                </a:lnTo>
                <a:lnTo>
                  <a:pt x="5" y="6210"/>
                </a:lnTo>
                <a:lnTo>
                  <a:pt x="2" y="6209"/>
                </a:lnTo>
                <a:lnTo>
                  <a:pt x="1" y="6206"/>
                </a:lnTo>
                <a:lnTo>
                  <a:pt x="0" y="6205"/>
                </a:lnTo>
                <a:lnTo>
                  <a:pt x="0" y="6203"/>
                </a:lnTo>
                <a:lnTo>
                  <a:pt x="0" y="6203"/>
                </a:lnTo>
                <a:close/>
                <a:moveTo>
                  <a:pt x="0" y="6077"/>
                </a:moveTo>
                <a:lnTo>
                  <a:pt x="0" y="6023"/>
                </a:lnTo>
                <a:lnTo>
                  <a:pt x="0" y="6020"/>
                </a:lnTo>
                <a:lnTo>
                  <a:pt x="1" y="6019"/>
                </a:lnTo>
                <a:lnTo>
                  <a:pt x="2" y="6016"/>
                </a:lnTo>
                <a:lnTo>
                  <a:pt x="5" y="6015"/>
                </a:lnTo>
                <a:lnTo>
                  <a:pt x="7" y="6013"/>
                </a:lnTo>
                <a:lnTo>
                  <a:pt x="10" y="6013"/>
                </a:lnTo>
                <a:lnTo>
                  <a:pt x="11" y="6013"/>
                </a:lnTo>
                <a:lnTo>
                  <a:pt x="13" y="6015"/>
                </a:lnTo>
                <a:lnTo>
                  <a:pt x="15" y="6016"/>
                </a:lnTo>
                <a:lnTo>
                  <a:pt x="17" y="6019"/>
                </a:lnTo>
                <a:lnTo>
                  <a:pt x="18" y="6020"/>
                </a:lnTo>
                <a:lnTo>
                  <a:pt x="18" y="6023"/>
                </a:lnTo>
                <a:lnTo>
                  <a:pt x="18" y="6077"/>
                </a:lnTo>
                <a:lnTo>
                  <a:pt x="18" y="6078"/>
                </a:lnTo>
                <a:lnTo>
                  <a:pt x="17" y="6079"/>
                </a:lnTo>
                <a:lnTo>
                  <a:pt x="15" y="6082"/>
                </a:lnTo>
                <a:lnTo>
                  <a:pt x="13" y="6085"/>
                </a:lnTo>
                <a:lnTo>
                  <a:pt x="11" y="6085"/>
                </a:lnTo>
                <a:lnTo>
                  <a:pt x="10" y="6085"/>
                </a:lnTo>
                <a:lnTo>
                  <a:pt x="7" y="6085"/>
                </a:lnTo>
                <a:lnTo>
                  <a:pt x="5" y="6085"/>
                </a:lnTo>
                <a:lnTo>
                  <a:pt x="2" y="6082"/>
                </a:lnTo>
                <a:lnTo>
                  <a:pt x="1" y="6079"/>
                </a:lnTo>
                <a:lnTo>
                  <a:pt x="0" y="6078"/>
                </a:lnTo>
                <a:lnTo>
                  <a:pt x="0" y="6077"/>
                </a:lnTo>
                <a:lnTo>
                  <a:pt x="0" y="6077"/>
                </a:lnTo>
                <a:close/>
                <a:moveTo>
                  <a:pt x="0" y="5951"/>
                </a:moveTo>
                <a:lnTo>
                  <a:pt x="0" y="5897"/>
                </a:lnTo>
                <a:lnTo>
                  <a:pt x="0" y="5895"/>
                </a:lnTo>
                <a:lnTo>
                  <a:pt x="1" y="5894"/>
                </a:lnTo>
                <a:lnTo>
                  <a:pt x="2" y="5891"/>
                </a:lnTo>
                <a:lnTo>
                  <a:pt x="5" y="5888"/>
                </a:lnTo>
                <a:lnTo>
                  <a:pt x="7" y="5888"/>
                </a:lnTo>
                <a:lnTo>
                  <a:pt x="10" y="5888"/>
                </a:lnTo>
                <a:lnTo>
                  <a:pt x="11" y="5888"/>
                </a:lnTo>
                <a:lnTo>
                  <a:pt x="13" y="5888"/>
                </a:lnTo>
                <a:lnTo>
                  <a:pt x="15" y="5891"/>
                </a:lnTo>
                <a:lnTo>
                  <a:pt x="17" y="5894"/>
                </a:lnTo>
                <a:lnTo>
                  <a:pt x="18" y="5895"/>
                </a:lnTo>
                <a:lnTo>
                  <a:pt x="18" y="5897"/>
                </a:lnTo>
                <a:lnTo>
                  <a:pt x="18" y="5951"/>
                </a:lnTo>
                <a:lnTo>
                  <a:pt x="18" y="5953"/>
                </a:lnTo>
                <a:lnTo>
                  <a:pt x="17" y="5954"/>
                </a:lnTo>
                <a:lnTo>
                  <a:pt x="15" y="5957"/>
                </a:lnTo>
                <a:lnTo>
                  <a:pt x="13" y="5958"/>
                </a:lnTo>
                <a:lnTo>
                  <a:pt x="11" y="5960"/>
                </a:lnTo>
                <a:lnTo>
                  <a:pt x="10" y="5960"/>
                </a:lnTo>
                <a:lnTo>
                  <a:pt x="7" y="5960"/>
                </a:lnTo>
                <a:lnTo>
                  <a:pt x="5" y="5958"/>
                </a:lnTo>
                <a:lnTo>
                  <a:pt x="2" y="5957"/>
                </a:lnTo>
                <a:lnTo>
                  <a:pt x="1" y="5954"/>
                </a:lnTo>
                <a:lnTo>
                  <a:pt x="0" y="5953"/>
                </a:lnTo>
                <a:lnTo>
                  <a:pt x="0" y="5951"/>
                </a:lnTo>
                <a:lnTo>
                  <a:pt x="0" y="5951"/>
                </a:lnTo>
                <a:close/>
                <a:moveTo>
                  <a:pt x="0" y="5825"/>
                </a:moveTo>
                <a:lnTo>
                  <a:pt x="0" y="5771"/>
                </a:lnTo>
                <a:lnTo>
                  <a:pt x="0" y="5768"/>
                </a:lnTo>
                <a:lnTo>
                  <a:pt x="1" y="5767"/>
                </a:lnTo>
                <a:lnTo>
                  <a:pt x="2" y="5764"/>
                </a:lnTo>
                <a:lnTo>
                  <a:pt x="5" y="5763"/>
                </a:lnTo>
                <a:lnTo>
                  <a:pt x="7" y="5761"/>
                </a:lnTo>
                <a:lnTo>
                  <a:pt x="10" y="5761"/>
                </a:lnTo>
                <a:lnTo>
                  <a:pt x="11" y="5761"/>
                </a:lnTo>
                <a:lnTo>
                  <a:pt x="13" y="5763"/>
                </a:lnTo>
                <a:lnTo>
                  <a:pt x="15" y="5764"/>
                </a:lnTo>
                <a:lnTo>
                  <a:pt x="17" y="5767"/>
                </a:lnTo>
                <a:lnTo>
                  <a:pt x="18" y="5768"/>
                </a:lnTo>
                <a:lnTo>
                  <a:pt x="18" y="5771"/>
                </a:lnTo>
                <a:lnTo>
                  <a:pt x="18" y="5825"/>
                </a:lnTo>
                <a:lnTo>
                  <a:pt x="18" y="5826"/>
                </a:lnTo>
                <a:lnTo>
                  <a:pt x="17" y="5827"/>
                </a:lnTo>
                <a:lnTo>
                  <a:pt x="15" y="5830"/>
                </a:lnTo>
                <a:lnTo>
                  <a:pt x="13" y="5833"/>
                </a:lnTo>
                <a:lnTo>
                  <a:pt x="11" y="5833"/>
                </a:lnTo>
                <a:lnTo>
                  <a:pt x="10" y="5833"/>
                </a:lnTo>
                <a:lnTo>
                  <a:pt x="7" y="5833"/>
                </a:lnTo>
                <a:lnTo>
                  <a:pt x="5" y="5833"/>
                </a:lnTo>
                <a:lnTo>
                  <a:pt x="2" y="5830"/>
                </a:lnTo>
                <a:lnTo>
                  <a:pt x="1" y="5827"/>
                </a:lnTo>
                <a:lnTo>
                  <a:pt x="0" y="5826"/>
                </a:lnTo>
                <a:lnTo>
                  <a:pt x="0" y="5825"/>
                </a:lnTo>
                <a:lnTo>
                  <a:pt x="0" y="5825"/>
                </a:lnTo>
                <a:close/>
                <a:moveTo>
                  <a:pt x="0" y="5699"/>
                </a:moveTo>
                <a:lnTo>
                  <a:pt x="0" y="5645"/>
                </a:lnTo>
                <a:lnTo>
                  <a:pt x="0" y="5643"/>
                </a:lnTo>
                <a:lnTo>
                  <a:pt x="1" y="5642"/>
                </a:lnTo>
                <a:lnTo>
                  <a:pt x="2" y="5639"/>
                </a:lnTo>
                <a:lnTo>
                  <a:pt x="5" y="5636"/>
                </a:lnTo>
                <a:lnTo>
                  <a:pt x="7" y="5636"/>
                </a:lnTo>
                <a:lnTo>
                  <a:pt x="10" y="5636"/>
                </a:lnTo>
                <a:lnTo>
                  <a:pt x="11" y="5636"/>
                </a:lnTo>
                <a:lnTo>
                  <a:pt x="13" y="5636"/>
                </a:lnTo>
                <a:lnTo>
                  <a:pt x="15" y="5639"/>
                </a:lnTo>
                <a:lnTo>
                  <a:pt x="17" y="5642"/>
                </a:lnTo>
                <a:lnTo>
                  <a:pt x="18" y="5643"/>
                </a:lnTo>
                <a:lnTo>
                  <a:pt x="18" y="5645"/>
                </a:lnTo>
                <a:lnTo>
                  <a:pt x="18" y="5699"/>
                </a:lnTo>
                <a:lnTo>
                  <a:pt x="18" y="5701"/>
                </a:lnTo>
                <a:lnTo>
                  <a:pt x="17" y="5702"/>
                </a:lnTo>
                <a:lnTo>
                  <a:pt x="15" y="5705"/>
                </a:lnTo>
                <a:lnTo>
                  <a:pt x="13" y="5707"/>
                </a:lnTo>
                <a:lnTo>
                  <a:pt x="11" y="5708"/>
                </a:lnTo>
                <a:lnTo>
                  <a:pt x="10" y="5708"/>
                </a:lnTo>
                <a:lnTo>
                  <a:pt x="7" y="5708"/>
                </a:lnTo>
                <a:lnTo>
                  <a:pt x="5" y="5707"/>
                </a:lnTo>
                <a:lnTo>
                  <a:pt x="2" y="5705"/>
                </a:lnTo>
                <a:lnTo>
                  <a:pt x="1" y="5702"/>
                </a:lnTo>
                <a:lnTo>
                  <a:pt x="0" y="5701"/>
                </a:lnTo>
                <a:lnTo>
                  <a:pt x="0" y="5699"/>
                </a:lnTo>
                <a:lnTo>
                  <a:pt x="0" y="5699"/>
                </a:lnTo>
                <a:close/>
                <a:moveTo>
                  <a:pt x="0" y="5573"/>
                </a:moveTo>
                <a:lnTo>
                  <a:pt x="0" y="5519"/>
                </a:lnTo>
                <a:lnTo>
                  <a:pt x="0" y="5516"/>
                </a:lnTo>
                <a:lnTo>
                  <a:pt x="1" y="5515"/>
                </a:lnTo>
                <a:lnTo>
                  <a:pt x="2" y="5512"/>
                </a:lnTo>
                <a:lnTo>
                  <a:pt x="5" y="5511"/>
                </a:lnTo>
                <a:lnTo>
                  <a:pt x="7" y="5509"/>
                </a:lnTo>
                <a:lnTo>
                  <a:pt x="10" y="5509"/>
                </a:lnTo>
                <a:lnTo>
                  <a:pt x="11" y="5509"/>
                </a:lnTo>
                <a:lnTo>
                  <a:pt x="13" y="5511"/>
                </a:lnTo>
                <a:lnTo>
                  <a:pt x="15" y="5512"/>
                </a:lnTo>
                <a:lnTo>
                  <a:pt x="17" y="5515"/>
                </a:lnTo>
                <a:lnTo>
                  <a:pt x="18" y="5516"/>
                </a:lnTo>
                <a:lnTo>
                  <a:pt x="18" y="5519"/>
                </a:lnTo>
                <a:lnTo>
                  <a:pt x="18" y="5573"/>
                </a:lnTo>
                <a:lnTo>
                  <a:pt x="18" y="5574"/>
                </a:lnTo>
                <a:lnTo>
                  <a:pt x="17" y="5576"/>
                </a:lnTo>
                <a:lnTo>
                  <a:pt x="15" y="5578"/>
                </a:lnTo>
                <a:lnTo>
                  <a:pt x="13" y="5581"/>
                </a:lnTo>
                <a:lnTo>
                  <a:pt x="11" y="5581"/>
                </a:lnTo>
                <a:lnTo>
                  <a:pt x="10" y="5581"/>
                </a:lnTo>
                <a:lnTo>
                  <a:pt x="7" y="5581"/>
                </a:lnTo>
                <a:lnTo>
                  <a:pt x="5" y="5581"/>
                </a:lnTo>
                <a:lnTo>
                  <a:pt x="2" y="5578"/>
                </a:lnTo>
                <a:lnTo>
                  <a:pt x="1" y="5576"/>
                </a:lnTo>
                <a:lnTo>
                  <a:pt x="0" y="5574"/>
                </a:lnTo>
                <a:lnTo>
                  <a:pt x="0" y="5573"/>
                </a:lnTo>
                <a:lnTo>
                  <a:pt x="0" y="5573"/>
                </a:lnTo>
                <a:close/>
                <a:moveTo>
                  <a:pt x="0" y="5447"/>
                </a:moveTo>
                <a:lnTo>
                  <a:pt x="0" y="5393"/>
                </a:lnTo>
                <a:lnTo>
                  <a:pt x="0" y="5391"/>
                </a:lnTo>
                <a:lnTo>
                  <a:pt x="1" y="5390"/>
                </a:lnTo>
                <a:lnTo>
                  <a:pt x="2" y="5387"/>
                </a:lnTo>
                <a:lnTo>
                  <a:pt x="5" y="5384"/>
                </a:lnTo>
                <a:lnTo>
                  <a:pt x="7" y="5384"/>
                </a:lnTo>
                <a:lnTo>
                  <a:pt x="10" y="5384"/>
                </a:lnTo>
                <a:lnTo>
                  <a:pt x="11" y="5384"/>
                </a:lnTo>
                <a:lnTo>
                  <a:pt x="13" y="5384"/>
                </a:lnTo>
                <a:lnTo>
                  <a:pt x="15" y="5387"/>
                </a:lnTo>
                <a:lnTo>
                  <a:pt x="17" y="5390"/>
                </a:lnTo>
                <a:lnTo>
                  <a:pt x="18" y="5391"/>
                </a:lnTo>
                <a:lnTo>
                  <a:pt x="18" y="5393"/>
                </a:lnTo>
                <a:lnTo>
                  <a:pt x="18" y="5447"/>
                </a:lnTo>
                <a:lnTo>
                  <a:pt x="18" y="5449"/>
                </a:lnTo>
                <a:lnTo>
                  <a:pt x="17" y="5450"/>
                </a:lnTo>
                <a:lnTo>
                  <a:pt x="15" y="5453"/>
                </a:lnTo>
                <a:lnTo>
                  <a:pt x="13" y="5455"/>
                </a:lnTo>
                <a:lnTo>
                  <a:pt x="11" y="5456"/>
                </a:lnTo>
                <a:lnTo>
                  <a:pt x="10" y="5456"/>
                </a:lnTo>
                <a:lnTo>
                  <a:pt x="7" y="5456"/>
                </a:lnTo>
                <a:lnTo>
                  <a:pt x="5" y="5455"/>
                </a:lnTo>
                <a:lnTo>
                  <a:pt x="2" y="5453"/>
                </a:lnTo>
                <a:lnTo>
                  <a:pt x="1" y="5450"/>
                </a:lnTo>
                <a:lnTo>
                  <a:pt x="0" y="5449"/>
                </a:lnTo>
                <a:lnTo>
                  <a:pt x="0" y="5447"/>
                </a:lnTo>
                <a:lnTo>
                  <a:pt x="0" y="5447"/>
                </a:lnTo>
                <a:close/>
                <a:moveTo>
                  <a:pt x="0" y="5321"/>
                </a:moveTo>
                <a:lnTo>
                  <a:pt x="0" y="5267"/>
                </a:lnTo>
                <a:lnTo>
                  <a:pt x="0" y="5265"/>
                </a:lnTo>
                <a:lnTo>
                  <a:pt x="1" y="5263"/>
                </a:lnTo>
                <a:lnTo>
                  <a:pt x="2" y="5260"/>
                </a:lnTo>
                <a:lnTo>
                  <a:pt x="5" y="5259"/>
                </a:lnTo>
                <a:lnTo>
                  <a:pt x="7" y="5257"/>
                </a:lnTo>
                <a:lnTo>
                  <a:pt x="10" y="5257"/>
                </a:lnTo>
                <a:lnTo>
                  <a:pt x="11" y="5257"/>
                </a:lnTo>
                <a:lnTo>
                  <a:pt x="13" y="5259"/>
                </a:lnTo>
                <a:lnTo>
                  <a:pt x="15" y="5260"/>
                </a:lnTo>
                <a:lnTo>
                  <a:pt x="17" y="5263"/>
                </a:lnTo>
                <a:lnTo>
                  <a:pt x="18" y="5265"/>
                </a:lnTo>
                <a:lnTo>
                  <a:pt x="18" y="5267"/>
                </a:lnTo>
                <a:lnTo>
                  <a:pt x="18" y="5321"/>
                </a:lnTo>
                <a:lnTo>
                  <a:pt x="18" y="5322"/>
                </a:lnTo>
                <a:lnTo>
                  <a:pt x="17" y="5324"/>
                </a:lnTo>
                <a:lnTo>
                  <a:pt x="15" y="5326"/>
                </a:lnTo>
                <a:lnTo>
                  <a:pt x="13" y="5329"/>
                </a:lnTo>
                <a:lnTo>
                  <a:pt x="11" y="5329"/>
                </a:lnTo>
                <a:lnTo>
                  <a:pt x="10" y="5329"/>
                </a:lnTo>
                <a:lnTo>
                  <a:pt x="7" y="5329"/>
                </a:lnTo>
                <a:lnTo>
                  <a:pt x="5" y="5329"/>
                </a:lnTo>
                <a:lnTo>
                  <a:pt x="2" y="5326"/>
                </a:lnTo>
                <a:lnTo>
                  <a:pt x="1" y="5324"/>
                </a:lnTo>
                <a:lnTo>
                  <a:pt x="0" y="5322"/>
                </a:lnTo>
                <a:lnTo>
                  <a:pt x="0" y="5321"/>
                </a:lnTo>
                <a:lnTo>
                  <a:pt x="0" y="5321"/>
                </a:lnTo>
                <a:close/>
                <a:moveTo>
                  <a:pt x="0" y="5195"/>
                </a:moveTo>
                <a:lnTo>
                  <a:pt x="0" y="5141"/>
                </a:lnTo>
                <a:lnTo>
                  <a:pt x="0" y="5139"/>
                </a:lnTo>
                <a:lnTo>
                  <a:pt x="1" y="5138"/>
                </a:lnTo>
                <a:lnTo>
                  <a:pt x="2" y="5135"/>
                </a:lnTo>
                <a:lnTo>
                  <a:pt x="5" y="5132"/>
                </a:lnTo>
                <a:lnTo>
                  <a:pt x="7" y="5132"/>
                </a:lnTo>
                <a:lnTo>
                  <a:pt x="10" y="5132"/>
                </a:lnTo>
                <a:lnTo>
                  <a:pt x="11" y="5132"/>
                </a:lnTo>
                <a:lnTo>
                  <a:pt x="13" y="5132"/>
                </a:lnTo>
                <a:lnTo>
                  <a:pt x="15" y="5135"/>
                </a:lnTo>
                <a:lnTo>
                  <a:pt x="17" y="5138"/>
                </a:lnTo>
                <a:lnTo>
                  <a:pt x="18" y="5139"/>
                </a:lnTo>
                <a:lnTo>
                  <a:pt x="18" y="5141"/>
                </a:lnTo>
                <a:lnTo>
                  <a:pt x="18" y="5195"/>
                </a:lnTo>
                <a:lnTo>
                  <a:pt x="18" y="5197"/>
                </a:lnTo>
                <a:lnTo>
                  <a:pt x="17" y="5198"/>
                </a:lnTo>
                <a:lnTo>
                  <a:pt x="15" y="5201"/>
                </a:lnTo>
                <a:lnTo>
                  <a:pt x="13" y="5203"/>
                </a:lnTo>
                <a:lnTo>
                  <a:pt x="11" y="5204"/>
                </a:lnTo>
                <a:lnTo>
                  <a:pt x="10" y="5204"/>
                </a:lnTo>
                <a:lnTo>
                  <a:pt x="7" y="5204"/>
                </a:lnTo>
                <a:lnTo>
                  <a:pt x="5" y="5203"/>
                </a:lnTo>
                <a:lnTo>
                  <a:pt x="2" y="5201"/>
                </a:lnTo>
                <a:lnTo>
                  <a:pt x="1" y="5198"/>
                </a:lnTo>
                <a:lnTo>
                  <a:pt x="0" y="5197"/>
                </a:lnTo>
                <a:lnTo>
                  <a:pt x="0" y="5195"/>
                </a:lnTo>
                <a:lnTo>
                  <a:pt x="0" y="5195"/>
                </a:lnTo>
                <a:close/>
                <a:moveTo>
                  <a:pt x="0" y="5069"/>
                </a:moveTo>
                <a:lnTo>
                  <a:pt x="0" y="5015"/>
                </a:lnTo>
                <a:lnTo>
                  <a:pt x="0" y="5013"/>
                </a:lnTo>
                <a:lnTo>
                  <a:pt x="1" y="5011"/>
                </a:lnTo>
                <a:lnTo>
                  <a:pt x="2" y="5008"/>
                </a:lnTo>
                <a:lnTo>
                  <a:pt x="5" y="5007"/>
                </a:lnTo>
                <a:lnTo>
                  <a:pt x="7" y="5005"/>
                </a:lnTo>
                <a:lnTo>
                  <a:pt x="10" y="5005"/>
                </a:lnTo>
                <a:lnTo>
                  <a:pt x="11" y="5005"/>
                </a:lnTo>
                <a:lnTo>
                  <a:pt x="13" y="5007"/>
                </a:lnTo>
                <a:lnTo>
                  <a:pt x="15" y="5008"/>
                </a:lnTo>
                <a:lnTo>
                  <a:pt x="17" y="5011"/>
                </a:lnTo>
                <a:lnTo>
                  <a:pt x="18" y="5013"/>
                </a:lnTo>
                <a:lnTo>
                  <a:pt x="18" y="5015"/>
                </a:lnTo>
                <a:lnTo>
                  <a:pt x="18" y="5069"/>
                </a:lnTo>
                <a:lnTo>
                  <a:pt x="18" y="5070"/>
                </a:lnTo>
                <a:lnTo>
                  <a:pt x="17" y="5072"/>
                </a:lnTo>
                <a:lnTo>
                  <a:pt x="15" y="5074"/>
                </a:lnTo>
                <a:lnTo>
                  <a:pt x="13" y="5077"/>
                </a:lnTo>
                <a:lnTo>
                  <a:pt x="11" y="5077"/>
                </a:lnTo>
                <a:lnTo>
                  <a:pt x="10" y="5077"/>
                </a:lnTo>
                <a:lnTo>
                  <a:pt x="7" y="5077"/>
                </a:lnTo>
                <a:lnTo>
                  <a:pt x="5" y="5077"/>
                </a:lnTo>
                <a:lnTo>
                  <a:pt x="2" y="5074"/>
                </a:lnTo>
                <a:lnTo>
                  <a:pt x="1" y="5072"/>
                </a:lnTo>
                <a:lnTo>
                  <a:pt x="0" y="5070"/>
                </a:lnTo>
                <a:lnTo>
                  <a:pt x="0" y="5069"/>
                </a:lnTo>
                <a:lnTo>
                  <a:pt x="0" y="5069"/>
                </a:lnTo>
                <a:close/>
                <a:moveTo>
                  <a:pt x="0" y="4943"/>
                </a:moveTo>
                <a:lnTo>
                  <a:pt x="0" y="4889"/>
                </a:lnTo>
                <a:lnTo>
                  <a:pt x="0" y="4887"/>
                </a:lnTo>
                <a:lnTo>
                  <a:pt x="1" y="4886"/>
                </a:lnTo>
                <a:lnTo>
                  <a:pt x="2" y="4883"/>
                </a:lnTo>
                <a:lnTo>
                  <a:pt x="5" y="4880"/>
                </a:lnTo>
                <a:lnTo>
                  <a:pt x="7" y="4880"/>
                </a:lnTo>
                <a:lnTo>
                  <a:pt x="10" y="4880"/>
                </a:lnTo>
                <a:lnTo>
                  <a:pt x="11" y="4880"/>
                </a:lnTo>
                <a:lnTo>
                  <a:pt x="13" y="4880"/>
                </a:lnTo>
                <a:lnTo>
                  <a:pt x="15" y="4883"/>
                </a:lnTo>
                <a:lnTo>
                  <a:pt x="17" y="4886"/>
                </a:lnTo>
                <a:lnTo>
                  <a:pt x="18" y="4887"/>
                </a:lnTo>
                <a:lnTo>
                  <a:pt x="18" y="4889"/>
                </a:lnTo>
                <a:lnTo>
                  <a:pt x="18" y="4943"/>
                </a:lnTo>
                <a:lnTo>
                  <a:pt x="18" y="4945"/>
                </a:lnTo>
                <a:lnTo>
                  <a:pt x="17" y="4946"/>
                </a:lnTo>
                <a:lnTo>
                  <a:pt x="15" y="4949"/>
                </a:lnTo>
                <a:lnTo>
                  <a:pt x="13" y="4951"/>
                </a:lnTo>
                <a:lnTo>
                  <a:pt x="11" y="4952"/>
                </a:lnTo>
                <a:lnTo>
                  <a:pt x="10" y="4952"/>
                </a:lnTo>
                <a:lnTo>
                  <a:pt x="7" y="4952"/>
                </a:lnTo>
                <a:lnTo>
                  <a:pt x="5" y="4951"/>
                </a:lnTo>
                <a:lnTo>
                  <a:pt x="2" y="4949"/>
                </a:lnTo>
                <a:lnTo>
                  <a:pt x="1" y="4946"/>
                </a:lnTo>
                <a:lnTo>
                  <a:pt x="0" y="4945"/>
                </a:lnTo>
                <a:lnTo>
                  <a:pt x="0" y="4943"/>
                </a:lnTo>
                <a:lnTo>
                  <a:pt x="0" y="4943"/>
                </a:lnTo>
                <a:close/>
                <a:moveTo>
                  <a:pt x="0" y="4817"/>
                </a:moveTo>
                <a:lnTo>
                  <a:pt x="0" y="4764"/>
                </a:lnTo>
                <a:lnTo>
                  <a:pt x="0" y="4761"/>
                </a:lnTo>
                <a:lnTo>
                  <a:pt x="1" y="4759"/>
                </a:lnTo>
                <a:lnTo>
                  <a:pt x="2" y="4756"/>
                </a:lnTo>
                <a:lnTo>
                  <a:pt x="5" y="4755"/>
                </a:lnTo>
                <a:lnTo>
                  <a:pt x="7" y="4753"/>
                </a:lnTo>
                <a:lnTo>
                  <a:pt x="10" y="4753"/>
                </a:lnTo>
                <a:lnTo>
                  <a:pt x="11" y="4753"/>
                </a:lnTo>
                <a:lnTo>
                  <a:pt x="13" y="4755"/>
                </a:lnTo>
                <a:lnTo>
                  <a:pt x="15" y="4756"/>
                </a:lnTo>
                <a:lnTo>
                  <a:pt x="17" y="4759"/>
                </a:lnTo>
                <a:lnTo>
                  <a:pt x="18" y="4761"/>
                </a:lnTo>
                <a:lnTo>
                  <a:pt x="18" y="4764"/>
                </a:lnTo>
                <a:lnTo>
                  <a:pt x="18" y="4817"/>
                </a:lnTo>
                <a:lnTo>
                  <a:pt x="18" y="4818"/>
                </a:lnTo>
                <a:lnTo>
                  <a:pt x="17" y="4820"/>
                </a:lnTo>
                <a:lnTo>
                  <a:pt x="15" y="4823"/>
                </a:lnTo>
                <a:lnTo>
                  <a:pt x="13" y="4825"/>
                </a:lnTo>
                <a:lnTo>
                  <a:pt x="11" y="4825"/>
                </a:lnTo>
                <a:lnTo>
                  <a:pt x="10" y="4825"/>
                </a:lnTo>
                <a:lnTo>
                  <a:pt x="7" y="4825"/>
                </a:lnTo>
                <a:lnTo>
                  <a:pt x="5" y="4825"/>
                </a:lnTo>
                <a:lnTo>
                  <a:pt x="2" y="4823"/>
                </a:lnTo>
                <a:lnTo>
                  <a:pt x="1" y="4820"/>
                </a:lnTo>
                <a:lnTo>
                  <a:pt x="0" y="4818"/>
                </a:lnTo>
                <a:lnTo>
                  <a:pt x="0" y="4817"/>
                </a:lnTo>
                <a:lnTo>
                  <a:pt x="0" y="4817"/>
                </a:lnTo>
                <a:close/>
                <a:moveTo>
                  <a:pt x="0" y="4692"/>
                </a:moveTo>
                <a:lnTo>
                  <a:pt x="0" y="4637"/>
                </a:lnTo>
                <a:lnTo>
                  <a:pt x="0" y="4635"/>
                </a:lnTo>
                <a:lnTo>
                  <a:pt x="1" y="4634"/>
                </a:lnTo>
                <a:lnTo>
                  <a:pt x="2" y="4631"/>
                </a:lnTo>
                <a:lnTo>
                  <a:pt x="5" y="4628"/>
                </a:lnTo>
                <a:lnTo>
                  <a:pt x="7" y="4628"/>
                </a:lnTo>
                <a:lnTo>
                  <a:pt x="10" y="4628"/>
                </a:lnTo>
                <a:lnTo>
                  <a:pt x="11" y="4628"/>
                </a:lnTo>
                <a:lnTo>
                  <a:pt x="13" y="4628"/>
                </a:lnTo>
                <a:lnTo>
                  <a:pt x="15" y="4631"/>
                </a:lnTo>
                <a:lnTo>
                  <a:pt x="17" y="4634"/>
                </a:lnTo>
                <a:lnTo>
                  <a:pt x="18" y="4635"/>
                </a:lnTo>
                <a:lnTo>
                  <a:pt x="18" y="4637"/>
                </a:lnTo>
                <a:lnTo>
                  <a:pt x="18" y="4692"/>
                </a:lnTo>
                <a:lnTo>
                  <a:pt x="18" y="4693"/>
                </a:lnTo>
                <a:lnTo>
                  <a:pt x="17" y="4694"/>
                </a:lnTo>
                <a:lnTo>
                  <a:pt x="15" y="4697"/>
                </a:lnTo>
                <a:lnTo>
                  <a:pt x="13" y="4699"/>
                </a:lnTo>
                <a:lnTo>
                  <a:pt x="11" y="4700"/>
                </a:lnTo>
                <a:lnTo>
                  <a:pt x="10" y="4700"/>
                </a:lnTo>
                <a:lnTo>
                  <a:pt x="7" y="4700"/>
                </a:lnTo>
                <a:lnTo>
                  <a:pt x="5" y="4699"/>
                </a:lnTo>
                <a:lnTo>
                  <a:pt x="2" y="4697"/>
                </a:lnTo>
                <a:lnTo>
                  <a:pt x="1" y="4694"/>
                </a:lnTo>
                <a:lnTo>
                  <a:pt x="0" y="4693"/>
                </a:lnTo>
                <a:lnTo>
                  <a:pt x="0" y="4692"/>
                </a:lnTo>
                <a:lnTo>
                  <a:pt x="0" y="4692"/>
                </a:lnTo>
                <a:close/>
                <a:moveTo>
                  <a:pt x="0" y="4565"/>
                </a:moveTo>
                <a:lnTo>
                  <a:pt x="0" y="4512"/>
                </a:lnTo>
                <a:lnTo>
                  <a:pt x="0" y="4509"/>
                </a:lnTo>
                <a:lnTo>
                  <a:pt x="1" y="4507"/>
                </a:lnTo>
                <a:lnTo>
                  <a:pt x="2" y="4504"/>
                </a:lnTo>
                <a:lnTo>
                  <a:pt x="5" y="4503"/>
                </a:lnTo>
                <a:lnTo>
                  <a:pt x="7" y="4501"/>
                </a:lnTo>
                <a:lnTo>
                  <a:pt x="10" y="4501"/>
                </a:lnTo>
                <a:lnTo>
                  <a:pt x="11" y="4501"/>
                </a:lnTo>
                <a:lnTo>
                  <a:pt x="13" y="4503"/>
                </a:lnTo>
                <a:lnTo>
                  <a:pt x="15" y="4504"/>
                </a:lnTo>
                <a:lnTo>
                  <a:pt x="17" y="4507"/>
                </a:lnTo>
                <a:lnTo>
                  <a:pt x="18" y="4509"/>
                </a:lnTo>
                <a:lnTo>
                  <a:pt x="18" y="4512"/>
                </a:lnTo>
                <a:lnTo>
                  <a:pt x="18" y="4565"/>
                </a:lnTo>
                <a:lnTo>
                  <a:pt x="18" y="4566"/>
                </a:lnTo>
                <a:lnTo>
                  <a:pt x="17" y="4568"/>
                </a:lnTo>
                <a:lnTo>
                  <a:pt x="15" y="4571"/>
                </a:lnTo>
                <a:lnTo>
                  <a:pt x="13" y="4573"/>
                </a:lnTo>
                <a:lnTo>
                  <a:pt x="11" y="4573"/>
                </a:lnTo>
                <a:lnTo>
                  <a:pt x="10" y="4573"/>
                </a:lnTo>
                <a:lnTo>
                  <a:pt x="7" y="4573"/>
                </a:lnTo>
                <a:lnTo>
                  <a:pt x="5" y="4573"/>
                </a:lnTo>
                <a:lnTo>
                  <a:pt x="2" y="4571"/>
                </a:lnTo>
                <a:lnTo>
                  <a:pt x="1" y="4568"/>
                </a:lnTo>
                <a:lnTo>
                  <a:pt x="0" y="4566"/>
                </a:lnTo>
                <a:lnTo>
                  <a:pt x="0" y="4565"/>
                </a:lnTo>
                <a:lnTo>
                  <a:pt x="0" y="4565"/>
                </a:lnTo>
                <a:close/>
                <a:moveTo>
                  <a:pt x="0" y="4440"/>
                </a:moveTo>
                <a:lnTo>
                  <a:pt x="0" y="4385"/>
                </a:lnTo>
                <a:lnTo>
                  <a:pt x="0" y="4383"/>
                </a:lnTo>
                <a:lnTo>
                  <a:pt x="1" y="4382"/>
                </a:lnTo>
                <a:lnTo>
                  <a:pt x="2" y="4379"/>
                </a:lnTo>
                <a:lnTo>
                  <a:pt x="5" y="4376"/>
                </a:lnTo>
                <a:lnTo>
                  <a:pt x="7" y="4376"/>
                </a:lnTo>
                <a:lnTo>
                  <a:pt x="10" y="4376"/>
                </a:lnTo>
                <a:lnTo>
                  <a:pt x="11" y="4376"/>
                </a:lnTo>
                <a:lnTo>
                  <a:pt x="13" y="4376"/>
                </a:lnTo>
                <a:lnTo>
                  <a:pt x="15" y="4379"/>
                </a:lnTo>
                <a:lnTo>
                  <a:pt x="17" y="4382"/>
                </a:lnTo>
                <a:lnTo>
                  <a:pt x="18" y="4383"/>
                </a:lnTo>
                <a:lnTo>
                  <a:pt x="18" y="4385"/>
                </a:lnTo>
                <a:lnTo>
                  <a:pt x="18" y="4440"/>
                </a:lnTo>
                <a:lnTo>
                  <a:pt x="18" y="4441"/>
                </a:lnTo>
                <a:lnTo>
                  <a:pt x="17" y="4442"/>
                </a:lnTo>
                <a:lnTo>
                  <a:pt x="15" y="4445"/>
                </a:lnTo>
                <a:lnTo>
                  <a:pt x="13" y="4447"/>
                </a:lnTo>
                <a:lnTo>
                  <a:pt x="11" y="4448"/>
                </a:lnTo>
                <a:lnTo>
                  <a:pt x="10" y="4448"/>
                </a:lnTo>
                <a:lnTo>
                  <a:pt x="7" y="4448"/>
                </a:lnTo>
                <a:lnTo>
                  <a:pt x="5" y="4447"/>
                </a:lnTo>
                <a:lnTo>
                  <a:pt x="2" y="4445"/>
                </a:lnTo>
                <a:lnTo>
                  <a:pt x="1" y="4442"/>
                </a:lnTo>
                <a:lnTo>
                  <a:pt x="0" y="4441"/>
                </a:lnTo>
                <a:lnTo>
                  <a:pt x="0" y="4440"/>
                </a:lnTo>
                <a:lnTo>
                  <a:pt x="0" y="4440"/>
                </a:lnTo>
                <a:close/>
                <a:moveTo>
                  <a:pt x="0" y="4313"/>
                </a:moveTo>
                <a:lnTo>
                  <a:pt x="0" y="4260"/>
                </a:lnTo>
                <a:lnTo>
                  <a:pt x="0" y="4257"/>
                </a:lnTo>
                <a:lnTo>
                  <a:pt x="1" y="4255"/>
                </a:lnTo>
                <a:lnTo>
                  <a:pt x="2" y="4252"/>
                </a:lnTo>
                <a:lnTo>
                  <a:pt x="5" y="4251"/>
                </a:lnTo>
                <a:lnTo>
                  <a:pt x="7" y="4250"/>
                </a:lnTo>
                <a:lnTo>
                  <a:pt x="10" y="4250"/>
                </a:lnTo>
                <a:lnTo>
                  <a:pt x="11" y="4250"/>
                </a:lnTo>
                <a:lnTo>
                  <a:pt x="13" y="4251"/>
                </a:lnTo>
                <a:lnTo>
                  <a:pt x="15" y="4252"/>
                </a:lnTo>
                <a:lnTo>
                  <a:pt x="17" y="4255"/>
                </a:lnTo>
                <a:lnTo>
                  <a:pt x="18" y="4257"/>
                </a:lnTo>
                <a:lnTo>
                  <a:pt x="18" y="4260"/>
                </a:lnTo>
                <a:lnTo>
                  <a:pt x="18" y="4313"/>
                </a:lnTo>
                <a:lnTo>
                  <a:pt x="18" y="4314"/>
                </a:lnTo>
                <a:lnTo>
                  <a:pt x="17" y="4316"/>
                </a:lnTo>
                <a:lnTo>
                  <a:pt x="15" y="4319"/>
                </a:lnTo>
                <a:lnTo>
                  <a:pt x="13" y="4322"/>
                </a:lnTo>
                <a:lnTo>
                  <a:pt x="11" y="4322"/>
                </a:lnTo>
                <a:lnTo>
                  <a:pt x="10" y="4322"/>
                </a:lnTo>
                <a:lnTo>
                  <a:pt x="7" y="4322"/>
                </a:lnTo>
                <a:lnTo>
                  <a:pt x="5" y="4322"/>
                </a:lnTo>
                <a:lnTo>
                  <a:pt x="2" y="4319"/>
                </a:lnTo>
                <a:lnTo>
                  <a:pt x="1" y="4316"/>
                </a:lnTo>
                <a:lnTo>
                  <a:pt x="0" y="4314"/>
                </a:lnTo>
                <a:lnTo>
                  <a:pt x="0" y="4313"/>
                </a:lnTo>
                <a:lnTo>
                  <a:pt x="0" y="4313"/>
                </a:lnTo>
                <a:close/>
                <a:moveTo>
                  <a:pt x="0" y="4188"/>
                </a:moveTo>
                <a:lnTo>
                  <a:pt x="0" y="4133"/>
                </a:lnTo>
                <a:lnTo>
                  <a:pt x="0" y="4131"/>
                </a:lnTo>
                <a:lnTo>
                  <a:pt x="1" y="4130"/>
                </a:lnTo>
                <a:lnTo>
                  <a:pt x="2" y="4127"/>
                </a:lnTo>
                <a:lnTo>
                  <a:pt x="5" y="4124"/>
                </a:lnTo>
                <a:lnTo>
                  <a:pt x="7" y="4124"/>
                </a:lnTo>
                <a:lnTo>
                  <a:pt x="10" y="4124"/>
                </a:lnTo>
                <a:lnTo>
                  <a:pt x="11" y="4124"/>
                </a:lnTo>
                <a:lnTo>
                  <a:pt x="13" y="4124"/>
                </a:lnTo>
                <a:lnTo>
                  <a:pt x="15" y="4127"/>
                </a:lnTo>
                <a:lnTo>
                  <a:pt x="17" y="4130"/>
                </a:lnTo>
                <a:lnTo>
                  <a:pt x="18" y="4131"/>
                </a:lnTo>
                <a:lnTo>
                  <a:pt x="18" y="4133"/>
                </a:lnTo>
                <a:lnTo>
                  <a:pt x="18" y="4188"/>
                </a:lnTo>
                <a:lnTo>
                  <a:pt x="18" y="4189"/>
                </a:lnTo>
                <a:lnTo>
                  <a:pt x="17" y="4191"/>
                </a:lnTo>
                <a:lnTo>
                  <a:pt x="15" y="4193"/>
                </a:lnTo>
                <a:lnTo>
                  <a:pt x="13" y="4195"/>
                </a:lnTo>
                <a:lnTo>
                  <a:pt x="11" y="4196"/>
                </a:lnTo>
                <a:lnTo>
                  <a:pt x="10" y="4196"/>
                </a:lnTo>
                <a:lnTo>
                  <a:pt x="7" y="4196"/>
                </a:lnTo>
                <a:lnTo>
                  <a:pt x="5" y="4195"/>
                </a:lnTo>
                <a:lnTo>
                  <a:pt x="2" y="4193"/>
                </a:lnTo>
                <a:lnTo>
                  <a:pt x="1" y="4191"/>
                </a:lnTo>
                <a:lnTo>
                  <a:pt x="0" y="4189"/>
                </a:lnTo>
                <a:lnTo>
                  <a:pt x="0" y="4188"/>
                </a:lnTo>
                <a:lnTo>
                  <a:pt x="0" y="4188"/>
                </a:lnTo>
                <a:close/>
                <a:moveTo>
                  <a:pt x="0" y="4061"/>
                </a:moveTo>
                <a:lnTo>
                  <a:pt x="0" y="4008"/>
                </a:lnTo>
                <a:lnTo>
                  <a:pt x="0" y="4005"/>
                </a:lnTo>
                <a:lnTo>
                  <a:pt x="1" y="4003"/>
                </a:lnTo>
                <a:lnTo>
                  <a:pt x="2" y="4000"/>
                </a:lnTo>
                <a:lnTo>
                  <a:pt x="5" y="3999"/>
                </a:lnTo>
                <a:lnTo>
                  <a:pt x="7" y="3998"/>
                </a:lnTo>
                <a:lnTo>
                  <a:pt x="10" y="3998"/>
                </a:lnTo>
                <a:lnTo>
                  <a:pt x="11" y="3998"/>
                </a:lnTo>
                <a:lnTo>
                  <a:pt x="13" y="3999"/>
                </a:lnTo>
                <a:lnTo>
                  <a:pt x="15" y="4000"/>
                </a:lnTo>
                <a:lnTo>
                  <a:pt x="17" y="4003"/>
                </a:lnTo>
                <a:lnTo>
                  <a:pt x="18" y="4005"/>
                </a:lnTo>
                <a:lnTo>
                  <a:pt x="18" y="4008"/>
                </a:lnTo>
                <a:lnTo>
                  <a:pt x="18" y="4061"/>
                </a:lnTo>
                <a:lnTo>
                  <a:pt x="18" y="4062"/>
                </a:lnTo>
                <a:lnTo>
                  <a:pt x="17" y="4064"/>
                </a:lnTo>
                <a:lnTo>
                  <a:pt x="15" y="4067"/>
                </a:lnTo>
                <a:lnTo>
                  <a:pt x="13" y="4070"/>
                </a:lnTo>
                <a:lnTo>
                  <a:pt x="11" y="4070"/>
                </a:lnTo>
                <a:lnTo>
                  <a:pt x="10" y="4070"/>
                </a:lnTo>
                <a:lnTo>
                  <a:pt x="7" y="4070"/>
                </a:lnTo>
                <a:lnTo>
                  <a:pt x="5" y="4070"/>
                </a:lnTo>
                <a:lnTo>
                  <a:pt x="2" y="4067"/>
                </a:lnTo>
                <a:lnTo>
                  <a:pt x="1" y="4064"/>
                </a:lnTo>
                <a:lnTo>
                  <a:pt x="0" y="4062"/>
                </a:lnTo>
                <a:lnTo>
                  <a:pt x="0" y="4061"/>
                </a:lnTo>
                <a:lnTo>
                  <a:pt x="0" y="4061"/>
                </a:lnTo>
                <a:close/>
                <a:moveTo>
                  <a:pt x="0" y="3936"/>
                </a:moveTo>
                <a:lnTo>
                  <a:pt x="0" y="3881"/>
                </a:lnTo>
                <a:lnTo>
                  <a:pt x="0" y="3880"/>
                </a:lnTo>
                <a:lnTo>
                  <a:pt x="1" y="3878"/>
                </a:lnTo>
                <a:lnTo>
                  <a:pt x="2" y="3875"/>
                </a:lnTo>
                <a:lnTo>
                  <a:pt x="5" y="3872"/>
                </a:lnTo>
                <a:lnTo>
                  <a:pt x="7" y="3872"/>
                </a:lnTo>
                <a:lnTo>
                  <a:pt x="10" y="3872"/>
                </a:lnTo>
                <a:lnTo>
                  <a:pt x="11" y="3872"/>
                </a:lnTo>
                <a:lnTo>
                  <a:pt x="13" y="3872"/>
                </a:lnTo>
                <a:lnTo>
                  <a:pt x="15" y="3875"/>
                </a:lnTo>
                <a:lnTo>
                  <a:pt x="17" y="3878"/>
                </a:lnTo>
                <a:lnTo>
                  <a:pt x="18" y="3880"/>
                </a:lnTo>
                <a:lnTo>
                  <a:pt x="18" y="3881"/>
                </a:lnTo>
                <a:lnTo>
                  <a:pt x="18" y="3936"/>
                </a:lnTo>
                <a:lnTo>
                  <a:pt x="18" y="3937"/>
                </a:lnTo>
                <a:lnTo>
                  <a:pt x="17" y="3939"/>
                </a:lnTo>
                <a:lnTo>
                  <a:pt x="15" y="3941"/>
                </a:lnTo>
                <a:lnTo>
                  <a:pt x="13" y="3943"/>
                </a:lnTo>
                <a:lnTo>
                  <a:pt x="11" y="3944"/>
                </a:lnTo>
                <a:lnTo>
                  <a:pt x="10" y="3944"/>
                </a:lnTo>
                <a:lnTo>
                  <a:pt x="7" y="3944"/>
                </a:lnTo>
                <a:lnTo>
                  <a:pt x="5" y="3943"/>
                </a:lnTo>
                <a:lnTo>
                  <a:pt x="2" y="3941"/>
                </a:lnTo>
                <a:lnTo>
                  <a:pt x="1" y="3939"/>
                </a:lnTo>
                <a:lnTo>
                  <a:pt x="0" y="3937"/>
                </a:lnTo>
                <a:lnTo>
                  <a:pt x="0" y="3936"/>
                </a:lnTo>
                <a:lnTo>
                  <a:pt x="0" y="3936"/>
                </a:lnTo>
                <a:close/>
                <a:moveTo>
                  <a:pt x="0" y="3809"/>
                </a:moveTo>
                <a:lnTo>
                  <a:pt x="0" y="3756"/>
                </a:lnTo>
                <a:lnTo>
                  <a:pt x="0" y="3753"/>
                </a:lnTo>
                <a:lnTo>
                  <a:pt x="1" y="3751"/>
                </a:lnTo>
                <a:lnTo>
                  <a:pt x="2" y="3749"/>
                </a:lnTo>
                <a:lnTo>
                  <a:pt x="5" y="3747"/>
                </a:lnTo>
                <a:lnTo>
                  <a:pt x="7" y="3746"/>
                </a:lnTo>
                <a:lnTo>
                  <a:pt x="10" y="3746"/>
                </a:lnTo>
                <a:lnTo>
                  <a:pt x="11" y="3746"/>
                </a:lnTo>
                <a:lnTo>
                  <a:pt x="13" y="3747"/>
                </a:lnTo>
                <a:lnTo>
                  <a:pt x="15" y="3749"/>
                </a:lnTo>
                <a:lnTo>
                  <a:pt x="17" y="3751"/>
                </a:lnTo>
                <a:lnTo>
                  <a:pt x="18" y="3753"/>
                </a:lnTo>
                <a:lnTo>
                  <a:pt x="18" y="3756"/>
                </a:lnTo>
                <a:lnTo>
                  <a:pt x="18" y="3809"/>
                </a:lnTo>
                <a:lnTo>
                  <a:pt x="18" y="3810"/>
                </a:lnTo>
                <a:lnTo>
                  <a:pt x="17" y="3812"/>
                </a:lnTo>
                <a:lnTo>
                  <a:pt x="15" y="3815"/>
                </a:lnTo>
                <a:lnTo>
                  <a:pt x="13" y="3818"/>
                </a:lnTo>
                <a:lnTo>
                  <a:pt x="11" y="3818"/>
                </a:lnTo>
                <a:lnTo>
                  <a:pt x="10" y="3818"/>
                </a:lnTo>
                <a:lnTo>
                  <a:pt x="7" y="3818"/>
                </a:lnTo>
                <a:lnTo>
                  <a:pt x="5" y="3818"/>
                </a:lnTo>
                <a:lnTo>
                  <a:pt x="2" y="3815"/>
                </a:lnTo>
                <a:lnTo>
                  <a:pt x="1" y="3812"/>
                </a:lnTo>
                <a:lnTo>
                  <a:pt x="0" y="3810"/>
                </a:lnTo>
                <a:lnTo>
                  <a:pt x="0" y="3809"/>
                </a:lnTo>
                <a:lnTo>
                  <a:pt x="0" y="3809"/>
                </a:lnTo>
                <a:close/>
                <a:moveTo>
                  <a:pt x="0" y="3684"/>
                </a:moveTo>
                <a:lnTo>
                  <a:pt x="0" y="3629"/>
                </a:lnTo>
                <a:lnTo>
                  <a:pt x="0" y="3628"/>
                </a:lnTo>
                <a:lnTo>
                  <a:pt x="1" y="3626"/>
                </a:lnTo>
                <a:lnTo>
                  <a:pt x="2" y="3623"/>
                </a:lnTo>
                <a:lnTo>
                  <a:pt x="5" y="3620"/>
                </a:lnTo>
                <a:lnTo>
                  <a:pt x="7" y="3620"/>
                </a:lnTo>
                <a:lnTo>
                  <a:pt x="10" y="3620"/>
                </a:lnTo>
                <a:lnTo>
                  <a:pt x="11" y="3620"/>
                </a:lnTo>
                <a:lnTo>
                  <a:pt x="13" y="3620"/>
                </a:lnTo>
                <a:lnTo>
                  <a:pt x="15" y="3623"/>
                </a:lnTo>
                <a:lnTo>
                  <a:pt x="17" y="3626"/>
                </a:lnTo>
                <a:lnTo>
                  <a:pt x="18" y="3628"/>
                </a:lnTo>
                <a:lnTo>
                  <a:pt x="18" y="3629"/>
                </a:lnTo>
                <a:lnTo>
                  <a:pt x="18" y="3684"/>
                </a:lnTo>
                <a:lnTo>
                  <a:pt x="18" y="3685"/>
                </a:lnTo>
                <a:lnTo>
                  <a:pt x="17" y="3687"/>
                </a:lnTo>
                <a:lnTo>
                  <a:pt x="15" y="3689"/>
                </a:lnTo>
                <a:lnTo>
                  <a:pt x="13" y="3691"/>
                </a:lnTo>
                <a:lnTo>
                  <a:pt x="11" y="3692"/>
                </a:lnTo>
                <a:lnTo>
                  <a:pt x="10" y="3692"/>
                </a:lnTo>
                <a:lnTo>
                  <a:pt x="7" y="3692"/>
                </a:lnTo>
                <a:lnTo>
                  <a:pt x="5" y="3691"/>
                </a:lnTo>
                <a:lnTo>
                  <a:pt x="2" y="3689"/>
                </a:lnTo>
                <a:lnTo>
                  <a:pt x="1" y="3687"/>
                </a:lnTo>
                <a:lnTo>
                  <a:pt x="0" y="3685"/>
                </a:lnTo>
                <a:lnTo>
                  <a:pt x="0" y="3684"/>
                </a:lnTo>
                <a:lnTo>
                  <a:pt x="0" y="3684"/>
                </a:lnTo>
                <a:close/>
                <a:moveTo>
                  <a:pt x="0" y="3557"/>
                </a:moveTo>
                <a:lnTo>
                  <a:pt x="0" y="3504"/>
                </a:lnTo>
                <a:lnTo>
                  <a:pt x="0" y="3501"/>
                </a:lnTo>
                <a:lnTo>
                  <a:pt x="1" y="3499"/>
                </a:lnTo>
                <a:lnTo>
                  <a:pt x="2" y="3497"/>
                </a:lnTo>
                <a:lnTo>
                  <a:pt x="5" y="3495"/>
                </a:lnTo>
                <a:lnTo>
                  <a:pt x="7" y="3494"/>
                </a:lnTo>
                <a:lnTo>
                  <a:pt x="10" y="3494"/>
                </a:lnTo>
                <a:lnTo>
                  <a:pt x="11" y="3494"/>
                </a:lnTo>
                <a:lnTo>
                  <a:pt x="13" y="3495"/>
                </a:lnTo>
                <a:lnTo>
                  <a:pt x="15" y="3497"/>
                </a:lnTo>
                <a:lnTo>
                  <a:pt x="17" y="3499"/>
                </a:lnTo>
                <a:lnTo>
                  <a:pt x="18" y="3501"/>
                </a:lnTo>
                <a:lnTo>
                  <a:pt x="18" y="3504"/>
                </a:lnTo>
                <a:lnTo>
                  <a:pt x="18" y="3557"/>
                </a:lnTo>
                <a:lnTo>
                  <a:pt x="18" y="3558"/>
                </a:lnTo>
                <a:lnTo>
                  <a:pt x="17" y="3560"/>
                </a:lnTo>
                <a:lnTo>
                  <a:pt x="15" y="3563"/>
                </a:lnTo>
                <a:lnTo>
                  <a:pt x="13" y="3566"/>
                </a:lnTo>
                <a:lnTo>
                  <a:pt x="11" y="3566"/>
                </a:lnTo>
                <a:lnTo>
                  <a:pt x="10" y="3566"/>
                </a:lnTo>
                <a:lnTo>
                  <a:pt x="7" y="3566"/>
                </a:lnTo>
                <a:lnTo>
                  <a:pt x="5" y="3566"/>
                </a:lnTo>
                <a:lnTo>
                  <a:pt x="2" y="3563"/>
                </a:lnTo>
                <a:lnTo>
                  <a:pt x="1" y="3560"/>
                </a:lnTo>
                <a:lnTo>
                  <a:pt x="0" y="3558"/>
                </a:lnTo>
                <a:lnTo>
                  <a:pt x="0" y="3557"/>
                </a:lnTo>
                <a:lnTo>
                  <a:pt x="0" y="3557"/>
                </a:lnTo>
                <a:close/>
                <a:moveTo>
                  <a:pt x="0" y="3432"/>
                </a:moveTo>
                <a:lnTo>
                  <a:pt x="0" y="3377"/>
                </a:lnTo>
                <a:lnTo>
                  <a:pt x="0" y="3376"/>
                </a:lnTo>
                <a:lnTo>
                  <a:pt x="1" y="3374"/>
                </a:lnTo>
                <a:lnTo>
                  <a:pt x="2" y="3371"/>
                </a:lnTo>
                <a:lnTo>
                  <a:pt x="5" y="3368"/>
                </a:lnTo>
                <a:lnTo>
                  <a:pt x="7" y="3368"/>
                </a:lnTo>
                <a:lnTo>
                  <a:pt x="10" y="3368"/>
                </a:lnTo>
                <a:lnTo>
                  <a:pt x="11" y="3368"/>
                </a:lnTo>
                <a:lnTo>
                  <a:pt x="13" y="3368"/>
                </a:lnTo>
                <a:lnTo>
                  <a:pt x="15" y="3371"/>
                </a:lnTo>
                <a:lnTo>
                  <a:pt x="17" y="3374"/>
                </a:lnTo>
                <a:lnTo>
                  <a:pt x="18" y="3376"/>
                </a:lnTo>
                <a:lnTo>
                  <a:pt x="18" y="3377"/>
                </a:lnTo>
                <a:lnTo>
                  <a:pt x="18" y="3432"/>
                </a:lnTo>
                <a:lnTo>
                  <a:pt x="18" y="3433"/>
                </a:lnTo>
                <a:lnTo>
                  <a:pt x="17" y="3435"/>
                </a:lnTo>
                <a:lnTo>
                  <a:pt x="15" y="3438"/>
                </a:lnTo>
                <a:lnTo>
                  <a:pt x="13" y="3439"/>
                </a:lnTo>
                <a:lnTo>
                  <a:pt x="11" y="3440"/>
                </a:lnTo>
                <a:lnTo>
                  <a:pt x="10" y="3440"/>
                </a:lnTo>
                <a:lnTo>
                  <a:pt x="7" y="3440"/>
                </a:lnTo>
                <a:lnTo>
                  <a:pt x="5" y="3439"/>
                </a:lnTo>
                <a:lnTo>
                  <a:pt x="2" y="3438"/>
                </a:lnTo>
                <a:lnTo>
                  <a:pt x="1" y="3435"/>
                </a:lnTo>
                <a:lnTo>
                  <a:pt x="0" y="3433"/>
                </a:lnTo>
                <a:lnTo>
                  <a:pt x="0" y="3432"/>
                </a:lnTo>
                <a:lnTo>
                  <a:pt x="0" y="3432"/>
                </a:lnTo>
                <a:close/>
                <a:moveTo>
                  <a:pt x="0" y="3305"/>
                </a:moveTo>
                <a:lnTo>
                  <a:pt x="0" y="3252"/>
                </a:lnTo>
                <a:lnTo>
                  <a:pt x="0" y="3249"/>
                </a:lnTo>
                <a:lnTo>
                  <a:pt x="1" y="3247"/>
                </a:lnTo>
                <a:lnTo>
                  <a:pt x="2" y="3245"/>
                </a:lnTo>
                <a:lnTo>
                  <a:pt x="5" y="3243"/>
                </a:lnTo>
                <a:lnTo>
                  <a:pt x="7" y="3242"/>
                </a:lnTo>
                <a:lnTo>
                  <a:pt x="10" y="3242"/>
                </a:lnTo>
                <a:lnTo>
                  <a:pt x="11" y="3242"/>
                </a:lnTo>
                <a:lnTo>
                  <a:pt x="13" y="3243"/>
                </a:lnTo>
                <a:lnTo>
                  <a:pt x="15" y="3245"/>
                </a:lnTo>
                <a:lnTo>
                  <a:pt x="17" y="3247"/>
                </a:lnTo>
                <a:lnTo>
                  <a:pt x="18" y="3249"/>
                </a:lnTo>
                <a:lnTo>
                  <a:pt x="18" y="3252"/>
                </a:lnTo>
                <a:lnTo>
                  <a:pt x="18" y="3305"/>
                </a:lnTo>
                <a:lnTo>
                  <a:pt x="18" y="3307"/>
                </a:lnTo>
                <a:lnTo>
                  <a:pt x="17" y="3308"/>
                </a:lnTo>
                <a:lnTo>
                  <a:pt x="15" y="3311"/>
                </a:lnTo>
                <a:lnTo>
                  <a:pt x="13" y="3314"/>
                </a:lnTo>
                <a:lnTo>
                  <a:pt x="11" y="3314"/>
                </a:lnTo>
                <a:lnTo>
                  <a:pt x="10" y="3314"/>
                </a:lnTo>
                <a:lnTo>
                  <a:pt x="7" y="3314"/>
                </a:lnTo>
                <a:lnTo>
                  <a:pt x="5" y="3314"/>
                </a:lnTo>
                <a:lnTo>
                  <a:pt x="2" y="3311"/>
                </a:lnTo>
                <a:lnTo>
                  <a:pt x="1" y="3308"/>
                </a:lnTo>
                <a:lnTo>
                  <a:pt x="0" y="3307"/>
                </a:lnTo>
                <a:lnTo>
                  <a:pt x="0" y="3305"/>
                </a:lnTo>
                <a:lnTo>
                  <a:pt x="0" y="3305"/>
                </a:lnTo>
                <a:close/>
                <a:moveTo>
                  <a:pt x="0" y="3180"/>
                </a:moveTo>
                <a:lnTo>
                  <a:pt x="0" y="3125"/>
                </a:lnTo>
                <a:lnTo>
                  <a:pt x="0" y="3124"/>
                </a:lnTo>
                <a:lnTo>
                  <a:pt x="1" y="3122"/>
                </a:lnTo>
                <a:lnTo>
                  <a:pt x="2" y="3119"/>
                </a:lnTo>
                <a:lnTo>
                  <a:pt x="5" y="3116"/>
                </a:lnTo>
                <a:lnTo>
                  <a:pt x="7" y="3116"/>
                </a:lnTo>
                <a:lnTo>
                  <a:pt x="10" y="3116"/>
                </a:lnTo>
                <a:lnTo>
                  <a:pt x="11" y="3116"/>
                </a:lnTo>
                <a:lnTo>
                  <a:pt x="13" y="3116"/>
                </a:lnTo>
                <a:lnTo>
                  <a:pt x="15" y="3119"/>
                </a:lnTo>
                <a:lnTo>
                  <a:pt x="17" y="3122"/>
                </a:lnTo>
                <a:lnTo>
                  <a:pt x="18" y="3124"/>
                </a:lnTo>
                <a:lnTo>
                  <a:pt x="18" y="3125"/>
                </a:lnTo>
                <a:lnTo>
                  <a:pt x="18" y="3180"/>
                </a:lnTo>
                <a:lnTo>
                  <a:pt x="18" y="3181"/>
                </a:lnTo>
                <a:lnTo>
                  <a:pt x="17" y="3183"/>
                </a:lnTo>
                <a:lnTo>
                  <a:pt x="15" y="3186"/>
                </a:lnTo>
                <a:lnTo>
                  <a:pt x="13" y="3187"/>
                </a:lnTo>
                <a:lnTo>
                  <a:pt x="11" y="3188"/>
                </a:lnTo>
                <a:lnTo>
                  <a:pt x="10" y="3188"/>
                </a:lnTo>
                <a:lnTo>
                  <a:pt x="7" y="3188"/>
                </a:lnTo>
                <a:lnTo>
                  <a:pt x="5" y="3187"/>
                </a:lnTo>
                <a:lnTo>
                  <a:pt x="2" y="3186"/>
                </a:lnTo>
                <a:lnTo>
                  <a:pt x="1" y="3183"/>
                </a:lnTo>
                <a:lnTo>
                  <a:pt x="0" y="3181"/>
                </a:lnTo>
                <a:lnTo>
                  <a:pt x="0" y="3180"/>
                </a:lnTo>
                <a:lnTo>
                  <a:pt x="0" y="3180"/>
                </a:lnTo>
                <a:close/>
                <a:moveTo>
                  <a:pt x="0" y="3053"/>
                </a:moveTo>
                <a:lnTo>
                  <a:pt x="0" y="3000"/>
                </a:lnTo>
                <a:lnTo>
                  <a:pt x="0" y="2997"/>
                </a:lnTo>
                <a:lnTo>
                  <a:pt x="1" y="2996"/>
                </a:lnTo>
                <a:lnTo>
                  <a:pt x="2" y="2993"/>
                </a:lnTo>
                <a:lnTo>
                  <a:pt x="5" y="2991"/>
                </a:lnTo>
                <a:lnTo>
                  <a:pt x="7" y="2990"/>
                </a:lnTo>
                <a:lnTo>
                  <a:pt x="10" y="2990"/>
                </a:lnTo>
                <a:lnTo>
                  <a:pt x="11" y="2990"/>
                </a:lnTo>
                <a:lnTo>
                  <a:pt x="13" y="2991"/>
                </a:lnTo>
                <a:lnTo>
                  <a:pt x="15" y="2993"/>
                </a:lnTo>
                <a:lnTo>
                  <a:pt x="17" y="2996"/>
                </a:lnTo>
                <a:lnTo>
                  <a:pt x="18" y="2997"/>
                </a:lnTo>
                <a:lnTo>
                  <a:pt x="18" y="3000"/>
                </a:lnTo>
                <a:lnTo>
                  <a:pt x="18" y="3053"/>
                </a:lnTo>
                <a:lnTo>
                  <a:pt x="18" y="3055"/>
                </a:lnTo>
                <a:lnTo>
                  <a:pt x="17" y="3056"/>
                </a:lnTo>
                <a:lnTo>
                  <a:pt x="15" y="3059"/>
                </a:lnTo>
                <a:lnTo>
                  <a:pt x="13" y="3062"/>
                </a:lnTo>
                <a:lnTo>
                  <a:pt x="11" y="3062"/>
                </a:lnTo>
                <a:lnTo>
                  <a:pt x="10" y="3062"/>
                </a:lnTo>
                <a:lnTo>
                  <a:pt x="7" y="3062"/>
                </a:lnTo>
                <a:lnTo>
                  <a:pt x="5" y="3062"/>
                </a:lnTo>
                <a:lnTo>
                  <a:pt x="2" y="3059"/>
                </a:lnTo>
                <a:lnTo>
                  <a:pt x="1" y="3056"/>
                </a:lnTo>
                <a:lnTo>
                  <a:pt x="0" y="3055"/>
                </a:lnTo>
                <a:lnTo>
                  <a:pt x="0" y="3053"/>
                </a:lnTo>
                <a:lnTo>
                  <a:pt x="0" y="3053"/>
                </a:lnTo>
                <a:close/>
                <a:moveTo>
                  <a:pt x="0" y="2928"/>
                </a:moveTo>
                <a:lnTo>
                  <a:pt x="0" y="2873"/>
                </a:lnTo>
                <a:lnTo>
                  <a:pt x="0" y="2872"/>
                </a:lnTo>
                <a:lnTo>
                  <a:pt x="1" y="2870"/>
                </a:lnTo>
                <a:lnTo>
                  <a:pt x="2" y="2867"/>
                </a:lnTo>
                <a:lnTo>
                  <a:pt x="5" y="2865"/>
                </a:lnTo>
                <a:lnTo>
                  <a:pt x="7" y="2865"/>
                </a:lnTo>
                <a:lnTo>
                  <a:pt x="10" y="2865"/>
                </a:lnTo>
                <a:lnTo>
                  <a:pt x="11" y="2865"/>
                </a:lnTo>
                <a:lnTo>
                  <a:pt x="13" y="2865"/>
                </a:lnTo>
                <a:lnTo>
                  <a:pt x="15" y="2867"/>
                </a:lnTo>
                <a:lnTo>
                  <a:pt x="17" y="2870"/>
                </a:lnTo>
                <a:lnTo>
                  <a:pt x="18" y="2872"/>
                </a:lnTo>
                <a:lnTo>
                  <a:pt x="18" y="2873"/>
                </a:lnTo>
                <a:lnTo>
                  <a:pt x="18" y="2928"/>
                </a:lnTo>
                <a:lnTo>
                  <a:pt x="18" y="2929"/>
                </a:lnTo>
                <a:lnTo>
                  <a:pt x="17" y="2931"/>
                </a:lnTo>
                <a:lnTo>
                  <a:pt x="15" y="2934"/>
                </a:lnTo>
                <a:lnTo>
                  <a:pt x="13" y="2935"/>
                </a:lnTo>
                <a:lnTo>
                  <a:pt x="11" y="2937"/>
                </a:lnTo>
                <a:lnTo>
                  <a:pt x="10" y="2937"/>
                </a:lnTo>
                <a:lnTo>
                  <a:pt x="7" y="2937"/>
                </a:lnTo>
                <a:lnTo>
                  <a:pt x="5" y="2935"/>
                </a:lnTo>
                <a:lnTo>
                  <a:pt x="2" y="2934"/>
                </a:lnTo>
                <a:lnTo>
                  <a:pt x="1" y="2931"/>
                </a:lnTo>
                <a:lnTo>
                  <a:pt x="0" y="2929"/>
                </a:lnTo>
                <a:lnTo>
                  <a:pt x="0" y="2928"/>
                </a:lnTo>
                <a:lnTo>
                  <a:pt x="0" y="2928"/>
                </a:lnTo>
                <a:close/>
                <a:moveTo>
                  <a:pt x="0" y="2801"/>
                </a:moveTo>
                <a:lnTo>
                  <a:pt x="0" y="2748"/>
                </a:lnTo>
                <a:lnTo>
                  <a:pt x="0" y="2745"/>
                </a:lnTo>
                <a:lnTo>
                  <a:pt x="1" y="2744"/>
                </a:lnTo>
                <a:lnTo>
                  <a:pt x="2" y="2741"/>
                </a:lnTo>
                <a:lnTo>
                  <a:pt x="5" y="2739"/>
                </a:lnTo>
                <a:lnTo>
                  <a:pt x="7" y="2738"/>
                </a:lnTo>
                <a:lnTo>
                  <a:pt x="10" y="2738"/>
                </a:lnTo>
                <a:lnTo>
                  <a:pt x="11" y="2738"/>
                </a:lnTo>
                <a:lnTo>
                  <a:pt x="13" y="2739"/>
                </a:lnTo>
                <a:lnTo>
                  <a:pt x="15" y="2741"/>
                </a:lnTo>
                <a:lnTo>
                  <a:pt x="17" y="2744"/>
                </a:lnTo>
                <a:lnTo>
                  <a:pt x="18" y="2745"/>
                </a:lnTo>
                <a:lnTo>
                  <a:pt x="18" y="2748"/>
                </a:lnTo>
                <a:lnTo>
                  <a:pt x="18" y="2801"/>
                </a:lnTo>
                <a:lnTo>
                  <a:pt x="18" y="2803"/>
                </a:lnTo>
                <a:lnTo>
                  <a:pt x="17" y="2804"/>
                </a:lnTo>
                <a:lnTo>
                  <a:pt x="15" y="2807"/>
                </a:lnTo>
                <a:lnTo>
                  <a:pt x="13" y="2810"/>
                </a:lnTo>
                <a:lnTo>
                  <a:pt x="11" y="2810"/>
                </a:lnTo>
                <a:lnTo>
                  <a:pt x="10" y="2810"/>
                </a:lnTo>
                <a:lnTo>
                  <a:pt x="7" y="2810"/>
                </a:lnTo>
                <a:lnTo>
                  <a:pt x="5" y="2810"/>
                </a:lnTo>
                <a:lnTo>
                  <a:pt x="2" y="2807"/>
                </a:lnTo>
                <a:lnTo>
                  <a:pt x="1" y="2804"/>
                </a:lnTo>
                <a:lnTo>
                  <a:pt x="0" y="2803"/>
                </a:lnTo>
                <a:lnTo>
                  <a:pt x="0" y="2801"/>
                </a:lnTo>
                <a:lnTo>
                  <a:pt x="0" y="2801"/>
                </a:lnTo>
                <a:close/>
                <a:moveTo>
                  <a:pt x="0" y="2676"/>
                </a:moveTo>
                <a:lnTo>
                  <a:pt x="0" y="2621"/>
                </a:lnTo>
                <a:lnTo>
                  <a:pt x="0" y="2620"/>
                </a:lnTo>
                <a:lnTo>
                  <a:pt x="1" y="2618"/>
                </a:lnTo>
                <a:lnTo>
                  <a:pt x="2" y="2615"/>
                </a:lnTo>
                <a:lnTo>
                  <a:pt x="5" y="2613"/>
                </a:lnTo>
                <a:lnTo>
                  <a:pt x="7" y="2613"/>
                </a:lnTo>
                <a:lnTo>
                  <a:pt x="10" y="2613"/>
                </a:lnTo>
                <a:lnTo>
                  <a:pt x="11" y="2613"/>
                </a:lnTo>
                <a:lnTo>
                  <a:pt x="13" y="2613"/>
                </a:lnTo>
                <a:lnTo>
                  <a:pt x="15" y="2615"/>
                </a:lnTo>
                <a:lnTo>
                  <a:pt x="17" y="2618"/>
                </a:lnTo>
                <a:lnTo>
                  <a:pt x="18" y="2620"/>
                </a:lnTo>
                <a:lnTo>
                  <a:pt x="18" y="2621"/>
                </a:lnTo>
                <a:lnTo>
                  <a:pt x="18" y="2676"/>
                </a:lnTo>
                <a:lnTo>
                  <a:pt x="18" y="2677"/>
                </a:lnTo>
                <a:lnTo>
                  <a:pt x="17" y="2679"/>
                </a:lnTo>
                <a:lnTo>
                  <a:pt x="15" y="2682"/>
                </a:lnTo>
                <a:lnTo>
                  <a:pt x="13" y="2683"/>
                </a:lnTo>
                <a:lnTo>
                  <a:pt x="11" y="2685"/>
                </a:lnTo>
                <a:lnTo>
                  <a:pt x="10" y="2685"/>
                </a:lnTo>
                <a:lnTo>
                  <a:pt x="7" y="2685"/>
                </a:lnTo>
                <a:lnTo>
                  <a:pt x="5" y="2683"/>
                </a:lnTo>
                <a:lnTo>
                  <a:pt x="2" y="2682"/>
                </a:lnTo>
                <a:lnTo>
                  <a:pt x="1" y="2679"/>
                </a:lnTo>
                <a:lnTo>
                  <a:pt x="0" y="2677"/>
                </a:lnTo>
                <a:lnTo>
                  <a:pt x="0" y="2676"/>
                </a:lnTo>
                <a:lnTo>
                  <a:pt x="0" y="2676"/>
                </a:lnTo>
                <a:close/>
                <a:moveTo>
                  <a:pt x="0" y="2549"/>
                </a:moveTo>
                <a:lnTo>
                  <a:pt x="0" y="2496"/>
                </a:lnTo>
                <a:lnTo>
                  <a:pt x="0" y="2493"/>
                </a:lnTo>
                <a:lnTo>
                  <a:pt x="1" y="2492"/>
                </a:lnTo>
                <a:lnTo>
                  <a:pt x="2" y="2489"/>
                </a:lnTo>
                <a:lnTo>
                  <a:pt x="5" y="2487"/>
                </a:lnTo>
                <a:lnTo>
                  <a:pt x="7" y="2486"/>
                </a:lnTo>
                <a:lnTo>
                  <a:pt x="10" y="2486"/>
                </a:lnTo>
                <a:lnTo>
                  <a:pt x="11" y="2486"/>
                </a:lnTo>
                <a:lnTo>
                  <a:pt x="13" y="2487"/>
                </a:lnTo>
                <a:lnTo>
                  <a:pt x="15" y="2489"/>
                </a:lnTo>
                <a:lnTo>
                  <a:pt x="17" y="2492"/>
                </a:lnTo>
                <a:lnTo>
                  <a:pt x="18" y="2493"/>
                </a:lnTo>
                <a:lnTo>
                  <a:pt x="18" y="2496"/>
                </a:lnTo>
                <a:lnTo>
                  <a:pt x="18" y="2549"/>
                </a:lnTo>
                <a:lnTo>
                  <a:pt x="18" y="2551"/>
                </a:lnTo>
                <a:lnTo>
                  <a:pt x="17" y="2552"/>
                </a:lnTo>
                <a:lnTo>
                  <a:pt x="15" y="2555"/>
                </a:lnTo>
                <a:lnTo>
                  <a:pt x="13" y="2558"/>
                </a:lnTo>
                <a:lnTo>
                  <a:pt x="11" y="2558"/>
                </a:lnTo>
                <a:lnTo>
                  <a:pt x="10" y="2558"/>
                </a:lnTo>
                <a:lnTo>
                  <a:pt x="7" y="2558"/>
                </a:lnTo>
                <a:lnTo>
                  <a:pt x="5" y="2558"/>
                </a:lnTo>
                <a:lnTo>
                  <a:pt x="2" y="2555"/>
                </a:lnTo>
                <a:lnTo>
                  <a:pt x="1" y="2552"/>
                </a:lnTo>
                <a:lnTo>
                  <a:pt x="0" y="2551"/>
                </a:lnTo>
                <a:lnTo>
                  <a:pt x="0" y="2549"/>
                </a:lnTo>
                <a:lnTo>
                  <a:pt x="0" y="2549"/>
                </a:lnTo>
                <a:close/>
                <a:moveTo>
                  <a:pt x="0" y="2424"/>
                </a:moveTo>
                <a:lnTo>
                  <a:pt x="0" y="2369"/>
                </a:lnTo>
                <a:lnTo>
                  <a:pt x="0" y="2368"/>
                </a:lnTo>
                <a:lnTo>
                  <a:pt x="1" y="2366"/>
                </a:lnTo>
                <a:lnTo>
                  <a:pt x="2" y="2364"/>
                </a:lnTo>
                <a:lnTo>
                  <a:pt x="5" y="2361"/>
                </a:lnTo>
                <a:lnTo>
                  <a:pt x="7" y="2361"/>
                </a:lnTo>
                <a:lnTo>
                  <a:pt x="10" y="2361"/>
                </a:lnTo>
                <a:lnTo>
                  <a:pt x="11" y="2361"/>
                </a:lnTo>
                <a:lnTo>
                  <a:pt x="13" y="2361"/>
                </a:lnTo>
                <a:lnTo>
                  <a:pt x="15" y="2364"/>
                </a:lnTo>
                <a:lnTo>
                  <a:pt x="17" y="2366"/>
                </a:lnTo>
                <a:lnTo>
                  <a:pt x="18" y="2368"/>
                </a:lnTo>
                <a:lnTo>
                  <a:pt x="18" y="2369"/>
                </a:lnTo>
                <a:lnTo>
                  <a:pt x="18" y="2424"/>
                </a:lnTo>
                <a:lnTo>
                  <a:pt x="18" y="2425"/>
                </a:lnTo>
                <a:lnTo>
                  <a:pt x="17" y="2427"/>
                </a:lnTo>
                <a:lnTo>
                  <a:pt x="15" y="2430"/>
                </a:lnTo>
                <a:lnTo>
                  <a:pt x="13" y="2431"/>
                </a:lnTo>
                <a:lnTo>
                  <a:pt x="11" y="2433"/>
                </a:lnTo>
                <a:lnTo>
                  <a:pt x="10" y="2433"/>
                </a:lnTo>
                <a:lnTo>
                  <a:pt x="7" y="2433"/>
                </a:lnTo>
                <a:lnTo>
                  <a:pt x="5" y="2431"/>
                </a:lnTo>
                <a:lnTo>
                  <a:pt x="2" y="2430"/>
                </a:lnTo>
                <a:lnTo>
                  <a:pt x="1" y="2427"/>
                </a:lnTo>
                <a:lnTo>
                  <a:pt x="0" y="2425"/>
                </a:lnTo>
                <a:lnTo>
                  <a:pt x="0" y="2424"/>
                </a:lnTo>
                <a:lnTo>
                  <a:pt x="0" y="2424"/>
                </a:lnTo>
                <a:close/>
                <a:moveTo>
                  <a:pt x="0" y="2297"/>
                </a:moveTo>
                <a:lnTo>
                  <a:pt x="0" y="2244"/>
                </a:lnTo>
                <a:lnTo>
                  <a:pt x="0" y="2241"/>
                </a:lnTo>
                <a:lnTo>
                  <a:pt x="1" y="2240"/>
                </a:lnTo>
                <a:lnTo>
                  <a:pt x="2" y="2237"/>
                </a:lnTo>
                <a:lnTo>
                  <a:pt x="5" y="2235"/>
                </a:lnTo>
                <a:lnTo>
                  <a:pt x="7" y="2234"/>
                </a:lnTo>
                <a:lnTo>
                  <a:pt x="10" y="2234"/>
                </a:lnTo>
                <a:lnTo>
                  <a:pt x="11" y="2234"/>
                </a:lnTo>
                <a:lnTo>
                  <a:pt x="13" y="2235"/>
                </a:lnTo>
                <a:lnTo>
                  <a:pt x="15" y="2237"/>
                </a:lnTo>
                <a:lnTo>
                  <a:pt x="17" y="2240"/>
                </a:lnTo>
                <a:lnTo>
                  <a:pt x="18" y="2241"/>
                </a:lnTo>
                <a:lnTo>
                  <a:pt x="18" y="2244"/>
                </a:lnTo>
                <a:lnTo>
                  <a:pt x="18" y="2297"/>
                </a:lnTo>
                <a:lnTo>
                  <a:pt x="18" y="2299"/>
                </a:lnTo>
                <a:lnTo>
                  <a:pt x="17" y="2300"/>
                </a:lnTo>
                <a:lnTo>
                  <a:pt x="15" y="2303"/>
                </a:lnTo>
                <a:lnTo>
                  <a:pt x="13" y="2306"/>
                </a:lnTo>
                <a:lnTo>
                  <a:pt x="11" y="2306"/>
                </a:lnTo>
                <a:lnTo>
                  <a:pt x="10" y="2306"/>
                </a:lnTo>
                <a:lnTo>
                  <a:pt x="7" y="2306"/>
                </a:lnTo>
                <a:lnTo>
                  <a:pt x="5" y="2306"/>
                </a:lnTo>
                <a:lnTo>
                  <a:pt x="2" y="2303"/>
                </a:lnTo>
                <a:lnTo>
                  <a:pt x="1" y="2300"/>
                </a:lnTo>
                <a:lnTo>
                  <a:pt x="0" y="2299"/>
                </a:lnTo>
                <a:lnTo>
                  <a:pt x="0" y="2297"/>
                </a:lnTo>
                <a:lnTo>
                  <a:pt x="0" y="2297"/>
                </a:lnTo>
                <a:close/>
                <a:moveTo>
                  <a:pt x="0" y="2172"/>
                </a:moveTo>
                <a:lnTo>
                  <a:pt x="0" y="2117"/>
                </a:lnTo>
                <a:lnTo>
                  <a:pt x="0" y="2116"/>
                </a:lnTo>
                <a:lnTo>
                  <a:pt x="1" y="2114"/>
                </a:lnTo>
                <a:lnTo>
                  <a:pt x="2" y="2112"/>
                </a:lnTo>
                <a:lnTo>
                  <a:pt x="5" y="2109"/>
                </a:lnTo>
                <a:lnTo>
                  <a:pt x="7" y="2109"/>
                </a:lnTo>
                <a:lnTo>
                  <a:pt x="10" y="2109"/>
                </a:lnTo>
                <a:lnTo>
                  <a:pt x="11" y="2109"/>
                </a:lnTo>
                <a:lnTo>
                  <a:pt x="13" y="2109"/>
                </a:lnTo>
                <a:lnTo>
                  <a:pt x="15" y="2112"/>
                </a:lnTo>
                <a:lnTo>
                  <a:pt x="17" y="2114"/>
                </a:lnTo>
                <a:lnTo>
                  <a:pt x="18" y="2116"/>
                </a:lnTo>
                <a:lnTo>
                  <a:pt x="18" y="2117"/>
                </a:lnTo>
                <a:lnTo>
                  <a:pt x="18" y="2172"/>
                </a:lnTo>
                <a:lnTo>
                  <a:pt x="18" y="2173"/>
                </a:lnTo>
                <a:lnTo>
                  <a:pt x="17" y="2175"/>
                </a:lnTo>
                <a:lnTo>
                  <a:pt x="15" y="2178"/>
                </a:lnTo>
                <a:lnTo>
                  <a:pt x="13" y="2179"/>
                </a:lnTo>
                <a:lnTo>
                  <a:pt x="11" y="2181"/>
                </a:lnTo>
                <a:lnTo>
                  <a:pt x="10" y="2181"/>
                </a:lnTo>
                <a:lnTo>
                  <a:pt x="7" y="2181"/>
                </a:lnTo>
                <a:lnTo>
                  <a:pt x="5" y="2179"/>
                </a:lnTo>
                <a:lnTo>
                  <a:pt x="2" y="2178"/>
                </a:lnTo>
                <a:lnTo>
                  <a:pt x="1" y="2175"/>
                </a:lnTo>
                <a:lnTo>
                  <a:pt x="0" y="2173"/>
                </a:lnTo>
                <a:lnTo>
                  <a:pt x="0" y="2172"/>
                </a:lnTo>
                <a:lnTo>
                  <a:pt x="0" y="2172"/>
                </a:lnTo>
                <a:close/>
                <a:moveTo>
                  <a:pt x="0" y="2045"/>
                </a:moveTo>
                <a:lnTo>
                  <a:pt x="0" y="1992"/>
                </a:lnTo>
                <a:lnTo>
                  <a:pt x="0" y="1989"/>
                </a:lnTo>
                <a:lnTo>
                  <a:pt x="1" y="1988"/>
                </a:lnTo>
                <a:lnTo>
                  <a:pt x="2" y="1985"/>
                </a:lnTo>
                <a:lnTo>
                  <a:pt x="5" y="1983"/>
                </a:lnTo>
                <a:lnTo>
                  <a:pt x="7" y="1982"/>
                </a:lnTo>
                <a:lnTo>
                  <a:pt x="10" y="1982"/>
                </a:lnTo>
                <a:lnTo>
                  <a:pt x="11" y="1982"/>
                </a:lnTo>
                <a:lnTo>
                  <a:pt x="13" y="1983"/>
                </a:lnTo>
                <a:lnTo>
                  <a:pt x="15" y="1985"/>
                </a:lnTo>
                <a:lnTo>
                  <a:pt x="17" y="1988"/>
                </a:lnTo>
                <a:lnTo>
                  <a:pt x="18" y="1989"/>
                </a:lnTo>
                <a:lnTo>
                  <a:pt x="18" y="1992"/>
                </a:lnTo>
                <a:lnTo>
                  <a:pt x="18" y="2045"/>
                </a:lnTo>
                <a:lnTo>
                  <a:pt x="18" y="2047"/>
                </a:lnTo>
                <a:lnTo>
                  <a:pt x="17" y="2048"/>
                </a:lnTo>
                <a:lnTo>
                  <a:pt x="15" y="2051"/>
                </a:lnTo>
                <a:lnTo>
                  <a:pt x="13" y="2054"/>
                </a:lnTo>
                <a:lnTo>
                  <a:pt x="11" y="2054"/>
                </a:lnTo>
                <a:lnTo>
                  <a:pt x="10" y="2054"/>
                </a:lnTo>
                <a:lnTo>
                  <a:pt x="7" y="2054"/>
                </a:lnTo>
                <a:lnTo>
                  <a:pt x="5" y="2054"/>
                </a:lnTo>
                <a:lnTo>
                  <a:pt x="2" y="2051"/>
                </a:lnTo>
                <a:lnTo>
                  <a:pt x="1" y="2048"/>
                </a:lnTo>
                <a:lnTo>
                  <a:pt x="0" y="2047"/>
                </a:lnTo>
                <a:lnTo>
                  <a:pt x="0" y="2045"/>
                </a:lnTo>
                <a:lnTo>
                  <a:pt x="0" y="2045"/>
                </a:lnTo>
                <a:close/>
                <a:moveTo>
                  <a:pt x="0" y="1920"/>
                </a:moveTo>
                <a:lnTo>
                  <a:pt x="0" y="1865"/>
                </a:lnTo>
                <a:lnTo>
                  <a:pt x="0" y="1864"/>
                </a:lnTo>
                <a:lnTo>
                  <a:pt x="1" y="1862"/>
                </a:lnTo>
                <a:lnTo>
                  <a:pt x="2" y="1860"/>
                </a:lnTo>
                <a:lnTo>
                  <a:pt x="5" y="1857"/>
                </a:lnTo>
                <a:lnTo>
                  <a:pt x="7" y="1857"/>
                </a:lnTo>
                <a:lnTo>
                  <a:pt x="10" y="1857"/>
                </a:lnTo>
                <a:lnTo>
                  <a:pt x="11" y="1857"/>
                </a:lnTo>
                <a:lnTo>
                  <a:pt x="13" y="1857"/>
                </a:lnTo>
                <a:lnTo>
                  <a:pt x="15" y="1860"/>
                </a:lnTo>
                <a:lnTo>
                  <a:pt x="17" y="1862"/>
                </a:lnTo>
                <a:lnTo>
                  <a:pt x="18" y="1864"/>
                </a:lnTo>
                <a:lnTo>
                  <a:pt x="18" y="1865"/>
                </a:lnTo>
                <a:lnTo>
                  <a:pt x="18" y="1920"/>
                </a:lnTo>
                <a:lnTo>
                  <a:pt x="18" y="1922"/>
                </a:lnTo>
                <a:lnTo>
                  <a:pt x="17" y="1923"/>
                </a:lnTo>
                <a:lnTo>
                  <a:pt x="15" y="1926"/>
                </a:lnTo>
                <a:lnTo>
                  <a:pt x="13" y="1927"/>
                </a:lnTo>
                <a:lnTo>
                  <a:pt x="11" y="1929"/>
                </a:lnTo>
                <a:lnTo>
                  <a:pt x="10" y="1929"/>
                </a:lnTo>
                <a:lnTo>
                  <a:pt x="7" y="1929"/>
                </a:lnTo>
                <a:lnTo>
                  <a:pt x="5" y="1927"/>
                </a:lnTo>
                <a:lnTo>
                  <a:pt x="2" y="1926"/>
                </a:lnTo>
                <a:lnTo>
                  <a:pt x="1" y="1923"/>
                </a:lnTo>
                <a:lnTo>
                  <a:pt x="0" y="1922"/>
                </a:lnTo>
                <a:lnTo>
                  <a:pt x="0" y="1920"/>
                </a:lnTo>
                <a:lnTo>
                  <a:pt x="0" y="1920"/>
                </a:lnTo>
                <a:close/>
                <a:moveTo>
                  <a:pt x="0" y="1793"/>
                </a:moveTo>
                <a:lnTo>
                  <a:pt x="0" y="1740"/>
                </a:lnTo>
                <a:lnTo>
                  <a:pt x="0" y="1737"/>
                </a:lnTo>
                <a:lnTo>
                  <a:pt x="1" y="1736"/>
                </a:lnTo>
                <a:lnTo>
                  <a:pt x="2" y="1733"/>
                </a:lnTo>
                <a:lnTo>
                  <a:pt x="5" y="1731"/>
                </a:lnTo>
                <a:lnTo>
                  <a:pt x="7" y="1730"/>
                </a:lnTo>
                <a:lnTo>
                  <a:pt x="10" y="1730"/>
                </a:lnTo>
                <a:lnTo>
                  <a:pt x="11" y="1730"/>
                </a:lnTo>
                <a:lnTo>
                  <a:pt x="13" y="1731"/>
                </a:lnTo>
                <a:lnTo>
                  <a:pt x="15" y="1733"/>
                </a:lnTo>
                <a:lnTo>
                  <a:pt x="17" y="1736"/>
                </a:lnTo>
                <a:lnTo>
                  <a:pt x="18" y="1737"/>
                </a:lnTo>
                <a:lnTo>
                  <a:pt x="18" y="1740"/>
                </a:lnTo>
                <a:lnTo>
                  <a:pt x="18" y="1793"/>
                </a:lnTo>
                <a:lnTo>
                  <a:pt x="18" y="1795"/>
                </a:lnTo>
                <a:lnTo>
                  <a:pt x="17" y="1796"/>
                </a:lnTo>
                <a:lnTo>
                  <a:pt x="15" y="1799"/>
                </a:lnTo>
                <a:lnTo>
                  <a:pt x="13" y="1802"/>
                </a:lnTo>
                <a:lnTo>
                  <a:pt x="11" y="1802"/>
                </a:lnTo>
                <a:lnTo>
                  <a:pt x="10" y="1802"/>
                </a:lnTo>
                <a:lnTo>
                  <a:pt x="7" y="1802"/>
                </a:lnTo>
                <a:lnTo>
                  <a:pt x="5" y="1802"/>
                </a:lnTo>
                <a:lnTo>
                  <a:pt x="2" y="1799"/>
                </a:lnTo>
                <a:lnTo>
                  <a:pt x="1" y="1796"/>
                </a:lnTo>
                <a:lnTo>
                  <a:pt x="0" y="1795"/>
                </a:lnTo>
                <a:lnTo>
                  <a:pt x="0" y="1793"/>
                </a:lnTo>
                <a:lnTo>
                  <a:pt x="0" y="1793"/>
                </a:lnTo>
                <a:close/>
                <a:moveTo>
                  <a:pt x="0" y="1668"/>
                </a:moveTo>
                <a:lnTo>
                  <a:pt x="0" y="1613"/>
                </a:lnTo>
                <a:lnTo>
                  <a:pt x="0" y="1612"/>
                </a:lnTo>
                <a:lnTo>
                  <a:pt x="1" y="1611"/>
                </a:lnTo>
                <a:lnTo>
                  <a:pt x="2" y="1608"/>
                </a:lnTo>
                <a:lnTo>
                  <a:pt x="5" y="1605"/>
                </a:lnTo>
                <a:lnTo>
                  <a:pt x="7" y="1605"/>
                </a:lnTo>
                <a:lnTo>
                  <a:pt x="10" y="1605"/>
                </a:lnTo>
                <a:lnTo>
                  <a:pt x="11" y="1605"/>
                </a:lnTo>
                <a:lnTo>
                  <a:pt x="13" y="1605"/>
                </a:lnTo>
                <a:lnTo>
                  <a:pt x="15" y="1608"/>
                </a:lnTo>
                <a:lnTo>
                  <a:pt x="17" y="1611"/>
                </a:lnTo>
                <a:lnTo>
                  <a:pt x="18" y="1612"/>
                </a:lnTo>
                <a:lnTo>
                  <a:pt x="18" y="1613"/>
                </a:lnTo>
                <a:lnTo>
                  <a:pt x="18" y="1668"/>
                </a:lnTo>
                <a:lnTo>
                  <a:pt x="18" y="1670"/>
                </a:lnTo>
                <a:lnTo>
                  <a:pt x="17" y="1671"/>
                </a:lnTo>
                <a:lnTo>
                  <a:pt x="15" y="1674"/>
                </a:lnTo>
                <a:lnTo>
                  <a:pt x="13" y="1675"/>
                </a:lnTo>
                <a:lnTo>
                  <a:pt x="11" y="1677"/>
                </a:lnTo>
                <a:lnTo>
                  <a:pt x="10" y="1677"/>
                </a:lnTo>
                <a:lnTo>
                  <a:pt x="7" y="1677"/>
                </a:lnTo>
                <a:lnTo>
                  <a:pt x="5" y="1675"/>
                </a:lnTo>
                <a:lnTo>
                  <a:pt x="2" y="1674"/>
                </a:lnTo>
                <a:lnTo>
                  <a:pt x="1" y="1671"/>
                </a:lnTo>
                <a:lnTo>
                  <a:pt x="0" y="1670"/>
                </a:lnTo>
                <a:lnTo>
                  <a:pt x="0" y="1668"/>
                </a:lnTo>
                <a:lnTo>
                  <a:pt x="0" y="1668"/>
                </a:lnTo>
                <a:close/>
                <a:moveTo>
                  <a:pt x="0" y="1541"/>
                </a:moveTo>
                <a:lnTo>
                  <a:pt x="0" y="1488"/>
                </a:lnTo>
                <a:lnTo>
                  <a:pt x="0" y="1485"/>
                </a:lnTo>
                <a:lnTo>
                  <a:pt x="1" y="1484"/>
                </a:lnTo>
                <a:lnTo>
                  <a:pt x="2" y="1481"/>
                </a:lnTo>
                <a:lnTo>
                  <a:pt x="5" y="1480"/>
                </a:lnTo>
                <a:lnTo>
                  <a:pt x="7" y="1478"/>
                </a:lnTo>
                <a:lnTo>
                  <a:pt x="10" y="1478"/>
                </a:lnTo>
                <a:lnTo>
                  <a:pt x="11" y="1478"/>
                </a:lnTo>
                <a:lnTo>
                  <a:pt x="13" y="1480"/>
                </a:lnTo>
                <a:lnTo>
                  <a:pt x="15" y="1481"/>
                </a:lnTo>
                <a:lnTo>
                  <a:pt x="17" y="1484"/>
                </a:lnTo>
                <a:lnTo>
                  <a:pt x="18" y="1485"/>
                </a:lnTo>
                <a:lnTo>
                  <a:pt x="18" y="1488"/>
                </a:lnTo>
                <a:lnTo>
                  <a:pt x="18" y="1541"/>
                </a:lnTo>
                <a:lnTo>
                  <a:pt x="18" y="1543"/>
                </a:lnTo>
                <a:lnTo>
                  <a:pt x="17" y="1544"/>
                </a:lnTo>
                <a:lnTo>
                  <a:pt x="15" y="1547"/>
                </a:lnTo>
                <a:lnTo>
                  <a:pt x="13" y="1550"/>
                </a:lnTo>
                <a:lnTo>
                  <a:pt x="11" y="1550"/>
                </a:lnTo>
                <a:lnTo>
                  <a:pt x="10" y="1550"/>
                </a:lnTo>
                <a:lnTo>
                  <a:pt x="7" y="1550"/>
                </a:lnTo>
                <a:lnTo>
                  <a:pt x="5" y="1550"/>
                </a:lnTo>
                <a:lnTo>
                  <a:pt x="2" y="1547"/>
                </a:lnTo>
                <a:lnTo>
                  <a:pt x="1" y="1544"/>
                </a:lnTo>
                <a:lnTo>
                  <a:pt x="0" y="1543"/>
                </a:lnTo>
                <a:lnTo>
                  <a:pt x="0" y="1541"/>
                </a:lnTo>
                <a:lnTo>
                  <a:pt x="0" y="1541"/>
                </a:lnTo>
                <a:close/>
                <a:moveTo>
                  <a:pt x="0" y="1416"/>
                </a:moveTo>
                <a:lnTo>
                  <a:pt x="0" y="1361"/>
                </a:lnTo>
                <a:lnTo>
                  <a:pt x="0" y="1360"/>
                </a:lnTo>
                <a:lnTo>
                  <a:pt x="1" y="1359"/>
                </a:lnTo>
                <a:lnTo>
                  <a:pt x="2" y="1356"/>
                </a:lnTo>
                <a:lnTo>
                  <a:pt x="5" y="1353"/>
                </a:lnTo>
                <a:lnTo>
                  <a:pt x="7" y="1353"/>
                </a:lnTo>
                <a:lnTo>
                  <a:pt x="10" y="1353"/>
                </a:lnTo>
                <a:lnTo>
                  <a:pt x="11" y="1353"/>
                </a:lnTo>
                <a:lnTo>
                  <a:pt x="13" y="1353"/>
                </a:lnTo>
                <a:lnTo>
                  <a:pt x="15" y="1356"/>
                </a:lnTo>
                <a:lnTo>
                  <a:pt x="17" y="1359"/>
                </a:lnTo>
                <a:lnTo>
                  <a:pt x="18" y="1360"/>
                </a:lnTo>
                <a:lnTo>
                  <a:pt x="18" y="1361"/>
                </a:lnTo>
                <a:lnTo>
                  <a:pt x="18" y="1416"/>
                </a:lnTo>
                <a:lnTo>
                  <a:pt x="18" y="1418"/>
                </a:lnTo>
                <a:lnTo>
                  <a:pt x="17" y="1419"/>
                </a:lnTo>
                <a:lnTo>
                  <a:pt x="15" y="1422"/>
                </a:lnTo>
                <a:lnTo>
                  <a:pt x="13" y="1423"/>
                </a:lnTo>
                <a:lnTo>
                  <a:pt x="11" y="1425"/>
                </a:lnTo>
                <a:lnTo>
                  <a:pt x="10" y="1425"/>
                </a:lnTo>
                <a:lnTo>
                  <a:pt x="7" y="1425"/>
                </a:lnTo>
                <a:lnTo>
                  <a:pt x="5" y="1423"/>
                </a:lnTo>
                <a:lnTo>
                  <a:pt x="2" y="1422"/>
                </a:lnTo>
                <a:lnTo>
                  <a:pt x="1" y="1419"/>
                </a:lnTo>
                <a:lnTo>
                  <a:pt x="0" y="1418"/>
                </a:lnTo>
                <a:lnTo>
                  <a:pt x="0" y="1416"/>
                </a:lnTo>
                <a:lnTo>
                  <a:pt x="0" y="1416"/>
                </a:lnTo>
                <a:close/>
                <a:moveTo>
                  <a:pt x="0" y="1289"/>
                </a:moveTo>
                <a:lnTo>
                  <a:pt x="0" y="1236"/>
                </a:lnTo>
                <a:lnTo>
                  <a:pt x="0" y="1233"/>
                </a:lnTo>
                <a:lnTo>
                  <a:pt x="1" y="1232"/>
                </a:lnTo>
                <a:lnTo>
                  <a:pt x="2" y="1229"/>
                </a:lnTo>
                <a:lnTo>
                  <a:pt x="5" y="1228"/>
                </a:lnTo>
                <a:lnTo>
                  <a:pt x="7" y="1226"/>
                </a:lnTo>
                <a:lnTo>
                  <a:pt x="10" y="1226"/>
                </a:lnTo>
                <a:lnTo>
                  <a:pt x="11" y="1226"/>
                </a:lnTo>
                <a:lnTo>
                  <a:pt x="13" y="1228"/>
                </a:lnTo>
                <a:lnTo>
                  <a:pt x="15" y="1229"/>
                </a:lnTo>
                <a:lnTo>
                  <a:pt x="17" y="1232"/>
                </a:lnTo>
                <a:lnTo>
                  <a:pt x="18" y="1233"/>
                </a:lnTo>
                <a:lnTo>
                  <a:pt x="18" y="1236"/>
                </a:lnTo>
                <a:lnTo>
                  <a:pt x="18" y="1289"/>
                </a:lnTo>
                <a:lnTo>
                  <a:pt x="18" y="1291"/>
                </a:lnTo>
                <a:lnTo>
                  <a:pt x="17" y="1292"/>
                </a:lnTo>
                <a:lnTo>
                  <a:pt x="15" y="1295"/>
                </a:lnTo>
                <a:lnTo>
                  <a:pt x="13" y="1298"/>
                </a:lnTo>
                <a:lnTo>
                  <a:pt x="11" y="1298"/>
                </a:lnTo>
                <a:lnTo>
                  <a:pt x="10" y="1298"/>
                </a:lnTo>
                <a:lnTo>
                  <a:pt x="7" y="1298"/>
                </a:lnTo>
                <a:lnTo>
                  <a:pt x="5" y="1298"/>
                </a:lnTo>
                <a:lnTo>
                  <a:pt x="2" y="1295"/>
                </a:lnTo>
                <a:lnTo>
                  <a:pt x="1" y="1292"/>
                </a:lnTo>
                <a:lnTo>
                  <a:pt x="0" y="1291"/>
                </a:lnTo>
                <a:lnTo>
                  <a:pt x="0" y="1289"/>
                </a:lnTo>
                <a:lnTo>
                  <a:pt x="0" y="1289"/>
                </a:lnTo>
                <a:close/>
                <a:moveTo>
                  <a:pt x="0" y="1164"/>
                </a:moveTo>
                <a:lnTo>
                  <a:pt x="0" y="1110"/>
                </a:lnTo>
                <a:lnTo>
                  <a:pt x="0" y="1108"/>
                </a:lnTo>
                <a:lnTo>
                  <a:pt x="1" y="1107"/>
                </a:lnTo>
                <a:lnTo>
                  <a:pt x="2" y="1104"/>
                </a:lnTo>
                <a:lnTo>
                  <a:pt x="5" y="1101"/>
                </a:lnTo>
                <a:lnTo>
                  <a:pt x="7" y="1101"/>
                </a:lnTo>
                <a:lnTo>
                  <a:pt x="10" y="1101"/>
                </a:lnTo>
                <a:lnTo>
                  <a:pt x="11" y="1101"/>
                </a:lnTo>
                <a:lnTo>
                  <a:pt x="13" y="1101"/>
                </a:lnTo>
                <a:lnTo>
                  <a:pt x="15" y="1104"/>
                </a:lnTo>
                <a:lnTo>
                  <a:pt x="17" y="1107"/>
                </a:lnTo>
                <a:lnTo>
                  <a:pt x="18" y="1108"/>
                </a:lnTo>
                <a:lnTo>
                  <a:pt x="18" y="1110"/>
                </a:lnTo>
                <a:lnTo>
                  <a:pt x="18" y="1164"/>
                </a:lnTo>
                <a:lnTo>
                  <a:pt x="18" y="1166"/>
                </a:lnTo>
                <a:lnTo>
                  <a:pt x="17" y="1167"/>
                </a:lnTo>
                <a:lnTo>
                  <a:pt x="15" y="1170"/>
                </a:lnTo>
                <a:lnTo>
                  <a:pt x="13" y="1171"/>
                </a:lnTo>
                <a:lnTo>
                  <a:pt x="11" y="1173"/>
                </a:lnTo>
                <a:lnTo>
                  <a:pt x="10" y="1173"/>
                </a:lnTo>
                <a:lnTo>
                  <a:pt x="7" y="1173"/>
                </a:lnTo>
                <a:lnTo>
                  <a:pt x="5" y="1171"/>
                </a:lnTo>
                <a:lnTo>
                  <a:pt x="2" y="1170"/>
                </a:lnTo>
                <a:lnTo>
                  <a:pt x="1" y="1167"/>
                </a:lnTo>
                <a:lnTo>
                  <a:pt x="0" y="1166"/>
                </a:lnTo>
                <a:lnTo>
                  <a:pt x="0" y="1164"/>
                </a:lnTo>
                <a:lnTo>
                  <a:pt x="0" y="1164"/>
                </a:lnTo>
                <a:close/>
                <a:moveTo>
                  <a:pt x="0" y="1038"/>
                </a:moveTo>
                <a:lnTo>
                  <a:pt x="0" y="984"/>
                </a:lnTo>
                <a:lnTo>
                  <a:pt x="0" y="981"/>
                </a:lnTo>
                <a:lnTo>
                  <a:pt x="1" y="980"/>
                </a:lnTo>
                <a:lnTo>
                  <a:pt x="2" y="977"/>
                </a:lnTo>
                <a:lnTo>
                  <a:pt x="5" y="976"/>
                </a:lnTo>
                <a:lnTo>
                  <a:pt x="7" y="974"/>
                </a:lnTo>
                <a:lnTo>
                  <a:pt x="10" y="974"/>
                </a:lnTo>
                <a:lnTo>
                  <a:pt x="11" y="974"/>
                </a:lnTo>
                <a:lnTo>
                  <a:pt x="13" y="976"/>
                </a:lnTo>
                <a:lnTo>
                  <a:pt x="15" y="977"/>
                </a:lnTo>
                <a:lnTo>
                  <a:pt x="17" y="980"/>
                </a:lnTo>
                <a:lnTo>
                  <a:pt x="18" y="981"/>
                </a:lnTo>
                <a:lnTo>
                  <a:pt x="18" y="984"/>
                </a:lnTo>
                <a:lnTo>
                  <a:pt x="18" y="1038"/>
                </a:lnTo>
                <a:lnTo>
                  <a:pt x="18" y="1039"/>
                </a:lnTo>
                <a:lnTo>
                  <a:pt x="17" y="1040"/>
                </a:lnTo>
                <a:lnTo>
                  <a:pt x="15" y="1043"/>
                </a:lnTo>
                <a:lnTo>
                  <a:pt x="13" y="1046"/>
                </a:lnTo>
                <a:lnTo>
                  <a:pt x="11" y="1046"/>
                </a:lnTo>
                <a:lnTo>
                  <a:pt x="10" y="1046"/>
                </a:lnTo>
                <a:lnTo>
                  <a:pt x="7" y="1046"/>
                </a:lnTo>
                <a:lnTo>
                  <a:pt x="5" y="1046"/>
                </a:lnTo>
                <a:lnTo>
                  <a:pt x="2" y="1043"/>
                </a:lnTo>
                <a:lnTo>
                  <a:pt x="1" y="1040"/>
                </a:lnTo>
                <a:lnTo>
                  <a:pt x="0" y="1039"/>
                </a:lnTo>
                <a:lnTo>
                  <a:pt x="0" y="1038"/>
                </a:lnTo>
                <a:lnTo>
                  <a:pt x="0" y="1038"/>
                </a:lnTo>
                <a:close/>
                <a:moveTo>
                  <a:pt x="0" y="912"/>
                </a:moveTo>
                <a:lnTo>
                  <a:pt x="0" y="858"/>
                </a:lnTo>
                <a:lnTo>
                  <a:pt x="0" y="856"/>
                </a:lnTo>
                <a:lnTo>
                  <a:pt x="1" y="855"/>
                </a:lnTo>
                <a:lnTo>
                  <a:pt x="2" y="852"/>
                </a:lnTo>
                <a:lnTo>
                  <a:pt x="5" y="849"/>
                </a:lnTo>
                <a:lnTo>
                  <a:pt x="7" y="849"/>
                </a:lnTo>
                <a:lnTo>
                  <a:pt x="10" y="849"/>
                </a:lnTo>
                <a:lnTo>
                  <a:pt x="11" y="849"/>
                </a:lnTo>
                <a:lnTo>
                  <a:pt x="13" y="849"/>
                </a:lnTo>
                <a:lnTo>
                  <a:pt x="15" y="852"/>
                </a:lnTo>
                <a:lnTo>
                  <a:pt x="17" y="855"/>
                </a:lnTo>
                <a:lnTo>
                  <a:pt x="18" y="856"/>
                </a:lnTo>
                <a:lnTo>
                  <a:pt x="18" y="858"/>
                </a:lnTo>
                <a:lnTo>
                  <a:pt x="18" y="912"/>
                </a:lnTo>
                <a:lnTo>
                  <a:pt x="18" y="914"/>
                </a:lnTo>
                <a:lnTo>
                  <a:pt x="17" y="915"/>
                </a:lnTo>
                <a:lnTo>
                  <a:pt x="15" y="918"/>
                </a:lnTo>
                <a:lnTo>
                  <a:pt x="13" y="919"/>
                </a:lnTo>
                <a:lnTo>
                  <a:pt x="11" y="921"/>
                </a:lnTo>
                <a:lnTo>
                  <a:pt x="10" y="921"/>
                </a:lnTo>
                <a:lnTo>
                  <a:pt x="7" y="921"/>
                </a:lnTo>
                <a:lnTo>
                  <a:pt x="5" y="919"/>
                </a:lnTo>
                <a:lnTo>
                  <a:pt x="2" y="918"/>
                </a:lnTo>
                <a:lnTo>
                  <a:pt x="1" y="915"/>
                </a:lnTo>
                <a:lnTo>
                  <a:pt x="0" y="914"/>
                </a:lnTo>
                <a:lnTo>
                  <a:pt x="0" y="912"/>
                </a:lnTo>
                <a:lnTo>
                  <a:pt x="0" y="912"/>
                </a:lnTo>
                <a:close/>
                <a:moveTo>
                  <a:pt x="0" y="786"/>
                </a:moveTo>
                <a:lnTo>
                  <a:pt x="0" y="732"/>
                </a:lnTo>
                <a:lnTo>
                  <a:pt x="0" y="729"/>
                </a:lnTo>
                <a:lnTo>
                  <a:pt x="1" y="728"/>
                </a:lnTo>
                <a:lnTo>
                  <a:pt x="2" y="725"/>
                </a:lnTo>
                <a:lnTo>
                  <a:pt x="5" y="724"/>
                </a:lnTo>
                <a:lnTo>
                  <a:pt x="7" y="722"/>
                </a:lnTo>
                <a:lnTo>
                  <a:pt x="10" y="722"/>
                </a:lnTo>
                <a:lnTo>
                  <a:pt x="11" y="722"/>
                </a:lnTo>
                <a:lnTo>
                  <a:pt x="13" y="724"/>
                </a:lnTo>
                <a:lnTo>
                  <a:pt x="15" y="725"/>
                </a:lnTo>
                <a:lnTo>
                  <a:pt x="17" y="728"/>
                </a:lnTo>
                <a:lnTo>
                  <a:pt x="18" y="729"/>
                </a:lnTo>
                <a:lnTo>
                  <a:pt x="18" y="732"/>
                </a:lnTo>
                <a:lnTo>
                  <a:pt x="18" y="786"/>
                </a:lnTo>
                <a:lnTo>
                  <a:pt x="18" y="787"/>
                </a:lnTo>
                <a:lnTo>
                  <a:pt x="17" y="788"/>
                </a:lnTo>
                <a:lnTo>
                  <a:pt x="15" y="791"/>
                </a:lnTo>
                <a:lnTo>
                  <a:pt x="13" y="794"/>
                </a:lnTo>
                <a:lnTo>
                  <a:pt x="11" y="794"/>
                </a:lnTo>
                <a:lnTo>
                  <a:pt x="10" y="794"/>
                </a:lnTo>
                <a:lnTo>
                  <a:pt x="7" y="794"/>
                </a:lnTo>
                <a:lnTo>
                  <a:pt x="5" y="794"/>
                </a:lnTo>
                <a:lnTo>
                  <a:pt x="2" y="791"/>
                </a:lnTo>
                <a:lnTo>
                  <a:pt x="1" y="788"/>
                </a:lnTo>
                <a:lnTo>
                  <a:pt x="0" y="787"/>
                </a:lnTo>
                <a:lnTo>
                  <a:pt x="0" y="786"/>
                </a:lnTo>
                <a:lnTo>
                  <a:pt x="0" y="786"/>
                </a:lnTo>
                <a:close/>
                <a:moveTo>
                  <a:pt x="0" y="660"/>
                </a:moveTo>
                <a:lnTo>
                  <a:pt x="0" y="606"/>
                </a:lnTo>
                <a:lnTo>
                  <a:pt x="0" y="604"/>
                </a:lnTo>
                <a:lnTo>
                  <a:pt x="1" y="603"/>
                </a:lnTo>
                <a:lnTo>
                  <a:pt x="2" y="600"/>
                </a:lnTo>
                <a:lnTo>
                  <a:pt x="5" y="597"/>
                </a:lnTo>
                <a:lnTo>
                  <a:pt x="7" y="597"/>
                </a:lnTo>
                <a:lnTo>
                  <a:pt x="10" y="597"/>
                </a:lnTo>
                <a:lnTo>
                  <a:pt x="11" y="597"/>
                </a:lnTo>
                <a:lnTo>
                  <a:pt x="13" y="597"/>
                </a:lnTo>
                <a:lnTo>
                  <a:pt x="15" y="600"/>
                </a:lnTo>
                <a:lnTo>
                  <a:pt x="17" y="603"/>
                </a:lnTo>
                <a:lnTo>
                  <a:pt x="18" y="604"/>
                </a:lnTo>
                <a:lnTo>
                  <a:pt x="18" y="606"/>
                </a:lnTo>
                <a:lnTo>
                  <a:pt x="18" y="660"/>
                </a:lnTo>
                <a:lnTo>
                  <a:pt x="18" y="662"/>
                </a:lnTo>
                <a:lnTo>
                  <a:pt x="17" y="663"/>
                </a:lnTo>
                <a:lnTo>
                  <a:pt x="15" y="666"/>
                </a:lnTo>
                <a:lnTo>
                  <a:pt x="13" y="668"/>
                </a:lnTo>
                <a:lnTo>
                  <a:pt x="11" y="669"/>
                </a:lnTo>
                <a:lnTo>
                  <a:pt x="10" y="669"/>
                </a:lnTo>
                <a:lnTo>
                  <a:pt x="7" y="669"/>
                </a:lnTo>
                <a:lnTo>
                  <a:pt x="5" y="668"/>
                </a:lnTo>
                <a:lnTo>
                  <a:pt x="2" y="666"/>
                </a:lnTo>
                <a:lnTo>
                  <a:pt x="1" y="663"/>
                </a:lnTo>
                <a:lnTo>
                  <a:pt x="0" y="662"/>
                </a:lnTo>
                <a:lnTo>
                  <a:pt x="0" y="660"/>
                </a:lnTo>
                <a:lnTo>
                  <a:pt x="0" y="660"/>
                </a:lnTo>
                <a:close/>
                <a:moveTo>
                  <a:pt x="0" y="534"/>
                </a:moveTo>
                <a:lnTo>
                  <a:pt x="0" y="480"/>
                </a:lnTo>
                <a:lnTo>
                  <a:pt x="0" y="477"/>
                </a:lnTo>
                <a:lnTo>
                  <a:pt x="1" y="476"/>
                </a:lnTo>
                <a:lnTo>
                  <a:pt x="2" y="473"/>
                </a:lnTo>
                <a:lnTo>
                  <a:pt x="5" y="472"/>
                </a:lnTo>
                <a:lnTo>
                  <a:pt x="7" y="470"/>
                </a:lnTo>
                <a:lnTo>
                  <a:pt x="10" y="470"/>
                </a:lnTo>
                <a:lnTo>
                  <a:pt x="11" y="470"/>
                </a:lnTo>
                <a:lnTo>
                  <a:pt x="13" y="472"/>
                </a:lnTo>
                <a:lnTo>
                  <a:pt x="15" y="473"/>
                </a:lnTo>
                <a:lnTo>
                  <a:pt x="17" y="476"/>
                </a:lnTo>
                <a:lnTo>
                  <a:pt x="18" y="477"/>
                </a:lnTo>
                <a:lnTo>
                  <a:pt x="18" y="480"/>
                </a:lnTo>
                <a:lnTo>
                  <a:pt x="18" y="534"/>
                </a:lnTo>
                <a:lnTo>
                  <a:pt x="18" y="535"/>
                </a:lnTo>
                <a:lnTo>
                  <a:pt x="17" y="537"/>
                </a:lnTo>
                <a:lnTo>
                  <a:pt x="15" y="539"/>
                </a:lnTo>
                <a:lnTo>
                  <a:pt x="13" y="542"/>
                </a:lnTo>
                <a:lnTo>
                  <a:pt x="11" y="542"/>
                </a:lnTo>
                <a:lnTo>
                  <a:pt x="10" y="542"/>
                </a:lnTo>
                <a:lnTo>
                  <a:pt x="7" y="542"/>
                </a:lnTo>
                <a:lnTo>
                  <a:pt x="5" y="542"/>
                </a:lnTo>
                <a:lnTo>
                  <a:pt x="2" y="539"/>
                </a:lnTo>
                <a:lnTo>
                  <a:pt x="1" y="537"/>
                </a:lnTo>
                <a:lnTo>
                  <a:pt x="0" y="535"/>
                </a:lnTo>
                <a:lnTo>
                  <a:pt x="0" y="534"/>
                </a:lnTo>
                <a:lnTo>
                  <a:pt x="0" y="534"/>
                </a:lnTo>
                <a:close/>
                <a:moveTo>
                  <a:pt x="0" y="408"/>
                </a:moveTo>
                <a:lnTo>
                  <a:pt x="0" y="354"/>
                </a:lnTo>
                <a:lnTo>
                  <a:pt x="0" y="352"/>
                </a:lnTo>
                <a:lnTo>
                  <a:pt x="1" y="351"/>
                </a:lnTo>
                <a:lnTo>
                  <a:pt x="2" y="348"/>
                </a:lnTo>
                <a:lnTo>
                  <a:pt x="5" y="345"/>
                </a:lnTo>
                <a:lnTo>
                  <a:pt x="7" y="345"/>
                </a:lnTo>
                <a:lnTo>
                  <a:pt x="10" y="345"/>
                </a:lnTo>
                <a:lnTo>
                  <a:pt x="11" y="345"/>
                </a:lnTo>
                <a:lnTo>
                  <a:pt x="13" y="345"/>
                </a:lnTo>
                <a:lnTo>
                  <a:pt x="15" y="348"/>
                </a:lnTo>
                <a:lnTo>
                  <a:pt x="17" y="351"/>
                </a:lnTo>
                <a:lnTo>
                  <a:pt x="18" y="352"/>
                </a:lnTo>
                <a:lnTo>
                  <a:pt x="18" y="354"/>
                </a:lnTo>
                <a:lnTo>
                  <a:pt x="18" y="408"/>
                </a:lnTo>
                <a:lnTo>
                  <a:pt x="18" y="410"/>
                </a:lnTo>
                <a:lnTo>
                  <a:pt x="17" y="411"/>
                </a:lnTo>
                <a:lnTo>
                  <a:pt x="15" y="414"/>
                </a:lnTo>
                <a:lnTo>
                  <a:pt x="13" y="416"/>
                </a:lnTo>
                <a:lnTo>
                  <a:pt x="11" y="417"/>
                </a:lnTo>
                <a:lnTo>
                  <a:pt x="10" y="417"/>
                </a:lnTo>
                <a:lnTo>
                  <a:pt x="7" y="417"/>
                </a:lnTo>
                <a:lnTo>
                  <a:pt x="5" y="416"/>
                </a:lnTo>
                <a:lnTo>
                  <a:pt x="2" y="414"/>
                </a:lnTo>
                <a:lnTo>
                  <a:pt x="1" y="411"/>
                </a:lnTo>
                <a:lnTo>
                  <a:pt x="0" y="410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282"/>
                </a:moveTo>
                <a:lnTo>
                  <a:pt x="0" y="228"/>
                </a:lnTo>
                <a:lnTo>
                  <a:pt x="0" y="226"/>
                </a:lnTo>
                <a:lnTo>
                  <a:pt x="1" y="224"/>
                </a:lnTo>
                <a:lnTo>
                  <a:pt x="2" y="221"/>
                </a:lnTo>
                <a:lnTo>
                  <a:pt x="5" y="220"/>
                </a:lnTo>
                <a:lnTo>
                  <a:pt x="7" y="218"/>
                </a:lnTo>
                <a:lnTo>
                  <a:pt x="10" y="218"/>
                </a:lnTo>
                <a:lnTo>
                  <a:pt x="11" y="218"/>
                </a:lnTo>
                <a:lnTo>
                  <a:pt x="13" y="220"/>
                </a:lnTo>
                <a:lnTo>
                  <a:pt x="15" y="221"/>
                </a:lnTo>
                <a:lnTo>
                  <a:pt x="17" y="224"/>
                </a:lnTo>
                <a:lnTo>
                  <a:pt x="18" y="226"/>
                </a:lnTo>
                <a:lnTo>
                  <a:pt x="18" y="228"/>
                </a:lnTo>
                <a:lnTo>
                  <a:pt x="18" y="282"/>
                </a:lnTo>
                <a:lnTo>
                  <a:pt x="18" y="283"/>
                </a:lnTo>
                <a:lnTo>
                  <a:pt x="17" y="285"/>
                </a:lnTo>
                <a:lnTo>
                  <a:pt x="15" y="287"/>
                </a:lnTo>
                <a:lnTo>
                  <a:pt x="13" y="290"/>
                </a:lnTo>
                <a:lnTo>
                  <a:pt x="11" y="290"/>
                </a:lnTo>
                <a:lnTo>
                  <a:pt x="10" y="290"/>
                </a:lnTo>
                <a:lnTo>
                  <a:pt x="7" y="290"/>
                </a:lnTo>
                <a:lnTo>
                  <a:pt x="5" y="290"/>
                </a:lnTo>
                <a:lnTo>
                  <a:pt x="2" y="287"/>
                </a:lnTo>
                <a:lnTo>
                  <a:pt x="1" y="285"/>
                </a:lnTo>
                <a:lnTo>
                  <a:pt x="0" y="283"/>
                </a:lnTo>
                <a:lnTo>
                  <a:pt x="0" y="282"/>
                </a:lnTo>
                <a:lnTo>
                  <a:pt x="0" y="282"/>
                </a:lnTo>
                <a:close/>
                <a:moveTo>
                  <a:pt x="0" y="156"/>
                </a:moveTo>
                <a:lnTo>
                  <a:pt x="0" y="102"/>
                </a:lnTo>
                <a:lnTo>
                  <a:pt x="0" y="100"/>
                </a:lnTo>
                <a:lnTo>
                  <a:pt x="1" y="99"/>
                </a:lnTo>
                <a:lnTo>
                  <a:pt x="2" y="96"/>
                </a:lnTo>
                <a:lnTo>
                  <a:pt x="5" y="93"/>
                </a:lnTo>
                <a:lnTo>
                  <a:pt x="7" y="93"/>
                </a:lnTo>
                <a:lnTo>
                  <a:pt x="10" y="93"/>
                </a:lnTo>
                <a:lnTo>
                  <a:pt x="11" y="93"/>
                </a:lnTo>
                <a:lnTo>
                  <a:pt x="13" y="93"/>
                </a:lnTo>
                <a:lnTo>
                  <a:pt x="15" y="96"/>
                </a:lnTo>
                <a:lnTo>
                  <a:pt x="17" y="99"/>
                </a:lnTo>
                <a:lnTo>
                  <a:pt x="18" y="100"/>
                </a:lnTo>
                <a:lnTo>
                  <a:pt x="18" y="102"/>
                </a:lnTo>
                <a:lnTo>
                  <a:pt x="18" y="156"/>
                </a:lnTo>
                <a:lnTo>
                  <a:pt x="18" y="158"/>
                </a:lnTo>
                <a:lnTo>
                  <a:pt x="17" y="159"/>
                </a:lnTo>
                <a:lnTo>
                  <a:pt x="15" y="162"/>
                </a:lnTo>
                <a:lnTo>
                  <a:pt x="13" y="164"/>
                </a:lnTo>
                <a:lnTo>
                  <a:pt x="11" y="165"/>
                </a:lnTo>
                <a:lnTo>
                  <a:pt x="10" y="165"/>
                </a:lnTo>
                <a:lnTo>
                  <a:pt x="7" y="165"/>
                </a:lnTo>
                <a:lnTo>
                  <a:pt x="5" y="164"/>
                </a:lnTo>
                <a:lnTo>
                  <a:pt x="2" y="162"/>
                </a:lnTo>
                <a:lnTo>
                  <a:pt x="1" y="159"/>
                </a:lnTo>
                <a:lnTo>
                  <a:pt x="0" y="158"/>
                </a:lnTo>
                <a:lnTo>
                  <a:pt x="0" y="156"/>
                </a:lnTo>
                <a:lnTo>
                  <a:pt x="0" y="156"/>
                </a:lnTo>
                <a:close/>
                <a:moveTo>
                  <a:pt x="0" y="30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13" y="1"/>
                </a:lnTo>
                <a:lnTo>
                  <a:pt x="15" y="2"/>
                </a:lnTo>
                <a:lnTo>
                  <a:pt x="17" y="5"/>
                </a:lnTo>
                <a:lnTo>
                  <a:pt x="18" y="7"/>
                </a:lnTo>
                <a:lnTo>
                  <a:pt x="18" y="10"/>
                </a:lnTo>
                <a:lnTo>
                  <a:pt x="18" y="30"/>
                </a:lnTo>
                <a:lnTo>
                  <a:pt x="18" y="31"/>
                </a:lnTo>
                <a:lnTo>
                  <a:pt x="17" y="33"/>
                </a:lnTo>
                <a:lnTo>
                  <a:pt x="15" y="35"/>
                </a:lnTo>
                <a:lnTo>
                  <a:pt x="13" y="38"/>
                </a:lnTo>
                <a:lnTo>
                  <a:pt x="11" y="38"/>
                </a:lnTo>
                <a:lnTo>
                  <a:pt x="10" y="38"/>
                </a:lnTo>
                <a:lnTo>
                  <a:pt x="7" y="38"/>
                </a:lnTo>
                <a:lnTo>
                  <a:pt x="5" y="38"/>
                </a:lnTo>
                <a:lnTo>
                  <a:pt x="2" y="35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05560" y="1730520"/>
            <a:ext cx="7920" cy="3952800"/>
          </a:xfrm>
          <a:custGeom>
            <a:avLst/>
            <a:gdLst/>
            <a:ahLst/>
            <a:rect l="l" t="t" r="r" b="b"/>
            <a:pathLst>
              <a:path w="17" h="7471">
                <a:moveTo>
                  <a:pt x="0" y="7462"/>
                </a:moveTo>
                <a:lnTo>
                  <a:pt x="0" y="7407"/>
                </a:lnTo>
                <a:lnTo>
                  <a:pt x="0" y="7406"/>
                </a:lnTo>
                <a:lnTo>
                  <a:pt x="0" y="7404"/>
                </a:lnTo>
                <a:lnTo>
                  <a:pt x="1" y="7402"/>
                </a:lnTo>
                <a:lnTo>
                  <a:pt x="4" y="7400"/>
                </a:lnTo>
                <a:lnTo>
                  <a:pt x="5" y="7399"/>
                </a:lnTo>
                <a:lnTo>
                  <a:pt x="8" y="7399"/>
                </a:lnTo>
                <a:lnTo>
                  <a:pt x="10" y="7399"/>
                </a:lnTo>
                <a:lnTo>
                  <a:pt x="11" y="7400"/>
                </a:lnTo>
                <a:lnTo>
                  <a:pt x="14" y="7402"/>
                </a:lnTo>
                <a:lnTo>
                  <a:pt x="16" y="7404"/>
                </a:lnTo>
                <a:lnTo>
                  <a:pt x="17" y="7406"/>
                </a:lnTo>
                <a:lnTo>
                  <a:pt x="17" y="7407"/>
                </a:lnTo>
                <a:lnTo>
                  <a:pt x="17" y="7462"/>
                </a:lnTo>
                <a:lnTo>
                  <a:pt x="17" y="7463"/>
                </a:lnTo>
                <a:lnTo>
                  <a:pt x="16" y="7465"/>
                </a:lnTo>
                <a:lnTo>
                  <a:pt x="14" y="7468"/>
                </a:lnTo>
                <a:lnTo>
                  <a:pt x="11" y="7469"/>
                </a:lnTo>
                <a:lnTo>
                  <a:pt x="10" y="7471"/>
                </a:lnTo>
                <a:lnTo>
                  <a:pt x="8" y="7471"/>
                </a:lnTo>
                <a:lnTo>
                  <a:pt x="5" y="7471"/>
                </a:lnTo>
                <a:lnTo>
                  <a:pt x="4" y="7469"/>
                </a:lnTo>
                <a:lnTo>
                  <a:pt x="1" y="7468"/>
                </a:lnTo>
                <a:lnTo>
                  <a:pt x="0" y="7465"/>
                </a:lnTo>
                <a:lnTo>
                  <a:pt x="0" y="7463"/>
                </a:lnTo>
                <a:lnTo>
                  <a:pt x="0" y="7462"/>
                </a:lnTo>
                <a:lnTo>
                  <a:pt x="0" y="7462"/>
                </a:lnTo>
                <a:close/>
                <a:moveTo>
                  <a:pt x="0" y="7335"/>
                </a:moveTo>
                <a:lnTo>
                  <a:pt x="0" y="7282"/>
                </a:lnTo>
                <a:lnTo>
                  <a:pt x="0" y="7279"/>
                </a:lnTo>
                <a:lnTo>
                  <a:pt x="0" y="7278"/>
                </a:lnTo>
                <a:lnTo>
                  <a:pt x="1" y="7275"/>
                </a:lnTo>
                <a:lnTo>
                  <a:pt x="4" y="7273"/>
                </a:lnTo>
                <a:lnTo>
                  <a:pt x="5" y="7273"/>
                </a:lnTo>
                <a:lnTo>
                  <a:pt x="8" y="7273"/>
                </a:lnTo>
                <a:lnTo>
                  <a:pt x="10" y="7273"/>
                </a:lnTo>
                <a:lnTo>
                  <a:pt x="11" y="7273"/>
                </a:lnTo>
                <a:lnTo>
                  <a:pt x="14" y="7275"/>
                </a:lnTo>
                <a:lnTo>
                  <a:pt x="16" y="7278"/>
                </a:lnTo>
                <a:lnTo>
                  <a:pt x="17" y="7279"/>
                </a:lnTo>
                <a:lnTo>
                  <a:pt x="17" y="7282"/>
                </a:lnTo>
                <a:lnTo>
                  <a:pt x="17" y="7335"/>
                </a:lnTo>
                <a:lnTo>
                  <a:pt x="17" y="7337"/>
                </a:lnTo>
                <a:lnTo>
                  <a:pt x="16" y="7340"/>
                </a:lnTo>
                <a:lnTo>
                  <a:pt x="14" y="7342"/>
                </a:lnTo>
                <a:lnTo>
                  <a:pt x="11" y="7344"/>
                </a:lnTo>
                <a:lnTo>
                  <a:pt x="10" y="7344"/>
                </a:lnTo>
                <a:lnTo>
                  <a:pt x="8" y="7345"/>
                </a:lnTo>
                <a:lnTo>
                  <a:pt x="5" y="7344"/>
                </a:lnTo>
                <a:lnTo>
                  <a:pt x="4" y="7344"/>
                </a:lnTo>
                <a:lnTo>
                  <a:pt x="1" y="7342"/>
                </a:lnTo>
                <a:lnTo>
                  <a:pt x="0" y="7340"/>
                </a:lnTo>
                <a:lnTo>
                  <a:pt x="0" y="7337"/>
                </a:lnTo>
                <a:lnTo>
                  <a:pt x="0" y="7335"/>
                </a:lnTo>
                <a:lnTo>
                  <a:pt x="0" y="7335"/>
                </a:lnTo>
                <a:close/>
                <a:moveTo>
                  <a:pt x="0" y="7210"/>
                </a:moveTo>
                <a:lnTo>
                  <a:pt x="0" y="7155"/>
                </a:lnTo>
                <a:lnTo>
                  <a:pt x="0" y="7154"/>
                </a:lnTo>
                <a:lnTo>
                  <a:pt x="0" y="7152"/>
                </a:lnTo>
                <a:lnTo>
                  <a:pt x="1" y="7150"/>
                </a:lnTo>
                <a:lnTo>
                  <a:pt x="4" y="7148"/>
                </a:lnTo>
                <a:lnTo>
                  <a:pt x="5" y="7147"/>
                </a:lnTo>
                <a:lnTo>
                  <a:pt x="8" y="7147"/>
                </a:lnTo>
                <a:lnTo>
                  <a:pt x="10" y="7147"/>
                </a:lnTo>
                <a:lnTo>
                  <a:pt x="11" y="7148"/>
                </a:lnTo>
                <a:lnTo>
                  <a:pt x="14" y="7150"/>
                </a:lnTo>
                <a:lnTo>
                  <a:pt x="16" y="7152"/>
                </a:lnTo>
                <a:lnTo>
                  <a:pt x="17" y="7154"/>
                </a:lnTo>
                <a:lnTo>
                  <a:pt x="17" y="7155"/>
                </a:lnTo>
                <a:lnTo>
                  <a:pt x="17" y="7210"/>
                </a:lnTo>
                <a:lnTo>
                  <a:pt x="17" y="7211"/>
                </a:lnTo>
                <a:lnTo>
                  <a:pt x="16" y="7213"/>
                </a:lnTo>
                <a:lnTo>
                  <a:pt x="14" y="7216"/>
                </a:lnTo>
                <a:lnTo>
                  <a:pt x="11" y="7217"/>
                </a:lnTo>
                <a:lnTo>
                  <a:pt x="10" y="7219"/>
                </a:lnTo>
                <a:lnTo>
                  <a:pt x="8" y="7219"/>
                </a:lnTo>
                <a:lnTo>
                  <a:pt x="5" y="7219"/>
                </a:lnTo>
                <a:lnTo>
                  <a:pt x="4" y="7217"/>
                </a:lnTo>
                <a:lnTo>
                  <a:pt x="1" y="7216"/>
                </a:lnTo>
                <a:lnTo>
                  <a:pt x="0" y="7213"/>
                </a:lnTo>
                <a:lnTo>
                  <a:pt x="0" y="7211"/>
                </a:lnTo>
                <a:lnTo>
                  <a:pt x="0" y="7210"/>
                </a:lnTo>
                <a:lnTo>
                  <a:pt x="0" y="7210"/>
                </a:lnTo>
                <a:close/>
                <a:moveTo>
                  <a:pt x="0" y="7083"/>
                </a:moveTo>
                <a:lnTo>
                  <a:pt x="0" y="7030"/>
                </a:lnTo>
                <a:lnTo>
                  <a:pt x="0" y="7027"/>
                </a:lnTo>
                <a:lnTo>
                  <a:pt x="0" y="7026"/>
                </a:lnTo>
                <a:lnTo>
                  <a:pt x="1" y="7023"/>
                </a:lnTo>
                <a:lnTo>
                  <a:pt x="4" y="7021"/>
                </a:lnTo>
                <a:lnTo>
                  <a:pt x="5" y="7021"/>
                </a:lnTo>
                <a:lnTo>
                  <a:pt x="8" y="7021"/>
                </a:lnTo>
                <a:lnTo>
                  <a:pt x="10" y="7021"/>
                </a:lnTo>
                <a:lnTo>
                  <a:pt x="11" y="7021"/>
                </a:lnTo>
                <a:lnTo>
                  <a:pt x="14" y="7023"/>
                </a:lnTo>
                <a:lnTo>
                  <a:pt x="16" y="7026"/>
                </a:lnTo>
                <a:lnTo>
                  <a:pt x="17" y="7027"/>
                </a:lnTo>
                <a:lnTo>
                  <a:pt x="17" y="7030"/>
                </a:lnTo>
                <a:lnTo>
                  <a:pt x="17" y="7083"/>
                </a:lnTo>
                <a:lnTo>
                  <a:pt x="17" y="7085"/>
                </a:lnTo>
                <a:lnTo>
                  <a:pt x="16" y="7088"/>
                </a:lnTo>
                <a:lnTo>
                  <a:pt x="14" y="7091"/>
                </a:lnTo>
                <a:lnTo>
                  <a:pt x="11" y="7092"/>
                </a:lnTo>
                <a:lnTo>
                  <a:pt x="10" y="7092"/>
                </a:lnTo>
                <a:lnTo>
                  <a:pt x="8" y="7093"/>
                </a:lnTo>
                <a:lnTo>
                  <a:pt x="5" y="7092"/>
                </a:lnTo>
                <a:lnTo>
                  <a:pt x="4" y="7092"/>
                </a:lnTo>
                <a:lnTo>
                  <a:pt x="1" y="7091"/>
                </a:lnTo>
                <a:lnTo>
                  <a:pt x="0" y="7088"/>
                </a:lnTo>
                <a:lnTo>
                  <a:pt x="0" y="7085"/>
                </a:lnTo>
                <a:lnTo>
                  <a:pt x="0" y="7083"/>
                </a:lnTo>
                <a:lnTo>
                  <a:pt x="0" y="7083"/>
                </a:lnTo>
                <a:close/>
                <a:moveTo>
                  <a:pt x="0" y="6958"/>
                </a:moveTo>
                <a:lnTo>
                  <a:pt x="0" y="6903"/>
                </a:lnTo>
                <a:lnTo>
                  <a:pt x="0" y="6902"/>
                </a:lnTo>
                <a:lnTo>
                  <a:pt x="0" y="6900"/>
                </a:lnTo>
                <a:lnTo>
                  <a:pt x="1" y="6898"/>
                </a:lnTo>
                <a:lnTo>
                  <a:pt x="4" y="6896"/>
                </a:lnTo>
                <a:lnTo>
                  <a:pt x="5" y="6895"/>
                </a:lnTo>
                <a:lnTo>
                  <a:pt x="8" y="6895"/>
                </a:lnTo>
                <a:lnTo>
                  <a:pt x="10" y="6895"/>
                </a:lnTo>
                <a:lnTo>
                  <a:pt x="11" y="6896"/>
                </a:lnTo>
                <a:lnTo>
                  <a:pt x="14" y="6898"/>
                </a:lnTo>
                <a:lnTo>
                  <a:pt x="16" y="6900"/>
                </a:lnTo>
                <a:lnTo>
                  <a:pt x="17" y="6902"/>
                </a:lnTo>
                <a:lnTo>
                  <a:pt x="17" y="6903"/>
                </a:lnTo>
                <a:lnTo>
                  <a:pt x="17" y="6958"/>
                </a:lnTo>
                <a:lnTo>
                  <a:pt x="17" y="6960"/>
                </a:lnTo>
                <a:lnTo>
                  <a:pt x="16" y="6961"/>
                </a:lnTo>
                <a:lnTo>
                  <a:pt x="14" y="6964"/>
                </a:lnTo>
                <a:lnTo>
                  <a:pt x="11" y="6965"/>
                </a:lnTo>
                <a:lnTo>
                  <a:pt x="10" y="6967"/>
                </a:lnTo>
                <a:lnTo>
                  <a:pt x="8" y="6967"/>
                </a:lnTo>
                <a:lnTo>
                  <a:pt x="5" y="6967"/>
                </a:lnTo>
                <a:lnTo>
                  <a:pt x="4" y="6965"/>
                </a:lnTo>
                <a:lnTo>
                  <a:pt x="1" y="6964"/>
                </a:lnTo>
                <a:lnTo>
                  <a:pt x="0" y="6961"/>
                </a:lnTo>
                <a:lnTo>
                  <a:pt x="0" y="6960"/>
                </a:lnTo>
                <a:lnTo>
                  <a:pt x="0" y="6958"/>
                </a:lnTo>
                <a:lnTo>
                  <a:pt x="0" y="6958"/>
                </a:lnTo>
                <a:close/>
                <a:moveTo>
                  <a:pt x="0" y="6831"/>
                </a:moveTo>
                <a:lnTo>
                  <a:pt x="0" y="6778"/>
                </a:lnTo>
                <a:lnTo>
                  <a:pt x="0" y="6775"/>
                </a:lnTo>
                <a:lnTo>
                  <a:pt x="0" y="6774"/>
                </a:lnTo>
                <a:lnTo>
                  <a:pt x="1" y="6771"/>
                </a:lnTo>
                <a:lnTo>
                  <a:pt x="4" y="6769"/>
                </a:lnTo>
                <a:lnTo>
                  <a:pt x="5" y="6769"/>
                </a:lnTo>
                <a:lnTo>
                  <a:pt x="8" y="6769"/>
                </a:lnTo>
                <a:lnTo>
                  <a:pt x="10" y="6769"/>
                </a:lnTo>
                <a:lnTo>
                  <a:pt x="11" y="6769"/>
                </a:lnTo>
                <a:lnTo>
                  <a:pt x="14" y="6771"/>
                </a:lnTo>
                <a:lnTo>
                  <a:pt x="16" y="6774"/>
                </a:lnTo>
                <a:lnTo>
                  <a:pt x="17" y="6775"/>
                </a:lnTo>
                <a:lnTo>
                  <a:pt x="17" y="6778"/>
                </a:lnTo>
                <a:lnTo>
                  <a:pt x="17" y="6831"/>
                </a:lnTo>
                <a:lnTo>
                  <a:pt x="17" y="6833"/>
                </a:lnTo>
                <a:lnTo>
                  <a:pt x="16" y="6836"/>
                </a:lnTo>
                <a:lnTo>
                  <a:pt x="14" y="6839"/>
                </a:lnTo>
                <a:lnTo>
                  <a:pt x="11" y="6840"/>
                </a:lnTo>
                <a:lnTo>
                  <a:pt x="10" y="6840"/>
                </a:lnTo>
                <a:lnTo>
                  <a:pt x="8" y="6841"/>
                </a:lnTo>
                <a:lnTo>
                  <a:pt x="5" y="6840"/>
                </a:lnTo>
                <a:lnTo>
                  <a:pt x="4" y="6840"/>
                </a:lnTo>
                <a:lnTo>
                  <a:pt x="1" y="6839"/>
                </a:lnTo>
                <a:lnTo>
                  <a:pt x="0" y="6836"/>
                </a:lnTo>
                <a:lnTo>
                  <a:pt x="0" y="6833"/>
                </a:lnTo>
                <a:lnTo>
                  <a:pt x="0" y="6831"/>
                </a:lnTo>
                <a:lnTo>
                  <a:pt x="0" y="6831"/>
                </a:lnTo>
                <a:close/>
                <a:moveTo>
                  <a:pt x="0" y="6706"/>
                </a:moveTo>
                <a:lnTo>
                  <a:pt x="0" y="6651"/>
                </a:lnTo>
                <a:lnTo>
                  <a:pt x="0" y="6650"/>
                </a:lnTo>
                <a:lnTo>
                  <a:pt x="0" y="6649"/>
                </a:lnTo>
                <a:lnTo>
                  <a:pt x="1" y="6646"/>
                </a:lnTo>
                <a:lnTo>
                  <a:pt x="4" y="6644"/>
                </a:lnTo>
                <a:lnTo>
                  <a:pt x="5" y="6643"/>
                </a:lnTo>
                <a:lnTo>
                  <a:pt x="8" y="6643"/>
                </a:lnTo>
                <a:lnTo>
                  <a:pt x="10" y="6643"/>
                </a:lnTo>
                <a:lnTo>
                  <a:pt x="11" y="6644"/>
                </a:lnTo>
                <a:lnTo>
                  <a:pt x="14" y="6646"/>
                </a:lnTo>
                <a:lnTo>
                  <a:pt x="16" y="6649"/>
                </a:lnTo>
                <a:lnTo>
                  <a:pt x="17" y="6650"/>
                </a:lnTo>
                <a:lnTo>
                  <a:pt x="17" y="6651"/>
                </a:lnTo>
                <a:lnTo>
                  <a:pt x="17" y="6706"/>
                </a:lnTo>
                <a:lnTo>
                  <a:pt x="17" y="6708"/>
                </a:lnTo>
                <a:lnTo>
                  <a:pt x="16" y="6709"/>
                </a:lnTo>
                <a:lnTo>
                  <a:pt x="14" y="6712"/>
                </a:lnTo>
                <a:lnTo>
                  <a:pt x="11" y="6713"/>
                </a:lnTo>
                <a:lnTo>
                  <a:pt x="10" y="6715"/>
                </a:lnTo>
                <a:lnTo>
                  <a:pt x="8" y="6715"/>
                </a:lnTo>
                <a:lnTo>
                  <a:pt x="5" y="6715"/>
                </a:lnTo>
                <a:lnTo>
                  <a:pt x="4" y="6713"/>
                </a:lnTo>
                <a:lnTo>
                  <a:pt x="1" y="6712"/>
                </a:lnTo>
                <a:lnTo>
                  <a:pt x="0" y="6709"/>
                </a:lnTo>
                <a:lnTo>
                  <a:pt x="0" y="6708"/>
                </a:lnTo>
                <a:lnTo>
                  <a:pt x="0" y="6706"/>
                </a:lnTo>
                <a:lnTo>
                  <a:pt x="0" y="6706"/>
                </a:lnTo>
                <a:close/>
                <a:moveTo>
                  <a:pt x="0" y="6579"/>
                </a:moveTo>
                <a:lnTo>
                  <a:pt x="0" y="6526"/>
                </a:lnTo>
                <a:lnTo>
                  <a:pt x="0" y="6523"/>
                </a:lnTo>
                <a:lnTo>
                  <a:pt x="0" y="6522"/>
                </a:lnTo>
                <a:lnTo>
                  <a:pt x="1" y="6519"/>
                </a:lnTo>
                <a:lnTo>
                  <a:pt x="4" y="6518"/>
                </a:lnTo>
                <a:lnTo>
                  <a:pt x="5" y="6518"/>
                </a:lnTo>
                <a:lnTo>
                  <a:pt x="8" y="6518"/>
                </a:lnTo>
                <a:lnTo>
                  <a:pt x="10" y="6518"/>
                </a:lnTo>
                <a:lnTo>
                  <a:pt x="11" y="6518"/>
                </a:lnTo>
                <a:lnTo>
                  <a:pt x="14" y="6519"/>
                </a:lnTo>
                <a:lnTo>
                  <a:pt x="16" y="6522"/>
                </a:lnTo>
                <a:lnTo>
                  <a:pt x="17" y="6523"/>
                </a:lnTo>
                <a:lnTo>
                  <a:pt x="17" y="6526"/>
                </a:lnTo>
                <a:lnTo>
                  <a:pt x="17" y="6579"/>
                </a:lnTo>
                <a:lnTo>
                  <a:pt x="17" y="6581"/>
                </a:lnTo>
                <a:lnTo>
                  <a:pt x="16" y="6584"/>
                </a:lnTo>
                <a:lnTo>
                  <a:pt x="14" y="6587"/>
                </a:lnTo>
                <a:lnTo>
                  <a:pt x="11" y="6588"/>
                </a:lnTo>
                <a:lnTo>
                  <a:pt x="10" y="6588"/>
                </a:lnTo>
                <a:lnTo>
                  <a:pt x="8" y="6590"/>
                </a:lnTo>
                <a:lnTo>
                  <a:pt x="5" y="6588"/>
                </a:lnTo>
                <a:lnTo>
                  <a:pt x="4" y="6588"/>
                </a:lnTo>
                <a:lnTo>
                  <a:pt x="1" y="6587"/>
                </a:lnTo>
                <a:lnTo>
                  <a:pt x="0" y="6584"/>
                </a:lnTo>
                <a:lnTo>
                  <a:pt x="0" y="6581"/>
                </a:lnTo>
                <a:lnTo>
                  <a:pt x="0" y="6579"/>
                </a:lnTo>
                <a:lnTo>
                  <a:pt x="0" y="6579"/>
                </a:lnTo>
                <a:close/>
                <a:moveTo>
                  <a:pt x="0" y="6454"/>
                </a:moveTo>
                <a:lnTo>
                  <a:pt x="0" y="6399"/>
                </a:lnTo>
                <a:lnTo>
                  <a:pt x="0" y="6398"/>
                </a:lnTo>
                <a:lnTo>
                  <a:pt x="0" y="6397"/>
                </a:lnTo>
                <a:lnTo>
                  <a:pt x="1" y="6394"/>
                </a:lnTo>
                <a:lnTo>
                  <a:pt x="4" y="6392"/>
                </a:lnTo>
                <a:lnTo>
                  <a:pt x="5" y="6391"/>
                </a:lnTo>
                <a:lnTo>
                  <a:pt x="8" y="6391"/>
                </a:lnTo>
                <a:lnTo>
                  <a:pt x="10" y="6391"/>
                </a:lnTo>
                <a:lnTo>
                  <a:pt x="11" y="6392"/>
                </a:lnTo>
                <a:lnTo>
                  <a:pt x="14" y="6394"/>
                </a:lnTo>
                <a:lnTo>
                  <a:pt x="16" y="6397"/>
                </a:lnTo>
                <a:lnTo>
                  <a:pt x="17" y="6398"/>
                </a:lnTo>
                <a:lnTo>
                  <a:pt x="17" y="6399"/>
                </a:lnTo>
                <a:lnTo>
                  <a:pt x="17" y="6454"/>
                </a:lnTo>
                <a:lnTo>
                  <a:pt x="17" y="6456"/>
                </a:lnTo>
                <a:lnTo>
                  <a:pt x="16" y="6457"/>
                </a:lnTo>
                <a:lnTo>
                  <a:pt x="14" y="6460"/>
                </a:lnTo>
                <a:lnTo>
                  <a:pt x="11" y="6461"/>
                </a:lnTo>
                <a:lnTo>
                  <a:pt x="10" y="6463"/>
                </a:lnTo>
                <a:lnTo>
                  <a:pt x="8" y="6463"/>
                </a:lnTo>
                <a:lnTo>
                  <a:pt x="5" y="6463"/>
                </a:lnTo>
                <a:lnTo>
                  <a:pt x="4" y="6461"/>
                </a:lnTo>
                <a:lnTo>
                  <a:pt x="1" y="6460"/>
                </a:lnTo>
                <a:lnTo>
                  <a:pt x="0" y="6457"/>
                </a:lnTo>
                <a:lnTo>
                  <a:pt x="0" y="6456"/>
                </a:lnTo>
                <a:lnTo>
                  <a:pt x="0" y="6454"/>
                </a:lnTo>
                <a:lnTo>
                  <a:pt x="0" y="6454"/>
                </a:lnTo>
                <a:close/>
                <a:moveTo>
                  <a:pt x="0" y="6327"/>
                </a:moveTo>
                <a:lnTo>
                  <a:pt x="0" y="6274"/>
                </a:lnTo>
                <a:lnTo>
                  <a:pt x="0" y="6271"/>
                </a:lnTo>
                <a:lnTo>
                  <a:pt x="0" y="6270"/>
                </a:lnTo>
                <a:lnTo>
                  <a:pt x="1" y="6267"/>
                </a:lnTo>
                <a:lnTo>
                  <a:pt x="4" y="6266"/>
                </a:lnTo>
                <a:lnTo>
                  <a:pt x="5" y="6266"/>
                </a:lnTo>
                <a:lnTo>
                  <a:pt x="8" y="6266"/>
                </a:lnTo>
                <a:lnTo>
                  <a:pt x="10" y="6266"/>
                </a:lnTo>
                <a:lnTo>
                  <a:pt x="11" y="6266"/>
                </a:lnTo>
                <a:lnTo>
                  <a:pt x="14" y="6267"/>
                </a:lnTo>
                <a:lnTo>
                  <a:pt x="16" y="6270"/>
                </a:lnTo>
                <a:lnTo>
                  <a:pt x="17" y="6271"/>
                </a:lnTo>
                <a:lnTo>
                  <a:pt x="17" y="6274"/>
                </a:lnTo>
                <a:lnTo>
                  <a:pt x="17" y="6327"/>
                </a:lnTo>
                <a:lnTo>
                  <a:pt x="17" y="6329"/>
                </a:lnTo>
                <a:lnTo>
                  <a:pt x="16" y="6332"/>
                </a:lnTo>
                <a:lnTo>
                  <a:pt x="14" y="6335"/>
                </a:lnTo>
                <a:lnTo>
                  <a:pt x="11" y="6336"/>
                </a:lnTo>
                <a:lnTo>
                  <a:pt x="10" y="6336"/>
                </a:lnTo>
                <a:lnTo>
                  <a:pt x="8" y="6338"/>
                </a:lnTo>
                <a:lnTo>
                  <a:pt x="5" y="6336"/>
                </a:lnTo>
                <a:lnTo>
                  <a:pt x="4" y="6336"/>
                </a:lnTo>
                <a:lnTo>
                  <a:pt x="1" y="6335"/>
                </a:lnTo>
                <a:lnTo>
                  <a:pt x="0" y="6332"/>
                </a:lnTo>
                <a:lnTo>
                  <a:pt x="0" y="6329"/>
                </a:lnTo>
                <a:lnTo>
                  <a:pt x="0" y="6327"/>
                </a:lnTo>
                <a:lnTo>
                  <a:pt x="0" y="6327"/>
                </a:lnTo>
                <a:close/>
                <a:moveTo>
                  <a:pt x="0" y="6202"/>
                </a:moveTo>
                <a:lnTo>
                  <a:pt x="0" y="6148"/>
                </a:lnTo>
                <a:lnTo>
                  <a:pt x="0" y="6146"/>
                </a:lnTo>
                <a:lnTo>
                  <a:pt x="0" y="6145"/>
                </a:lnTo>
                <a:lnTo>
                  <a:pt x="1" y="6142"/>
                </a:lnTo>
                <a:lnTo>
                  <a:pt x="4" y="6140"/>
                </a:lnTo>
                <a:lnTo>
                  <a:pt x="5" y="6139"/>
                </a:lnTo>
                <a:lnTo>
                  <a:pt x="8" y="6139"/>
                </a:lnTo>
                <a:lnTo>
                  <a:pt x="10" y="6139"/>
                </a:lnTo>
                <a:lnTo>
                  <a:pt x="11" y="6140"/>
                </a:lnTo>
                <a:lnTo>
                  <a:pt x="14" y="6142"/>
                </a:lnTo>
                <a:lnTo>
                  <a:pt x="16" y="6145"/>
                </a:lnTo>
                <a:lnTo>
                  <a:pt x="17" y="6146"/>
                </a:lnTo>
                <a:lnTo>
                  <a:pt x="17" y="6148"/>
                </a:lnTo>
                <a:lnTo>
                  <a:pt x="17" y="6202"/>
                </a:lnTo>
                <a:lnTo>
                  <a:pt x="17" y="6204"/>
                </a:lnTo>
                <a:lnTo>
                  <a:pt x="16" y="6205"/>
                </a:lnTo>
                <a:lnTo>
                  <a:pt x="14" y="6208"/>
                </a:lnTo>
                <a:lnTo>
                  <a:pt x="11" y="6209"/>
                </a:lnTo>
                <a:lnTo>
                  <a:pt x="10" y="6211"/>
                </a:lnTo>
                <a:lnTo>
                  <a:pt x="8" y="6211"/>
                </a:lnTo>
                <a:lnTo>
                  <a:pt x="5" y="6211"/>
                </a:lnTo>
                <a:lnTo>
                  <a:pt x="4" y="6209"/>
                </a:lnTo>
                <a:lnTo>
                  <a:pt x="1" y="6208"/>
                </a:lnTo>
                <a:lnTo>
                  <a:pt x="0" y="6205"/>
                </a:lnTo>
                <a:lnTo>
                  <a:pt x="0" y="6204"/>
                </a:lnTo>
                <a:lnTo>
                  <a:pt x="0" y="6202"/>
                </a:lnTo>
                <a:lnTo>
                  <a:pt x="0" y="6202"/>
                </a:lnTo>
                <a:close/>
                <a:moveTo>
                  <a:pt x="0" y="6076"/>
                </a:moveTo>
                <a:lnTo>
                  <a:pt x="0" y="6022"/>
                </a:lnTo>
                <a:lnTo>
                  <a:pt x="0" y="6019"/>
                </a:lnTo>
                <a:lnTo>
                  <a:pt x="0" y="6018"/>
                </a:lnTo>
                <a:lnTo>
                  <a:pt x="1" y="6015"/>
                </a:lnTo>
                <a:lnTo>
                  <a:pt x="4" y="6014"/>
                </a:lnTo>
                <a:lnTo>
                  <a:pt x="5" y="6014"/>
                </a:lnTo>
                <a:lnTo>
                  <a:pt x="8" y="6014"/>
                </a:lnTo>
                <a:lnTo>
                  <a:pt x="10" y="6014"/>
                </a:lnTo>
                <a:lnTo>
                  <a:pt x="11" y="6014"/>
                </a:lnTo>
                <a:lnTo>
                  <a:pt x="14" y="6015"/>
                </a:lnTo>
                <a:lnTo>
                  <a:pt x="16" y="6018"/>
                </a:lnTo>
                <a:lnTo>
                  <a:pt x="17" y="6019"/>
                </a:lnTo>
                <a:lnTo>
                  <a:pt x="17" y="6022"/>
                </a:lnTo>
                <a:lnTo>
                  <a:pt x="17" y="6076"/>
                </a:lnTo>
                <a:lnTo>
                  <a:pt x="17" y="6077"/>
                </a:lnTo>
                <a:lnTo>
                  <a:pt x="16" y="6080"/>
                </a:lnTo>
                <a:lnTo>
                  <a:pt x="14" y="6083"/>
                </a:lnTo>
                <a:lnTo>
                  <a:pt x="11" y="6084"/>
                </a:lnTo>
                <a:lnTo>
                  <a:pt x="10" y="6084"/>
                </a:lnTo>
                <a:lnTo>
                  <a:pt x="8" y="6086"/>
                </a:lnTo>
                <a:lnTo>
                  <a:pt x="5" y="6084"/>
                </a:lnTo>
                <a:lnTo>
                  <a:pt x="4" y="6084"/>
                </a:lnTo>
                <a:lnTo>
                  <a:pt x="1" y="6083"/>
                </a:lnTo>
                <a:lnTo>
                  <a:pt x="0" y="6080"/>
                </a:lnTo>
                <a:lnTo>
                  <a:pt x="0" y="6077"/>
                </a:lnTo>
                <a:lnTo>
                  <a:pt x="0" y="6076"/>
                </a:lnTo>
                <a:lnTo>
                  <a:pt x="0" y="6076"/>
                </a:lnTo>
                <a:close/>
                <a:moveTo>
                  <a:pt x="0" y="5950"/>
                </a:moveTo>
                <a:lnTo>
                  <a:pt x="0" y="5896"/>
                </a:lnTo>
                <a:lnTo>
                  <a:pt x="0" y="5894"/>
                </a:lnTo>
                <a:lnTo>
                  <a:pt x="0" y="5893"/>
                </a:lnTo>
                <a:lnTo>
                  <a:pt x="1" y="5890"/>
                </a:lnTo>
                <a:lnTo>
                  <a:pt x="4" y="5888"/>
                </a:lnTo>
                <a:lnTo>
                  <a:pt x="5" y="5887"/>
                </a:lnTo>
                <a:lnTo>
                  <a:pt x="8" y="5887"/>
                </a:lnTo>
                <a:lnTo>
                  <a:pt x="10" y="5887"/>
                </a:lnTo>
                <a:lnTo>
                  <a:pt x="11" y="5888"/>
                </a:lnTo>
                <a:lnTo>
                  <a:pt x="14" y="5890"/>
                </a:lnTo>
                <a:lnTo>
                  <a:pt x="16" y="5893"/>
                </a:lnTo>
                <a:lnTo>
                  <a:pt x="17" y="5894"/>
                </a:lnTo>
                <a:lnTo>
                  <a:pt x="17" y="5896"/>
                </a:lnTo>
                <a:lnTo>
                  <a:pt x="17" y="5950"/>
                </a:lnTo>
                <a:lnTo>
                  <a:pt x="17" y="5952"/>
                </a:lnTo>
                <a:lnTo>
                  <a:pt x="16" y="5953"/>
                </a:lnTo>
                <a:lnTo>
                  <a:pt x="14" y="5956"/>
                </a:lnTo>
                <a:lnTo>
                  <a:pt x="11" y="5957"/>
                </a:lnTo>
                <a:lnTo>
                  <a:pt x="10" y="5959"/>
                </a:lnTo>
                <a:lnTo>
                  <a:pt x="8" y="5959"/>
                </a:lnTo>
                <a:lnTo>
                  <a:pt x="5" y="5959"/>
                </a:lnTo>
                <a:lnTo>
                  <a:pt x="4" y="5957"/>
                </a:lnTo>
                <a:lnTo>
                  <a:pt x="1" y="5956"/>
                </a:lnTo>
                <a:lnTo>
                  <a:pt x="0" y="5953"/>
                </a:lnTo>
                <a:lnTo>
                  <a:pt x="0" y="5952"/>
                </a:lnTo>
                <a:lnTo>
                  <a:pt x="0" y="5950"/>
                </a:lnTo>
                <a:lnTo>
                  <a:pt x="0" y="5950"/>
                </a:lnTo>
                <a:close/>
                <a:moveTo>
                  <a:pt x="0" y="5824"/>
                </a:moveTo>
                <a:lnTo>
                  <a:pt x="0" y="5770"/>
                </a:lnTo>
                <a:lnTo>
                  <a:pt x="0" y="5767"/>
                </a:lnTo>
                <a:lnTo>
                  <a:pt x="0" y="5766"/>
                </a:lnTo>
                <a:lnTo>
                  <a:pt x="1" y="5763"/>
                </a:lnTo>
                <a:lnTo>
                  <a:pt x="4" y="5762"/>
                </a:lnTo>
                <a:lnTo>
                  <a:pt x="5" y="5762"/>
                </a:lnTo>
                <a:lnTo>
                  <a:pt x="8" y="5762"/>
                </a:lnTo>
                <a:lnTo>
                  <a:pt x="10" y="5762"/>
                </a:lnTo>
                <a:lnTo>
                  <a:pt x="11" y="5762"/>
                </a:lnTo>
                <a:lnTo>
                  <a:pt x="14" y="5763"/>
                </a:lnTo>
                <a:lnTo>
                  <a:pt x="16" y="5766"/>
                </a:lnTo>
                <a:lnTo>
                  <a:pt x="17" y="5767"/>
                </a:lnTo>
                <a:lnTo>
                  <a:pt x="17" y="5770"/>
                </a:lnTo>
                <a:lnTo>
                  <a:pt x="17" y="5824"/>
                </a:lnTo>
                <a:lnTo>
                  <a:pt x="17" y="5825"/>
                </a:lnTo>
                <a:lnTo>
                  <a:pt x="16" y="5828"/>
                </a:lnTo>
                <a:lnTo>
                  <a:pt x="14" y="5831"/>
                </a:lnTo>
                <a:lnTo>
                  <a:pt x="11" y="5832"/>
                </a:lnTo>
                <a:lnTo>
                  <a:pt x="10" y="5832"/>
                </a:lnTo>
                <a:lnTo>
                  <a:pt x="8" y="5834"/>
                </a:lnTo>
                <a:lnTo>
                  <a:pt x="5" y="5832"/>
                </a:lnTo>
                <a:lnTo>
                  <a:pt x="4" y="5832"/>
                </a:lnTo>
                <a:lnTo>
                  <a:pt x="1" y="5831"/>
                </a:lnTo>
                <a:lnTo>
                  <a:pt x="0" y="5828"/>
                </a:lnTo>
                <a:lnTo>
                  <a:pt x="0" y="5825"/>
                </a:lnTo>
                <a:lnTo>
                  <a:pt x="0" y="5824"/>
                </a:lnTo>
                <a:lnTo>
                  <a:pt x="0" y="5824"/>
                </a:lnTo>
                <a:close/>
                <a:moveTo>
                  <a:pt x="0" y="5698"/>
                </a:moveTo>
                <a:lnTo>
                  <a:pt x="0" y="5644"/>
                </a:lnTo>
                <a:lnTo>
                  <a:pt x="0" y="5642"/>
                </a:lnTo>
                <a:lnTo>
                  <a:pt x="0" y="5641"/>
                </a:lnTo>
                <a:lnTo>
                  <a:pt x="1" y="5638"/>
                </a:lnTo>
                <a:lnTo>
                  <a:pt x="4" y="5636"/>
                </a:lnTo>
                <a:lnTo>
                  <a:pt x="5" y="5635"/>
                </a:lnTo>
                <a:lnTo>
                  <a:pt x="8" y="5635"/>
                </a:lnTo>
                <a:lnTo>
                  <a:pt x="10" y="5635"/>
                </a:lnTo>
                <a:lnTo>
                  <a:pt x="11" y="5636"/>
                </a:lnTo>
                <a:lnTo>
                  <a:pt x="14" y="5638"/>
                </a:lnTo>
                <a:lnTo>
                  <a:pt x="16" y="5641"/>
                </a:lnTo>
                <a:lnTo>
                  <a:pt x="17" y="5642"/>
                </a:lnTo>
                <a:lnTo>
                  <a:pt x="17" y="5644"/>
                </a:lnTo>
                <a:lnTo>
                  <a:pt x="17" y="5698"/>
                </a:lnTo>
                <a:lnTo>
                  <a:pt x="17" y="5700"/>
                </a:lnTo>
                <a:lnTo>
                  <a:pt x="16" y="5701"/>
                </a:lnTo>
                <a:lnTo>
                  <a:pt x="14" y="5704"/>
                </a:lnTo>
                <a:lnTo>
                  <a:pt x="11" y="5706"/>
                </a:lnTo>
                <a:lnTo>
                  <a:pt x="10" y="5707"/>
                </a:lnTo>
                <a:lnTo>
                  <a:pt x="8" y="5707"/>
                </a:lnTo>
                <a:lnTo>
                  <a:pt x="5" y="5707"/>
                </a:lnTo>
                <a:lnTo>
                  <a:pt x="4" y="5706"/>
                </a:lnTo>
                <a:lnTo>
                  <a:pt x="1" y="5704"/>
                </a:lnTo>
                <a:lnTo>
                  <a:pt x="0" y="5701"/>
                </a:lnTo>
                <a:lnTo>
                  <a:pt x="0" y="5700"/>
                </a:lnTo>
                <a:lnTo>
                  <a:pt x="0" y="5698"/>
                </a:lnTo>
                <a:lnTo>
                  <a:pt x="0" y="5698"/>
                </a:lnTo>
                <a:close/>
                <a:moveTo>
                  <a:pt x="0" y="5572"/>
                </a:moveTo>
                <a:lnTo>
                  <a:pt x="0" y="5518"/>
                </a:lnTo>
                <a:lnTo>
                  <a:pt x="0" y="5515"/>
                </a:lnTo>
                <a:lnTo>
                  <a:pt x="0" y="5514"/>
                </a:lnTo>
                <a:lnTo>
                  <a:pt x="1" y="5511"/>
                </a:lnTo>
                <a:lnTo>
                  <a:pt x="4" y="5510"/>
                </a:lnTo>
                <a:lnTo>
                  <a:pt x="5" y="5510"/>
                </a:lnTo>
                <a:lnTo>
                  <a:pt x="8" y="5510"/>
                </a:lnTo>
                <a:lnTo>
                  <a:pt x="10" y="5510"/>
                </a:lnTo>
                <a:lnTo>
                  <a:pt x="11" y="5510"/>
                </a:lnTo>
                <a:lnTo>
                  <a:pt x="14" y="5511"/>
                </a:lnTo>
                <a:lnTo>
                  <a:pt x="16" y="5514"/>
                </a:lnTo>
                <a:lnTo>
                  <a:pt x="17" y="5515"/>
                </a:lnTo>
                <a:lnTo>
                  <a:pt x="17" y="5518"/>
                </a:lnTo>
                <a:lnTo>
                  <a:pt x="17" y="5572"/>
                </a:lnTo>
                <a:lnTo>
                  <a:pt x="17" y="5573"/>
                </a:lnTo>
                <a:lnTo>
                  <a:pt x="16" y="5576"/>
                </a:lnTo>
                <a:lnTo>
                  <a:pt x="14" y="5579"/>
                </a:lnTo>
                <a:lnTo>
                  <a:pt x="11" y="5580"/>
                </a:lnTo>
                <a:lnTo>
                  <a:pt x="10" y="5580"/>
                </a:lnTo>
                <a:lnTo>
                  <a:pt x="8" y="5582"/>
                </a:lnTo>
                <a:lnTo>
                  <a:pt x="5" y="5580"/>
                </a:lnTo>
                <a:lnTo>
                  <a:pt x="4" y="5580"/>
                </a:lnTo>
                <a:lnTo>
                  <a:pt x="1" y="5579"/>
                </a:lnTo>
                <a:lnTo>
                  <a:pt x="0" y="5576"/>
                </a:lnTo>
                <a:lnTo>
                  <a:pt x="0" y="5573"/>
                </a:lnTo>
                <a:lnTo>
                  <a:pt x="0" y="5572"/>
                </a:lnTo>
                <a:lnTo>
                  <a:pt x="0" y="5572"/>
                </a:lnTo>
                <a:close/>
                <a:moveTo>
                  <a:pt x="0" y="5446"/>
                </a:moveTo>
                <a:lnTo>
                  <a:pt x="0" y="5392"/>
                </a:lnTo>
                <a:lnTo>
                  <a:pt x="0" y="5390"/>
                </a:lnTo>
                <a:lnTo>
                  <a:pt x="0" y="5389"/>
                </a:lnTo>
                <a:lnTo>
                  <a:pt x="1" y="5386"/>
                </a:lnTo>
                <a:lnTo>
                  <a:pt x="4" y="5384"/>
                </a:lnTo>
                <a:lnTo>
                  <a:pt x="5" y="5383"/>
                </a:lnTo>
                <a:lnTo>
                  <a:pt x="8" y="5383"/>
                </a:lnTo>
                <a:lnTo>
                  <a:pt x="10" y="5383"/>
                </a:lnTo>
                <a:lnTo>
                  <a:pt x="11" y="5384"/>
                </a:lnTo>
                <a:lnTo>
                  <a:pt x="14" y="5386"/>
                </a:lnTo>
                <a:lnTo>
                  <a:pt x="16" y="5389"/>
                </a:lnTo>
                <a:lnTo>
                  <a:pt x="17" y="5390"/>
                </a:lnTo>
                <a:lnTo>
                  <a:pt x="17" y="5392"/>
                </a:lnTo>
                <a:lnTo>
                  <a:pt x="17" y="5446"/>
                </a:lnTo>
                <a:lnTo>
                  <a:pt x="17" y="5448"/>
                </a:lnTo>
                <a:lnTo>
                  <a:pt x="16" y="5449"/>
                </a:lnTo>
                <a:lnTo>
                  <a:pt x="14" y="5452"/>
                </a:lnTo>
                <a:lnTo>
                  <a:pt x="11" y="5454"/>
                </a:lnTo>
                <a:lnTo>
                  <a:pt x="10" y="5455"/>
                </a:lnTo>
                <a:lnTo>
                  <a:pt x="8" y="5455"/>
                </a:lnTo>
                <a:lnTo>
                  <a:pt x="5" y="5455"/>
                </a:lnTo>
                <a:lnTo>
                  <a:pt x="4" y="5454"/>
                </a:lnTo>
                <a:lnTo>
                  <a:pt x="1" y="5452"/>
                </a:lnTo>
                <a:lnTo>
                  <a:pt x="0" y="5449"/>
                </a:lnTo>
                <a:lnTo>
                  <a:pt x="0" y="5448"/>
                </a:lnTo>
                <a:lnTo>
                  <a:pt x="0" y="5446"/>
                </a:lnTo>
                <a:lnTo>
                  <a:pt x="0" y="5446"/>
                </a:lnTo>
                <a:close/>
                <a:moveTo>
                  <a:pt x="0" y="5320"/>
                </a:moveTo>
                <a:lnTo>
                  <a:pt x="0" y="5266"/>
                </a:lnTo>
                <a:lnTo>
                  <a:pt x="0" y="5264"/>
                </a:lnTo>
                <a:lnTo>
                  <a:pt x="0" y="5262"/>
                </a:lnTo>
                <a:lnTo>
                  <a:pt x="1" y="5259"/>
                </a:lnTo>
                <a:lnTo>
                  <a:pt x="4" y="5258"/>
                </a:lnTo>
                <a:lnTo>
                  <a:pt x="5" y="5258"/>
                </a:lnTo>
                <a:lnTo>
                  <a:pt x="8" y="5258"/>
                </a:lnTo>
                <a:lnTo>
                  <a:pt x="10" y="5258"/>
                </a:lnTo>
                <a:lnTo>
                  <a:pt x="11" y="5258"/>
                </a:lnTo>
                <a:lnTo>
                  <a:pt x="14" y="5259"/>
                </a:lnTo>
                <a:lnTo>
                  <a:pt x="16" y="5262"/>
                </a:lnTo>
                <a:lnTo>
                  <a:pt x="17" y="5264"/>
                </a:lnTo>
                <a:lnTo>
                  <a:pt x="17" y="5266"/>
                </a:lnTo>
                <a:lnTo>
                  <a:pt x="17" y="5320"/>
                </a:lnTo>
                <a:lnTo>
                  <a:pt x="17" y="5321"/>
                </a:lnTo>
                <a:lnTo>
                  <a:pt x="16" y="5324"/>
                </a:lnTo>
                <a:lnTo>
                  <a:pt x="14" y="5327"/>
                </a:lnTo>
                <a:lnTo>
                  <a:pt x="11" y="5328"/>
                </a:lnTo>
                <a:lnTo>
                  <a:pt x="10" y="5328"/>
                </a:lnTo>
                <a:lnTo>
                  <a:pt x="8" y="5330"/>
                </a:lnTo>
                <a:lnTo>
                  <a:pt x="5" y="5328"/>
                </a:lnTo>
                <a:lnTo>
                  <a:pt x="4" y="5328"/>
                </a:lnTo>
                <a:lnTo>
                  <a:pt x="1" y="5327"/>
                </a:lnTo>
                <a:lnTo>
                  <a:pt x="0" y="5324"/>
                </a:lnTo>
                <a:lnTo>
                  <a:pt x="0" y="5321"/>
                </a:lnTo>
                <a:lnTo>
                  <a:pt x="0" y="5320"/>
                </a:lnTo>
                <a:lnTo>
                  <a:pt x="0" y="5320"/>
                </a:lnTo>
                <a:close/>
                <a:moveTo>
                  <a:pt x="0" y="5194"/>
                </a:moveTo>
                <a:lnTo>
                  <a:pt x="0" y="5140"/>
                </a:lnTo>
                <a:lnTo>
                  <a:pt x="0" y="5138"/>
                </a:lnTo>
                <a:lnTo>
                  <a:pt x="0" y="5137"/>
                </a:lnTo>
                <a:lnTo>
                  <a:pt x="1" y="5134"/>
                </a:lnTo>
                <a:lnTo>
                  <a:pt x="4" y="5133"/>
                </a:lnTo>
                <a:lnTo>
                  <a:pt x="5" y="5131"/>
                </a:lnTo>
                <a:lnTo>
                  <a:pt x="8" y="5131"/>
                </a:lnTo>
                <a:lnTo>
                  <a:pt x="10" y="5131"/>
                </a:lnTo>
                <a:lnTo>
                  <a:pt x="11" y="5133"/>
                </a:lnTo>
                <a:lnTo>
                  <a:pt x="14" y="5134"/>
                </a:lnTo>
                <a:lnTo>
                  <a:pt x="16" y="5137"/>
                </a:lnTo>
                <a:lnTo>
                  <a:pt x="17" y="5138"/>
                </a:lnTo>
                <a:lnTo>
                  <a:pt x="17" y="5140"/>
                </a:lnTo>
                <a:lnTo>
                  <a:pt x="17" y="5194"/>
                </a:lnTo>
                <a:lnTo>
                  <a:pt x="17" y="5196"/>
                </a:lnTo>
                <a:lnTo>
                  <a:pt x="16" y="5197"/>
                </a:lnTo>
                <a:lnTo>
                  <a:pt x="14" y="5200"/>
                </a:lnTo>
                <a:lnTo>
                  <a:pt x="11" y="5202"/>
                </a:lnTo>
                <a:lnTo>
                  <a:pt x="10" y="5203"/>
                </a:lnTo>
                <a:lnTo>
                  <a:pt x="8" y="5203"/>
                </a:lnTo>
                <a:lnTo>
                  <a:pt x="5" y="5203"/>
                </a:lnTo>
                <a:lnTo>
                  <a:pt x="4" y="5202"/>
                </a:lnTo>
                <a:lnTo>
                  <a:pt x="1" y="5200"/>
                </a:lnTo>
                <a:lnTo>
                  <a:pt x="0" y="5197"/>
                </a:lnTo>
                <a:lnTo>
                  <a:pt x="0" y="5196"/>
                </a:lnTo>
                <a:lnTo>
                  <a:pt x="0" y="5194"/>
                </a:lnTo>
                <a:lnTo>
                  <a:pt x="0" y="5194"/>
                </a:lnTo>
                <a:close/>
                <a:moveTo>
                  <a:pt x="0" y="5068"/>
                </a:moveTo>
                <a:lnTo>
                  <a:pt x="0" y="5014"/>
                </a:lnTo>
                <a:lnTo>
                  <a:pt x="0" y="5012"/>
                </a:lnTo>
                <a:lnTo>
                  <a:pt x="0" y="5010"/>
                </a:lnTo>
                <a:lnTo>
                  <a:pt x="1" y="5007"/>
                </a:lnTo>
                <a:lnTo>
                  <a:pt x="4" y="5006"/>
                </a:lnTo>
                <a:lnTo>
                  <a:pt x="5" y="5006"/>
                </a:lnTo>
                <a:lnTo>
                  <a:pt x="8" y="5006"/>
                </a:lnTo>
                <a:lnTo>
                  <a:pt x="10" y="5006"/>
                </a:lnTo>
                <a:lnTo>
                  <a:pt x="11" y="5006"/>
                </a:lnTo>
                <a:lnTo>
                  <a:pt x="14" y="5007"/>
                </a:lnTo>
                <a:lnTo>
                  <a:pt x="16" y="5010"/>
                </a:lnTo>
                <a:lnTo>
                  <a:pt x="17" y="5012"/>
                </a:lnTo>
                <a:lnTo>
                  <a:pt x="17" y="5014"/>
                </a:lnTo>
                <a:lnTo>
                  <a:pt x="17" y="5068"/>
                </a:lnTo>
                <a:lnTo>
                  <a:pt x="17" y="5069"/>
                </a:lnTo>
                <a:lnTo>
                  <a:pt x="16" y="5072"/>
                </a:lnTo>
                <a:lnTo>
                  <a:pt x="14" y="5075"/>
                </a:lnTo>
                <a:lnTo>
                  <a:pt x="11" y="5076"/>
                </a:lnTo>
                <a:lnTo>
                  <a:pt x="10" y="5076"/>
                </a:lnTo>
                <a:lnTo>
                  <a:pt x="8" y="5078"/>
                </a:lnTo>
                <a:lnTo>
                  <a:pt x="5" y="5076"/>
                </a:lnTo>
                <a:lnTo>
                  <a:pt x="4" y="5076"/>
                </a:lnTo>
                <a:lnTo>
                  <a:pt x="1" y="5075"/>
                </a:lnTo>
                <a:lnTo>
                  <a:pt x="0" y="5072"/>
                </a:lnTo>
                <a:lnTo>
                  <a:pt x="0" y="5069"/>
                </a:lnTo>
                <a:lnTo>
                  <a:pt x="0" y="5068"/>
                </a:lnTo>
                <a:lnTo>
                  <a:pt x="0" y="5068"/>
                </a:lnTo>
                <a:close/>
                <a:moveTo>
                  <a:pt x="0" y="4942"/>
                </a:moveTo>
                <a:lnTo>
                  <a:pt x="0" y="4888"/>
                </a:lnTo>
                <a:lnTo>
                  <a:pt x="0" y="4886"/>
                </a:lnTo>
                <a:lnTo>
                  <a:pt x="0" y="4885"/>
                </a:lnTo>
                <a:lnTo>
                  <a:pt x="1" y="4882"/>
                </a:lnTo>
                <a:lnTo>
                  <a:pt x="4" y="4881"/>
                </a:lnTo>
                <a:lnTo>
                  <a:pt x="5" y="4879"/>
                </a:lnTo>
                <a:lnTo>
                  <a:pt x="8" y="4879"/>
                </a:lnTo>
                <a:lnTo>
                  <a:pt x="10" y="4879"/>
                </a:lnTo>
                <a:lnTo>
                  <a:pt x="11" y="4881"/>
                </a:lnTo>
                <a:lnTo>
                  <a:pt x="14" y="4882"/>
                </a:lnTo>
                <a:lnTo>
                  <a:pt x="16" y="4885"/>
                </a:lnTo>
                <a:lnTo>
                  <a:pt x="17" y="4886"/>
                </a:lnTo>
                <a:lnTo>
                  <a:pt x="17" y="4888"/>
                </a:lnTo>
                <a:lnTo>
                  <a:pt x="17" y="4942"/>
                </a:lnTo>
                <a:lnTo>
                  <a:pt x="17" y="4944"/>
                </a:lnTo>
                <a:lnTo>
                  <a:pt x="16" y="4945"/>
                </a:lnTo>
                <a:lnTo>
                  <a:pt x="14" y="4948"/>
                </a:lnTo>
                <a:lnTo>
                  <a:pt x="11" y="4950"/>
                </a:lnTo>
                <a:lnTo>
                  <a:pt x="10" y="4951"/>
                </a:lnTo>
                <a:lnTo>
                  <a:pt x="8" y="4951"/>
                </a:lnTo>
                <a:lnTo>
                  <a:pt x="5" y="4951"/>
                </a:lnTo>
                <a:lnTo>
                  <a:pt x="4" y="4950"/>
                </a:lnTo>
                <a:lnTo>
                  <a:pt x="1" y="4948"/>
                </a:lnTo>
                <a:lnTo>
                  <a:pt x="0" y="4945"/>
                </a:lnTo>
                <a:lnTo>
                  <a:pt x="0" y="4944"/>
                </a:lnTo>
                <a:lnTo>
                  <a:pt x="0" y="4942"/>
                </a:lnTo>
                <a:lnTo>
                  <a:pt x="0" y="4942"/>
                </a:lnTo>
                <a:close/>
                <a:moveTo>
                  <a:pt x="0" y="4816"/>
                </a:moveTo>
                <a:lnTo>
                  <a:pt x="0" y="4763"/>
                </a:lnTo>
                <a:lnTo>
                  <a:pt x="0" y="4760"/>
                </a:lnTo>
                <a:lnTo>
                  <a:pt x="0" y="4758"/>
                </a:lnTo>
                <a:lnTo>
                  <a:pt x="1" y="4755"/>
                </a:lnTo>
                <a:lnTo>
                  <a:pt x="4" y="4754"/>
                </a:lnTo>
                <a:lnTo>
                  <a:pt x="5" y="4754"/>
                </a:lnTo>
                <a:lnTo>
                  <a:pt x="8" y="4754"/>
                </a:lnTo>
                <a:lnTo>
                  <a:pt x="10" y="4754"/>
                </a:lnTo>
                <a:lnTo>
                  <a:pt x="11" y="4754"/>
                </a:lnTo>
                <a:lnTo>
                  <a:pt x="14" y="4755"/>
                </a:lnTo>
                <a:lnTo>
                  <a:pt x="16" y="4758"/>
                </a:lnTo>
                <a:lnTo>
                  <a:pt x="17" y="4760"/>
                </a:lnTo>
                <a:lnTo>
                  <a:pt x="17" y="4763"/>
                </a:lnTo>
                <a:lnTo>
                  <a:pt x="17" y="4816"/>
                </a:lnTo>
                <a:lnTo>
                  <a:pt x="17" y="4817"/>
                </a:lnTo>
                <a:lnTo>
                  <a:pt x="16" y="4820"/>
                </a:lnTo>
                <a:lnTo>
                  <a:pt x="14" y="4823"/>
                </a:lnTo>
                <a:lnTo>
                  <a:pt x="11" y="4824"/>
                </a:lnTo>
                <a:lnTo>
                  <a:pt x="10" y="4824"/>
                </a:lnTo>
                <a:lnTo>
                  <a:pt x="8" y="4826"/>
                </a:lnTo>
                <a:lnTo>
                  <a:pt x="5" y="4824"/>
                </a:lnTo>
                <a:lnTo>
                  <a:pt x="4" y="4824"/>
                </a:lnTo>
                <a:lnTo>
                  <a:pt x="1" y="4823"/>
                </a:lnTo>
                <a:lnTo>
                  <a:pt x="0" y="4820"/>
                </a:lnTo>
                <a:lnTo>
                  <a:pt x="0" y="4817"/>
                </a:lnTo>
                <a:lnTo>
                  <a:pt x="0" y="4816"/>
                </a:lnTo>
                <a:lnTo>
                  <a:pt x="0" y="4816"/>
                </a:lnTo>
                <a:close/>
                <a:moveTo>
                  <a:pt x="0" y="4691"/>
                </a:moveTo>
                <a:lnTo>
                  <a:pt x="0" y="4636"/>
                </a:lnTo>
                <a:lnTo>
                  <a:pt x="0" y="4634"/>
                </a:lnTo>
                <a:lnTo>
                  <a:pt x="0" y="4633"/>
                </a:lnTo>
                <a:lnTo>
                  <a:pt x="1" y="4630"/>
                </a:lnTo>
                <a:lnTo>
                  <a:pt x="4" y="4629"/>
                </a:lnTo>
                <a:lnTo>
                  <a:pt x="5" y="4627"/>
                </a:lnTo>
                <a:lnTo>
                  <a:pt x="8" y="4627"/>
                </a:lnTo>
                <a:lnTo>
                  <a:pt x="10" y="4627"/>
                </a:lnTo>
                <a:lnTo>
                  <a:pt x="11" y="4629"/>
                </a:lnTo>
                <a:lnTo>
                  <a:pt x="14" y="4630"/>
                </a:lnTo>
                <a:lnTo>
                  <a:pt x="16" y="4633"/>
                </a:lnTo>
                <a:lnTo>
                  <a:pt x="17" y="4634"/>
                </a:lnTo>
                <a:lnTo>
                  <a:pt x="17" y="4636"/>
                </a:lnTo>
                <a:lnTo>
                  <a:pt x="17" y="4691"/>
                </a:lnTo>
                <a:lnTo>
                  <a:pt x="17" y="4692"/>
                </a:lnTo>
                <a:lnTo>
                  <a:pt x="16" y="4693"/>
                </a:lnTo>
                <a:lnTo>
                  <a:pt x="14" y="4696"/>
                </a:lnTo>
                <a:lnTo>
                  <a:pt x="11" y="4698"/>
                </a:lnTo>
                <a:lnTo>
                  <a:pt x="10" y="4699"/>
                </a:lnTo>
                <a:lnTo>
                  <a:pt x="8" y="4699"/>
                </a:lnTo>
                <a:lnTo>
                  <a:pt x="5" y="4699"/>
                </a:lnTo>
                <a:lnTo>
                  <a:pt x="4" y="4698"/>
                </a:lnTo>
                <a:lnTo>
                  <a:pt x="1" y="4696"/>
                </a:lnTo>
                <a:lnTo>
                  <a:pt x="0" y="4693"/>
                </a:lnTo>
                <a:lnTo>
                  <a:pt x="0" y="4692"/>
                </a:lnTo>
                <a:lnTo>
                  <a:pt x="0" y="4691"/>
                </a:lnTo>
                <a:lnTo>
                  <a:pt x="0" y="4691"/>
                </a:lnTo>
                <a:close/>
                <a:moveTo>
                  <a:pt x="0" y="4564"/>
                </a:moveTo>
                <a:lnTo>
                  <a:pt x="0" y="4511"/>
                </a:lnTo>
                <a:lnTo>
                  <a:pt x="0" y="4508"/>
                </a:lnTo>
                <a:lnTo>
                  <a:pt x="0" y="4506"/>
                </a:lnTo>
                <a:lnTo>
                  <a:pt x="1" y="4503"/>
                </a:lnTo>
                <a:lnTo>
                  <a:pt x="4" y="4502"/>
                </a:lnTo>
                <a:lnTo>
                  <a:pt x="5" y="4502"/>
                </a:lnTo>
                <a:lnTo>
                  <a:pt x="8" y="4502"/>
                </a:lnTo>
                <a:lnTo>
                  <a:pt x="10" y="4502"/>
                </a:lnTo>
                <a:lnTo>
                  <a:pt x="11" y="4502"/>
                </a:lnTo>
                <a:lnTo>
                  <a:pt x="14" y="4503"/>
                </a:lnTo>
                <a:lnTo>
                  <a:pt x="16" y="4506"/>
                </a:lnTo>
                <a:lnTo>
                  <a:pt x="17" y="4508"/>
                </a:lnTo>
                <a:lnTo>
                  <a:pt x="17" y="4511"/>
                </a:lnTo>
                <a:lnTo>
                  <a:pt x="17" y="4564"/>
                </a:lnTo>
                <a:lnTo>
                  <a:pt x="17" y="4565"/>
                </a:lnTo>
                <a:lnTo>
                  <a:pt x="16" y="4568"/>
                </a:lnTo>
                <a:lnTo>
                  <a:pt x="14" y="4571"/>
                </a:lnTo>
                <a:lnTo>
                  <a:pt x="11" y="4572"/>
                </a:lnTo>
                <a:lnTo>
                  <a:pt x="10" y="4572"/>
                </a:lnTo>
                <a:lnTo>
                  <a:pt x="8" y="4574"/>
                </a:lnTo>
                <a:lnTo>
                  <a:pt x="5" y="4572"/>
                </a:lnTo>
                <a:lnTo>
                  <a:pt x="4" y="4572"/>
                </a:lnTo>
                <a:lnTo>
                  <a:pt x="1" y="4571"/>
                </a:lnTo>
                <a:lnTo>
                  <a:pt x="0" y="4568"/>
                </a:lnTo>
                <a:lnTo>
                  <a:pt x="0" y="4565"/>
                </a:lnTo>
                <a:lnTo>
                  <a:pt x="0" y="4564"/>
                </a:lnTo>
                <a:lnTo>
                  <a:pt x="0" y="4564"/>
                </a:lnTo>
                <a:close/>
                <a:moveTo>
                  <a:pt x="0" y="4439"/>
                </a:moveTo>
                <a:lnTo>
                  <a:pt x="0" y="4384"/>
                </a:lnTo>
                <a:lnTo>
                  <a:pt x="0" y="4382"/>
                </a:lnTo>
                <a:lnTo>
                  <a:pt x="0" y="4381"/>
                </a:lnTo>
                <a:lnTo>
                  <a:pt x="1" y="4378"/>
                </a:lnTo>
                <a:lnTo>
                  <a:pt x="4" y="4377"/>
                </a:lnTo>
                <a:lnTo>
                  <a:pt x="5" y="4375"/>
                </a:lnTo>
                <a:lnTo>
                  <a:pt x="8" y="4375"/>
                </a:lnTo>
                <a:lnTo>
                  <a:pt x="10" y="4375"/>
                </a:lnTo>
                <a:lnTo>
                  <a:pt x="11" y="4377"/>
                </a:lnTo>
                <a:lnTo>
                  <a:pt x="14" y="4378"/>
                </a:lnTo>
                <a:lnTo>
                  <a:pt x="16" y="4381"/>
                </a:lnTo>
                <a:lnTo>
                  <a:pt x="17" y="4382"/>
                </a:lnTo>
                <a:lnTo>
                  <a:pt x="17" y="4384"/>
                </a:lnTo>
                <a:lnTo>
                  <a:pt x="17" y="4439"/>
                </a:lnTo>
                <a:lnTo>
                  <a:pt x="17" y="4440"/>
                </a:lnTo>
                <a:lnTo>
                  <a:pt x="16" y="4441"/>
                </a:lnTo>
                <a:lnTo>
                  <a:pt x="14" y="4444"/>
                </a:lnTo>
                <a:lnTo>
                  <a:pt x="11" y="4446"/>
                </a:lnTo>
                <a:lnTo>
                  <a:pt x="10" y="4447"/>
                </a:lnTo>
                <a:lnTo>
                  <a:pt x="8" y="4447"/>
                </a:lnTo>
                <a:lnTo>
                  <a:pt x="5" y="4447"/>
                </a:lnTo>
                <a:lnTo>
                  <a:pt x="4" y="4446"/>
                </a:lnTo>
                <a:lnTo>
                  <a:pt x="1" y="4444"/>
                </a:lnTo>
                <a:lnTo>
                  <a:pt x="0" y="4441"/>
                </a:lnTo>
                <a:lnTo>
                  <a:pt x="0" y="4440"/>
                </a:lnTo>
                <a:lnTo>
                  <a:pt x="0" y="4439"/>
                </a:lnTo>
                <a:lnTo>
                  <a:pt x="0" y="4439"/>
                </a:lnTo>
                <a:close/>
                <a:moveTo>
                  <a:pt x="0" y="4312"/>
                </a:moveTo>
                <a:lnTo>
                  <a:pt x="0" y="4259"/>
                </a:lnTo>
                <a:lnTo>
                  <a:pt x="0" y="4256"/>
                </a:lnTo>
                <a:lnTo>
                  <a:pt x="0" y="4254"/>
                </a:lnTo>
                <a:lnTo>
                  <a:pt x="1" y="4251"/>
                </a:lnTo>
                <a:lnTo>
                  <a:pt x="4" y="4250"/>
                </a:lnTo>
                <a:lnTo>
                  <a:pt x="5" y="4250"/>
                </a:lnTo>
                <a:lnTo>
                  <a:pt x="8" y="4250"/>
                </a:lnTo>
                <a:lnTo>
                  <a:pt x="10" y="4250"/>
                </a:lnTo>
                <a:lnTo>
                  <a:pt x="11" y="4250"/>
                </a:lnTo>
                <a:lnTo>
                  <a:pt x="14" y="4251"/>
                </a:lnTo>
                <a:lnTo>
                  <a:pt x="16" y="4254"/>
                </a:lnTo>
                <a:lnTo>
                  <a:pt x="17" y="4256"/>
                </a:lnTo>
                <a:lnTo>
                  <a:pt x="17" y="4259"/>
                </a:lnTo>
                <a:lnTo>
                  <a:pt x="17" y="4312"/>
                </a:lnTo>
                <a:lnTo>
                  <a:pt x="17" y="4313"/>
                </a:lnTo>
                <a:lnTo>
                  <a:pt x="16" y="4316"/>
                </a:lnTo>
                <a:lnTo>
                  <a:pt x="14" y="4319"/>
                </a:lnTo>
                <a:lnTo>
                  <a:pt x="11" y="4321"/>
                </a:lnTo>
                <a:lnTo>
                  <a:pt x="10" y="4321"/>
                </a:lnTo>
                <a:lnTo>
                  <a:pt x="8" y="4322"/>
                </a:lnTo>
                <a:lnTo>
                  <a:pt x="5" y="4321"/>
                </a:lnTo>
                <a:lnTo>
                  <a:pt x="4" y="4321"/>
                </a:lnTo>
                <a:lnTo>
                  <a:pt x="1" y="4319"/>
                </a:lnTo>
                <a:lnTo>
                  <a:pt x="0" y="4316"/>
                </a:lnTo>
                <a:lnTo>
                  <a:pt x="0" y="4313"/>
                </a:lnTo>
                <a:lnTo>
                  <a:pt x="0" y="4312"/>
                </a:lnTo>
                <a:lnTo>
                  <a:pt x="0" y="4312"/>
                </a:lnTo>
                <a:close/>
                <a:moveTo>
                  <a:pt x="0" y="4187"/>
                </a:moveTo>
                <a:lnTo>
                  <a:pt x="0" y="4132"/>
                </a:lnTo>
                <a:lnTo>
                  <a:pt x="0" y="4130"/>
                </a:lnTo>
                <a:lnTo>
                  <a:pt x="0" y="4129"/>
                </a:lnTo>
                <a:lnTo>
                  <a:pt x="1" y="4126"/>
                </a:lnTo>
                <a:lnTo>
                  <a:pt x="4" y="4125"/>
                </a:lnTo>
                <a:lnTo>
                  <a:pt x="5" y="4123"/>
                </a:lnTo>
                <a:lnTo>
                  <a:pt x="8" y="4123"/>
                </a:lnTo>
                <a:lnTo>
                  <a:pt x="10" y="4123"/>
                </a:lnTo>
                <a:lnTo>
                  <a:pt x="11" y="4125"/>
                </a:lnTo>
                <a:lnTo>
                  <a:pt x="14" y="4126"/>
                </a:lnTo>
                <a:lnTo>
                  <a:pt x="16" y="4129"/>
                </a:lnTo>
                <a:lnTo>
                  <a:pt x="17" y="4130"/>
                </a:lnTo>
                <a:lnTo>
                  <a:pt x="17" y="4132"/>
                </a:lnTo>
                <a:lnTo>
                  <a:pt x="17" y="4187"/>
                </a:lnTo>
                <a:lnTo>
                  <a:pt x="17" y="4188"/>
                </a:lnTo>
                <a:lnTo>
                  <a:pt x="16" y="4190"/>
                </a:lnTo>
                <a:lnTo>
                  <a:pt x="14" y="4192"/>
                </a:lnTo>
                <a:lnTo>
                  <a:pt x="11" y="4194"/>
                </a:lnTo>
                <a:lnTo>
                  <a:pt x="10" y="4195"/>
                </a:lnTo>
                <a:lnTo>
                  <a:pt x="8" y="4195"/>
                </a:lnTo>
                <a:lnTo>
                  <a:pt x="5" y="4195"/>
                </a:lnTo>
                <a:lnTo>
                  <a:pt x="4" y="4194"/>
                </a:lnTo>
                <a:lnTo>
                  <a:pt x="1" y="4192"/>
                </a:lnTo>
                <a:lnTo>
                  <a:pt x="0" y="4190"/>
                </a:lnTo>
                <a:lnTo>
                  <a:pt x="0" y="4188"/>
                </a:lnTo>
                <a:lnTo>
                  <a:pt x="0" y="4187"/>
                </a:lnTo>
                <a:lnTo>
                  <a:pt x="0" y="4187"/>
                </a:lnTo>
                <a:close/>
                <a:moveTo>
                  <a:pt x="0" y="4060"/>
                </a:moveTo>
                <a:lnTo>
                  <a:pt x="0" y="4007"/>
                </a:lnTo>
                <a:lnTo>
                  <a:pt x="0" y="4004"/>
                </a:lnTo>
                <a:lnTo>
                  <a:pt x="0" y="4002"/>
                </a:lnTo>
                <a:lnTo>
                  <a:pt x="1" y="3999"/>
                </a:lnTo>
                <a:lnTo>
                  <a:pt x="4" y="3998"/>
                </a:lnTo>
                <a:lnTo>
                  <a:pt x="5" y="3998"/>
                </a:lnTo>
                <a:lnTo>
                  <a:pt x="8" y="3998"/>
                </a:lnTo>
                <a:lnTo>
                  <a:pt x="10" y="3998"/>
                </a:lnTo>
                <a:lnTo>
                  <a:pt x="11" y="3998"/>
                </a:lnTo>
                <a:lnTo>
                  <a:pt x="14" y="3999"/>
                </a:lnTo>
                <a:lnTo>
                  <a:pt x="16" y="4002"/>
                </a:lnTo>
                <a:lnTo>
                  <a:pt x="17" y="4004"/>
                </a:lnTo>
                <a:lnTo>
                  <a:pt x="17" y="4007"/>
                </a:lnTo>
                <a:lnTo>
                  <a:pt x="17" y="4060"/>
                </a:lnTo>
                <a:lnTo>
                  <a:pt x="17" y="4061"/>
                </a:lnTo>
                <a:lnTo>
                  <a:pt x="16" y="4064"/>
                </a:lnTo>
                <a:lnTo>
                  <a:pt x="14" y="4067"/>
                </a:lnTo>
                <a:lnTo>
                  <a:pt x="11" y="4069"/>
                </a:lnTo>
                <a:lnTo>
                  <a:pt x="10" y="4069"/>
                </a:lnTo>
                <a:lnTo>
                  <a:pt x="8" y="4070"/>
                </a:lnTo>
                <a:lnTo>
                  <a:pt x="5" y="4069"/>
                </a:lnTo>
                <a:lnTo>
                  <a:pt x="4" y="4069"/>
                </a:lnTo>
                <a:lnTo>
                  <a:pt x="1" y="4067"/>
                </a:lnTo>
                <a:lnTo>
                  <a:pt x="0" y="4064"/>
                </a:lnTo>
                <a:lnTo>
                  <a:pt x="0" y="4061"/>
                </a:lnTo>
                <a:lnTo>
                  <a:pt x="0" y="4060"/>
                </a:lnTo>
                <a:lnTo>
                  <a:pt x="0" y="4060"/>
                </a:lnTo>
                <a:close/>
                <a:moveTo>
                  <a:pt x="0" y="3935"/>
                </a:moveTo>
                <a:lnTo>
                  <a:pt x="0" y="3880"/>
                </a:lnTo>
                <a:lnTo>
                  <a:pt x="0" y="3879"/>
                </a:lnTo>
                <a:lnTo>
                  <a:pt x="0" y="3877"/>
                </a:lnTo>
                <a:lnTo>
                  <a:pt x="1" y="3874"/>
                </a:lnTo>
                <a:lnTo>
                  <a:pt x="4" y="3873"/>
                </a:lnTo>
                <a:lnTo>
                  <a:pt x="5" y="3871"/>
                </a:lnTo>
                <a:lnTo>
                  <a:pt x="8" y="3871"/>
                </a:lnTo>
                <a:lnTo>
                  <a:pt x="10" y="3871"/>
                </a:lnTo>
                <a:lnTo>
                  <a:pt x="11" y="3873"/>
                </a:lnTo>
                <a:lnTo>
                  <a:pt x="14" y="3874"/>
                </a:lnTo>
                <a:lnTo>
                  <a:pt x="16" y="3877"/>
                </a:lnTo>
                <a:lnTo>
                  <a:pt x="17" y="3879"/>
                </a:lnTo>
                <a:lnTo>
                  <a:pt x="17" y="3880"/>
                </a:lnTo>
                <a:lnTo>
                  <a:pt x="17" y="3935"/>
                </a:lnTo>
                <a:lnTo>
                  <a:pt x="17" y="3936"/>
                </a:lnTo>
                <a:lnTo>
                  <a:pt x="16" y="3938"/>
                </a:lnTo>
                <a:lnTo>
                  <a:pt x="14" y="3940"/>
                </a:lnTo>
                <a:lnTo>
                  <a:pt x="11" y="3942"/>
                </a:lnTo>
                <a:lnTo>
                  <a:pt x="10" y="3943"/>
                </a:lnTo>
                <a:lnTo>
                  <a:pt x="8" y="3943"/>
                </a:lnTo>
                <a:lnTo>
                  <a:pt x="5" y="3943"/>
                </a:lnTo>
                <a:lnTo>
                  <a:pt x="4" y="3942"/>
                </a:lnTo>
                <a:lnTo>
                  <a:pt x="1" y="3940"/>
                </a:lnTo>
                <a:lnTo>
                  <a:pt x="0" y="3938"/>
                </a:lnTo>
                <a:lnTo>
                  <a:pt x="0" y="3936"/>
                </a:lnTo>
                <a:lnTo>
                  <a:pt x="0" y="3935"/>
                </a:lnTo>
                <a:lnTo>
                  <a:pt x="0" y="3935"/>
                </a:lnTo>
                <a:close/>
                <a:moveTo>
                  <a:pt x="0" y="3808"/>
                </a:moveTo>
                <a:lnTo>
                  <a:pt x="0" y="3755"/>
                </a:lnTo>
                <a:lnTo>
                  <a:pt x="0" y="3752"/>
                </a:lnTo>
                <a:lnTo>
                  <a:pt x="0" y="3750"/>
                </a:lnTo>
                <a:lnTo>
                  <a:pt x="1" y="3748"/>
                </a:lnTo>
                <a:lnTo>
                  <a:pt x="4" y="3746"/>
                </a:lnTo>
                <a:lnTo>
                  <a:pt x="5" y="3746"/>
                </a:lnTo>
                <a:lnTo>
                  <a:pt x="8" y="3746"/>
                </a:lnTo>
                <a:lnTo>
                  <a:pt x="10" y="3746"/>
                </a:lnTo>
                <a:lnTo>
                  <a:pt x="11" y="3746"/>
                </a:lnTo>
                <a:lnTo>
                  <a:pt x="14" y="3748"/>
                </a:lnTo>
                <a:lnTo>
                  <a:pt x="16" y="3750"/>
                </a:lnTo>
                <a:lnTo>
                  <a:pt x="17" y="3752"/>
                </a:lnTo>
                <a:lnTo>
                  <a:pt x="17" y="3755"/>
                </a:lnTo>
                <a:lnTo>
                  <a:pt x="17" y="3808"/>
                </a:lnTo>
                <a:lnTo>
                  <a:pt x="17" y="3809"/>
                </a:lnTo>
                <a:lnTo>
                  <a:pt x="16" y="3812"/>
                </a:lnTo>
                <a:lnTo>
                  <a:pt x="14" y="3815"/>
                </a:lnTo>
                <a:lnTo>
                  <a:pt x="11" y="3817"/>
                </a:lnTo>
                <a:lnTo>
                  <a:pt x="10" y="3817"/>
                </a:lnTo>
                <a:lnTo>
                  <a:pt x="8" y="3818"/>
                </a:lnTo>
                <a:lnTo>
                  <a:pt x="5" y="3817"/>
                </a:lnTo>
                <a:lnTo>
                  <a:pt x="4" y="3817"/>
                </a:lnTo>
                <a:lnTo>
                  <a:pt x="1" y="3815"/>
                </a:lnTo>
                <a:lnTo>
                  <a:pt x="0" y="3812"/>
                </a:lnTo>
                <a:lnTo>
                  <a:pt x="0" y="3809"/>
                </a:lnTo>
                <a:lnTo>
                  <a:pt x="0" y="3808"/>
                </a:lnTo>
                <a:lnTo>
                  <a:pt x="0" y="3808"/>
                </a:lnTo>
                <a:close/>
                <a:moveTo>
                  <a:pt x="0" y="3683"/>
                </a:moveTo>
                <a:lnTo>
                  <a:pt x="0" y="3628"/>
                </a:lnTo>
                <a:lnTo>
                  <a:pt x="0" y="3627"/>
                </a:lnTo>
                <a:lnTo>
                  <a:pt x="0" y="3625"/>
                </a:lnTo>
                <a:lnTo>
                  <a:pt x="1" y="3622"/>
                </a:lnTo>
                <a:lnTo>
                  <a:pt x="4" y="3621"/>
                </a:lnTo>
                <a:lnTo>
                  <a:pt x="5" y="3619"/>
                </a:lnTo>
                <a:lnTo>
                  <a:pt x="8" y="3619"/>
                </a:lnTo>
                <a:lnTo>
                  <a:pt x="10" y="3619"/>
                </a:lnTo>
                <a:lnTo>
                  <a:pt x="11" y="3621"/>
                </a:lnTo>
                <a:lnTo>
                  <a:pt x="14" y="3622"/>
                </a:lnTo>
                <a:lnTo>
                  <a:pt x="16" y="3625"/>
                </a:lnTo>
                <a:lnTo>
                  <a:pt x="17" y="3627"/>
                </a:lnTo>
                <a:lnTo>
                  <a:pt x="17" y="3628"/>
                </a:lnTo>
                <a:lnTo>
                  <a:pt x="17" y="3683"/>
                </a:lnTo>
                <a:lnTo>
                  <a:pt x="17" y="3684"/>
                </a:lnTo>
                <a:lnTo>
                  <a:pt x="16" y="3686"/>
                </a:lnTo>
                <a:lnTo>
                  <a:pt x="14" y="3688"/>
                </a:lnTo>
                <a:lnTo>
                  <a:pt x="11" y="3690"/>
                </a:lnTo>
                <a:lnTo>
                  <a:pt x="10" y="3691"/>
                </a:lnTo>
                <a:lnTo>
                  <a:pt x="8" y="3691"/>
                </a:lnTo>
                <a:lnTo>
                  <a:pt x="5" y="3691"/>
                </a:lnTo>
                <a:lnTo>
                  <a:pt x="4" y="3690"/>
                </a:lnTo>
                <a:lnTo>
                  <a:pt x="1" y="3688"/>
                </a:lnTo>
                <a:lnTo>
                  <a:pt x="0" y="3686"/>
                </a:lnTo>
                <a:lnTo>
                  <a:pt x="0" y="3684"/>
                </a:lnTo>
                <a:lnTo>
                  <a:pt x="0" y="3683"/>
                </a:lnTo>
                <a:lnTo>
                  <a:pt x="0" y="3683"/>
                </a:lnTo>
                <a:close/>
                <a:moveTo>
                  <a:pt x="0" y="3556"/>
                </a:moveTo>
                <a:lnTo>
                  <a:pt x="0" y="3503"/>
                </a:lnTo>
                <a:lnTo>
                  <a:pt x="0" y="3500"/>
                </a:lnTo>
                <a:lnTo>
                  <a:pt x="0" y="3498"/>
                </a:lnTo>
                <a:lnTo>
                  <a:pt x="1" y="3496"/>
                </a:lnTo>
                <a:lnTo>
                  <a:pt x="4" y="3494"/>
                </a:lnTo>
                <a:lnTo>
                  <a:pt x="5" y="3494"/>
                </a:lnTo>
                <a:lnTo>
                  <a:pt x="8" y="3494"/>
                </a:lnTo>
                <a:lnTo>
                  <a:pt x="10" y="3494"/>
                </a:lnTo>
                <a:lnTo>
                  <a:pt x="11" y="3494"/>
                </a:lnTo>
                <a:lnTo>
                  <a:pt x="14" y="3496"/>
                </a:lnTo>
                <a:lnTo>
                  <a:pt x="16" y="3498"/>
                </a:lnTo>
                <a:lnTo>
                  <a:pt x="17" y="3500"/>
                </a:lnTo>
                <a:lnTo>
                  <a:pt x="17" y="3503"/>
                </a:lnTo>
                <a:lnTo>
                  <a:pt x="17" y="3556"/>
                </a:lnTo>
                <a:lnTo>
                  <a:pt x="17" y="3557"/>
                </a:lnTo>
                <a:lnTo>
                  <a:pt x="16" y="3560"/>
                </a:lnTo>
                <a:lnTo>
                  <a:pt x="14" y="3563"/>
                </a:lnTo>
                <a:lnTo>
                  <a:pt x="11" y="3565"/>
                </a:lnTo>
                <a:lnTo>
                  <a:pt x="10" y="3565"/>
                </a:lnTo>
                <a:lnTo>
                  <a:pt x="8" y="3566"/>
                </a:lnTo>
                <a:lnTo>
                  <a:pt x="5" y="3565"/>
                </a:lnTo>
                <a:lnTo>
                  <a:pt x="4" y="3565"/>
                </a:lnTo>
                <a:lnTo>
                  <a:pt x="1" y="3563"/>
                </a:lnTo>
                <a:lnTo>
                  <a:pt x="0" y="3560"/>
                </a:lnTo>
                <a:lnTo>
                  <a:pt x="0" y="3557"/>
                </a:lnTo>
                <a:lnTo>
                  <a:pt x="0" y="3556"/>
                </a:lnTo>
                <a:lnTo>
                  <a:pt x="0" y="3556"/>
                </a:lnTo>
                <a:close/>
                <a:moveTo>
                  <a:pt x="0" y="3431"/>
                </a:moveTo>
                <a:lnTo>
                  <a:pt x="0" y="3376"/>
                </a:lnTo>
                <a:lnTo>
                  <a:pt x="0" y="3375"/>
                </a:lnTo>
                <a:lnTo>
                  <a:pt x="0" y="3373"/>
                </a:lnTo>
                <a:lnTo>
                  <a:pt x="1" y="3370"/>
                </a:lnTo>
                <a:lnTo>
                  <a:pt x="4" y="3369"/>
                </a:lnTo>
                <a:lnTo>
                  <a:pt x="5" y="3367"/>
                </a:lnTo>
                <a:lnTo>
                  <a:pt x="8" y="3367"/>
                </a:lnTo>
                <a:lnTo>
                  <a:pt x="10" y="3367"/>
                </a:lnTo>
                <a:lnTo>
                  <a:pt x="11" y="3369"/>
                </a:lnTo>
                <a:lnTo>
                  <a:pt x="14" y="3370"/>
                </a:lnTo>
                <a:lnTo>
                  <a:pt x="16" y="3373"/>
                </a:lnTo>
                <a:lnTo>
                  <a:pt x="17" y="3375"/>
                </a:lnTo>
                <a:lnTo>
                  <a:pt x="17" y="3376"/>
                </a:lnTo>
                <a:lnTo>
                  <a:pt x="17" y="3431"/>
                </a:lnTo>
                <a:lnTo>
                  <a:pt x="17" y="3432"/>
                </a:lnTo>
                <a:lnTo>
                  <a:pt x="16" y="3434"/>
                </a:lnTo>
                <a:lnTo>
                  <a:pt x="14" y="3437"/>
                </a:lnTo>
                <a:lnTo>
                  <a:pt x="11" y="3438"/>
                </a:lnTo>
                <a:lnTo>
                  <a:pt x="10" y="3439"/>
                </a:lnTo>
                <a:lnTo>
                  <a:pt x="8" y="3439"/>
                </a:lnTo>
                <a:lnTo>
                  <a:pt x="5" y="3439"/>
                </a:lnTo>
                <a:lnTo>
                  <a:pt x="4" y="3438"/>
                </a:lnTo>
                <a:lnTo>
                  <a:pt x="1" y="3437"/>
                </a:lnTo>
                <a:lnTo>
                  <a:pt x="0" y="3434"/>
                </a:lnTo>
                <a:lnTo>
                  <a:pt x="0" y="3432"/>
                </a:lnTo>
                <a:lnTo>
                  <a:pt x="0" y="3431"/>
                </a:lnTo>
                <a:lnTo>
                  <a:pt x="0" y="3431"/>
                </a:lnTo>
                <a:close/>
                <a:moveTo>
                  <a:pt x="0" y="3304"/>
                </a:moveTo>
                <a:lnTo>
                  <a:pt x="0" y="3251"/>
                </a:lnTo>
                <a:lnTo>
                  <a:pt x="0" y="3248"/>
                </a:lnTo>
                <a:lnTo>
                  <a:pt x="0" y="3246"/>
                </a:lnTo>
                <a:lnTo>
                  <a:pt x="1" y="3244"/>
                </a:lnTo>
                <a:lnTo>
                  <a:pt x="4" y="3242"/>
                </a:lnTo>
                <a:lnTo>
                  <a:pt x="5" y="3242"/>
                </a:lnTo>
                <a:lnTo>
                  <a:pt x="8" y="3242"/>
                </a:lnTo>
                <a:lnTo>
                  <a:pt x="10" y="3242"/>
                </a:lnTo>
                <a:lnTo>
                  <a:pt x="11" y="3242"/>
                </a:lnTo>
                <a:lnTo>
                  <a:pt x="14" y="3244"/>
                </a:lnTo>
                <a:lnTo>
                  <a:pt x="16" y="3246"/>
                </a:lnTo>
                <a:lnTo>
                  <a:pt x="17" y="3248"/>
                </a:lnTo>
                <a:lnTo>
                  <a:pt x="17" y="3251"/>
                </a:lnTo>
                <a:lnTo>
                  <a:pt x="17" y="3304"/>
                </a:lnTo>
                <a:lnTo>
                  <a:pt x="17" y="3306"/>
                </a:lnTo>
                <a:lnTo>
                  <a:pt x="16" y="3308"/>
                </a:lnTo>
                <a:lnTo>
                  <a:pt x="14" y="3311"/>
                </a:lnTo>
                <a:lnTo>
                  <a:pt x="11" y="3313"/>
                </a:lnTo>
                <a:lnTo>
                  <a:pt x="10" y="3313"/>
                </a:lnTo>
                <a:lnTo>
                  <a:pt x="8" y="3314"/>
                </a:lnTo>
                <a:lnTo>
                  <a:pt x="5" y="3313"/>
                </a:lnTo>
                <a:lnTo>
                  <a:pt x="4" y="3313"/>
                </a:lnTo>
                <a:lnTo>
                  <a:pt x="1" y="3311"/>
                </a:lnTo>
                <a:lnTo>
                  <a:pt x="0" y="3308"/>
                </a:lnTo>
                <a:lnTo>
                  <a:pt x="0" y="3306"/>
                </a:lnTo>
                <a:lnTo>
                  <a:pt x="0" y="3304"/>
                </a:lnTo>
                <a:lnTo>
                  <a:pt x="0" y="3304"/>
                </a:lnTo>
                <a:close/>
                <a:moveTo>
                  <a:pt x="0" y="3179"/>
                </a:moveTo>
                <a:lnTo>
                  <a:pt x="0" y="3124"/>
                </a:lnTo>
                <a:lnTo>
                  <a:pt x="0" y="3123"/>
                </a:lnTo>
                <a:lnTo>
                  <a:pt x="0" y="3121"/>
                </a:lnTo>
                <a:lnTo>
                  <a:pt x="1" y="3118"/>
                </a:lnTo>
                <a:lnTo>
                  <a:pt x="4" y="3117"/>
                </a:lnTo>
                <a:lnTo>
                  <a:pt x="5" y="3115"/>
                </a:lnTo>
                <a:lnTo>
                  <a:pt x="8" y="3115"/>
                </a:lnTo>
                <a:lnTo>
                  <a:pt x="10" y="3115"/>
                </a:lnTo>
                <a:lnTo>
                  <a:pt x="11" y="3117"/>
                </a:lnTo>
                <a:lnTo>
                  <a:pt x="14" y="3118"/>
                </a:lnTo>
                <a:lnTo>
                  <a:pt x="16" y="3121"/>
                </a:lnTo>
                <a:lnTo>
                  <a:pt x="17" y="3123"/>
                </a:lnTo>
                <a:lnTo>
                  <a:pt x="17" y="3124"/>
                </a:lnTo>
                <a:lnTo>
                  <a:pt x="17" y="3179"/>
                </a:lnTo>
                <a:lnTo>
                  <a:pt x="17" y="3180"/>
                </a:lnTo>
                <a:lnTo>
                  <a:pt x="16" y="3182"/>
                </a:lnTo>
                <a:lnTo>
                  <a:pt x="14" y="3185"/>
                </a:lnTo>
                <a:lnTo>
                  <a:pt x="11" y="3186"/>
                </a:lnTo>
                <a:lnTo>
                  <a:pt x="10" y="3187"/>
                </a:lnTo>
                <a:lnTo>
                  <a:pt x="8" y="3187"/>
                </a:lnTo>
                <a:lnTo>
                  <a:pt x="5" y="3187"/>
                </a:lnTo>
                <a:lnTo>
                  <a:pt x="4" y="3186"/>
                </a:lnTo>
                <a:lnTo>
                  <a:pt x="1" y="3185"/>
                </a:lnTo>
                <a:lnTo>
                  <a:pt x="0" y="3182"/>
                </a:lnTo>
                <a:lnTo>
                  <a:pt x="0" y="3180"/>
                </a:lnTo>
                <a:lnTo>
                  <a:pt x="0" y="3179"/>
                </a:lnTo>
                <a:lnTo>
                  <a:pt x="0" y="3179"/>
                </a:lnTo>
                <a:close/>
                <a:moveTo>
                  <a:pt x="0" y="3052"/>
                </a:moveTo>
                <a:lnTo>
                  <a:pt x="0" y="2999"/>
                </a:lnTo>
                <a:lnTo>
                  <a:pt x="0" y="2996"/>
                </a:lnTo>
                <a:lnTo>
                  <a:pt x="0" y="2995"/>
                </a:lnTo>
                <a:lnTo>
                  <a:pt x="1" y="2992"/>
                </a:lnTo>
                <a:lnTo>
                  <a:pt x="4" y="2990"/>
                </a:lnTo>
                <a:lnTo>
                  <a:pt x="5" y="2990"/>
                </a:lnTo>
                <a:lnTo>
                  <a:pt x="8" y="2990"/>
                </a:lnTo>
                <a:lnTo>
                  <a:pt x="10" y="2990"/>
                </a:lnTo>
                <a:lnTo>
                  <a:pt x="11" y="2990"/>
                </a:lnTo>
                <a:lnTo>
                  <a:pt x="14" y="2992"/>
                </a:lnTo>
                <a:lnTo>
                  <a:pt x="16" y="2995"/>
                </a:lnTo>
                <a:lnTo>
                  <a:pt x="17" y="2996"/>
                </a:lnTo>
                <a:lnTo>
                  <a:pt x="17" y="2999"/>
                </a:lnTo>
                <a:lnTo>
                  <a:pt x="17" y="3052"/>
                </a:lnTo>
                <a:lnTo>
                  <a:pt x="17" y="3054"/>
                </a:lnTo>
                <a:lnTo>
                  <a:pt x="16" y="3056"/>
                </a:lnTo>
                <a:lnTo>
                  <a:pt x="14" y="3059"/>
                </a:lnTo>
                <a:lnTo>
                  <a:pt x="11" y="3061"/>
                </a:lnTo>
                <a:lnTo>
                  <a:pt x="10" y="3061"/>
                </a:lnTo>
                <a:lnTo>
                  <a:pt x="8" y="3062"/>
                </a:lnTo>
                <a:lnTo>
                  <a:pt x="5" y="3061"/>
                </a:lnTo>
                <a:lnTo>
                  <a:pt x="4" y="3061"/>
                </a:lnTo>
                <a:lnTo>
                  <a:pt x="1" y="3059"/>
                </a:lnTo>
                <a:lnTo>
                  <a:pt x="0" y="3056"/>
                </a:lnTo>
                <a:lnTo>
                  <a:pt x="0" y="3054"/>
                </a:lnTo>
                <a:lnTo>
                  <a:pt x="0" y="3052"/>
                </a:lnTo>
                <a:lnTo>
                  <a:pt x="0" y="3052"/>
                </a:lnTo>
                <a:close/>
                <a:moveTo>
                  <a:pt x="0" y="2927"/>
                </a:moveTo>
                <a:lnTo>
                  <a:pt x="0" y="2872"/>
                </a:lnTo>
                <a:lnTo>
                  <a:pt x="0" y="2871"/>
                </a:lnTo>
                <a:lnTo>
                  <a:pt x="0" y="2869"/>
                </a:lnTo>
                <a:lnTo>
                  <a:pt x="1" y="2866"/>
                </a:lnTo>
                <a:lnTo>
                  <a:pt x="4" y="2865"/>
                </a:lnTo>
                <a:lnTo>
                  <a:pt x="5" y="2864"/>
                </a:lnTo>
                <a:lnTo>
                  <a:pt x="8" y="2864"/>
                </a:lnTo>
                <a:lnTo>
                  <a:pt x="10" y="2864"/>
                </a:lnTo>
                <a:lnTo>
                  <a:pt x="11" y="2865"/>
                </a:lnTo>
                <a:lnTo>
                  <a:pt x="14" y="2866"/>
                </a:lnTo>
                <a:lnTo>
                  <a:pt x="16" y="2869"/>
                </a:lnTo>
                <a:lnTo>
                  <a:pt x="17" y="2871"/>
                </a:lnTo>
                <a:lnTo>
                  <a:pt x="17" y="2872"/>
                </a:lnTo>
                <a:lnTo>
                  <a:pt x="17" y="2927"/>
                </a:lnTo>
                <a:lnTo>
                  <a:pt x="17" y="2928"/>
                </a:lnTo>
                <a:lnTo>
                  <a:pt x="16" y="2930"/>
                </a:lnTo>
                <a:lnTo>
                  <a:pt x="14" y="2933"/>
                </a:lnTo>
                <a:lnTo>
                  <a:pt x="11" y="2934"/>
                </a:lnTo>
                <a:lnTo>
                  <a:pt x="10" y="2936"/>
                </a:lnTo>
                <a:lnTo>
                  <a:pt x="8" y="2936"/>
                </a:lnTo>
                <a:lnTo>
                  <a:pt x="5" y="2936"/>
                </a:lnTo>
                <a:lnTo>
                  <a:pt x="4" y="2934"/>
                </a:lnTo>
                <a:lnTo>
                  <a:pt x="1" y="2933"/>
                </a:lnTo>
                <a:lnTo>
                  <a:pt x="0" y="2930"/>
                </a:lnTo>
                <a:lnTo>
                  <a:pt x="0" y="2928"/>
                </a:lnTo>
                <a:lnTo>
                  <a:pt x="0" y="2927"/>
                </a:lnTo>
                <a:lnTo>
                  <a:pt x="0" y="2927"/>
                </a:lnTo>
                <a:close/>
                <a:moveTo>
                  <a:pt x="0" y="2800"/>
                </a:moveTo>
                <a:lnTo>
                  <a:pt x="0" y="2747"/>
                </a:lnTo>
                <a:lnTo>
                  <a:pt x="0" y="2744"/>
                </a:lnTo>
                <a:lnTo>
                  <a:pt x="0" y="2743"/>
                </a:lnTo>
                <a:lnTo>
                  <a:pt x="1" y="2740"/>
                </a:lnTo>
                <a:lnTo>
                  <a:pt x="4" y="2738"/>
                </a:lnTo>
                <a:lnTo>
                  <a:pt x="5" y="2738"/>
                </a:lnTo>
                <a:lnTo>
                  <a:pt x="8" y="2738"/>
                </a:lnTo>
                <a:lnTo>
                  <a:pt x="10" y="2738"/>
                </a:lnTo>
                <a:lnTo>
                  <a:pt x="11" y="2738"/>
                </a:lnTo>
                <a:lnTo>
                  <a:pt x="14" y="2740"/>
                </a:lnTo>
                <a:lnTo>
                  <a:pt x="16" y="2743"/>
                </a:lnTo>
                <a:lnTo>
                  <a:pt x="17" y="2744"/>
                </a:lnTo>
                <a:lnTo>
                  <a:pt x="17" y="2747"/>
                </a:lnTo>
                <a:lnTo>
                  <a:pt x="17" y="2800"/>
                </a:lnTo>
                <a:lnTo>
                  <a:pt x="17" y="2802"/>
                </a:lnTo>
                <a:lnTo>
                  <a:pt x="16" y="2805"/>
                </a:lnTo>
                <a:lnTo>
                  <a:pt x="14" y="2807"/>
                </a:lnTo>
                <a:lnTo>
                  <a:pt x="11" y="2809"/>
                </a:lnTo>
                <a:lnTo>
                  <a:pt x="10" y="2809"/>
                </a:lnTo>
                <a:lnTo>
                  <a:pt x="8" y="2810"/>
                </a:lnTo>
                <a:lnTo>
                  <a:pt x="5" y="2809"/>
                </a:lnTo>
                <a:lnTo>
                  <a:pt x="4" y="2809"/>
                </a:lnTo>
                <a:lnTo>
                  <a:pt x="1" y="2807"/>
                </a:lnTo>
                <a:lnTo>
                  <a:pt x="0" y="2805"/>
                </a:lnTo>
                <a:lnTo>
                  <a:pt x="0" y="2802"/>
                </a:lnTo>
                <a:lnTo>
                  <a:pt x="0" y="2800"/>
                </a:lnTo>
                <a:lnTo>
                  <a:pt x="0" y="2800"/>
                </a:lnTo>
                <a:close/>
                <a:moveTo>
                  <a:pt x="0" y="2675"/>
                </a:moveTo>
                <a:lnTo>
                  <a:pt x="0" y="2620"/>
                </a:lnTo>
                <a:lnTo>
                  <a:pt x="0" y="2619"/>
                </a:lnTo>
                <a:lnTo>
                  <a:pt x="0" y="2617"/>
                </a:lnTo>
                <a:lnTo>
                  <a:pt x="1" y="2614"/>
                </a:lnTo>
                <a:lnTo>
                  <a:pt x="4" y="2613"/>
                </a:lnTo>
                <a:lnTo>
                  <a:pt x="5" y="2612"/>
                </a:lnTo>
                <a:lnTo>
                  <a:pt x="8" y="2612"/>
                </a:lnTo>
                <a:lnTo>
                  <a:pt x="10" y="2612"/>
                </a:lnTo>
                <a:lnTo>
                  <a:pt x="11" y="2613"/>
                </a:lnTo>
                <a:lnTo>
                  <a:pt x="14" y="2614"/>
                </a:lnTo>
                <a:lnTo>
                  <a:pt x="16" y="2617"/>
                </a:lnTo>
                <a:lnTo>
                  <a:pt x="17" y="2619"/>
                </a:lnTo>
                <a:lnTo>
                  <a:pt x="17" y="2620"/>
                </a:lnTo>
                <a:lnTo>
                  <a:pt x="17" y="2675"/>
                </a:lnTo>
                <a:lnTo>
                  <a:pt x="17" y="2676"/>
                </a:lnTo>
                <a:lnTo>
                  <a:pt x="16" y="2678"/>
                </a:lnTo>
                <a:lnTo>
                  <a:pt x="14" y="2681"/>
                </a:lnTo>
                <a:lnTo>
                  <a:pt x="11" y="2682"/>
                </a:lnTo>
                <a:lnTo>
                  <a:pt x="10" y="2684"/>
                </a:lnTo>
                <a:lnTo>
                  <a:pt x="8" y="2684"/>
                </a:lnTo>
                <a:lnTo>
                  <a:pt x="5" y="2684"/>
                </a:lnTo>
                <a:lnTo>
                  <a:pt x="4" y="2682"/>
                </a:lnTo>
                <a:lnTo>
                  <a:pt x="1" y="2681"/>
                </a:lnTo>
                <a:lnTo>
                  <a:pt x="0" y="2678"/>
                </a:lnTo>
                <a:lnTo>
                  <a:pt x="0" y="2676"/>
                </a:lnTo>
                <a:lnTo>
                  <a:pt x="0" y="2675"/>
                </a:lnTo>
                <a:lnTo>
                  <a:pt x="0" y="2675"/>
                </a:lnTo>
                <a:close/>
                <a:moveTo>
                  <a:pt x="0" y="2548"/>
                </a:moveTo>
                <a:lnTo>
                  <a:pt x="0" y="2495"/>
                </a:lnTo>
                <a:lnTo>
                  <a:pt x="0" y="2492"/>
                </a:lnTo>
                <a:lnTo>
                  <a:pt x="0" y="2491"/>
                </a:lnTo>
                <a:lnTo>
                  <a:pt x="1" y="2488"/>
                </a:lnTo>
                <a:lnTo>
                  <a:pt x="4" y="2486"/>
                </a:lnTo>
                <a:lnTo>
                  <a:pt x="5" y="2486"/>
                </a:lnTo>
                <a:lnTo>
                  <a:pt x="8" y="2486"/>
                </a:lnTo>
                <a:lnTo>
                  <a:pt x="10" y="2486"/>
                </a:lnTo>
                <a:lnTo>
                  <a:pt x="11" y="2486"/>
                </a:lnTo>
                <a:lnTo>
                  <a:pt x="14" y="2488"/>
                </a:lnTo>
                <a:lnTo>
                  <a:pt x="16" y="2491"/>
                </a:lnTo>
                <a:lnTo>
                  <a:pt x="17" y="2492"/>
                </a:lnTo>
                <a:lnTo>
                  <a:pt x="17" y="2495"/>
                </a:lnTo>
                <a:lnTo>
                  <a:pt x="17" y="2548"/>
                </a:lnTo>
                <a:lnTo>
                  <a:pt x="17" y="2550"/>
                </a:lnTo>
                <a:lnTo>
                  <a:pt x="16" y="2553"/>
                </a:lnTo>
                <a:lnTo>
                  <a:pt x="14" y="2555"/>
                </a:lnTo>
                <a:lnTo>
                  <a:pt x="11" y="2557"/>
                </a:lnTo>
                <a:lnTo>
                  <a:pt x="10" y="2557"/>
                </a:lnTo>
                <a:lnTo>
                  <a:pt x="8" y="2558"/>
                </a:lnTo>
                <a:lnTo>
                  <a:pt x="5" y="2557"/>
                </a:lnTo>
                <a:lnTo>
                  <a:pt x="4" y="2557"/>
                </a:lnTo>
                <a:lnTo>
                  <a:pt x="1" y="2555"/>
                </a:lnTo>
                <a:lnTo>
                  <a:pt x="0" y="2553"/>
                </a:lnTo>
                <a:lnTo>
                  <a:pt x="0" y="2550"/>
                </a:lnTo>
                <a:lnTo>
                  <a:pt x="0" y="2548"/>
                </a:lnTo>
                <a:lnTo>
                  <a:pt x="0" y="2548"/>
                </a:lnTo>
                <a:close/>
                <a:moveTo>
                  <a:pt x="0" y="2423"/>
                </a:moveTo>
                <a:lnTo>
                  <a:pt x="0" y="2368"/>
                </a:lnTo>
                <a:lnTo>
                  <a:pt x="0" y="2367"/>
                </a:lnTo>
                <a:lnTo>
                  <a:pt x="0" y="2365"/>
                </a:lnTo>
                <a:lnTo>
                  <a:pt x="1" y="2363"/>
                </a:lnTo>
                <a:lnTo>
                  <a:pt x="4" y="2361"/>
                </a:lnTo>
                <a:lnTo>
                  <a:pt x="5" y="2360"/>
                </a:lnTo>
                <a:lnTo>
                  <a:pt x="8" y="2360"/>
                </a:lnTo>
                <a:lnTo>
                  <a:pt x="10" y="2360"/>
                </a:lnTo>
                <a:lnTo>
                  <a:pt x="11" y="2361"/>
                </a:lnTo>
                <a:lnTo>
                  <a:pt x="14" y="2363"/>
                </a:lnTo>
                <a:lnTo>
                  <a:pt x="16" y="2365"/>
                </a:lnTo>
                <a:lnTo>
                  <a:pt x="17" y="2367"/>
                </a:lnTo>
                <a:lnTo>
                  <a:pt x="17" y="2368"/>
                </a:lnTo>
                <a:lnTo>
                  <a:pt x="17" y="2423"/>
                </a:lnTo>
                <a:lnTo>
                  <a:pt x="17" y="2424"/>
                </a:lnTo>
                <a:lnTo>
                  <a:pt x="16" y="2426"/>
                </a:lnTo>
                <a:lnTo>
                  <a:pt x="14" y="2429"/>
                </a:lnTo>
                <a:lnTo>
                  <a:pt x="11" y="2430"/>
                </a:lnTo>
                <a:lnTo>
                  <a:pt x="10" y="2432"/>
                </a:lnTo>
                <a:lnTo>
                  <a:pt x="8" y="2432"/>
                </a:lnTo>
                <a:lnTo>
                  <a:pt x="5" y="2432"/>
                </a:lnTo>
                <a:lnTo>
                  <a:pt x="4" y="2430"/>
                </a:lnTo>
                <a:lnTo>
                  <a:pt x="1" y="2429"/>
                </a:lnTo>
                <a:lnTo>
                  <a:pt x="0" y="2426"/>
                </a:lnTo>
                <a:lnTo>
                  <a:pt x="0" y="2424"/>
                </a:lnTo>
                <a:lnTo>
                  <a:pt x="0" y="2423"/>
                </a:lnTo>
                <a:lnTo>
                  <a:pt x="0" y="2423"/>
                </a:lnTo>
                <a:close/>
                <a:moveTo>
                  <a:pt x="0" y="2296"/>
                </a:moveTo>
                <a:lnTo>
                  <a:pt x="0" y="2243"/>
                </a:lnTo>
                <a:lnTo>
                  <a:pt x="0" y="2240"/>
                </a:lnTo>
                <a:lnTo>
                  <a:pt x="0" y="2239"/>
                </a:lnTo>
                <a:lnTo>
                  <a:pt x="1" y="2236"/>
                </a:lnTo>
                <a:lnTo>
                  <a:pt x="4" y="2234"/>
                </a:lnTo>
                <a:lnTo>
                  <a:pt x="5" y="2234"/>
                </a:lnTo>
                <a:lnTo>
                  <a:pt x="8" y="2234"/>
                </a:lnTo>
                <a:lnTo>
                  <a:pt x="10" y="2234"/>
                </a:lnTo>
                <a:lnTo>
                  <a:pt x="11" y="2234"/>
                </a:lnTo>
                <a:lnTo>
                  <a:pt x="14" y="2236"/>
                </a:lnTo>
                <a:lnTo>
                  <a:pt x="16" y="2239"/>
                </a:lnTo>
                <a:lnTo>
                  <a:pt x="17" y="2240"/>
                </a:lnTo>
                <a:lnTo>
                  <a:pt x="17" y="2243"/>
                </a:lnTo>
                <a:lnTo>
                  <a:pt x="17" y="2296"/>
                </a:lnTo>
                <a:lnTo>
                  <a:pt x="17" y="2298"/>
                </a:lnTo>
                <a:lnTo>
                  <a:pt x="16" y="2301"/>
                </a:lnTo>
                <a:lnTo>
                  <a:pt x="14" y="2303"/>
                </a:lnTo>
                <a:lnTo>
                  <a:pt x="11" y="2305"/>
                </a:lnTo>
                <a:lnTo>
                  <a:pt x="10" y="2305"/>
                </a:lnTo>
                <a:lnTo>
                  <a:pt x="8" y="2306"/>
                </a:lnTo>
                <a:lnTo>
                  <a:pt x="5" y="2305"/>
                </a:lnTo>
                <a:lnTo>
                  <a:pt x="4" y="2305"/>
                </a:lnTo>
                <a:lnTo>
                  <a:pt x="1" y="2303"/>
                </a:lnTo>
                <a:lnTo>
                  <a:pt x="0" y="2301"/>
                </a:lnTo>
                <a:lnTo>
                  <a:pt x="0" y="2298"/>
                </a:lnTo>
                <a:lnTo>
                  <a:pt x="0" y="2296"/>
                </a:lnTo>
                <a:lnTo>
                  <a:pt x="0" y="2296"/>
                </a:lnTo>
                <a:close/>
                <a:moveTo>
                  <a:pt x="0" y="2171"/>
                </a:moveTo>
                <a:lnTo>
                  <a:pt x="0" y="2116"/>
                </a:lnTo>
                <a:lnTo>
                  <a:pt x="0" y="2115"/>
                </a:lnTo>
                <a:lnTo>
                  <a:pt x="0" y="2113"/>
                </a:lnTo>
                <a:lnTo>
                  <a:pt x="1" y="2111"/>
                </a:lnTo>
                <a:lnTo>
                  <a:pt x="4" y="2109"/>
                </a:lnTo>
                <a:lnTo>
                  <a:pt x="5" y="2108"/>
                </a:lnTo>
                <a:lnTo>
                  <a:pt x="8" y="2108"/>
                </a:lnTo>
                <a:lnTo>
                  <a:pt x="10" y="2108"/>
                </a:lnTo>
                <a:lnTo>
                  <a:pt x="11" y="2109"/>
                </a:lnTo>
                <a:lnTo>
                  <a:pt x="14" y="2111"/>
                </a:lnTo>
                <a:lnTo>
                  <a:pt x="16" y="2113"/>
                </a:lnTo>
                <a:lnTo>
                  <a:pt x="17" y="2115"/>
                </a:lnTo>
                <a:lnTo>
                  <a:pt x="17" y="2116"/>
                </a:lnTo>
                <a:lnTo>
                  <a:pt x="17" y="2171"/>
                </a:lnTo>
                <a:lnTo>
                  <a:pt x="17" y="2172"/>
                </a:lnTo>
                <a:lnTo>
                  <a:pt x="16" y="2174"/>
                </a:lnTo>
                <a:lnTo>
                  <a:pt x="14" y="2177"/>
                </a:lnTo>
                <a:lnTo>
                  <a:pt x="11" y="2178"/>
                </a:lnTo>
                <a:lnTo>
                  <a:pt x="10" y="2180"/>
                </a:lnTo>
                <a:lnTo>
                  <a:pt x="8" y="2180"/>
                </a:lnTo>
                <a:lnTo>
                  <a:pt x="5" y="2180"/>
                </a:lnTo>
                <a:lnTo>
                  <a:pt x="4" y="2178"/>
                </a:lnTo>
                <a:lnTo>
                  <a:pt x="1" y="2177"/>
                </a:lnTo>
                <a:lnTo>
                  <a:pt x="0" y="2174"/>
                </a:lnTo>
                <a:lnTo>
                  <a:pt x="0" y="2172"/>
                </a:lnTo>
                <a:lnTo>
                  <a:pt x="0" y="2171"/>
                </a:lnTo>
                <a:lnTo>
                  <a:pt x="0" y="2171"/>
                </a:lnTo>
                <a:close/>
                <a:moveTo>
                  <a:pt x="0" y="2044"/>
                </a:moveTo>
                <a:lnTo>
                  <a:pt x="0" y="1991"/>
                </a:lnTo>
                <a:lnTo>
                  <a:pt x="0" y="1988"/>
                </a:lnTo>
                <a:lnTo>
                  <a:pt x="0" y="1987"/>
                </a:lnTo>
                <a:lnTo>
                  <a:pt x="1" y="1984"/>
                </a:lnTo>
                <a:lnTo>
                  <a:pt x="4" y="1982"/>
                </a:lnTo>
                <a:lnTo>
                  <a:pt x="5" y="1982"/>
                </a:lnTo>
                <a:lnTo>
                  <a:pt x="8" y="1982"/>
                </a:lnTo>
                <a:lnTo>
                  <a:pt x="10" y="1982"/>
                </a:lnTo>
                <a:lnTo>
                  <a:pt x="11" y="1982"/>
                </a:lnTo>
                <a:lnTo>
                  <a:pt x="14" y="1984"/>
                </a:lnTo>
                <a:lnTo>
                  <a:pt x="16" y="1987"/>
                </a:lnTo>
                <a:lnTo>
                  <a:pt x="17" y="1988"/>
                </a:lnTo>
                <a:lnTo>
                  <a:pt x="17" y="1991"/>
                </a:lnTo>
                <a:lnTo>
                  <a:pt x="17" y="2044"/>
                </a:lnTo>
                <a:lnTo>
                  <a:pt x="17" y="2046"/>
                </a:lnTo>
                <a:lnTo>
                  <a:pt x="16" y="2049"/>
                </a:lnTo>
                <a:lnTo>
                  <a:pt x="14" y="2052"/>
                </a:lnTo>
                <a:lnTo>
                  <a:pt x="11" y="2053"/>
                </a:lnTo>
                <a:lnTo>
                  <a:pt x="10" y="2053"/>
                </a:lnTo>
                <a:lnTo>
                  <a:pt x="8" y="2054"/>
                </a:lnTo>
                <a:lnTo>
                  <a:pt x="5" y="2053"/>
                </a:lnTo>
                <a:lnTo>
                  <a:pt x="4" y="2053"/>
                </a:lnTo>
                <a:lnTo>
                  <a:pt x="1" y="2052"/>
                </a:lnTo>
                <a:lnTo>
                  <a:pt x="0" y="2049"/>
                </a:lnTo>
                <a:lnTo>
                  <a:pt x="0" y="2046"/>
                </a:lnTo>
                <a:lnTo>
                  <a:pt x="0" y="2044"/>
                </a:lnTo>
                <a:lnTo>
                  <a:pt x="0" y="2044"/>
                </a:lnTo>
                <a:close/>
                <a:moveTo>
                  <a:pt x="0" y="1919"/>
                </a:moveTo>
                <a:lnTo>
                  <a:pt x="0" y="1864"/>
                </a:lnTo>
                <a:lnTo>
                  <a:pt x="0" y="1863"/>
                </a:lnTo>
                <a:lnTo>
                  <a:pt x="0" y="1861"/>
                </a:lnTo>
                <a:lnTo>
                  <a:pt x="1" y="1859"/>
                </a:lnTo>
                <a:lnTo>
                  <a:pt x="4" y="1857"/>
                </a:lnTo>
                <a:lnTo>
                  <a:pt x="5" y="1856"/>
                </a:lnTo>
                <a:lnTo>
                  <a:pt x="8" y="1856"/>
                </a:lnTo>
                <a:lnTo>
                  <a:pt x="10" y="1856"/>
                </a:lnTo>
                <a:lnTo>
                  <a:pt x="11" y="1857"/>
                </a:lnTo>
                <a:lnTo>
                  <a:pt x="14" y="1859"/>
                </a:lnTo>
                <a:lnTo>
                  <a:pt x="16" y="1861"/>
                </a:lnTo>
                <a:lnTo>
                  <a:pt x="17" y="1863"/>
                </a:lnTo>
                <a:lnTo>
                  <a:pt x="17" y="1864"/>
                </a:lnTo>
                <a:lnTo>
                  <a:pt x="17" y="1919"/>
                </a:lnTo>
                <a:lnTo>
                  <a:pt x="17" y="1921"/>
                </a:lnTo>
                <a:lnTo>
                  <a:pt x="16" y="1922"/>
                </a:lnTo>
                <a:lnTo>
                  <a:pt x="14" y="1925"/>
                </a:lnTo>
                <a:lnTo>
                  <a:pt x="11" y="1926"/>
                </a:lnTo>
                <a:lnTo>
                  <a:pt x="10" y="1928"/>
                </a:lnTo>
                <a:lnTo>
                  <a:pt x="8" y="1928"/>
                </a:lnTo>
                <a:lnTo>
                  <a:pt x="5" y="1928"/>
                </a:lnTo>
                <a:lnTo>
                  <a:pt x="4" y="1926"/>
                </a:lnTo>
                <a:lnTo>
                  <a:pt x="1" y="1925"/>
                </a:lnTo>
                <a:lnTo>
                  <a:pt x="0" y="1922"/>
                </a:lnTo>
                <a:lnTo>
                  <a:pt x="0" y="1921"/>
                </a:lnTo>
                <a:lnTo>
                  <a:pt x="0" y="1919"/>
                </a:lnTo>
                <a:lnTo>
                  <a:pt x="0" y="1919"/>
                </a:lnTo>
                <a:close/>
                <a:moveTo>
                  <a:pt x="0" y="1792"/>
                </a:moveTo>
                <a:lnTo>
                  <a:pt x="0" y="1739"/>
                </a:lnTo>
                <a:lnTo>
                  <a:pt x="0" y="1736"/>
                </a:lnTo>
                <a:lnTo>
                  <a:pt x="0" y="1735"/>
                </a:lnTo>
                <a:lnTo>
                  <a:pt x="1" y="1732"/>
                </a:lnTo>
                <a:lnTo>
                  <a:pt x="4" y="1730"/>
                </a:lnTo>
                <a:lnTo>
                  <a:pt x="5" y="1730"/>
                </a:lnTo>
                <a:lnTo>
                  <a:pt x="8" y="1730"/>
                </a:lnTo>
                <a:lnTo>
                  <a:pt x="10" y="1730"/>
                </a:lnTo>
                <a:lnTo>
                  <a:pt x="11" y="1730"/>
                </a:lnTo>
                <a:lnTo>
                  <a:pt x="14" y="1732"/>
                </a:lnTo>
                <a:lnTo>
                  <a:pt x="16" y="1735"/>
                </a:lnTo>
                <a:lnTo>
                  <a:pt x="17" y="1736"/>
                </a:lnTo>
                <a:lnTo>
                  <a:pt x="17" y="1739"/>
                </a:lnTo>
                <a:lnTo>
                  <a:pt x="17" y="1792"/>
                </a:lnTo>
                <a:lnTo>
                  <a:pt x="17" y="1794"/>
                </a:lnTo>
                <a:lnTo>
                  <a:pt x="16" y="1797"/>
                </a:lnTo>
                <a:lnTo>
                  <a:pt x="14" y="1800"/>
                </a:lnTo>
                <a:lnTo>
                  <a:pt x="11" y="1801"/>
                </a:lnTo>
                <a:lnTo>
                  <a:pt x="10" y="1801"/>
                </a:lnTo>
                <a:lnTo>
                  <a:pt x="8" y="1802"/>
                </a:lnTo>
                <a:lnTo>
                  <a:pt x="5" y="1801"/>
                </a:lnTo>
                <a:lnTo>
                  <a:pt x="4" y="1801"/>
                </a:lnTo>
                <a:lnTo>
                  <a:pt x="1" y="1800"/>
                </a:lnTo>
                <a:lnTo>
                  <a:pt x="0" y="1797"/>
                </a:lnTo>
                <a:lnTo>
                  <a:pt x="0" y="1794"/>
                </a:lnTo>
                <a:lnTo>
                  <a:pt x="0" y="1792"/>
                </a:lnTo>
                <a:lnTo>
                  <a:pt x="0" y="1792"/>
                </a:lnTo>
                <a:close/>
                <a:moveTo>
                  <a:pt x="0" y="1667"/>
                </a:moveTo>
                <a:lnTo>
                  <a:pt x="0" y="1612"/>
                </a:lnTo>
                <a:lnTo>
                  <a:pt x="0" y="1611"/>
                </a:lnTo>
                <a:lnTo>
                  <a:pt x="0" y="1610"/>
                </a:lnTo>
                <a:lnTo>
                  <a:pt x="1" y="1607"/>
                </a:lnTo>
                <a:lnTo>
                  <a:pt x="4" y="1605"/>
                </a:lnTo>
                <a:lnTo>
                  <a:pt x="5" y="1604"/>
                </a:lnTo>
                <a:lnTo>
                  <a:pt x="8" y="1604"/>
                </a:lnTo>
                <a:lnTo>
                  <a:pt x="10" y="1604"/>
                </a:lnTo>
                <a:lnTo>
                  <a:pt x="11" y="1605"/>
                </a:lnTo>
                <a:lnTo>
                  <a:pt x="14" y="1607"/>
                </a:lnTo>
                <a:lnTo>
                  <a:pt x="16" y="1610"/>
                </a:lnTo>
                <a:lnTo>
                  <a:pt x="17" y="1611"/>
                </a:lnTo>
                <a:lnTo>
                  <a:pt x="17" y="1612"/>
                </a:lnTo>
                <a:lnTo>
                  <a:pt x="17" y="1667"/>
                </a:lnTo>
                <a:lnTo>
                  <a:pt x="17" y="1669"/>
                </a:lnTo>
                <a:lnTo>
                  <a:pt x="16" y="1670"/>
                </a:lnTo>
                <a:lnTo>
                  <a:pt x="14" y="1673"/>
                </a:lnTo>
                <a:lnTo>
                  <a:pt x="11" y="1674"/>
                </a:lnTo>
                <a:lnTo>
                  <a:pt x="10" y="1676"/>
                </a:lnTo>
                <a:lnTo>
                  <a:pt x="8" y="1676"/>
                </a:lnTo>
                <a:lnTo>
                  <a:pt x="5" y="1676"/>
                </a:lnTo>
                <a:lnTo>
                  <a:pt x="4" y="1674"/>
                </a:lnTo>
                <a:lnTo>
                  <a:pt x="1" y="1673"/>
                </a:lnTo>
                <a:lnTo>
                  <a:pt x="0" y="1670"/>
                </a:lnTo>
                <a:lnTo>
                  <a:pt x="0" y="1669"/>
                </a:lnTo>
                <a:lnTo>
                  <a:pt x="0" y="1667"/>
                </a:lnTo>
                <a:lnTo>
                  <a:pt x="0" y="1667"/>
                </a:lnTo>
                <a:close/>
                <a:moveTo>
                  <a:pt x="0" y="1540"/>
                </a:moveTo>
                <a:lnTo>
                  <a:pt x="0" y="1487"/>
                </a:lnTo>
                <a:lnTo>
                  <a:pt x="0" y="1484"/>
                </a:lnTo>
                <a:lnTo>
                  <a:pt x="0" y="1483"/>
                </a:lnTo>
                <a:lnTo>
                  <a:pt x="1" y="1480"/>
                </a:lnTo>
                <a:lnTo>
                  <a:pt x="4" y="1479"/>
                </a:lnTo>
                <a:lnTo>
                  <a:pt x="5" y="1479"/>
                </a:lnTo>
                <a:lnTo>
                  <a:pt x="8" y="1479"/>
                </a:lnTo>
                <a:lnTo>
                  <a:pt x="10" y="1479"/>
                </a:lnTo>
                <a:lnTo>
                  <a:pt x="11" y="1479"/>
                </a:lnTo>
                <a:lnTo>
                  <a:pt x="14" y="1480"/>
                </a:lnTo>
                <a:lnTo>
                  <a:pt x="16" y="1483"/>
                </a:lnTo>
                <a:lnTo>
                  <a:pt x="17" y="1484"/>
                </a:lnTo>
                <a:lnTo>
                  <a:pt x="17" y="1487"/>
                </a:lnTo>
                <a:lnTo>
                  <a:pt x="17" y="1540"/>
                </a:lnTo>
                <a:lnTo>
                  <a:pt x="17" y="1542"/>
                </a:lnTo>
                <a:lnTo>
                  <a:pt x="16" y="1545"/>
                </a:lnTo>
                <a:lnTo>
                  <a:pt x="14" y="1548"/>
                </a:lnTo>
                <a:lnTo>
                  <a:pt x="11" y="1549"/>
                </a:lnTo>
                <a:lnTo>
                  <a:pt x="10" y="1549"/>
                </a:lnTo>
                <a:lnTo>
                  <a:pt x="8" y="1551"/>
                </a:lnTo>
                <a:lnTo>
                  <a:pt x="5" y="1549"/>
                </a:lnTo>
                <a:lnTo>
                  <a:pt x="4" y="1549"/>
                </a:lnTo>
                <a:lnTo>
                  <a:pt x="1" y="1548"/>
                </a:lnTo>
                <a:lnTo>
                  <a:pt x="0" y="1545"/>
                </a:lnTo>
                <a:lnTo>
                  <a:pt x="0" y="1542"/>
                </a:lnTo>
                <a:lnTo>
                  <a:pt x="0" y="1540"/>
                </a:lnTo>
                <a:lnTo>
                  <a:pt x="0" y="1540"/>
                </a:lnTo>
                <a:close/>
                <a:moveTo>
                  <a:pt x="0" y="1415"/>
                </a:moveTo>
                <a:lnTo>
                  <a:pt x="0" y="1360"/>
                </a:lnTo>
                <a:lnTo>
                  <a:pt x="0" y="1359"/>
                </a:lnTo>
                <a:lnTo>
                  <a:pt x="0" y="1358"/>
                </a:lnTo>
                <a:lnTo>
                  <a:pt x="1" y="1355"/>
                </a:lnTo>
                <a:lnTo>
                  <a:pt x="4" y="1353"/>
                </a:lnTo>
                <a:lnTo>
                  <a:pt x="5" y="1352"/>
                </a:lnTo>
                <a:lnTo>
                  <a:pt x="8" y="1352"/>
                </a:lnTo>
                <a:lnTo>
                  <a:pt x="10" y="1352"/>
                </a:lnTo>
                <a:lnTo>
                  <a:pt x="11" y="1353"/>
                </a:lnTo>
                <a:lnTo>
                  <a:pt x="14" y="1355"/>
                </a:lnTo>
                <a:lnTo>
                  <a:pt x="16" y="1358"/>
                </a:lnTo>
                <a:lnTo>
                  <a:pt x="17" y="1359"/>
                </a:lnTo>
                <a:lnTo>
                  <a:pt x="17" y="1360"/>
                </a:lnTo>
                <a:lnTo>
                  <a:pt x="17" y="1415"/>
                </a:lnTo>
                <a:lnTo>
                  <a:pt x="17" y="1417"/>
                </a:lnTo>
                <a:lnTo>
                  <a:pt x="16" y="1418"/>
                </a:lnTo>
                <a:lnTo>
                  <a:pt x="14" y="1421"/>
                </a:lnTo>
                <a:lnTo>
                  <a:pt x="11" y="1422"/>
                </a:lnTo>
                <a:lnTo>
                  <a:pt x="10" y="1424"/>
                </a:lnTo>
                <a:lnTo>
                  <a:pt x="8" y="1424"/>
                </a:lnTo>
                <a:lnTo>
                  <a:pt x="5" y="1424"/>
                </a:lnTo>
                <a:lnTo>
                  <a:pt x="4" y="1422"/>
                </a:lnTo>
                <a:lnTo>
                  <a:pt x="1" y="1421"/>
                </a:lnTo>
                <a:lnTo>
                  <a:pt x="0" y="1418"/>
                </a:lnTo>
                <a:lnTo>
                  <a:pt x="0" y="1417"/>
                </a:lnTo>
                <a:lnTo>
                  <a:pt x="0" y="1415"/>
                </a:lnTo>
                <a:lnTo>
                  <a:pt x="0" y="1415"/>
                </a:lnTo>
                <a:close/>
                <a:moveTo>
                  <a:pt x="0" y="1288"/>
                </a:moveTo>
                <a:lnTo>
                  <a:pt x="0" y="1235"/>
                </a:lnTo>
                <a:lnTo>
                  <a:pt x="0" y="1232"/>
                </a:lnTo>
                <a:lnTo>
                  <a:pt x="0" y="1231"/>
                </a:lnTo>
                <a:lnTo>
                  <a:pt x="1" y="1228"/>
                </a:lnTo>
                <a:lnTo>
                  <a:pt x="4" y="1227"/>
                </a:lnTo>
                <a:lnTo>
                  <a:pt x="5" y="1227"/>
                </a:lnTo>
                <a:lnTo>
                  <a:pt x="8" y="1227"/>
                </a:lnTo>
                <a:lnTo>
                  <a:pt x="10" y="1227"/>
                </a:lnTo>
                <a:lnTo>
                  <a:pt x="11" y="1227"/>
                </a:lnTo>
                <a:lnTo>
                  <a:pt x="14" y="1228"/>
                </a:lnTo>
                <a:lnTo>
                  <a:pt x="16" y="1231"/>
                </a:lnTo>
                <a:lnTo>
                  <a:pt x="17" y="1232"/>
                </a:lnTo>
                <a:lnTo>
                  <a:pt x="17" y="1235"/>
                </a:lnTo>
                <a:lnTo>
                  <a:pt x="17" y="1288"/>
                </a:lnTo>
                <a:lnTo>
                  <a:pt x="17" y="1290"/>
                </a:lnTo>
                <a:lnTo>
                  <a:pt x="16" y="1293"/>
                </a:lnTo>
                <a:lnTo>
                  <a:pt x="14" y="1296"/>
                </a:lnTo>
                <a:lnTo>
                  <a:pt x="11" y="1297"/>
                </a:lnTo>
                <a:lnTo>
                  <a:pt x="10" y="1297"/>
                </a:lnTo>
                <a:lnTo>
                  <a:pt x="8" y="1299"/>
                </a:lnTo>
                <a:lnTo>
                  <a:pt x="5" y="1297"/>
                </a:lnTo>
                <a:lnTo>
                  <a:pt x="4" y="1297"/>
                </a:lnTo>
                <a:lnTo>
                  <a:pt x="1" y="1296"/>
                </a:lnTo>
                <a:lnTo>
                  <a:pt x="0" y="1293"/>
                </a:lnTo>
                <a:lnTo>
                  <a:pt x="0" y="1290"/>
                </a:lnTo>
                <a:lnTo>
                  <a:pt x="0" y="1288"/>
                </a:lnTo>
                <a:lnTo>
                  <a:pt x="0" y="1288"/>
                </a:lnTo>
                <a:close/>
                <a:moveTo>
                  <a:pt x="0" y="1163"/>
                </a:moveTo>
                <a:lnTo>
                  <a:pt x="0" y="1109"/>
                </a:lnTo>
                <a:lnTo>
                  <a:pt x="0" y="1107"/>
                </a:lnTo>
                <a:lnTo>
                  <a:pt x="0" y="1106"/>
                </a:lnTo>
                <a:lnTo>
                  <a:pt x="1" y="1103"/>
                </a:lnTo>
                <a:lnTo>
                  <a:pt x="4" y="1101"/>
                </a:lnTo>
                <a:lnTo>
                  <a:pt x="5" y="1100"/>
                </a:lnTo>
                <a:lnTo>
                  <a:pt x="8" y="1100"/>
                </a:lnTo>
                <a:lnTo>
                  <a:pt x="10" y="1100"/>
                </a:lnTo>
                <a:lnTo>
                  <a:pt x="11" y="1101"/>
                </a:lnTo>
                <a:lnTo>
                  <a:pt x="14" y="1103"/>
                </a:lnTo>
                <a:lnTo>
                  <a:pt x="16" y="1106"/>
                </a:lnTo>
                <a:lnTo>
                  <a:pt x="17" y="1107"/>
                </a:lnTo>
                <a:lnTo>
                  <a:pt x="17" y="1109"/>
                </a:lnTo>
                <a:lnTo>
                  <a:pt x="17" y="1163"/>
                </a:lnTo>
                <a:lnTo>
                  <a:pt x="17" y="1165"/>
                </a:lnTo>
                <a:lnTo>
                  <a:pt x="16" y="1166"/>
                </a:lnTo>
                <a:lnTo>
                  <a:pt x="14" y="1169"/>
                </a:lnTo>
                <a:lnTo>
                  <a:pt x="11" y="1170"/>
                </a:lnTo>
                <a:lnTo>
                  <a:pt x="10" y="1172"/>
                </a:lnTo>
                <a:lnTo>
                  <a:pt x="8" y="1172"/>
                </a:lnTo>
                <a:lnTo>
                  <a:pt x="5" y="1172"/>
                </a:lnTo>
                <a:lnTo>
                  <a:pt x="4" y="1170"/>
                </a:lnTo>
                <a:lnTo>
                  <a:pt x="1" y="1169"/>
                </a:lnTo>
                <a:lnTo>
                  <a:pt x="0" y="1166"/>
                </a:lnTo>
                <a:lnTo>
                  <a:pt x="0" y="1165"/>
                </a:lnTo>
                <a:lnTo>
                  <a:pt x="0" y="1163"/>
                </a:lnTo>
                <a:lnTo>
                  <a:pt x="0" y="1163"/>
                </a:lnTo>
                <a:close/>
                <a:moveTo>
                  <a:pt x="0" y="1037"/>
                </a:moveTo>
                <a:lnTo>
                  <a:pt x="0" y="983"/>
                </a:lnTo>
                <a:lnTo>
                  <a:pt x="0" y="980"/>
                </a:lnTo>
                <a:lnTo>
                  <a:pt x="0" y="979"/>
                </a:lnTo>
                <a:lnTo>
                  <a:pt x="1" y="976"/>
                </a:lnTo>
                <a:lnTo>
                  <a:pt x="4" y="975"/>
                </a:lnTo>
                <a:lnTo>
                  <a:pt x="5" y="975"/>
                </a:lnTo>
                <a:lnTo>
                  <a:pt x="8" y="975"/>
                </a:lnTo>
                <a:lnTo>
                  <a:pt x="10" y="975"/>
                </a:lnTo>
                <a:lnTo>
                  <a:pt x="11" y="975"/>
                </a:lnTo>
                <a:lnTo>
                  <a:pt x="14" y="976"/>
                </a:lnTo>
                <a:lnTo>
                  <a:pt x="16" y="979"/>
                </a:lnTo>
                <a:lnTo>
                  <a:pt x="17" y="980"/>
                </a:lnTo>
                <a:lnTo>
                  <a:pt x="17" y="983"/>
                </a:lnTo>
                <a:lnTo>
                  <a:pt x="17" y="1037"/>
                </a:lnTo>
                <a:lnTo>
                  <a:pt x="17" y="1038"/>
                </a:lnTo>
                <a:lnTo>
                  <a:pt x="16" y="1041"/>
                </a:lnTo>
                <a:lnTo>
                  <a:pt x="14" y="1044"/>
                </a:lnTo>
                <a:lnTo>
                  <a:pt x="11" y="1045"/>
                </a:lnTo>
                <a:lnTo>
                  <a:pt x="10" y="1045"/>
                </a:lnTo>
                <a:lnTo>
                  <a:pt x="8" y="1047"/>
                </a:lnTo>
                <a:lnTo>
                  <a:pt x="5" y="1045"/>
                </a:lnTo>
                <a:lnTo>
                  <a:pt x="4" y="1045"/>
                </a:lnTo>
                <a:lnTo>
                  <a:pt x="1" y="1044"/>
                </a:lnTo>
                <a:lnTo>
                  <a:pt x="0" y="1041"/>
                </a:lnTo>
                <a:lnTo>
                  <a:pt x="0" y="1038"/>
                </a:lnTo>
                <a:lnTo>
                  <a:pt x="0" y="1037"/>
                </a:lnTo>
                <a:lnTo>
                  <a:pt x="0" y="1037"/>
                </a:lnTo>
                <a:close/>
                <a:moveTo>
                  <a:pt x="0" y="911"/>
                </a:moveTo>
                <a:lnTo>
                  <a:pt x="0" y="857"/>
                </a:lnTo>
                <a:lnTo>
                  <a:pt x="0" y="855"/>
                </a:lnTo>
                <a:lnTo>
                  <a:pt x="0" y="854"/>
                </a:lnTo>
                <a:lnTo>
                  <a:pt x="1" y="851"/>
                </a:lnTo>
                <a:lnTo>
                  <a:pt x="4" y="849"/>
                </a:lnTo>
                <a:lnTo>
                  <a:pt x="5" y="848"/>
                </a:lnTo>
                <a:lnTo>
                  <a:pt x="8" y="848"/>
                </a:lnTo>
                <a:lnTo>
                  <a:pt x="10" y="848"/>
                </a:lnTo>
                <a:lnTo>
                  <a:pt x="11" y="849"/>
                </a:lnTo>
                <a:lnTo>
                  <a:pt x="14" y="851"/>
                </a:lnTo>
                <a:lnTo>
                  <a:pt x="16" y="854"/>
                </a:lnTo>
                <a:lnTo>
                  <a:pt x="17" y="855"/>
                </a:lnTo>
                <a:lnTo>
                  <a:pt x="17" y="857"/>
                </a:lnTo>
                <a:lnTo>
                  <a:pt x="17" y="911"/>
                </a:lnTo>
                <a:lnTo>
                  <a:pt x="17" y="913"/>
                </a:lnTo>
                <a:lnTo>
                  <a:pt x="16" y="914"/>
                </a:lnTo>
                <a:lnTo>
                  <a:pt x="14" y="917"/>
                </a:lnTo>
                <a:lnTo>
                  <a:pt x="11" y="918"/>
                </a:lnTo>
                <a:lnTo>
                  <a:pt x="10" y="920"/>
                </a:lnTo>
                <a:lnTo>
                  <a:pt x="8" y="920"/>
                </a:lnTo>
                <a:lnTo>
                  <a:pt x="5" y="920"/>
                </a:lnTo>
                <a:lnTo>
                  <a:pt x="4" y="918"/>
                </a:lnTo>
                <a:lnTo>
                  <a:pt x="1" y="917"/>
                </a:lnTo>
                <a:lnTo>
                  <a:pt x="0" y="914"/>
                </a:lnTo>
                <a:lnTo>
                  <a:pt x="0" y="913"/>
                </a:lnTo>
                <a:lnTo>
                  <a:pt x="0" y="911"/>
                </a:lnTo>
                <a:lnTo>
                  <a:pt x="0" y="911"/>
                </a:lnTo>
                <a:close/>
                <a:moveTo>
                  <a:pt x="0" y="785"/>
                </a:moveTo>
                <a:lnTo>
                  <a:pt x="0" y="731"/>
                </a:lnTo>
                <a:lnTo>
                  <a:pt x="0" y="728"/>
                </a:lnTo>
                <a:lnTo>
                  <a:pt x="0" y="727"/>
                </a:lnTo>
                <a:lnTo>
                  <a:pt x="1" y="724"/>
                </a:lnTo>
                <a:lnTo>
                  <a:pt x="4" y="723"/>
                </a:lnTo>
                <a:lnTo>
                  <a:pt x="5" y="723"/>
                </a:lnTo>
                <a:lnTo>
                  <a:pt x="8" y="723"/>
                </a:lnTo>
                <a:lnTo>
                  <a:pt x="10" y="723"/>
                </a:lnTo>
                <a:lnTo>
                  <a:pt x="11" y="723"/>
                </a:lnTo>
                <a:lnTo>
                  <a:pt x="14" y="724"/>
                </a:lnTo>
                <a:lnTo>
                  <a:pt x="16" y="727"/>
                </a:lnTo>
                <a:lnTo>
                  <a:pt x="17" y="728"/>
                </a:lnTo>
                <a:lnTo>
                  <a:pt x="17" y="731"/>
                </a:lnTo>
                <a:lnTo>
                  <a:pt x="17" y="785"/>
                </a:lnTo>
                <a:lnTo>
                  <a:pt x="17" y="786"/>
                </a:lnTo>
                <a:lnTo>
                  <a:pt x="16" y="789"/>
                </a:lnTo>
                <a:lnTo>
                  <a:pt x="14" y="792"/>
                </a:lnTo>
                <a:lnTo>
                  <a:pt x="11" y="793"/>
                </a:lnTo>
                <a:lnTo>
                  <a:pt x="10" y="793"/>
                </a:lnTo>
                <a:lnTo>
                  <a:pt x="8" y="795"/>
                </a:lnTo>
                <a:lnTo>
                  <a:pt x="5" y="793"/>
                </a:lnTo>
                <a:lnTo>
                  <a:pt x="4" y="793"/>
                </a:lnTo>
                <a:lnTo>
                  <a:pt x="1" y="792"/>
                </a:lnTo>
                <a:lnTo>
                  <a:pt x="0" y="789"/>
                </a:lnTo>
                <a:lnTo>
                  <a:pt x="0" y="786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659"/>
                </a:moveTo>
                <a:lnTo>
                  <a:pt x="0" y="605"/>
                </a:lnTo>
                <a:lnTo>
                  <a:pt x="0" y="603"/>
                </a:lnTo>
                <a:lnTo>
                  <a:pt x="0" y="602"/>
                </a:lnTo>
                <a:lnTo>
                  <a:pt x="1" y="599"/>
                </a:lnTo>
                <a:lnTo>
                  <a:pt x="4" y="597"/>
                </a:lnTo>
                <a:lnTo>
                  <a:pt x="5" y="596"/>
                </a:lnTo>
                <a:lnTo>
                  <a:pt x="8" y="596"/>
                </a:lnTo>
                <a:lnTo>
                  <a:pt x="10" y="596"/>
                </a:lnTo>
                <a:lnTo>
                  <a:pt x="11" y="597"/>
                </a:lnTo>
                <a:lnTo>
                  <a:pt x="14" y="599"/>
                </a:lnTo>
                <a:lnTo>
                  <a:pt x="16" y="602"/>
                </a:lnTo>
                <a:lnTo>
                  <a:pt x="17" y="603"/>
                </a:lnTo>
                <a:lnTo>
                  <a:pt x="17" y="605"/>
                </a:lnTo>
                <a:lnTo>
                  <a:pt x="17" y="659"/>
                </a:lnTo>
                <a:lnTo>
                  <a:pt x="17" y="661"/>
                </a:lnTo>
                <a:lnTo>
                  <a:pt x="16" y="662"/>
                </a:lnTo>
                <a:lnTo>
                  <a:pt x="14" y="665"/>
                </a:lnTo>
                <a:lnTo>
                  <a:pt x="11" y="667"/>
                </a:lnTo>
                <a:lnTo>
                  <a:pt x="10" y="668"/>
                </a:lnTo>
                <a:lnTo>
                  <a:pt x="8" y="668"/>
                </a:lnTo>
                <a:lnTo>
                  <a:pt x="5" y="668"/>
                </a:lnTo>
                <a:lnTo>
                  <a:pt x="4" y="667"/>
                </a:lnTo>
                <a:lnTo>
                  <a:pt x="1" y="665"/>
                </a:lnTo>
                <a:lnTo>
                  <a:pt x="0" y="662"/>
                </a:lnTo>
                <a:lnTo>
                  <a:pt x="0" y="661"/>
                </a:lnTo>
                <a:lnTo>
                  <a:pt x="0" y="659"/>
                </a:lnTo>
                <a:lnTo>
                  <a:pt x="0" y="659"/>
                </a:lnTo>
                <a:close/>
                <a:moveTo>
                  <a:pt x="0" y="533"/>
                </a:moveTo>
                <a:lnTo>
                  <a:pt x="0" y="479"/>
                </a:lnTo>
                <a:lnTo>
                  <a:pt x="0" y="476"/>
                </a:lnTo>
                <a:lnTo>
                  <a:pt x="0" y="475"/>
                </a:lnTo>
                <a:lnTo>
                  <a:pt x="1" y="472"/>
                </a:lnTo>
                <a:lnTo>
                  <a:pt x="4" y="471"/>
                </a:lnTo>
                <a:lnTo>
                  <a:pt x="5" y="471"/>
                </a:lnTo>
                <a:lnTo>
                  <a:pt x="8" y="471"/>
                </a:lnTo>
                <a:lnTo>
                  <a:pt x="10" y="471"/>
                </a:lnTo>
                <a:lnTo>
                  <a:pt x="11" y="471"/>
                </a:lnTo>
                <a:lnTo>
                  <a:pt x="14" y="472"/>
                </a:lnTo>
                <a:lnTo>
                  <a:pt x="16" y="475"/>
                </a:lnTo>
                <a:lnTo>
                  <a:pt x="17" y="476"/>
                </a:lnTo>
                <a:lnTo>
                  <a:pt x="17" y="479"/>
                </a:lnTo>
                <a:lnTo>
                  <a:pt x="17" y="533"/>
                </a:lnTo>
                <a:lnTo>
                  <a:pt x="17" y="534"/>
                </a:lnTo>
                <a:lnTo>
                  <a:pt x="16" y="537"/>
                </a:lnTo>
                <a:lnTo>
                  <a:pt x="14" y="540"/>
                </a:lnTo>
                <a:lnTo>
                  <a:pt x="11" y="541"/>
                </a:lnTo>
                <a:lnTo>
                  <a:pt x="10" y="541"/>
                </a:lnTo>
                <a:lnTo>
                  <a:pt x="8" y="543"/>
                </a:lnTo>
                <a:lnTo>
                  <a:pt x="5" y="541"/>
                </a:lnTo>
                <a:lnTo>
                  <a:pt x="4" y="541"/>
                </a:lnTo>
                <a:lnTo>
                  <a:pt x="1" y="540"/>
                </a:lnTo>
                <a:lnTo>
                  <a:pt x="0" y="537"/>
                </a:lnTo>
                <a:lnTo>
                  <a:pt x="0" y="534"/>
                </a:lnTo>
                <a:lnTo>
                  <a:pt x="0" y="533"/>
                </a:lnTo>
                <a:lnTo>
                  <a:pt x="0" y="533"/>
                </a:lnTo>
                <a:close/>
                <a:moveTo>
                  <a:pt x="0" y="407"/>
                </a:moveTo>
                <a:lnTo>
                  <a:pt x="0" y="353"/>
                </a:lnTo>
                <a:lnTo>
                  <a:pt x="0" y="351"/>
                </a:lnTo>
                <a:lnTo>
                  <a:pt x="0" y="350"/>
                </a:lnTo>
                <a:lnTo>
                  <a:pt x="1" y="347"/>
                </a:lnTo>
                <a:lnTo>
                  <a:pt x="4" y="345"/>
                </a:lnTo>
                <a:lnTo>
                  <a:pt x="5" y="344"/>
                </a:lnTo>
                <a:lnTo>
                  <a:pt x="8" y="344"/>
                </a:lnTo>
                <a:lnTo>
                  <a:pt x="10" y="344"/>
                </a:lnTo>
                <a:lnTo>
                  <a:pt x="11" y="345"/>
                </a:lnTo>
                <a:lnTo>
                  <a:pt x="14" y="347"/>
                </a:lnTo>
                <a:lnTo>
                  <a:pt x="16" y="350"/>
                </a:lnTo>
                <a:lnTo>
                  <a:pt x="17" y="351"/>
                </a:lnTo>
                <a:lnTo>
                  <a:pt x="17" y="353"/>
                </a:lnTo>
                <a:lnTo>
                  <a:pt x="17" y="407"/>
                </a:lnTo>
                <a:lnTo>
                  <a:pt x="17" y="409"/>
                </a:lnTo>
                <a:lnTo>
                  <a:pt x="16" y="410"/>
                </a:lnTo>
                <a:lnTo>
                  <a:pt x="14" y="413"/>
                </a:lnTo>
                <a:lnTo>
                  <a:pt x="11" y="415"/>
                </a:lnTo>
                <a:lnTo>
                  <a:pt x="10" y="416"/>
                </a:lnTo>
                <a:lnTo>
                  <a:pt x="8" y="416"/>
                </a:lnTo>
                <a:lnTo>
                  <a:pt x="5" y="416"/>
                </a:lnTo>
                <a:lnTo>
                  <a:pt x="4" y="415"/>
                </a:lnTo>
                <a:lnTo>
                  <a:pt x="1" y="413"/>
                </a:lnTo>
                <a:lnTo>
                  <a:pt x="0" y="410"/>
                </a:lnTo>
                <a:lnTo>
                  <a:pt x="0" y="409"/>
                </a:lnTo>
                <a:lnTo>
                  <a:pt x="0" y="407"/>
                </a:lnTo>
                <a:lnTo>
                  <a:pt x="0" y="407"/>
                </a:lnTo>
                <a:close/>
                <a:moveTo>
                  <a:pt x="0" y="281"/>
                </a:moveTo>
                <a:lnTo>
                  <a:pt x="0" y="227"/>
                </a:lnTo>
                <a:lnTo>
                  <a:pt x="0" y="225"/>
                </a:lnTo>
                <a:lnTo>
                  <a:pt x="0" y="223"/>
                </a:lnTo>
                <a:lnTo>
                  <a:pt x="1" y="220"/>
                </a:lnTo>
                <a:lnTo>
                  <a:pt x="4" y="219"/>
                </a:lnTo>
                <a:lnTo>
                  <a:pt x="5" y="219"/>
                </a:lnTo>
                <a:lnTo>
                  <a:pt x="8" y="219"/>
                </a:lnTo>
                <a:lnTo>
                  <a:pt x="10" y="219"/>
                </a:lnTo>
                <a:lnTo>
                  <a:pt x="11" y="219"/>
                </a:lnTo>
                <a:lnTo>
                  <a:pt x="14" y="220"/>
                </a:lnTo>
                <a:lnTo>
                  <a:pt x="16" y="223"/>
                </a:lnTo>
                <a:lnTo>
                  <a:pt x="17" y="225"/>
                </a:lnTo>
                <a:lnTo>
                  <a:pt x="17" y="227"/>
                </a:lnTo>
                <a:lnTo>
                  <a:pt x="17" y="281"/>
                </a:lnTo>
                <a:lnTo>
                  <a:pt x="17" y="282"/>
                </a:lnTo>
                <a:lnTo>
                  <a:pt x="16" y="285"/>
                </a:lnTo>
                <a:lnTo>
                  <a:pt x="14" y="288"/>
                </a:lnTo>
                <a:lnTo>
                  <a:pt x="11" y="289"/>
                </a:lnTo>
                <a:lnTo>
                  <a:pt x="10" y="289"/>
                </a:lnTo>
                <a:lnTo>
                  <a:pt x="8" y="291"/>
                </a:lnTo>
                <a:lnTo>
                  <a:pt x="5" y="289"/>
                </a:lnTo>
                <a:lnTo>
                  <a:pt x="4" y="289"/>
                </a:lnTo>
                <a:lnTo>
                  <a:pt x="1" y="288"/>
                </a:lnTo>
                <a:lnTo>
                  <a:pt x="0" y="285"/>
                </a:lnTo>
                <a:lnTo>
                  <a:pt x="0" y="282"/>
                </a:lnTo>
                <a:lnTo>
                  <a:pt x="0" y="281"/>
                </a:lnTo>
                <a:lnTo>
                  <a:pt x="0" y="281"/>
                </a:lnTo>
                <a:close/>
                <a:moveTo>
                  <a:pt x="0" y="155"/>
                </a:moveTo>
                <a:lnTo>
                  <a:pt x="0" y="101"/>
                </a:lnTo>
                <a:lnTo>
                  <a:pt x="0" y="99"/>
                </a:lnTo>
                <a:lnTo>
                  <a:pt x="0" y="98"/>
                </a:lnTo>
                <a:lnTo>
                  <a:pt x="1" y="95"/>
                </a:lnTo>
                <a:lnTo>
                  <a:pt x="4" y="94"/>
                </a:lnTo>
                <a:lnTo>
                  <a:pt x="5" y="92"/>
                </a:lnTo>
                <a:lnTo>
                  <a:pt x="8" y="92"/>
                </a:lnTo>
                <a:lnTo>
                  <a:pt x="10" y="92"/>
                </a:lnTo>
                <a:lnTo>
                  <a:pt x="11" y="94"/>
                </a:lnTo>
                <a:lnTo>
                  <a:pt x="14" y="95"/>
                </a:lnTo>
                <a:lnTo>
                  <a:pt x="16" y="98"/>
                </a:lnTo>
                <a:lnTo>
                  <a:pt x="17" y="99"/>
                </a:lnTo>
                <a:lnTo>
                  <a:pt x="17" y="101"/>
                </a:lnTo>
                <a:lnTo>
                  <a:pt x="17" y="155"/>
                </a:lnTo>
                <a:lnTo>
                  <a:pt x="17" y="157"/>
                </a:lnTo>
                <a:lnTo>
                  <a:pt x="16" y="158"/>
                </a:lnTo>
                <a:lnTo>
                  <a:pt x="14" y="161"/>
                </a:lnTo>
                <a:lnTo>
                  <a:pt x="11" y="163"/>
                </a:lnTo>
                <a:lnTo>
                  <a:pt x="10" y="164"/>
                </a:lnTo>
                <a:lnTo>
                  <a:pt x="8" y="164"/>
                </a:lnTo>
                <a:lnTo>
                  <a:pt x="5" y="164"/>
                </a:lnTo>
                <a:lnTo>
                  <a:pt x="4" y="163"/>
                </a:lnTo>
                <a:lnTo>
                  <a:pt x="1" y="161"/>
                </a:lnTo>
                <a:lnTo>
                  <a:pt x="0" y="158"/>
                </a:lnTo>
                <a:lnTo>
                  <a:pt x="0" y="157"/>
                </a:lnTo>
                <a:lnTo>
                  <a:pt x="0" y="155"/>
                </a:lnTo>
                <a:lnTo>
                  <a:pt x="0" y="155"/>
                </a:lnTo>
                <a:close/>
                <a:moveTo>
                  <a:pt x="0" y="29"/>
                </a:moveTo>
                <a:lnTo>
                  <a:pt x="0" y="9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4" y="1"/>
                </a:lnTo>
                <a:lnTo>
                  <a:pt x="16" y="4"/>
                </a:lnTo>
                <a:lnTo>
                  <a:pt x="17" y="6"/>
                </a:lnTo>
                <a:lnTo>
                  <a:pt x="17" y="9"/>
                </a:lnTo>
                <a:lnTo>
                  <a:pt x="17" y="29"/>
                </a:lnTo>
                <a:lnTo>
                  <a:pt x="17" y="30"/>
                </a:lnTo>
                <a:lnTo>
                  <a:pt x="16" y="33"/>
                </a:lnTo>
                <a:lnTo>
                  <a:pt x="14" y="36"/>
                </a:lnTo>
                <a:lnTo>
                  <a:pt x="11" y="37"/>
                </a:lnTo>
                <a:lnTo>
                  <a:pt x="10" y="37"/>
                </a:lnTo>
                <a:lnTo>
                  <a:pt x="8" y="39"/>
                </a:lnTo>
                <a:lnTo>
                  <a:pt x="5" y="37"/>
                </a:lnTo>
                <a:lnTo>
                  <a:pt x="4" y="37"/>
                </a:lnTo>
                <a:lnTo>
                  <a:pt x="1" y="36"/>
                </a:lnTo>
                <a:lnTo>
                  <a:pt x="0" y="33"/>
                </a:lnTo>
                <a:lnTo>
                  <a:pt x="0" y="30"/>
                </a:lnTo>
                <a:lnTo>
                  <a:pt x="0" y="29"/>
                </a:lnTo>
                <a:lnTo>
                  <a:pt x="0" y="29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05440" y="1735200"/>
            <a:ext cx="8280" cy="3951360"/>
          </a:xfrm>
          <a:custGeom>
            <a:avLst/>
            <a:gdLst/>
            <a:ahLst/>
            <a:rect l="l" t="t" r="r" b="b"/>
            <a:pathLst>
              <a:path w="17" h="7467">
                <a:moveTo>
                  <a:pt x="0" y="7458"/>
                </a:moveTo>
                <a:lnTo>
                  <a:pt x="0" y="7403"/>
                </a:lnTo>
                <a:lnTo>
                  <a:pt x="0" y="7402"/>
                </a:lnTo>
                <a:lnTo>
                  <a:pt x="0" y="7401"/>
                </a:lnTo>
                <a:lnTo>
                  <a:pt x="2" y="7398"/>
                </a:lnTo>
                <a:lnTo>
                  <a:pt x="4" y="7396"/>
                </a:lnTo>
                <a:lnTo>
                  <a:pt x="6" y="7395"/>
                </a:lnTo>
                <a:lnTo>
                  <a:pt x="9" y="7395"/>
                </a:lnTo>
                <a:lnTo>
                  <a:pt x="10" y="7395"/>
                </a:lnTo>
                <a:lnTo>
                  <a:pt x="12" y="7396"/>
                </a:lnTo>
                <a:lnTo>
                  <a:pt x="14" y="7398"/>
                </a:lnTo>
                <a:lnTo>
                  <a:pt x="16" y="7401"/>
                </a:lnTo>
                <a:lnTo>
                  <a:pt x="17" y="7402"/>
                </a:lnTo>
                <a:lnTo>
                  <a:pt x="17" y="7403"/>
                </a:lnTo>
                <a:lnTo>
                  <a:pt x="17" y="7458"/>
                </a:lnTo>
                <a:lnTo>
                  <a:pt x="17" y="7460"/>
                </a:lnTo>
                <a:lnTo>
                  <a:pt x="16" y="7461"/>
                </a:lnTo>
                <a:lnTo>
                  <a:pt x="14" y="7464"/>
                </a:lnTo>
                <a:lnTo>
                  <a:pt x="12" y="7465"/>
                </a:lnTo>
                <a:lnTo>
                  <a:pt x="10" y="7467"/>
                </a:lnTo>
                <a:lnTo>
                  <a:pt x="9" y="7467"/>
                </a:lnTo>
                <a:lnTo>
                  <a:pt x="6" y="7467"/>
                </a:lnTo>
                <a:lnTo>
                  <a:pt x="4" y="7465"/>
                </a:lnTo>
                <a:lnTo>
                  <a:pt x="2" y="7464"/>
                </a:lnTo>
                <a:lnTo>
                  <a:pt x="0" y="7461"/>
                </a:lnTo>
                <a:lnTo>
                  <a:pt x="0" y="7460"/>
                </a:lnTo>
                <a:lnTo>
                  <a:pt x="0" y="7458"/>
                </a:lnTo>
                <a:lnTo>
                  <a:pt x="0" y="7458"/>
                </a:lnTo>
                <a:close/>
                <a:moveTo>
                  <a:pt x="0" y="7331"/>
                </a:moveTo>
                <a:lnTo>
                  <a:pt x="0" y="7278"/>
                </a:lnTo>
                <a:lnTo>
                  <a:pt x="0" y="7275"/>
                </a:lnTo>
                <a:lnTo>
                  <a:pt x="0" y="7274"/>
                </a:lnTo>
                <a:lnTo>
                  <a:pt x="2" y="7271"/>
                </a:lnTo>
                <a:lnTo>
                  <a:pt x="4" y="7270"/>
                </a:lnTo>
                <a:lnTo>
                  <a:pt x="6" y="7270"/>
                </a:lnTo>
                <a:lnTo>
                  <a:pt x="9" y="7270"/>
                </a:lnTo>
                <a:lnTo>
                  <a:pt x="10" y="7270"/>
                </a:lnTo>
                <a:lnTo>
                  <a:pt x="12" y="7270"/>
                </a:lnTo>
                <a:lnTo>
                  <a:pt x="14" y="7271"/>
                </a:lnTo>
                <a:lnTo>
                  <a:pt x="16" y="7274"/>
                </a:lnTo>
                <a:lnTo>
                  <a:pt x="17" y="7275"/>
                </a:lnTo>
                <a:lnTo>
                  <a:pt x="17" y="7278"/>
                </a:lnTo>
                <a:lnTo>
                  <a:pt x="17" y="7331"/>
                </a:lnTo>
                <a:lnTo>
                  <a:pt x="17" y="7333"/>
                </a:lnTo>
                <a:lnTo>
                  <a:pt x="16" y="7336"/>
                </a:lnTo>
                <a:lnTo>
                  <a:pt x="14" y="7339"/>
                </a:lnTo>
                <a:lnTo>
                  <a:pt x="12" y="7340"/>
                </a:lnTo>
                <a:lnTo>
                  <a:pt x="10" y="7340"/>
                </a:lnTo>
                <a:lnTo>
                  <a:pt x="9" y="7342"/>
                </a:lnTo>
                <a:lnTo>
                  <a:pt x="6" y="7340"/>
                </a:lnTo>
                <a:lnTo>
                  <a:pt x="4" y="7340"/>
                </a:lnTo>
                <a:lnTo>
                  <a:pt x="2" y="7339"/>
                </a:lnTo>
                <a:lnTo>
                  <a:pt x="0" y="7336"/>
                </a:lnTo>
                <a:lnTo>
                  <a:pt x="0" y="7333"/>
                </a:lnTo>
                <a:lnTo>
                  <a:pt x="0" y="7331"/>
                </a:lnTo>
                <a:lnTo>
                  <a:pt x="0" y="7331"/>
                </a:lnTo>
                <a:close/>
                <a:moveTo>
                  <a:pt x="0" y="7206"/>
                </a:moveTo>
                <a:lnTo>
                  <a:pt x="0" y="7152"/>
                </a:lnTo>
                <a:lnTo>
                  <a:pt x="0" y="7150"/>
                </a:lnTo>
                <a:lnTo>
                  <a:pt x="0" y="7149"/>
                </a:lnTo>
                <a:lnTo>
                  <a:pt x="2" y="7146"/>
                </a:lnTo>
                <a:lnTo>
                  <a:pt x="4" y="7144"/>
                </a:lnTo>
                <a:lnTo>
                  <a:pt x="6" y="7143"/>
                </a:lnTo>
                <a:lnTo>
                  <a:pt x="9" y="7143"/>
                </a:lnTo>
                <a:lnTo>
                  <a:pt x="10" y="7143"/>
                </a:lnTo>
                <a:lnTo>
                  <a:pt x="12" y="7144"/>
                </a:lnTo>
                <a:lnTo>
                  <a:pt x="14" y="7146"/>
                </a:lnTo>
                <a:lnTo>
                  <a:pt x="16" y="7149"/>
                </a:lnTo>
                <a:lnTo>
                  <a:pt x="17" y="7150"/>
                </a:lnTo>
                <a:lnTo>
                  <a:pt x="17" y="7152"/>
                </a:lnTo>
                <a:lnTo>
                  <a:pt x="17" y="7206"/>
                </a:lnTo>
                <a:lnTo>
                  <a:pt x="17" y="7208"/>
                </a:lnTo>
                <a:lnTo>
                  <a:pt x="16" y="7209"/>
                </a:lnTo>
                <a:lnTo>
                  <a:pt x="14" y="7212"/>
                </a:lnTo>
                <a:lnTo>
                  <a:pt x="12" y="7213"/>
                </a:lnTo>
                <a:lnTo>
                  <a:pt x="10" y="7215"/>
                </a:lnTo>
                <a:lnTo>
                  <a:pt x="9" y="7215"/>
                </a:lnTo>
                <a:lnTo>
                  <a:pt x="6" y="7215"/>
                </a:lnTo>
                <a:lnTo>
                  <a:pt x="4" y="7213"/>
                </a:lnTo>
                <a:lnTo>
                  <a:pt x="2" y="7212"/>
                </a:lnTo>
                <a:lnTo>
                  <a:pt x="0" y="7209"/>
                </a:lnTo>
                <a:lnTo>
                  <a:pt x="0" y="7208"/>
                </a:lnTo>
                <a:lnTo>
                  <a:pt x="0" y="7206"/>
                </a:lnTo>
                <a:lnTo>
                  <a:pt x="0" y="7206"/>
                </a:lnTo>
                <a:close/>
                <a:moveTo>
                  <a:pt x="0" y="7080"/>
                </a:moveTo>
                <a:lnTo>
                  <a:pt x="0" y="7026"/>
                </a:lnTo>
                <a:lnTo>
                  <a:pt x="0" y="7023"/>
                </a:lnTo>
                <a:lnTo>
                  <a:pt x="0" y="7022"/>
                </a:lnTo>
                <a:lnTo>
                  <a:pt x="2" y="7019"/>
                </a:lnTo>
                <a:lnTo>
                  <a:pt x="4" y="7018"/>
                </a:lnTo>
                <a:lnTo>
                  <a:pt x="6" y="7018"/>
                </a:lnTo>
                <a:lnTo>
                  <a:pt x="9" y="7018"/>
                </a:lnTo>
                <a:lnTo>
                  <a:pt x="10" y="7018"/>
                </a:lnTo>
                <a:lnTo>
                  <a:pt x="12" y="7018"/>
                </a:lnTo>
                <a:lnTo>
                  <a:pt x="14" y="7019"/>
                </a:lnTo>
                <a:lnTo>
                  <a:pt x="16" y="7022"/>
                </a:lnTo>
                <a:lnTo>
                  <a:pt x="17" y="7023"/>
                </a:lnTo>
                <a:lnTo>
                  <a:pt x="17" y="7026"/>
                </a:lnTo>
                <a:lnTo>
                  <a:pt x="17" y="7080"/>
                </a:lnTo>
                <a:lnTo>
                  <a:pt x="17" y="7081"/>
                </a:lnTo>
                <a:lnTo>
                  <a:pt x="16" y="7084"/>
                </a:lnTo>
                <a:lnTo>
                  <a:pt x="14" y="7087"/>
                </a:lnTo>
                <a:lnTo>
                  <a:pt x="12" y="7088"/>
                </a:lnTo>
                <a:lnTo>
                  <a:pt x="10" y="7088"/>
                </a:lnTo>
                <a:lnTo>
                  <a:pt x="9" y="7090"/>
                </a:lnTo>
                <a:lnTo>
                  <a:pt x="6" y="7088"/>
                </a:lnTo>
                <a:lnTo>
                  <a:pt x="4" y="7088"/>
                </a:lnTo>
                <a:lnTo>
                  <a:pt x="2" y="7087"/>
                </a:lnTo>
                <a:lnTo>
                  <a:pt x="0" y="7084"/>
                </a:lnTo>
                <a:lnTo>
                  <a:pt x="0" y="7081"/>
                </a:lnTo>
                <a:lnTo>
                  <a:pt x="0" y="7080"/>
                </a:lnTo>
                <a:lnTo>
                  <a:pt x="0" y="7080"/>
                </a:lnTo>
                <a:close/>
                <a:moveTo>
                  <a:pt x="0" y="6954"/>
                </a:moveTo>
                <a:lnTo>
                  <a:pt x="0" y="6900"/>
                </a:lnTo>
                <a:lnTo>
                  <a:pt x="0" y="6898"/>
                </a:lnTo>
                <a:lnTo>
                  <a:pt x="0" y="6897"/>
                </a:lnTo>
                <a:lnTo>
                  <a:pt x="2" y="6894"/>
                </a:lnTo>
                <a:lnTo>
                  <a:pt x="4" y="6892"/>
                </a:lnTo>
                <a:lnTo>
                  <a:pt x="6" y="6891"/>
                </a:lnTo>
                <a:lnTo>
                  <a:pt x="9" y="6891"/>
                </a:lnTo>
                <a:lnTo>
                  <a:pt x="10" y="6891"/>
                </a:lnTo>
                <a:lnTo>
                  <a:pt x="12" y="6892"/>
                </a:lnTo>
                <a:lnTo>
                  <a:pt x="14" y="6894"/>
                </a:lnTo>
                <a:lnTo>
                  <a:pt x="16" y="6897"/>
                </a:lnTo>
                <a:lnTo>
                  <a:pt x="17" y="6898"/>
                </a:lnTo>
                <a:lnTo>
                  <a:pt x="17" y="6900"/>
                </a:lnTo>
                <a:lnTo>
                  <a:pt x="17" y="6954"/>
                </a:lnTo>
                <a:lnTo>
                  <a:pt x="17" y="6956"/>
                </a:lnTo>
                <a:lnTo>
                  <a:pt x="16" y="6957"/>
                </a:lnTo>
                <a:lnTo>
                  <a:pt x="14" y="6960"/>
                </a:lnTo>
                <a:lnTo>
                  <a:pt x="12" y="6961"/>
                </a:lnTo>
                <a:lnTo>
                  <a:pt x="10" y="6963"/>
                </a:lnTo>
                <a:lnTo>
                  <a:pt x="9" y="6963"/>
                </a:lnTo>
                <a:lnTo>
                  <a:pt x="6" y="6963"/>
                </a:lnTo>
                <a:lnTo>
                  <a:pt x="4" y="6961"/>
                </a:lnTo>
                <a:lnTo>
                  <a:pt x="2" y="6960"/>
                </a:lnTo>
                <a:lnTo>
                  <a:pt x="0" y="6957"/>
                </a:lnTo>
                <a:lnTo>
                  <a:pt x="0" y="6956"/>
                </a:lnTo>
                <a:lnTo>
                  <a:pt x="0" y="6954"/>
                </a:lnTo>
                <a:lnTo>
                  <a:pt x="0" y="6954"/>
                </a:lnTo>
                <a:close/>
                <a:moveTo>
                  <a:pt x="0" y="6828"/>
                </a:moveTo>
                <a:lnTo>
                  <a:pt x="0" y="6774"/>
                </a:lnTo>
                <a:lnTo>
                  <a:pt x="0" y="6771"/>
                </a:lnTo>
                <a:lnTo>
                  <a:pt x="0" y="6770"/>
                </a:lnTo>
                <a:lnTo>
                  <a:pt x="2" y="6767"/>
                </a:lnTo>
                <a:lnTo>
                  <a:pt x="4" y="6766"/>
                </a:lnTo>
                <a:lnTo>
                  <a:pt x="6" y="6766"/>
                </a:lnTo>
                <a:lnTo>
                  <a:pt x="9" y="6766"/>
                </a:lnTo>
                <a:lnTo>
                  <a:pt x="10" y="6766"/>
                </a:lnTo>
                <a:lnTo>
                  <a:pt x="12" y="6766"/>
                </a:lnTo>
                <a:lnTo>
                  <a:pt x="14" y="6767"/>
                </a:lnTo>
                <a:lnTo>
                  <a:pt x="16" y="6770"/>
                </a:lnTo>
                <a:lnTo>
                  <a:pt x="17" y="6771"/>
                </a:lnTo>
                <a:lnTo>
                  <a:pt x="17" y="6774"/>
                </a:lnTo>
                <a:lnTo>
                  <a:pt x="17" y="6828"/>
                </a:lnTo>
                <a:lnTo>
                  <a:pt x="17" y="6829"/>
                </a:lnTo>
                <a:lnTo>
                  <a:pt x="16" y="6832"/>
                </a:lnTo>
                <a:lnTo>
                  <a:pt x="14" y="6835"/>
                </a:lnTo>
                <a:lnTo>
                  <a:pt x="12" y="6836"/>
                </a:lnTo>
                <a:lnTo>
                  <a:pt x="10" y="6836"/>
                </a:lnTo>
                <a:lnTo>
                  <a:pt x="9" y="6838"/>
                </a:lnTo>
                <a:lnTo>
                  <a:pt x="6" y="6836"/>
                </a:lnTo>
                <a:lnTo>
                  <a:pt x="4" y="6836"/>
                </a:lnTo>
                <a:lnTo>
                  <a:pt x="2" y="6835"/>
                </a:lnTo>
                <a:lnTo>
                  <a:pt x="0" y="6832"/>
                </a:lnTo>
                <a:lnTo>
                  <a:pt x="0" y="6829"/>
                </a:lnTo>
                <a:lnTo>
                  <a:pt x="0" y="6828"/>
                </a:lnTo>
                <a:lnTo>
                  <a:pt x="0" y="6828"/>
                </a:lnTo>
                <a:close/>
                <a:moveTo>
                  <a:pt x="0" y="6702"/>
                </a:moveTo>
                <a:lnTo>
                  <a:pt x="0" y="6648"/>
                </a:lnTo>
                <a:lnTo>
                  <a:pt x="0" y="6646"/>
                </a:lnTo>
                <a:lnTo>
                  <a:pt x="0" y="6645"/>
                </a:lnTo>
                <a:lnTo>
                  <a:pt x="2" y="6642"/>
                </a:lnTo>
                <a:lnTo>
                  <a:pt x="4" y="6640"/>
                </a:lnTo>
                <a:lnTo>
                  <a:pt x="6" y="6639"/>
                </a:lnTo>
                <a:lnTo>
                  <a:pt x="9" y="6639"/>
                </a:lnTo>
                <a:lnTo>
                  <a:pt x="10" y="6639"/>
                </a:lnTo>
                <a:lnTo>
                  <a:pt x="12" y="6640"/>
                </a:lnTo>
                <a:lnTo>
                  <a:pt x="14" y="6642"/>
                </a:lnTo>
                <a:lnTo>
                  <a:pt x="16" y="6645"/>
                </a:lnTo>
                <a:lnTo>
                  <a:pt x="17" y="6646"/>
                </a:lnTo>
                <a:lnTo>
                  <a:pt x="17" y="6648"/>
                </a:lnTo>
                <a:lnTo>
                  <a:pt x="17" y="6702"/>
                </a:lnTo>
                <a:lnTo>
                  <a:pt x="17" y="6704"/>
                </a:lnTo>
                <a:lnTo>
                  <a:pt x="16" y="6705"/>
                </a:lnTo>
                <a:lnTo>
                  <a:pt x="14" y="6708"/>
                </a:lnTo>
                <a:lnTo>
                  <a:pt x="12" y="6710"/>
                </a:lnTo>
                <a:lnTo>
                  <a:pt x="10" y="6711"/>
                </a:lnTo>
                <a:lnTo>
                  <a:pt x="9" y="6711"/>
                </a:lnTo>
                <a:lnTo>
                  <a:pt x="6" y="6711"/>
                </a:lnTo>
                <a:lnTo>
                  <a:pt x="4" y="6710"/>
                </a:lnTo>
                <a:lnTo>
                  <a:pt x="2" y="6708"/>
                </a:lnTo>
                <a:lnTo>
                  <a:pt x="0" y="6705"/>
                </a:lnTo>
                <a:lnTo>
                  <a:pt x="0" y="6704"/>
                </a:lnTo>
                <a:lnTo>
                  <a:pt x="0" y="6702"/>
                </a:lnTo>
                <a:lnTo>
                  <a:pt x="0" y="6702"/>
                </a:lnTo>
                <a:close/>
                <a:moveTo>
                  <a:pt x="0" y="6576"/>
                </a:moveTo>
                <a:lnTo>
                  <a:pt x="0" y="6522"/>
                </a:lnTo>
                <a:lnTo>
                  <a:pt x="0" y="6519"/>
                </a:lnTo>
                <a:lnTo>
                  <a:pt x="0" y="6518"/>
                </a:lnTo>
                <a:lnTo>
                  <a:pt x="2" y="6515"/>
                </a:lnTo>
                <a:lnTo>
                  <a:pt x="4" y="6514"/>
                </a:lnTo>
                <a:lnTo>
                  <a:pt x="6" y="6514"/>
                </a:lnTo>
                <a:lnTo>
                  <a:pt x="9" y="6514"/>
                </a:lnTo>
                <a:lnTo>
                  <a:pt x="10" y="6514"/>
                </a:lnTo>
                <a:lnTo>
                  <a:pt x="12" y="6514"/>
                </a:lnTo>
                <a:lnTo>
                  <a:pt x="14" y="6515"/>
                </a:lnTo>
                <a:lnTo>
                  <a:pt x="16" y="6518"/>
                </a:lnTo>
                <a:lnTo>
                  <a:pt x="17" y="6519"/>
                </a:lnTo>
                <a:lnTo>
                  <a:pt x="17" y="6522"/>
                </a:lnTo>
                <a:lnTo>
                  <a:pt x="17" y="6576"/>
                </a:lnTo>
                <a:lnTo>
                  <a:pt x="17" y="6577"/>
                </a:lnTo>
                <a:lnTo>
                  <a:pt x="16" y="6580"/>
                </a:lnTo>
                <a:lnTo>
                  <a:pt x="14" y="6583"/>
                </a:lnTo>
                <a:lnTo>
                  <a:pt x="12" y="6584"/>
                </a:lnTo>
                <a:lnTo>
                  <a:pt x="10" y="6584"/>
                </a:lnTo>
                <a:lnTo>
                  <a:pt x="9" y="6586"/>
                </a:lnTo>
                <a:lnTo>
                  <a:pt x="6" y="6584"/>
                </a:lnTo>
                <a:lnTo>
                  <a:pt x="4" y="6584"/>
                </a:lnTo>
                <a:lnTo>
                  <a:pt x="2" y="6583"/>
                </a:lnTo>
                <a:lnTo>
                  <a:pt x="0" y="6580"/>
                </a:lnTo>
                <a:lnTo>
                  <a:pt x="0" y="6577"/>
                </a:lnTo>
                <a:lnTo>
                  <a:pt x="0" y="6576"/>
                </a:lnTo>
                <a:lnTo>
                  <a:pt x="0" y="6576"/>
                </a:lnTo>
                <a:close/>
                <a:moveTo>
                  <a:pt x="0" y="6450"/>
                </a:moveTo>
                <a:lnTo>
                  <a:pt x="0" y="6396"/>
                </a:lnTo>
                <a:lnTo>
                  <a:pt x="0" y="6394"/>
                </a:lnTo>
                <a:lnTo>
                  <a:pt x="0" y="6393"/>
                </a:lnTo>
                <a:lnTo>
                  <a:pt x="2" y="6390"/>
                </a:lnTo>
                <a:lnTo>
                  <a:pt x="4" y="6388"/>
                </a:lnTo>
                <a:lnTo>
                  <a:pt x="6" y="6387"/>
                </a:lnTo>
                <a:lnTo>
                  <a:pt x="9" y="6387"/>
                </a:lnTo>
                <a:lnTo>
                  <a:pt x="10" y="6387"/>
                </a:lnTo>
                <a:lnTo>
                  <a:pt x="12" y="6388"/>
                </a:lnTo>
                <a:lnTo>
                  <a:pt x="14" y="6390"/>
                </a:lnTo>
                <a:lnTo>
                  <a:pt x="16" y="6393"/>
                </a:lnTo>
                <a:lnTo>
                  <a:pt x="17" y="6394"/>
                </a:lnTo>
                <a:lnTo>
                  <a:pt x="17" y="6396"/>
                </a:lnTo>
                <a:lnTo>
                  <a:pt x="17" y="6450"/>
                </a:lnTo>
                <a:lnTo>
                  <a:pt x="17" y="6452"/>
                </a:lnTo>
                <a:lnTo>
                  <a:pt x="16" y="6453"/>
                </a:lnTo>
                <a:lnTo>
                  <a:pt x="14" y="6456"/>
                </a:lnTo>
                <a:lnTo>
                  <a:pt x="12" y="6458"/>
                </a:lnTo>
                <a:lnTo>
                  <a:pt x="10" y="6459"/>
                </a:lnTo>
                <a:lnTo>
                  <a:pt x="9" y="6459"/>
                </a:lnTo>
                <a:lnTo>
                  <a:pt x="6" y="6459"/>
                </a:lnTo>
                <a:lnTo>
                  <a:pt x="4" y="6458"/>
                </a:lnTo>
                <a:lnTo>
                  <a:pt x="2" y="6456"/>
                </a:lnTo>
                <a:lnTo>
                  <a:pt x="0" y="6453"/>
                </a:lnTo>
                <a:lnTo>
                  <a:pt x="0" y="6452"/>
                </a:lnTo>
                <a:lnTo>
                  <a:pt x="0" y="6450"/>
                </a:lnTo>
                <a:lnTo>
                  <a:pt x="0" y="6450"/>
                </a:lnTo>
                <a:close/>
                <a:moveTo>
                  <a:pt x="0" y="6324"/>
                </a:moveTo>
                <a:lnTo>
                  <a:pt x="0" y="6270"/>
                </a:lnTo>
                <a:lnTo>
                  <a:pt x="0" y="6268"/>
                </a:lnTo>
                <a:lnTo>
                  <a:pt x="0" y="6266"/>
                </a:lnTo>
                <a:lnTo>
                  <a:pt x="2" y="6263"/>
                </a:lnTo>
                <a:lnTo>
                  <a:pt x="4" y="6262"/>
                </a:lnTo>
                <a:lnTo>
                  <a:pt x="6" y="6262"/>
                </a:lnTo>
                <a:lnTo>
                  <a:pt x="9" y="6262"/>
                </a:lnTo>
                <a:lnTo>
                  <a:pt x="10" y="6262"/>
                </a:lnTo>
                <a:lnTo>
                  <a:pt x="12" y="6262"/>
                </a:lnTo>
                <a:lnTo>
                  <a:pt x="14" y="6263"/>
                </a:lnTo>
                <a:lnTo>
                  <a:pt x="16" y="6266"/>
                </a:lnTo>
                <a:lnTo>
                  <a:pt x="17" y="6268"/>
                </a:lnTo>
                <a:lnTo>
                  <a:pt x="17" y="6270"/>
                </a:lnTo>
                <a:lnTo>
                  <a:pt x="17" y="6324"/>
                </a:lnTo>
                <a:lnTo>
                  <a:pt x="17" y="6325"/>
                </a:lnTo>
                <a:lnTo>
                  <a:pt x="16" y="6328"/>
                </a:lnTo>
                <a:lnTo>
                  <a:pt x="14" y="6331"/>
                </a:lnTo>
                <a:lnTo>
                  <a:pt x="12" y="6332"/>
                </a:lnTo>
                <a:lnTo>
                  <a:pt x="10" y="6332"/>
                </a:lnTo>
                <a:lnTo>
                  <a:pt x="9" y="6334"/>
                </a:lnTo>
                <a:lnTo>
                  <a:pt x="6" y="6332"/>
                </a:lnTo>
                <a:lnTo>
                  <a:pt x="4" y="6332"/>
                </a:lnTo>
                <a:lnTo>
                  <a:pt x="2" y="6331"/>
                </a:lnTo>
                <a:lnTo>
                  <a:pt x="0" y="6328"/>
                </a:lnTo>
                <a:lnTo>
                  <a:pt x="0" y="6325"/>
                </a:lnTo>
                <a:lnTo>
                  <a:pt x="0" y="6324"/>
                </a:lnTo>
                <a:lnTo>
                  <a:pt x="0" y="6324"/>
                </a:lnTo>
                <a:close/>
                <a:moveTo>
                  <a:pt x="0" y="6198"/>
                </a:moveTo>
                <a:lnTo>
                  <a:pt x="0" y="6144"/>
                </a:lnTo>
                <a:lnTo>
                  <a:pt x="0" y="6142"/>
                </a:lnTo>
                <a:lnTo>
                  <a:pt x="0" y="6141"/>
                </a:lnTo>
                <a:lnTo>
                  <a:pt x="2" y="6138"/>
                </a:lnTo>
                <a:lnTo>
                  <a:pt x="4" y="6137"/>
                </a:lnTo>
                <a:lnTo>
                  <a:pt x="6" y="6135"/>
                </a:lnTo>
                <a:lnTo>
                  <a:pt x="9" y="6135"/>
                </a:lnTo>
                <a:lnTo>
                  <a:pt x="10" y="6135"/>
                </a:lnTo>
                <a:lnTo>
                  <a:pt x="12" y="6137"/>
                </a:lnTo>
                <a:lnTo>
                  <a:pt x="14" y="6138"/>
                </a:lnTo>
                <a:lnTo>
                  <a:pt x="16" y="6141"/>
                </a:lnTo>
                <a:lnTo>
                  <a:pt x="17" y="6142"/>
                </a:lnTo>
                <a:lnTo>
                  <a:pt x="17" y="6144"/>
                </a:lnTo>
                <a:lnTo>
                  <a:pt x="17" y="6198"/>
                </a:lnTo>
                <a:lnTo>
                  <a:pt x="17" y="6200"/>
                </a:lnTo>
                <a:lnTo>
                  <a:pt x="16" y="6201"/>
                </a:lnTo>
                <a:lnTo>
                  <a:pt x="14" y="6204"/>
                </a:lnTo>
                <a:lnTo>
                  <a:pt x="12" y="6206"/>
                </a:lnTo>
                <a:lnTo>
                  <a:pt x="10" y="6207"/>
                </a:lnTo>
                <a:lnTo>
                  <a:pt x="9" y="6207"/>
                </a:lnTo>
                <a:lnTo>
                  <a:pt x="6" y="6207"/>
                </a:lnTo>
                <a:lnTo>
                  <a:pt x="4" y="6206"/>
                </a:lnTo>
                <a:lnTo>
                  <a:pt x="2" y="6204"/>
                </a:lnTo>
                <a:lnTo>
                  <a:pt x="0" y="6201"/>
                </a:lnTo>
                <a:lnTo>
                  <a:pt x="0" y="6200"/>
                </a:lnTo>
                <a:lnTo>
                  <a:pt x="0" y="6198"/>
                </a:lnTo>
                <a:lnTo>
                  <a:pt x="0" y="6198"/>
                </a:lnTo>
                <a:close/>
                <a:moveTo>
                  <a:pt x="0" y="6072"/>
                </a:moveTo>
                <a:lnTo>
                  <a:pt x="0" y="6018"/>
                </a:lnTo>
                <a:lnTo>
                  <a:pt x="0" y="6016"/>
                </a:lnTo>
                <a:lnTo>
                  <a:pt x="0" y="6014"/>
                </a:lnTo>
                <a:lnTo>
                  <a:pt x="2" y="6011"/>
                </a:lnTo>
                <a:lnTo>
                  <a:pt x="4" y="6010"/>
                </a:lnTo>
                <a:lnTo>
                  <a:pt x="6" y="6010"/>
                </a:lnTo>
                <a:lnTo>
                  <a:pt x="9" y="6010"/>
                </a:lnTo>
                <a:lnTo>
                  <a:pt x="10" y="6010"/>
                </a:lnTo>
                <a:lnTo>
                  <a:pt x="12" y="6010"/>
                </a:lnTo>
                <a:lnTo>
                  <a:pt x="14" y="6011"/>
                </a:lnTo>
                <a:lnTo>
                  <a:pt x="16" y="6014"/>
                </a:lnTo>
                <a:lnTo>
                  <a:pt x="17" y="6016"/>
                </a:lnTo>
                <a:lnTo>
                  <a:pt x="17" y="6018"/>
                </a:lnTo>
                <a:lnTo>
                  <a:pt x="17" y="6072"/>
                </a:lnTo>
                <a:lnTo>
                  <a:pt x="17" y="6073"/>
                </a:lnTo>
                <a:lnTo>
                  <a:pt x="16" y="6076"/>
                </a:lnTo>
                <a:lnTo>
                  <a:pt x="14" y="6079"/>
                </a:lnTo>
                <a:lnTo>
                  <a:pt x="12" y="6080"/>
                </a:lnTo>
                <a:lnTo>
                  <a:pt x="10" y="6080"/>
                </a:lnTo>
                <a:lnTo>
                  <a:pt x="9" y="6082"/>
                </a:lnTo>
                <a:lnTo>
                  <a:pt x="6" y="6080"/>
                </a:lnTo>
                <a:lnTo>
                  <a:pt x="4" y="6080"/>
                </a:lnTo>
                <a:lnTo>
                  <a:pt x="2" y="6079"/>
                </a:lnTo>
                <a:lnTo>
                  <a:pt x="0" y="6076"/>
                </a:lnTo>
                <a:lnTo>
                  <a:pt x="0" y="6073"/>
                </a:lnTo>
                <a:lnTo>
                  <a:pt x="0" y="6072"/>
                </a:lnTo>
                <a:lnTo>
                  <a:pt x="0" y="6072"/>
                </a:lnTo>
                <a:close/>
                <a:moveTo>
                  <a:pt x="0" y="5946"/>
                </a:moveTo>
                <a:lnTo>
                  <a:pt x="0" y="5892"/>
                </a:lnTo>
                <a:lnTo>
                  <a:pt x="0" y="5890"/>
                </a:lnTo>
                <a:lnTo>
                  <a:pt x="0" y="5889"/>
                </a:lnTo>
                <a:lnTo>
                  <a:pt x="2" y="5886"/>
                </a:lnTo>
                <a:lnTo>
                  <a:pt x="4" y="5885"/>
                </a:lnTo>
                <a:lnTo>
                  <a:pt x="6" y="5883"/>
                </a:lnTo>
                <a:lnTo>
                  <a:pt x="9" y="5883"/>
                </a:lnTo>
                <a:lnTo>
                  <a:pt x="10" y="5883"/>
                </a:lnTo>
                <a:lnTo>
                  <a:pt x="12" y="5885"/>
                </a:lnTo>
                <a:lnTo>
                  <a:pt x="14" y="5886"/>
                </a:lnTo>
                <a:lnTo>
                  <a:pt x="16" y="5889"/>
                </a:lnTo>
                <a:lnTo>
                  <a:pt x="17" y="5890"/>
                </a:lnTo>
                <a:lnTo>
                  <a:pt x="17" y="5892"/>
                </a:lnTo>
                <a:lnTo>
                  <a:pt x="17" y="5946"/>
                </a:lnTo>
                <a:lnTo>
                  <a:pt x="17" y="5948"/>
                </a:lnTo>
                <a:lnTo>
                  <a:pt x="16" y="5949"/>
                </a:lnTo>
                <a:lnTo>
                  <a:pt x="14" y="5952"/>
                </a:lnTo>
                <a:lnTo>
                  <a:pt x="12" y="5954"/>
                </a:lnTo>
                <a:lnTo>
                  <a:pt x="10" y="5955"/>
                </a:lnTo>
                <a:lnTo>
                  <a:pt x="9" y="5955"/>
                </a:lnTo>
                <a:lnTo>
                  <a:pt x="6" y="5955"/>
                </a:lnTo>
                <a:lnTo>
                  <a:pt x="4" y="5954"/>
                </a:lnTo>
                <a:lnTo>
                  <a:pt x="2" y="5952"/>
                </a:lnTo>
                <a:lnTo>
                  <a:pt x="0" y="5949"/>
                </a:lnTo>
                <a:lnTo>
                  <a:pt x="0" y="5948"/>
                </a:lnTo>
                <a:lnTo>
                  <a:pt x="0" y="5946"/>
                </a:lnTo>
                <a:lnTo>
                  <a:pt x="0" y="5946"/>
                </a:lnTo>
                <a:close/>
                <a:moveTo>
                  <a:pt x="0" y="5820"/>
                </a:moveTo>
                <a:lnTo>
                  <a:pt x="0" y="5767"/>
                </a:lnTo>
                <a:lnTo>
                  <a:pt x="0" y="5764"/>
                </a:lnTo>
                <a:lnTo>
                  <a:pt x="0" y="5762"/>
                </a:lnTo>
                <a:lnTo>
                  <a:pt x="2" y="5759"/>
                </a:lnTo>
                <a:lnTo>
                  <a:pt x="4" y="5758"/>
                </a:lnTo>
                <a:lnTo>
                  <a:pt x="6" y="5758"/>
                </a:lnTo>
                <a:lnTo>
                  <a:pt x="9" y="5758"/>
                </a:lnTo>
                <a:lnTo>
                  <a:pt x="10" y="5758"/>
                </a:lnTo>
                <a:lnTo>
                  <a:pt x="12" y="5758"/>
                </a:lnTo>
                <a:lnTo>
                  <a:pt x="14" y="5759"/>
                </a:lnTo>
                <a:lnTo>
                  <a:pt x="16" y="5762"/>
                </a:lnTo>
                <a:lnTo>
                  <a:pt x="17" y="5764"/>
                </a:lnTo>
                <a:lnTo>
                  <a:pt x="17" y="5767"/>
                </a:lnTo>
                <a:lnTo>
                  <a:pt x="17" y="5820"/>
                </a:lnTo>
                <a:lnTo>
                  <a:pt x="17" y="5821"/>
                </a:lnTo>
                <a:lnTo>
                  <a:pt x="16" y="5824"/>
                </a:lnTo>
                <a:lnTo>
                  <a:pt x="14" y="5827"/>
                </a:lnTo>
                <a:lnTo>
                  <a:pt x="12" y="5828"/>
                </a:lnTo>
                <a:lnTo>
                  <a:pt x="10" y="5828"/>
                </a:lnTo>
                <a:lnTo>
                  <a:pt x="9" y="5830"/>
                </a:lnTo>
                <a:lnTo>
                  <a:pt x="6" y="5828"/>
                </a:lnTo>
                <a:lnTo>
                  <a:pt x="4" y="5828"/>
                </a:lnTo>
                <a:lnTo>
                  <a:pt x="2" y="5827"/>
                </a:lnTo>
                <a:lnTo>
                  <a:pt x="0" y="5824"/>
                </a:lnTo>
                <a:lnTo>
                  <a:pt x="0" y="5821"/>
                </a:lnTo>
                <a:lnTo>
                  <a:pt x="0" y="5820"/>
                </a:lnTo>
                <a:lnTo>
                  <a:pt x="0" y="5820"/>
                </a:lnTo>
                <a:close/>
                <a:moveTo>
                  <a:pt x="0" y="5695"/>
                </a:moveTo>
                <a:lnTo>
                  <a:pt x="0" y="5640"/>
                </a:lnTo>
                <a:lnTo>
                  <a:pt x="0" y="5638"/>
                </a:lnTo>
                <a:lnTo>
                  <a:pt x="0" y="5637"/>
                </a:lnTo>
                <a:lnTo>
                  <a:pt x="2" y="5634"/>
                </a:lnTo>
                <a:lnTo>
                  <a:pt x="4" y="5633"/>
                </a:lnTo>
                <a:lnTo>
                  <a:pt x="6" y="5631"/>
                </a:lnTo>
                <a:lnTo>
                  <a:pt x="9" y="5631"/>
                </a:lnTo>
                <a:lnTo>
                  <a:pt x="10" y="5631"/>
                </a:lnTo>
                <a:lnTo>
                  <a:pt x="12" y="5633"/>
                </a:lnTo>
                <a:lnTo>
                  <a:pt x="14" y="5634"/>
                </a:lnTo>
                <a:lnTo>
                  <a:pt x="16" y="5637"/>
                </a:lnTo>
                <a:lnTo>
                  <a:pt x="17" y="5638"/>
                </a:lnTo>
                <a:lnTo>
                  <a:pt x="17" y="5640"/>
                </a:lnTo>
                <a:lnTo>
                  <a:pt x="17" y="5695"/>
                </a:lnTo>
                <a:lnTo>
                  <a:pt x="17" y="5696"/>
                </a:lnTo>
                <a:lnTo>
                  <a:pt x="16" y="5697"/>
                </a:lnTo>
                <a:lnTo>
                  <a:pt x="14" y="5700"/>
                </a:lnTo>
                <a:lnTo>
                  <a:pt x="12" y="5702"/>
                </a:lnTo>
                <a:lnTo>
                  <a:pt x="10" y="5703"/>
                </a:lnTo>
                <a:lnTo>
                  <a:pt x="9" y="5703"/>
                </a:lnTo>
                <a:lnTo>
                  <a:pt x="6" y="5703"/>
                </a:lnTo>
                <a:lnTo>
                  <a:pt x="4" y="5702"/>
                </a:lnTo>
                <a:lnTo>
                  <a:pt x="2" y="5700"/>
                </a:lnTo>
                <a:lnTo>
                  <a:pt x="0" y="5697"/>
                </a:lnTo>
                <a:lnTo>
                  <a:pt x="0" y="5696"/>
                </a:lnTo>
                <a:lnTo>
                  <a:pt x="0" y="5695"/>
                </a:lnTo>
                <a:lnTo>
                  <a:pt x="0" y="5695"/>
                </a:lnTo>
                <a:close/>
                <a:moveTo>
                  <a:pt x="0" y="5568"/>
                </a:moveTo>
                <a:lnTo>
                  <a:pt x="0" y="5515"/>
                </a:lnTo>
                <a:lnTo>
                  <a:pt x="0" y="5512"/>
                </a:lnTo>
                <a:lnTo>
                  <a:pt x="0" y="5510"/>
                </a:lnTo>
                <a:lnTo>
                  <a:pt x="2" y="5507"/>
                </a:lnTo>
                <a:lnTo>
                  <a:pt x="4" y="5506"/>
                </a:lnTo>
                <a:lnTo>
                  <a:pt x="6" y="5506"/>
                </a:lnTo>
                <a:lnTo>
                  <a:pt x="9" y="5506"/>
                </a:lnTo>
                <a:lnTo>
                  <a:pt x="10" y="5506"/>
                </a:lnTo>
                <a:lnTo>
                  <a:pt x="12" y="5506"/>
                </a:lnTo>
                <a:lnTo>
                  <a:pt x="14" y="5507"/>
                </a:lnTo>
                <a:lnTo>
                  <a:pt x="16" y="5510"/>
                </a:lnTo>
                <a:lnTo>
                  <a:pt x="17" y="5512"/>
                </a:lnTo>
                <a:lnTo>
                  <a:pt x="17" y="5515"/>
                </a:lnTo>
                <a:lnTo>
                  <a:pt x="17" y="5568"/>
                </a:lnTo>
                <a:lnTo>
                  <a:pt x="17" y="5569"/>
                </a:lnTo>
                <a:lnTo>
                  <a:pt x="16" y="5572"/>
                </a:lnTo>
                <a:lnTo>
                  <a:pt x="14" y="5575"/>
                </a:lnTo>
                <a:lnTo>
                  <a:pt x="12" y="5576"/>
                </a:lnTo>
                <a:lnTo>
                  <a:pt x="10" y="5576"/>
                </a:lnTo>
                <a:lnTo>
                  <a:pt x="9" y="5578"/>
                </a:lnTo>
                <a:lnTo>
                  <a:pt x="6" y="5576"/>
                </a:lnTo>
                <a:lnTo>
                  <a:pt x="4" y="5576"/>
                </a:lnTo>
                <a:lnTo>
                  <a:pt x="2" y="5575"/>
                </a:lnTo>
                <a:lnTo>
                  <a:pt x="0" y="5572"/>
                </a:lnTo>
                <a:lnTo>
                  <a:pt x="0" y="5569"/>
                </a:lnTo>
                <a:lnTo>
                  <a:pt x="0" y="5568"/>
                </a:lnTo>
                <a:lnTo>
                  <a:pt x="0" y="5568"/>
                </a:lnTo>
                <a:close/>
                <a:moveTo>
                  <a:pt x="0" y="5443"/>
                </a:moveTo>
                <a:lnTo>
                  <a:pt x="0" y="5388"/>
                </a:lnTo>
                <a:lnTo>
                  <a:pt x="0" y="5386"/>
                </a:lnTo>
                <a:lnTo>
                  <a:pt x="0" y="5385"/>
                </a:lnTo>
                <a:lnTo>
                  <a:pt x="2" y="5382"/>
                </a:lnTo>
                <a:lnTo>
                  <a:pt x="4" y="5381"/>
                </a:lnTo>
                <a:lnTo>
                  <a:pt x="6" y="5379"/>
                </a:lnTo>
                <a:lnTo>
                  <a:pt x="9" y="5379"/>
                </a:lnTo>
                <a:lnTo>
                  <a:pt x="10" y="5379"/>
                </a:lnTo>
                <a:lnTo>
                  <a:pt x="12" y="5381"/>
                </a:lnTo>
                <a:lnTo>
                  <a:pt x="14" y="5382"/>
                </a:lnTo>
                <a:lnTo>
                  <a:pt x="16" y="5385"/>
                </a:lnTo>
                <a:lnTo>
                  <a:pt x="17" y="5386"/>
                </a:lnTo>
                <a:lnTo>
                  <a:pt x="17" y="5388"/>
                </a:lnTo>
                <a:lnTo>
                  <a:pt x="17" y="5443"/>
                </a:lnTo>
                <a:lnTo>
                  <a:pt x="17" y="5444"/>
                </a:lnTo>
                <a:lnTo>
                  <a:pt x="16" y="5445"/>
                </a:lnTo>
                <a:lnTo>
                  <a:pt x="14" y="5448"/>
                </a:lnTo>
                <a:lnTo>
                  <a:pt x="12" y="5450"/>
                </a:lnTo>
                <a:lnTo>
                  <a:pt x="10" y="5451"/>
                </a:lnTo>
                <a:lnTo>
                  <a:pt x="9" y="5451"/>
                </a:lnTo>
                <a:lnTo>
                  <a:pt x="6" y="5451"/>
                </a:lnTo>
                <a:lnTo>
                  <a:pt x="4" y="5450"/>
                </a:lnTo>
                <a:lnTo>
                  <a:pt x="2" y="5448"/>
                </a:lnTo>
                <a:lnTo>
                  <a:pt x="0" y="5445"/>
                </a:lnTo>
                <a:lnTo>
                  <a:pt x="0" y="5444"/>
                </a:lnTo>
                <a:lnTo>
                  <a:pt x="0" y="5443"/>
                </a:lnTo>
                <a:lnTo>
                  <a:pt x="0" y="5443"/>
                </a:lnTo>
                <a:close/>
                <a:moveTo>
                  <a:pt x="0" y="5316"/>
                </a:moveTo>
                <a:lnTo>
                  <a:pt x="0" y="5263"/>
                </a:lnTo>
                <a:lnTo>
                  <a:pt x="0" y="5260"/>
                </a:lnTo>
                <a:lnTo>
                  <a:pt x="0" y="5258"/>
                </a:lnTo>
                <a:lnTo>
                  <a:pt x="2" y="5255"/>
                </a:lnTo>
                <a:lnTo>
                  <a:pt x="4" y="5254"/>
                </a:lnTo>
                <a:lnTo>
                  <a:pt x="6" y="5254"/>
                </a:lnTo>
                <a:lnTo>
                  <a:pt x="9" y="5254"/>
                </a:lnTo>
                <a:lnTo>
                  <a:pt x="10" y="5254"/>
                </a:lnTo>
                <a:lnTo>
                  <a:pt x="12" y="5254"/>
                </a:lnTo>
                <a:lnTo>
                  <a:pt x="14" y="5255"/>
                </a:lnTo>
                <a:lnTo>
                  <a:pt x="16" y="5258"/>
                </a:lnTo>
                <a:lnTo>
                  <a:pt x="17" y="5260"/>
                </a:lnTo>
                <a:lnTo>
                  <a:pt x="17" y="5263"/>
                </a:lnTo>
                <a:lnTo>
                  <a:pt x="17" y="5316"/>
                </a:lnTo>
                <a:lnTo>
                  <a:pt x="17" y="5317"/>
                </a:lnTo>
                <a:lnTo>
                  <a:pt x="16" y="5320"/>
                </a:lnTo>
                <a:lnTo>
                  <a:pt x="14" y="5323"/>
                </a:lnTo>
                <a:lnTo>
                  <a:pt x="12" y="5325"/>
                </a:lnTo>
                <a:lnTo>
                  <a:pt x="10" y="5325"/>
                </a:lnTo>
                <a:lnTo>
                  <a:pt x="9" y="5326"/>
                </a:lnTo>
                <a:lnTo>
                  <a:pt x="6" y="5325"/>
                </a:lnTo>
                <a:lnTo>
                  <a:pt x="4" y="5325"/>
                </a:lnTo>
                <a:lnTo>
                  <a:pt x="2" y="5323"/>
                </a:lnTo>
                <a:lnTo>
                  <a:pt x="0" y="5320"/>
                </a:lnTo>
                <a:lnTo>
                  <a:pt x="0" y="5317"/>
                </a:lnTo>
                <a:lnTo>
                  <a:pt x="0" y="5316"/>
                </a:lnTo>
                <a:lnTo>
                  <a:pt x="0" y="5316"/>
                </a:lnTo>
                <a:close/>
                <a:moveTo>
                  <a:pt x="0" y="5191"/>
                </a:moveTo>
                <a:lnTo>
                  <a:pt x="0" y="5136"/>
                </a:lnTo>
                <a:lnTo>
                  <a:pt x="0" y="5134"/>
                </a:lnTo>
                <a:lnTo>
                  <a:pt x="0" y="5133"/>
                </a:lnTo>
                <a:lnTo>
                  <a:pt x="2" y="5130"/>
                </a:lnTo>
                <a:lnTo>
                  <a:pt x="4" y="5129"/>
                </a:lnTo>
                <a:lnTo>
                  <a:pt x="6" y="5127"/>
                </a:lnTo>
                <a:lnTo>
                  <a:pt x="9" y="5127"/>
                </a:lnTo>
                <a:lnTo>
                  <a:pt x="10" y="5127"/>
                </a:lnTo>
                <a:lnTo>
                  <a:pt x="12" y="5129"/>
                </a:lnTo>
                <a:lnTo>
                  <a:pt x="14" y="5130"/>
                </a:lnTo>
                <a:lnTo>
                  <a:pt x="16" y="5133"/>
                </a:lnTo>
                <a:lnTo>
                  <a:pt x="17" y="5134"/>
                </a:lnTo>
                <a:lnTo>
                  <a:pt x="17" y="5136"/>
                </a:lnTo>
                <a:lnTo>
                  <a:pt x="17" y="5191"/>
                </a:lnTo>
                <a:lnTo>
                  <a:pt x="17" y="5192"/>
                </a:lnTo>
                <a:lnTo>
                  <a:pt x="16" y="5194"/>
                </a:lnTo>
                <a:lnTo>
                  <a:pt x="14" y="5196"/>
                </a:lnTo>
                <a:lnTo>
                  <a:pt x="12" y="5198"/>
                </a:lnTo>
                <a:lnTo>
                  <a:pt x="10" y="5199"/>
                </a:lnTo>
                <a:lnTo>
                  <a:pt x="9" y="5199"/>
                </a:lnTo>
                <a:lnTo>
                  <a:pt x="6" y="5199"/>
                </a:lnTo>
                <a:lnTo>
                  <a:pt x="4" y="5198"/>
                </a:lnTo>
                <a:lnTo>
                  <a:pt x="2" y="5196"/>
                </a:lnTo>
                <a:lnTo>
                  <a:pt x="0" y="5194"/>
                </a:lnTo>
                <a:lnTo>
                  <a:pt x="0" y="5192"/>
                </a:lnTo>
                <a:lnTo>
                  <a:pt x="0" y="5191"/>
                </a:lnTo>
                <a:lnTo>
                  <a:pt x="0" y="5191"/>
                </a:lnTo>
                <a:close/>
                <a:moveTo>
                  <a:pt x="0" y="5064"/>
                </a:moveTo>
                <a:lnTo>
                  <a:pt x="0" y="5011"/>
                </a:lnTo>
                <a:lnTo>
                  <a:pt x="0" y="5008"/>
                </a:lnTo>
                <a:lnTo>
                  <a:pt x="0" y="5006"/>
                </a:lnTo>
                <a:lnTo>
                  <a:pt x="2" y="5003"/>
                </a:lnTo>
                <a:lnTo>
                  <a:pt x="4" y="5002"/>
                </a:lnTo>
                <a:lnTo>
                  <a:pt x="6" y="5002"/>
                </a:lnTo>
                <a:lnTo>
                  <a:pt x="9" y="5002"/>
                </a:lnTo>
                <a:lnTo>
                  <a:pt x="10" y="5002"/>
                </a:lnTo>
                <a:lnTo>
                  <a:pt x="12" y="5002"/>
                </a:lnTo>
                <a:lnTo>
                  <a:pt x="14" y="5003"/>
                </a:lnTo>
                <a:lnTo>
                  <a:pt x="16" y="5006"/>
                </a:lnTo>
                <a:lnTo>
                  <a:pt x="17" y="5008"/>
                </a:lnTo>
                <a:lnTo>
                  <a:pt x="17" y="5011"/>
                </a:lnTo>
                <a:lnTo>
                  <a:pt x="17" y="5064"/>
                </a:lnTo>
                <a:lnTo>
                  <a:pt x="17" y="5065"/>
                </a:lnTo>
                <a:lnTo>
                  <a:pt x="16" y="5068"/>
                </a:lnTo>
                <a:lnTo>
                  <a:pt x="14" y="5071"/>
                </a:lnTo>
                <a:lnTo>
                  <a:pt x="12" y="5073"/>
                </a:lnTo>
                <a:lnTo>
                  <a:pt x="10" y="5073"/>
                </a:lnTo>
                <a:lnTo>
                  <a:pt x="9" y="5074"/>
                </a:lnTo>
                <a:lnTo>
                  <a:pt x="6" y="5073"/>
                </a:lnTo>
                <a:lnTo>
                  <a:pt x="4" y="5073"/>
                </a:lnTo>
                <a:lnTo>
                  <a:pt x="2" y="5071"/>
                </a:lnTo>
                <a:lnTo>
                  <a:pt x="0" y="5068"/>
                </a:lnTo>
                <a:lnTo>
                  <a:pt x="0" y="5065"/>
                </a:lnTo>
                <a:lnTo>
                  <a:pt x="0" y="5064"/>
                </a:lnTo>
                <a:lnTo>
                  <a:pt x="0" y="5064"/>
                </a:lnTo>
                <a:close/>
                <a:moveTo>
                  <a:pt x="0" y="4939"/>
                </a:moveTo>
                <a:lnTo>
                  <a:pt x="0" y="4884"/>
                </a:lnTo>
                <a:lnTo>
                  <a:pt x="0" y="4883"/>
                </a:lnTo>
                <a:lnTo>
                  <a:pt x="0" y="4881"/>
                </a:lnTo>
                <a:lnTo>
                  <a:pt x="2" y="4878"/>
                </a:lnTo>
                <a:lnTo>
                  <a:pt x="4" y="4877"/>
                </a:lnTo>
                <a:lnTo>
                  <a:pt x="6" y="4875"/>
                </a:lnTo>
                <a:lnTo>
                  <a:pt x="9" y="4875"/>
                </a:lnTo>
                <a:lnTo>
                  <a:pt x="10" y="4875"/>
                </a:lnTo>
                <a:lnTo>
                  <a:pt x="12" y="4877"/>
                </a:lnTo>
                <a:lnTo>
                  <a:pt x="14" y="4878"/>
                </a:lnTo>
                <a:lnTo>
                  <a:pt x="16" y="4881"/>
                </a:lnTo>
                <a:lnTo>
                  <a:pt x="17" y="4883"/>
                </a:lnTo>
                <a:lnTo>
                  <a:pt x="17" y="4884"/>
                </a:lnTo>
                <a:lnTo>
                  <a:pt x="17" y="4939"/>
                </a:lnTo>
                <a:lnTo>
                  <a:pt x="17" y="4940"/>
                </a:lnTo>
                <a:lnTo>
                  <a:pt x="16" y="4942"/>
                </a:lnTo>
                <a:lnTo>
                  <a:pt x="14" y="4944"/>
                </a:lnTo>
                <a:lnTo>
                  <a:pt x="12" y="4946"/>
                </a:lnTo>
                <a:lnTo>
                  <a:pt x="10" y="4947"/>
                </a:lnTo>
                <a:lnTo>
                  <a:pt x="9" y="4947"/>
                </a:lnTo>
                <a:lnTo>
                  <a:pt x="6" y="4947"/>
                </a:lnTo>
                <a:lnTo>
                  <a:pt x="4" y="4946"/>
                </a:lnTo>
                <a:lnTo>
                  <a:pt x="2" y="4944"/>
                </a:lnTo>
                <a:lnTo>
                  <a:pt x="0" y="4942"/>
                </a:lnTo>
                <a:lnTo>
                  <a:pt x="0" y="4940"/>
                </a:lnTo>
                <a:lnTo>
                  <a:pt x="0" y="4939"/>
                </a:lnTo>
                <a:lnTo>
                  <a:pt x="0" y="4939"/>
                </a:lnTo>
                <a:close/>
                <a:moveTo>
                  <a:pt x="0" y="4812"/>
                </a:moveTo>
                <a:lnTo>
                  <a:pt x="0" y="4759"/>
                </a:lnTo>
                <a:lnTo>
                  <a:pt x="0" y="4756"/>
                </a:lnTo>
                <a:lnTo>
                  <a:pt x="0" y="4754"/>
                </a:lnTo>
                <a:lnTo>
                  <a:pt x="2" y="4752"/>
                </a:lnTo>
                <a:lnTo>
                  <a:pt x="4" y="4750"/>
                </a:lnTo>
                <a:lnTo>
                  <a:pt x="6" y="4750"/>
                </a:lnTo>
                <a:lnTo>
                  <a:pt x="9" y="4750"/>
                </a:lnTo>
                <a:lnTo>
                  <a:pt x="10" y="4750"/>
                </a:lnTo>
                <a:lnTo>
                  <a:pt x="12" y="4750"/>
                </a:lnTo>
                <a:lnTo>
                  <a:pt x="14" y="4752"/>
                </a:lnTo>
                <a:lnTo>
                  <a:pt x="16" y="4754"/>
                </a:lnTo>
                <a:lnTo>
                  <a:pt x="17" y="4756"/>
                </a:lnTo>
                <a:lnTo>
                  <a:pt x="17" y="4759"/>
                </a:lnTo>
                <a:lnTo>
                  <a:pt x="17" y="4812"/>
                </a:lnTo>
                <a:lnTo>
                  <a:pt x="17" y="4813"/>
                </a:lnTo>
                <a:lnTo>
                  <a:pt x="16" y="4816"/>
                </a:lnTo>
                <a:lnTo>
                  <a:pt x="14" y="4819"/>
                </a:lnTo>
                <a:lnTo>
                  <a:pt x="12" y="4821"/>
                </a:lnTo>
                <a:lnTo>
                  <a:pt x="10" y="4821"/>
                </a:lnTo>
                <a:lnTo>
                  <a:pt x="9" y="4822"/>
                </a:lnTo>
                <a:lnTo>
                  <a:pt x="6" y="4821"/>
                </a:lnTo>
                <a:lnTo>
                  <a:pt x="4" y="4821"/>
                </a:lnTo>
                <a:lnTo>
                  <a:pt x="2" y="4819"/>
                </a:lnTo>
                <a:lnTo>
                  <a:pt x="0" y="4816"/>
                </a:lnTo>
                <a:lnTo>
                  <a:pt x="0" y="4813"/>
                </a:lnTo>
                <a:lnTo>
                  <a:pt x="0" y="4812"/>
                </a:lnTo>
                <a:lnTo>
                  <a:pt x="0" y="4812"/>
                </a:lnTo>
                <a:close/>
                <a:moveTo>
                  <a:pt x="0" y="4687"/>
                </a:moveTo>
                <a:lnTo>
                  <a:pt x="0" y="4632"/>
                </a:lnTo>
                <a:lnTo>
                  <a:pt x="0" y="4631"/>
                </a:lnTo>
                <a:lnTo>
                  <a:pt x="0" y="4629"/>
                </a:lnTo>
                <a:lnTo>
                  <a:pt x="2" y="4626"/>
                </a:lnTo>
                <a:lnTo>
                  <a:pt x="4" y="4625"/>
                </a:lnTo>
                <a:lnTo>
                  <a:pt x="6" y="4623"/>
                </a:lnTo>
                <a:lnTo>
                  <a:pt x="9" y="4623"/>
                </a:lnTo>
                <a:lnTo>
                  <a:pt x="10" y="4623"/>
                </a:lnTo>
                <a:lnTo>
                  <a:pt x="12" y="4625"/>
                </a:lnTo>
                <a:lnTo>
                  <a:pt x="14" y="4626"/>
                </a:lnTo>
                <a:lnTo>
                  <a:pt x="16" y="4629"/>
                </a:lnTo>
                <a:lnTo>
                  <a:pt x="17" y="4631"/>
                </a:lnTo>
                <a:lnTo>
                  <a:pt x="17" y="4632"/>
                </a:lnTo>
                <a:lnTo>
                  <a:pt x="17" y="4687"/>
                </a:lnTo>
                <a:lnTo>
                  <a:pt x="17" y="4688"/>
                </a:lnTo>
                <a:lnTo>
                  <a:pt x="16" y="4690"/>
                </a:lnTo>
                <a:lnTo>
                  <a:pt x="14" y="4692"/>
                </a:lnTo>
                <a:lnTo>
                  <a:pt x="12" y="4694"/>
                </a:lnTo>
                <a:lnTo>
                  <a:pt x="10" y="4695"/>
                </a:lnTo>
                <a:lnTo>
                  <a:pt x="9" y="4695"/>
                </a:lnTo>
                <a:lnTo>
                  <a:pt x="6" y="4695"/>
                </a:lnTo>
                <a:lnTo>
                  <a:pt x="4" y="4694"/>
                </a:lnTo>
                <a:lnTo>
                  <a:pt x="2" y="4692"/>
                </a:lnTo>
                <a:lnTo>
                  <a:pt x="0" y="4690"/>
                </a:lnTo>
                <a:lnTo>
                  <a:pt x="0" y="4688"/>
                </a:lnTo>
                <a:lnTo>
                  <a:pt x="0" y="4687"/>
                </a:lnTo>
                <a:lnTo>
                  <a:pt x="0" y="4687"/>
                </a:lnTo>
                <a:close/>
                <a:moveTo>
                  <a:pt x="0" y="4560"/>
                </a:moveTo>
                <a:lnTo>
                  <a:pt x="0" y="4507"/>
                </a:lnTo>
                <a:lnTo>
                  <a:pt x="0" y="4504"/>
                </a:lnTo>
                <a:lnTo>
                  <a:pt x="0" y="4502"/>
                </a:lnTo>
                <a:lnTo>
                  <a:pt x="2" y="4500"/>
                </a:lnTo>
                <a:lnTo>
                  <a:pt x="4" y="4498"/>
                </a:lnTo>
                <a:lnTo>
                  <a:pt x="6" y="4498"/>
                </a:lnTo>
                <a:lnTo>
                  <a:pt x="9" y="4498"/>
                </a:lnTo>
                <a:lnTo>
                  <a:pt x="10" y="4498"/>
                </a:lnTo>
                <a:lnTo>
                  <a:pt x="12" y="4498"/>
                </a:lnTo>
                <a:lnTo>
                  <a:pt x="14" y="4500"/>
                </a:lnTo>
                <a:lnTo>
                  <a:pt x="16" y="4502"/>
                </a:lnTo>
                <a:lnTo>
                  <a:pt x="17" y="4504"/>
                </a:lnTo>
                <a:lnTo>
                  <a:pt x="17" y="4507"/>
                </a:lnTo>
                <a:lnTo>
                  <a:pt x="17" y="4560"/>
                </a:lnTo>
                <a:lnTo>
                  <a:pt x="17" y="4561"/>
                </a:lnTo>
                <a:lnTo>
                  <a:pt x="16" y="4564"/>
                </a:lnTo>
                <a:lnTo>
                  <a:pt x="14" y="4567"/>
                </a:lnTo>
                <a:lnTo>
                  <a:pt x="12" y="4569"/>
                </a:lnTo>
                <a:lnTo>
                  <a:pt x="10" y="4569"/>
                </a:lnTo>
                <a:lnTo>
                  <a:pt x="9" y="4570"/>
                </a:lnTo>
                <a:lnTo>
                  <a:pt x="6" y="4569"/>
                </a:lnTo>
                <a:lnTo>
                  <a:pt x="4" y="4569"/>
                </a:lnTo>
                <a:lnTo>
                  <a:pt x="2" y="4567"/>
                </a:lnTo>
                <a:lnTo>
                  <a:pt x="0" y="4564"/>
                </a:lnTo>
                <a:lnTo>
                  <a:pt x="0" y="4561"/>
                </a:lnTo>
                <a:lnTo>
                  <a:pt x="0" y="4560"/>
                </a:lnTo>
                <a:lnTo>
                  <a:pt x="0" y="4560"/>
                </a:lnTo>
                <a:close/>
                <a:moveTo>
                  <a:pt x="0" y="4435"/>
                </a:moveTo>
                <a:lnTo>
                  <a:pt x="0" y="4380"/>
                </a:lnTo>
                <a:lnTo>
                  <a:pt x="0" y="4379"/>
                </a:lnTo>
                <a:lnTo>
                  <a:pt x="0" y="4377"/>
                </a:lnTo>
                <a:lnTo>
                  <a:pt x="2" y="4374"/>
                </a:lnTo>
                <a:lnTo>
                  <a:pt x="4" y="4373"/>
                </a:lnTo>
                <a:lnTo>
                  <a:pt x="6" y="4371"/>
                </a:lnTo>
                <a:lnTo>
                  <a:pt x="9" y="4371"/>
                </a:lnTo>
                <a:lnTo>
                  <a:pt x="10" y="4371"/>
                </a:lnTo>
                <a:lnTo>
                  <a:pt x="12" y="4373"/>
                </a:lnTo>
                <a:lnTo>
                  <a:pt x="14" y="4374"/>
                </a:lnTo>
                <a:lnTo>
                  <a:pt x="16" y="4377"/>
                </a:lnTo>
                <a:lnTo>
                  <a:pt x="17" y="4379"/>
                </a:lnTo>
                <a:lnTo>
                  <a:pt x="17" y="4380"/>
                </a:lnTo>
                <a:lnTo>
                  <a:pt x="17" y="4435"/>
                </a:lnTo>
                <a:lnTo>
                  <a:pt x="17" y="4436"/>
                </a:lnTo>
                <a:lnTo>
                  <a:pt x="16" y="4438"/>
                </a:lnTo>
                <a:lnTo>
                  <a:pt x="14" y="4441"/>
                </a:lnTo>
                <a:lnTo>
                  <a:pt x="12" y="4442"/>
                </a:lnTo>
                <a:lnTo>
                  <a:pt x="10" y="4443"/>
                </a:lnTo>
                <a:lnTo>
                  <a:pt x="9" y="4443"/>
                </a:lnTo>
                <a:lnTo>
                  <a:pt x="6" y="4443"/>
                </a:lnTo>
                <a:lnTo>
                  <a:pt x="4" y="4442"/>
                </a:lnTo>
                <a:lnTo>
                  <a:pt x="2" y="4441"/>
                </a:lnTo>
                <a:lnTo>
                  <a:pt x="0" y="4438"/>
                </a:lnTo>
                <a:lnTo>
                  <a:pt x="0" y="4436"/>
                </a:lnTo>
                <a:lnTo>
                  <a:pt x="0" y="4435"/>
                </a:lnTo>
                <a:lnTo>
                  <a:pt x="0" y="4435"/>
                </a:lnTo>
                <a:close/>
                <a:moveTo>
                  <a:pt x="0" y="4308"/>
                </a:moveTo>
                <a:lnTo>
                  <a:pt x="0" y="4255"/>
                </a:lnTo>
                <a:lnTo>
                  <a:pt x="0" y="4252"/>
                </a:lnTo>
                <a:lnTo>
                  <a:pt x="0" y="4250"/>
                </a:lnTo>
                <a:lnTo>
                  <a:pt x="2" y="4248"/>
                </a:lnTo>
                <a:lnTo>
                  <a:pt x="4" y="4246"/>
                </a:lnTo>
                <a:lnTo>
                  <a:pt x="6" y="4246"/>
                </a:lnTo>
                <a:lnTo>
                  <a:pt x="9" y="4246"/>
                </a:lnTo>
                <a:lnTo>
                  <a:pt x="10" y="4246"/>
                </a:lnTo>
                <a:lnTo>
                  <a:pt x="12" y="4246"/>
                </a:lnTo>
                <a:lnTo>
                  <a:pt x="14" y="4248"/>
                </a:lnTo>
                <a:lnTo>
                  <a:pt x="16" y="4250"/>
                </a:lnTo>
                <a:lnTo>
                  <a:pt x="17" y="4252"/>
                </a:lnTo>
                <a:lnTo>
                  <a:pt x="17" y="4255"/>
                </a:lnTo>
                <a:lnTo>
                  <a:pt x="17" y="4308"/>
                </a:lnTo>
                <a:lnTo>
                  <a:pt x="17" y="4310"/>
                </a:lnTo>
                <a:lnTo>
                  <a:pt x="16" y="4312"/>
                </a:lnTo>
                <a:lnTo>
                  <a:pt x="14" y="4315"/>
                </a:lnTo>
                <a:lnTo>
                  <a:pt x="12" y="4317"/>
                </a:lnTo>
                <a:lnTo>
                  <a:pt x="10" y="4317"/>
                </a:lnTo>
                <a:lnTo>
                  <a:pt x="9" y="4318"/>
                </a:lnTo>
                <a:lnTo>
                  <a:pt x="6" y="4317"/>
                </a:lnTo>
                <a:lnTo>
                  <a:pt x="4" y="4317"/>
                </a:lnTo>
                <a:lnTo>
                  <a:pt x="2" y="4315"/>
                </a:lnTo>
                <a:lnTo>
                  <a:pt x="0" y="4312"/>
                </a:lnTo>
                <a:lnTo>
                  <a:pt x="0" y="4310"/>
                </a:lnTo>
                <a:lnTo>
                  <a:pt x="0" y="4308"/>
                </a:lnTo>
                <a:lnTo>
                  <a:pt x="0" y="4308"/>
                </a:lnTo>
                <a:close/>
                <a:moveTo>
                  <a:pt x="0" y="4183"/>
                </a:moveTo>
                <a:lnTo>
                  <a:pt x="0" y="4128"/>
                </a:lnTo>
                <a:lnTo>
                  <a:pt x="0" y="4127"/>
                </a:lnTo>
                <a:lnTo>
                  <a:pt x="0" y="4125"/>
                </a:lnTo>
                <a:lnTo>
                  <a:pt x="2" y="4122"/>
                </a:lnTo>
                <a:lnTo>
                  <a:pt x="4" y="4121"/>
                </a:lnTo>
                <a:lnTo>
                  <a:pt x="6" y="4119"/>
                </a:lnTo>
                <a:lnTo>
                  <a:pt x="9" y="4119"/>
                </a:lnTo>
                <a:lnTo>
                  <a:pt x="10" y="4119"/>
                </a:lnTo>
                <a:lnTo>
                  <a:pt x="12" y="4121"/>
                </a:lnTo>
                <a:lnTo>
                  <a:pt x="14" y="4122"/>
                </a:lnTo>
                <a:lnTo>
                  <a:pt x="16" y="4125"/>
                </a:lnTo>
                <a:lnTo>
                  <a:pt x="17" y="4127"/>
                </a:lnTo>
                <a:lnTo>
                  <a:pt x="17" y="4128"/>
                </a:lnTo>
                <a:lnTo>
                  <a:pt x="17" y="4183"/>
                </a:lnTo>
                <a:lnTo>
                  <a:pt x="17" y="4184"/>
                </a:lnTo>
                <a:lnTo>
                  <a:pt x="16" y="4186"/>
                </a:lnTo>
                <a:lnTo>
                  <a:pt x="14" y="4189"/>
                </a:lnTo>
                <a:lnTo>
                  <a:pt x="12" y="4190"/>
                </a:lnTo>
                <a:lnTo>
                  <a:pt x="10" y="4191"/>
                </a:lnTo>
                <a:lnTo>
                  <a:pt x="9" y="4191"/>
                </a:lnTo>
                <a:lnTo>
                  <a:pt x="6" y="4191"/>
                </a:lnTo>
                <a:lnTo>
                  <a:pt x="4" y="4190"/>
                </a:lnTo>
                <a:lnTo>
                  <a:pt x="2" y="4189"/>
                </a:lnTo>
                <a:lnTo>
                  <a:pt x="0" y="4186"/>
                </a:lnTo>
                <a:lnTo>
                  <a:pt x="0" y="4184"/>
                </a:lnTo>
                <a:lnTo>
                  <a:pt x="0" y="4183"/>
                </a:lnTo>
                <a:lnTo>
                  <a:pt x="0" y="4183"/>
                </a:lnTo>
                <a:close/>
                <a:moveTo>
                  <a:pt x="0" y="4056"/>
                </a:moveTo>
                <a:lnTo>
                  <a:pt x="0" y="4003"/>
                </a:lnTo>
                <a:lnTo>
                  <a:pt x="0" y="4000"/>
                </a:lnTo>
                <a:lnTo>
                  <a:pt x="0" y="3999"/>
                </a:lnTo>
                <a:lnTo>
                  <a:pt x="2" y="3996"/>
                </a:lnTo>
                <a:lnTo>
                  <a:pt x="4" y="3994"/>
                </a:lnTo>
                <a:lnTo>
                  <a:pt x="6" y="3994"/>
                </a:lnTo>
                <a:lnTo>
                  <a:pt x="9" y="3994"/>
                </a:lnTo>
                <a:lnTo>
                  <a:pt x="10" y="3994"/>
                </a:lnTo>
                <a:lnTo>
                  <a:pt x="12" y="3994"/>
                </a:lnTo>
                <a:lnTo>
                  <a:pt x="14" y="3996"/>
                </a:lnTo>
                <a:lnTo>
                  <a:pt x="16" y="3999"/>
                </a:lnTo>
                <a:lnTo>
                  <a:pt x="17" y="4000"/>
                </a:lnTo>
                <a:lnTo>
                  <a:pt x="17" y="4003"/>
                </a:lnTo>
                <a:lnTo>
                  <a:pt x="17" y="4056"/>
                </a:lnTo>
                <a:lnTo>
                  <a:pt x="17" y="4058"/>
                </a:lnTo>
                <a:lnTo>
                  <a:pt x="16" y="4060"/>
                </a:lnTo>
                <a:lnTo>
                  <a:pt x="14" y="4063"/>
                </a:lnTo>
                <a:lnTo>
                  <a:pt x="12" y="4065"/>
                </a:lnTo>
                <a:lnTo>
                  <a:pt x="10" y="4065"/>
                </a:lnTo>
                <a:lnTo>
                  <a:pt x="9" y="4066"/>
                </a:lnTo>
                <a:lnTo>
                  <a:pt x="6" y="4065"/>
                </a:lnTo>
                <a:lnTo>
                  <a:pt x="4" y="4065"/>
                </a:lnTo>
                <a:lnTo>
                  <a:pt x="2" y="4063"/>
                </a:lnTo>
                <a:lnTo>
                  <a:pt x="0" y="4060"/>
                </a:lnTo>
                <a:lnTo>
                  <a:pt x="0" y="4058"/>
                </a:lnTo>
                <a:lnTo>
                  <a:pt x="0" y="4056"/>
                </a:lnTo>
                <a:lnTo>
                  <a:pt x="0" y="4056"/>
                </a:lnTo>
                <a:close/>
                <a:moveTo>
                  <a:pt x="0" y="3931"/>
                </a:moveTo>
                <a:lnTo>
                  <a:pt x="0" y="3876"/>
                </a:lnTo>
                <a:lnTo>
                  <a:pt x="0" y="3875"/>
                </a:lnTo>
                <a:lnTo>
                  <a:pt x="0" y="3873"/>
                </a:lnTo>
                <a:lnTo>
                  <a:pt x="2" y="3870"/>
                </a:lnTo>
                <a:lnTo>
                  <a:pt x="4" y="3869"/>
                </a:lnTo>
                <a:lnTo>
                  <a:pt x="6" y="3868"/>
                </a:lnTo>
                <a:lnTo>
                  <a:pt x="9" y="3868"/>
                </a:lnTo>
                <a:lnTo>
                  <a:pt x="10" y="3868"/>
                </a:lnTo>
                <a:lnTo>
                  <a:pt x="12" y="3869"/>
                </a:lnTo>
                <a:lnTo>
                  <a:pt x="14" y="3870"/>
                </a:lnTo>
                <a:lnTo>
                  <a:pt x="16" y="3873"/>
                </a:lnTo>
                <a:lnTo>
                  <a:pt x="17" y="3875"/>
                </a:lnTo>
                <a:lnTo>
                  <a:pt x="17" y="3876"/>
                </a:lnTo>
                <a:lnTo>
                  <a:pt x="17" y="3931"/>
                </a:lnTo>
                <a:lnTo>
                  <a:pt x="17" y="3932"/>
                </a:lnTo>
                <a:lnTo>
                  <a:pt x="16" y="3934"/>
                </a:lnTo>
                <a:lnTo>
                  <a:pt x="14" y="3937"/>
                </a:lnTo>
                <a:lnTo>
                  <a:pt x="12" y="3938"/>
                </a:lnTo>
                <a:lnTo>
                  <a:pt x="10" y="3940"/>
                </a:lnTo>
                <a:lnTo>
                  <a:pt x="9" y="3940"/>
                </a:lnTo>
                <a:lnTo>
                  <a:pt x="6" y="3940"/>
                </a:lnTo>
                <a:lnTo>
                  <a:pt x="4" y="3938"/>
                </a:lnTo>
                <a:lnTo>
                  <a:pt x="2" y="3937"/>
                </a:lnTo>
                <a:lnTo>
                  <a:pt x="0" y="3934"/>
                </a:lnTo>
                <a:lnTo>
                  <a:pt x="0" y="3932"/>
                </a:lnTo>
                <a:lnTo>
                  <a:pt x="0" y="3931"/>
                </a:lnTo>
                <a:lnTo>
                  <a:pt x="0" y="3931"/>
                </a:lnTo>
                <a:close/>
                <a:moveTo>
                  <a:pt x="0" y="3804"/>
                </a:moveTo>
                <a:lnTo>
                  <a:pt x="0" y="3751"/>
                </a:lnTo>
                <a:lnTo>
                  <a:pt x="0" y="3748"/>
                </a:lnTo>
                <a:lnTo>
                  <a:pt x="0" y="3747"/>
                </a:lnTo>
                <a:lnTo>
                  <a:pt x="2" y="3744"/>
                </a:lnTo>
                <a:lnTo>
                  <a:pt x="4" y="3742"/>
                </a:lnTo>
                <a:lnTo>
                  <a:pt x="6" y="3742"/>
                </a:lnTo>
                <a:lnTo>
                  <a:pt x="9" y="3742"/>
                </a:lnTo>
                <a:lnTo>
                  <a:pt x="10" y="3742"/>
                </a:lnTo>
                <a:lnTo>
                  <a:pt x="12" y="3742"/>
                </a:lnTo>
                <a:lnTo>
                  <a:pt x="14" y="3744"/>
                </a:lnTo>
                <a:lnTo>
                  <a:pt x="16" y="3747"/>
                </a:lnTo>
                <a:lnTo>
                  <a:pt x="17" y="3748"/>
                </a:lnTo>
                <a:lnTo>
                  <a:pt x="17" y="3751"/>
                </a:lnTo>
                <a:lnTo>
                  <a:pt x="17" y="3804"/>
                </a:lnTo>
                <a:lnTo>
                  <a:pt x="17" y="3806"/>
                </a:lnTo>
                <a:lnTo>
                  <a:pt x="16" y="3809"/>
                </a:lnTo>
                <a:lnTo>
                  <a:pt x="14" y="3811"/>
                </a:lnTo>
                <a:lnTo>
                  <a:pt x="12" y="3813"/>
                </a:lnTo>
                <a:lnTo>
                  <a:pt x="10" y="3813"/>
                </a:lnTo>
                <a:lnTo>
                  <a:pt x="9" y="3814"/>
                </a:lnTo>
                <a:lnTo>
                  <a:pt x="6" y="3813"/>
                </a:lnTo>
                <a:lnTo>
                  <a:pt x="4" y="3813"/>
                </a:lnTo>
                <a:lnTo>
                  <a:pt x="2" y="3811"/>
                </a:lnTo>
                <a:lnTo>
                  <a:pt x="0" y="3809"/>
                </a:lnTo>
                <a:lnTo>
                  <a:pt x="0" y="3806"/>
                </a:lnTo>
                <a:lnTo>
                  <a:pt x="0" y="3804"/>
                </a:lnTo>
                <a:lnTo>
                  <a:pt x="0" y="3804"/>
                </a:lnTo>
                <a:close/>
                <a:moveTo>
                  <a:pt x="0" y="3679"/>
                </a:moveTo>
                <a:lnTo>
                  <a:pt x="0" y="3624"/>
                </a:lnTo>
                <a:lnTo>
                  <a:pt x="0" y="3623"/>
                </a:lnTo>
                <a:lnTo>
                  <a:pt x="0" y="3621"/>
                </a:lnTo>
                <a:lnTo>
                  <a:pt x="2" y="3618"/>
                </a:lnTo>
                <a:lnTo>
                  <a:pt x="4" y="3617"/>
                </a:lnTo>
                <a:lnTo>
                  <a:pt x="6" y="3616"/>
                </a:lnTo>
                <a:lnTo>
                  <a:pt x="9" y="3616"/>
                </a:lnTo>
                <a:lnTo>
                  <a:pt x="10" y="3616"/>
                </a:lnTo>
                <a:lnTo>
                  <a:pt x="12" y="3617"/>
                </a:lnTo>
                <a:lnTo>
                  <a:pt x="14" y="3618"/>
                </a:lnTo>
                <a:lnTo>
                  <a:pt x="16" y="3621"/>
                </a:lnTo>
                <a:lnTo>
                  <a:pt x="17" y="3623"/>
                </a:lnTo>
                <a:lnTo>
                  <a:pt x="17" y="3624"/>
                </a:lnTo>
                <a:lnTo>
                  <a:pt x="17" y="3679"/>
                </a:lnTo>
                <a:lnTo>
                  <a:pt x="17" y="3680"/>
                </a:lnTo>
                <a:lnTo>
                  <a:pt x="16" y="3682"/>
                </a:lnTo>
                <a:lnTo>
                  <a:pt x="14" y="3685"/>
                </a:lnTo>
                <a:lnTo>
                  <a:pt x="12" y="3686"/>
                </a:lnTo>
                <a:lnTo>
                  <a:pt x="10" y="3688"/>
                </a:lnTo>
                <a:lnTo>
                  <a:pt x="9" y="3688"/>
                </a:lnTo>
                <a:lnTo>
                  <a:pt x="6" y="3688"/>
                </a:lnTo>
                <a:lnTo>
                  <a:pt x="4" y="3686"/>
                </a:lnTo>
                <a:lnTo>
                  <a:pt x="2" y="3685"/>
                </a:lnTo>
                <a:lnTo>
                  <a:pt x="0" y="3682"/>
                </a:lnTo>
                <a:lnTo>
                  <a:pt x="0" y="3680"/>
                </a:lnTo>
                <a:lnTo>
                  <a:pt x="0" y="3679"/>
                </a:lnTo>
                <a:lnTo>
                  <a:pt x="0" y="3679"/>
                </a:lnTo>
                <a:close/>
                <a:moveTo>
                  <a:pt x="0" y="3552"/>
                </a:moveTo>
                <a:lnTo>
                  <a:pt x="0" y="3499"/>
                </a:lnTo>
                <a:lnTo>
                  <a:pt x="0" y="3496"/>
                </a:lnTo>
                <a:lnTo>
                  <a:pt x="0" y="3495"/>
                </a:lnTo>
                <a:lnTo>
                  <a:pt x="2" y="3492"/>
                </a:lnTo>
                <a:lnTo>
                  <a:pt x="4" y="3490"/>
                </a:lnTo>
                <a:lnTo>
                  <a:pt x="6" y="3490"/>
                </a:lnTo>
                <a:lnTo>
                  <a:pt x="9" y="3490"/>
                </a:lnTo>
                <a:lnTo>
                  <a:pt x="10" y="3490"/>
                </a:lnTo>
                <a:lnTo>
                  <a:pt x="12" y="3490"/>
                </a:lnTo>
                <a:lnTo>
                  <a:pt x="14" y="3492"/>
                </a:lnTo>
                <a:lnTo>
                  <a:pt x="16" y="3495"/>
                </a:lnTo>
                <a:lnTo>
                  <a:pt x="17" y="3496"/>
                </a:lnTo>
                <a:lnTo>
                  <a:pt x="17" y="3499"/>
                </a:lnTo>
                <a:lnTo>
                  <a:pt x="17" y="3552"/>
                </a:lnTo>
                <a:lnTo>
                  <a:pt x="17" y="3554"/>
                </a:lnTo>
                <a:lnTo>
                  <a:pt x="16" y="3557"/>
                </a:lnTo>
                <a:lnTo>
                  <a:pt x="14" y="3559"/>
                </a:lnTo>
                <a:lnTo>
                  <a:pt x="12" y="3561"/>
                </a:lnTo>
                <a:lnTo>
                  <a:pt x="10" y="3561"/>
                </a:lnTo>
                <a:lnTo>
                  <a:pt x="9" y="3562"/>
                </a:lnTo>
                <a:lnTo>
                  <a:pt x="6" y="3561"/>
                </a:lnTo>
                <a:lnTo>
                  <a:pt x="4" y="3561"/>
                </a:lnTo>
                <a:lnTo>
                  <a:pt x="2" y="3559"/>
                </a:lnTo>
                <a:lnTo>
                  <a:pt x="0" y="3557"/>
                </a:lnTo>
                <a:lnTo>
                  <a:pt x="0" y="3554"/>
                </a:lnTo>
                <a:lnTo>
                  <a:pt x="0" y="3552"/>
                </a:lnTo>
                <a:lnTo>
                  <a:pt x="0" y="3552"/>
                </a:lnTo>
                <a:close/>
                <a:moveTo>
                  <a:pt x="0" y="3427"/>
                </a:moveTo>
                <a:lnTo>
                  <a:pt x="0" y="3372"/>
                </a:lnTo>
                <a:lnTo>
                  <a:pt x="0" y="3371"/>
                </a:lnTo>
                <a:lnTo>
                  <a:pt x="0" y="3369"/>
                </a:lnTo>
                <a:lnTo>
                  <a:pt x="2" y="3367"/>
                </a:lnTo>
                <a:lnTo>
                  <a:pt x="4" y="3365"/>
                </a:lnTo>
                <a:lnTo>
                  <a:pt x="6" y="3364"/>
                </a:lnTo>
                <a:lnTo>
                  <a:pt x="9" y="3364"/>
                </a:lnTo>
                <a:lnTo>
                  <a:pt x="10" y="3364"/>
                </a:lnTo>
                <a:lnTo>
                  <a:pt x="12" y="3365"/>
                </a:lnTo>
                <a:lnTo>
                  <a:pt x="14" y="3367"/>
                </a:lnTo>
                <a:lnTo>
                  <a:pt x="16" y="3369"/>
                </a:lnTo>
                <a:lnTo>
                  <a:pt x="17" y="3371"/>
                </a:lnTo>
                <a:lnTo>
                  <a:pt x="17" y="3372"/>
                </a:lnTo>
                <a:lnTo>
                  <a:pt x="17" y="3427"/>
                </a:lnTo>
                <a:lnTo>
                  <a:pt x="17" y="3428"/>
                </a:lnTo>
                <a:lnTo>
                  <a:pt x="16" y="3430"/>
                </a:lnTo>
                <a:lnTo>
                  <a:pt x="14" y="3433"/>
                </a:lnTo>
                <a:lnTo>
                  <a:pt x="12" y="3434"/>
                </a:lnTo>
                <a:lnTo>
                  <a:pt x="10" y="3436"/>
                </a:lnTo>
                <a:lnTo>
                  <a:pt x="9" y="3436"/>
                </a:lnTo>
                <a:lnTo>
                  <a:pt x="6" y="3436"/>
                </a:lnTo>
                <a:lnTo>
                  <a:pt x="4" y="3434"/>
                </a:lnTo>
                <a:lnTo>
                  <a:pt x="2" y="3433"/>
                </a:lnTo>
                <a:lnTo>
                  <a:pt x="0" y="3430"/>
                </a:lnTo>
                <a:lnTo>
                  <a:pt x="0" y="3428"/>
                </a:lnTo>
                <a:lnTo>
                  <a:pt x="0" y="3427"/>
                </a:lnTo>
                <a:lnTo>
                  <a:pt x="0" y="3427"/>
                </a:lnTo>
                <a:close/>
                <a:moveTo>
                  <a:pt x="0" y="3300"/>
                </a:moveTo>
                <a:lnTo>
                  <a:pt x="0" y="3247"/>
                </a:lnTo>
                <a:lnTo>
                  <a:pt x="0" y="3244"/>
                </a:lnTo>
                <a:lnTo>
                  <a:pt x="0" y="3243"/>
                </a:lnTo>
                <a:lnTo>
                  <a:pt x="2" y="3240"/>
                </a:lnTo>
                <a:lnTo>
                  <a:pt x="4" y="3238"/>
                </a:lnTo>
                <a:lnTo>
                  <a:pt x="6" y="3238"/>
                </a:lnTo>
                <a:lnTo>
                  <a:pt x="9" y="3238"/>
                </a:lnTo>
                <a:lnTo>
                  <a:pt x="10" y="3238"/>
                </a:lnTo>
                <a:lnTo>
                  <a:pt x="12" y="3238"/>
                </a:lnTo>
                <a:lnTo>
                  <a:pt x="14" y="3240"/>
                </a:lnTo>
                <a:lnTo>
                  <a:pt x="16" y="3243"/>
                </a:lnTo>
                <a:lnTo>
                  <a:pt x="17" y="3244"/>
                </a:lnTo>
                <a:lnTo>
                  <a:pt x="17" y="3247"/>
                </a:lnTo>
                <a:lnTo>
                  <a:pt x="17" y="3300"/>
                </a:lnTo>
                <a:lnTo>
                  <a:pt x="17" y="3302"/>
                </a:lnTo>
                <a:lnTo>
                  <a:pt x="16" y="3305"/>
                </a:lnTo>
                <a:lnTo>
                  <a:pt x="14" y="3307"/>
                </a:lnTo>
                <a:lnTo>
                  <a:pt x="12" y="3309"/>
                </a:lnTo>
                <a:lnTo>
                  <a:pt x="10" y="3309"/>
                </a:lnTo>
                <a:lnTo>
                  <a:pt x="9" y="3310"/>
                </a:lnTo>
                <a:lnTo>
                  <a:pt x="6" y="3309"/>
                </a:lnTo>
                <a:lnTo>
                  <a:pt x="4" y="3309"/>
                </a:lnTo>
                <a:lnTo>
                  <a:pt x="2" y="3307"/>
                </a:lnTo>
                <a:lnTo>
                  <a:pt x="0" y="3305"/>
                </a:lnTo>
                <a:lnTo>
                  <a:pt x="0" y="3302"/>
                </a:lnTo>
                <a:lnTo>
                  <a:pt x="0" y="3300"/>
                </a:lnTo>
                <a:lnTo>
                  <a:pt x="0" y="3300"/>
                </a:lnTo>
                <a:close/>
                <a:moveTo>
                  <a:pt x="0" y="3175"/>
                </a:moveTo>
                <a:lnTo>
                  <a:pt x="0" y="3120"/>
                </a:lnTo>
                <a:lnTo>
                  <a:pt x="0" y="3119"/>
                </a:lnTo>
                <a:lnTo>
                  <a:pt x="0" y="3117"/>
                </a:lnTo>
                <a:lnTo>
                  <a:pt x="2" y="3115"/>
                </a:lnTo>
                <a:lnTo>
                  <a:pt x="4" y="3113"/>
                </a:lnTo>
                <a:lnTo>
                  <a:pt x="6" y="3112"/>
                </a:lnTo>
                <a:lnTo>
                  <a:pt x="9" y="3112"/>
                </a:lnTo>
                <a:lnTo>
                  <a:pt x="10" y="3112"/>
                </a:lnTo>
                <a:lnTo>
                  <a:pt x="12" y="3113"/>
                </a:lnTo>
                <a:lnTo>
                  <a:pt x="14" y="3115"/>
                </a:lnTo>
                <a:lnTo>
                  <a:pt x="16" y="3117"/>
                </a:lnTo>
                <a:lnTo>
                  <a:pt x="17" y="3119"/>
                </a:lnTo>
                <a:lnTo>
                  <a:pt x="17" y="3120"/>
                </a:lnTo>
                <a:lnTo>
                  <a:pt x="17" y="3175"/>
                </a:lnTo>
                <a:lnTo>
                  <a:pt x="17" y="3176"/>
                </a:lnTo>
                <a:lnTo>
                  <a:pt x="16" y="3178"/>
                </a:lnTo>
                <a:lnTo>
                  <a:pt x="14" y="3181"/>
                </a:lnTo>
                <a:lnTo>
                  <a:pt x="12" y="3182"/>
                </a:lnTo>
                <a:lnTo>
                  <a:pt x="10" y="3184"/>
                </a:lnTo>
                <a:lnTo>
                  <a:pt x="9" y="3184"/>
                </a:lnTo>
                <a:lnTo>
                  <a:pt x="6" y="3184"/>
                </a:lnTo>
                <a:lnTo>
                  <a:pt x="4" y="3182"/>
                </a:lnTo>
                <a:lnTo>
                  <a:pt x="2" y="3181"/>
                </a:lnTo>
                <a:lnTo>
                  <a:pt x="0" y="3178"/>
                </a:lnTo>
                <a:lnTo>
                  <a:pt x="0" y="3176"/>
                </a:lnTo>
                <a:lnTo>
                  <a:pt x="0" y="3175"/>
                </a:lnTo>
                <a:lnTo>
                  <a:pt x="0" y="3175"/>
                </a:lnTo>
                <a:close/>
                <a:moveTo>
                  <a:pt x="0" y="3048"/>
                </a:moveTo>
                <a:lnTo>
                  <a:pt x="0" y="2995"/>
                </a:lnTo>
                <a:lnTo>
                  <a:pt x="0" y="2992"/>
                </a:lnTo>
                <a:lnTo>
                  <a:pt x="0" y="2991"/>
                </a:lnTo>
                <a:lnTo>
                  <a:pt x="2" y="2988"/>
                </a:lnTo>
                <a:lnTo>
                  <a:pt x="4" y="2986"/>
                </a:lnTo>
                <a:lnTo>
                  <a:pt x="6" y="2986"/>
                </a:lnTo>
                <a:lnTo>
                  <a:pt x="9" y="2986"/>
                </a:lnTo>
                <a:lnTo>
                  <a:pt x="10" y="2986"/>
                </a:lnTo>
                <a:lnTo>
                  <a:pt x="12" y="2986"/>
                </a:lnTo>
                <a:lnTo>
                  <a:pt x="14" y="2988"/>
                </a:lnTo>
                <a:lnTo>
                  <a:pt x="16" y="2991"/>
                </a:lnTo>
                <a:lnTo>
                  <a:pt x="17" y="2992"/>
                </a:lnTo>
                <a:lnTo>
                  <a:pt x="17" y="2995"/>
                </a:lnTo>
                <a:lnTo>
                  <a:pt x="17" y="3048"/>
                </a:lnTo>
                <a:lnTo>
                  <a:pt x="17" y="3050"/>
                </a:lnTo>
                <a:lnTo>
                  <a:pt x="16" y="3053"/>
                </a:lnTo>
                <a:lnTo>
                  <a:pt x="14" y="3056"/>
                </a:lnTo>
                <a:lnTo>
                  <a:pt x="12" y="3057"/>
                </a:lnTo>
                <a:lnTo>
                  <a:pt x="10" y="3057"/>
                </a:lnTo>
                <a:lnTo>
                  <a:pt x="9" y="3058"/>
                </a:lnTo>
                <a:lnTo>
                  <a:pt x="6" y="3057"/>
                </a:lnTo>
                <a:lnTo>
                  <a:pt x="4" y="3057"/>
                </a:lnTo>
                <a:lnTo>
                  <a:pt x="2" y="3056"/>
                </a:lnTo>
                <a:lnTo>
                  <a:pt x="0" y="3053"/>
                </a:lnTo>
                <a:lnTo>
                  <a:pt x="0" y="3050"/>
                </a:lnTo>
                <a:lnTo>
                  <a:pt x="0" y="3048"/>
                </a:lnTo>
                <a:lnTo>
                  <a:pt x="0" y="3048"/>
                </a:lnTo>
                <a:close/>
                <a:moveTo>
                  <a:pt x="0" y="2923"/>
                </a:moveTo>
                <a:lnTo>
                  <a:pt x="0" y="2868"/>
                </a:lnTo>
                <a:lnTo>
                  <a:pt x="0" y="2867"/>
                </a:lnTo>
                <a:lnTo>
                  <a:pt x="0" y="2865"/>
                </a:lnTo>
                <a:lnTo>
                  <a:pt x="2" y="2863"/>
                </a:lnTo>
                <a:lnTo>
                  <a:pt x="4" y="2861"/>
                </a:lnTo>
                <a:lnTo>
                  <a:pt x="6" y="2860"/>
                </a:lnTo>
                <a:lnTo>
                  <a:pt x="9" y="2860"/>
                </a:lnTo>
                <a:lnTo>
                  <a:pt x="10" y="2860"/>
                </a:lnTo>
                <a:lnTo>
                  <a:pt x="12" y="2861"/>
                </a:lnTo>
                <a:lnTo>
                  <a:pt x="14" y="2863"/>
                </a:lnTo>
                <a:lnTo>
                  <a:pt x="16" y="2865"/>
                </a:lnTo>
                <a:lnTo>
                  <a:pt x="17" y="2867"/>
                </a:lnTo>
                <a:lnTo>
                  <a:pt x="17" y="2868"/>
                </a:lnTo>
                <a:lnTo>
                  <a:pt x="17" y="2923"/>
                </a:lnTo>
                <a:lnTo>
                  <a:pt x="17" y="2925"/>
                </a:lnTo>
                <a:lnTo>
                  <a:pt x="16" y="2926"/>
                </a:lnTo>
                <a:lnTo>
                  <a:pt x="14" y="2929"/>
                </a:lnTo>
                <a:lnTo>
                  <a:pt x="12" y="2930"/>
                </a:lnTo>
                <a:lnTo>
                  <a:pt x="10" y="2932"/>
                </a:lnTo>
                <a:lnTo>
                  <a:pt x="9" y="2932"/>
                </a:lnTo>
                <a:lnTo>
                  <a:pt x="6" y="2932"/>
                </a:lnTo>
                <a:lnTo>
                  <a:pt x="4" y="2930"/>
                </a:lnTo>
                <a:lnTo>
                  <a:pt x="2" y="2929"/>
                </a:lnTo>
                <a:lnTo>
                  <a:pt x="0" y="2926"/>
                </a:lnTo>
                <a:lnTo>
                  <a:pt x="0" y="2925"/>
                </a:lnTo>
                <a:lnTo>
                  <a:pt x="0" y="2923"/>
                </a:lnTo>
                <a:lnTo>
                  <a:pt x="0" y="2923"/>
                </a:lnTo>
                <a:close/>
                <a:moveTo>
                  <a:pt x="0" y="2796"/>
                </a:moveTo>
                <a:lnTo>
                  <a:pt x="0" y="2743"/>
                </a:lnTo>
                <a:lnTo>
                  <a:pt x="0" y="2740"/>
                </a:lnTo>
                <a:lnTo>
                  <a:pt x="0" y="2739"/>
                </a:lnTo>
                <a:lnTo>
                  <a:pt x="2" y="2736"/>
                </a:lnTo>
                <a:lnTo>
                  <a:pt x="4" y="2734"/>
                </a:lnTo>
                <a:lnTo>
                  <a:pt x="6" y="2734"/>
                </a:lnTo>
                <a:lnTo>
                  <a:pt x="9" y="2734"/>
                </a:lnTo>
                <a:lnTo>
                  <a:pt x="10" y="2734"/>
                </a:lnTo>
                <a:lnTo>
                  <a:pt x="12" y="2734"/>
                </a:lnTo>
                <a:lnTo>
                  <a:pt x="14" y="2736"/>
                </a:lnTo>
                <a:lnTo>
                  <a:pt x="16" y="2739"/>
                </a:lnTo>
                <a:lnTo>
                  <a:pt x="17" y="2740"/>
                </a:lnTo>
                <a:lnTo>
                  <a:pt x="17" y="2743"/>
                </a:lnTo>
                <a:lnTo>
                  <a:pt x="17" y="2796"/>
                </a:lnTo>
                <a:lnTo>
                  <a:pt x="17" y="2798"/>
                </a:lnTo>
                <a:lnTo>
                  <a:pt x="16" y="2801"/>
                </a:lnTo>
                <a:lnTo>
                  <a:pt x="14" y="2804"/>
                </a:lnTo>
                <a:lnTo>
                  <a:pt x="12" y="2805"/>
                </a:lnTo>
                <a:lnTo>
                  <a:pt x="10" y="2805"/>
                </a:lnTo>
                <a:lnTo>
                  <a:pt x="9" y="2806"/>
                </a:lnTo>
                <a:lnTo>
                  <a:pt x="6" y="2805"/>
                </a:lnTo>
                <a:lnTo>
                  <a:pt x="4" y="2805"/>
                </a:lnTo>
                <a:lnTo>
                  <a:pt x="2" y="2804"/>
                </a:lnTo>
                <a:lnTo>
                  <a:pt x="0" y="2801"/>
                </a:lnTo>
                <a:lnTo>
                  <a:pt x="0" y="2798"/>
                </a:lnTo>
                <a:lnTo>
                  <a:pt x="0" y="2796"/>
                </a:lnTo>
                <a:lnTo>
                  <a:pt x="0" y="2796"/>
                </a:lnTo>
                <a:close/>
                <a:moveTo>
                  <a:pt x="0" y="2671"/>
                </a:moveTo>
                <a:lnTo>
                  <a:pt x="0" y="2616"/>
                </a:lnTo>
                <a:lnTo>
                  <a:pt x="0" y="2615"/>
                </a:lnTo>
                <a:lnTo>
                  <a:pt x="0" y="2614"/>
                </a:lnTo>
                <a:lnTo>
                  <a:pt x="2" y="2611"/>
                </a:lnTo>
                <a:lnTo>
                  <a:pt x="4" y="2609"/>
                </a:lnTo>
                <a:lnTo>
                  <a:pt x="6" y="2608"/>
                </a:lnTo>
                <a:lnTo>
                  <a:pt x="9" y="2608"/>
                </a:lnTo>
                <a:lnTo>
                  <a:pt x="10" y="2608"/>
                </a:lnTo>
                <a:lnTo>
                  <a:pt x="12" y="2609"/>
                </a:lnTo>
                <a:lnTo>
                  <a:pt x="14" y="2611"/>
                </a:lnTo>
                <a:lnTo>
                  <a:pt x="16" y="2614"/>
                </a:lnTo>
                <a:lnTo>
                  <a:pt x="17" y="2615"/>
                </a:lnTo>
                <a:lnTo>
                  <a:pt x="17" y="2616"/>
                </a:lnTo>
                <a:lnTo>
                  <a:pt x="17" y="2671"/>
                </a:lnTo>
                <a:lnTo>
                  <a:pt x="17" y="2673"/>
                </a:lnTo>
                <a:lnTo>
                  <a:pt x="16" y="2674"/>
                </a:lnTo>
                <a:lnTo>
                  <a:pt x="14" y="2677"/>
                </a:lnTo>
                <a:lnTo>
                  <a:pt x="12" y="2678"/>
                </a:lnTo>
                <a:lnTo>
                  <a:pt x="10" y="2680"/>
                </a:lnTo>
                <a:lnTo>
                  <a:pt x="9" y="2680"/>
                </a:lnTo>
                <a:lnTo>
                  <a:pt x="6" y="2680"/>
                </a:lnTo>
                <a:lnTo>
                  <a:pt x="4" y="2678"/>
                </a:lnTo>
                <a:lnTo>
                  <a:pt x="2" y="2677"/>
                </a:lnTo>
                <a:lnTo>
                  <a:pt x="0" y="2674"/>
                </a:lnTo>
                <a:lnTo>
                  <a:pt x="0" y="2673"/>
                </a:lnTo>
                <a:lnTo>
                  <a:pt x="0" y="2671"/>
                </a:lnTo>
                <a:lnTo>
                  <a:pt x="0" y="2671"/>
                </a:lnTo>
                <a:close/>
                <a:moveTo>
                  <a:pt x="0" y="2544"/>
                </a:moveTo>
                <a:lnTo>
                  <a:pt x="0" y="2491"/>
                </a:lnTo>
                <a:lnTo>
                  <a:pt x="0" y="2488"/>
                </a:lnTo>
                <a:lnTo>
                  <a:pt x="0" y="2487"/>
                </a:lnTo>
                <a:lnTo>
                  <a:pt x="2" y="2484"/>
                </a:lnTo>
                <a:lnTo>
                  <a:pt x="4" y="2483"/>
                </a:lnTo>
                <a:lnTo>
                  <a:pt x="6" y="2483"/>
                </a:lnTo>
                <a:lnTo>
                  <a:pt x="9" y="2483"/>
                </a:lnTo>
                <a:lnTo>
                  <a:pt x="10" y="2483"/>
                </a:lnTo>
                <a:lnTo>
                  <a:pt x="12" y="2483"/>
                </a:lnTo>
                <a:lnTo>
                  <a:pt x="14" y="2484"/>
                </a:lnTo>
                <a:lnTo>
                  <a:pt x="16" y="2487"/>
                </a:lnTo>
                <a:lnTo>
                  <a:pt x="17" y="2488"/>
                </a:lnTo>
                <a:lnTo>
                  <a:pt x="17" y="2491"/>
                </a:lnTo>
                <a:lnTo>
                  <a:pt x="17" y="2544"/>
                </a:lnTo>
                <a:lnTo>
                  <a:pt x="17" y="2546"/>
                </a:lnTo>
                <a:lnTo>
                  <a:pt x="16" y="2549"/>
                </a:lnTo>
                <a:lnTo>
                  <a:pt x="14" y="2552"/>
                </a:lnTo>
                <a:lnTo>
                  <a:pt x="12" y="2553"/>
                </a:lnTo>
                <a:lnTo>
                  <a:pt x="10" y="2553"/>
                </a:lnTo>
                <a:lnTo>
                  <a:pt x="9" y="2555"/>
                </a:lnTo>
                <a:lnTo>
                  <a:pt x="6" y="2553"/>
                </a:lnTo>
                <a:lnTo>
                  <a:pt x="4" y="2553"/>
                </a:lnTo>
                <a:lnTo>
                  <a:pt x="2" y="2552"/>
                </a:lnTo>
                <a:lnTo>
                  <a:pt x="0" y="2549"/>
                </a:lnTo>
                <a:lnTo>
                  <a:pt x="0" y="2546"/>
                </a:lnTo>
                <a:lnTo>
                  <a:pt x="0" y="2544"/>
                </a:lnTo>
                <a:lnTo>
                  <a:pt x="0" y="2544"/>
                </a:lnTo>
                <a:close/>
                <a:moveTo>
                  <a:pt x="0" y="2419"/>
                </a:moveTo>
                <a:lnTo>
                  <a:pt x="0" y="2364"/>
                </a:lnTo>
                <a:lnTo>
                  <a:pt x="0" y="2363"/>
                </a:lnTo>
                <a:lnTo>
                  <a:pt x="0" y="2362"/>
                </a:lnTo>
                <a:lnTo>
                  <a:pt x="2" y="2359"/>
                </a:lnTo>
                <a:lnTo>
                  <a:pt x="4" y="2357"/>
                </a:lnTo>
                <a:lnTo>
                  <a:pt x="6" y="2356"/>
                </a:lnTo>
                <a:lnTo>
                  <a:pt x="9" y="2356"/>
                </a:lnTo>
                <a:lnTo>
                  <a:pt x="10" y="2356"/>
                </a:lnTo>
                <a:lnTo>
                  <a:pt x="12" y="2357"/>
                </a:lnTo>
                <a:lnTo>
                  <a:pt x="14" y="2359"/>
                </a:lnTo>
                <a:lnTo>
                  <a:pt x="16" y="2362"/>
                </a:lnTo>
                <a:lnTo>
                  <a:pt x="17" y="2363"/>
                </a:lnTo>
                <a:lnTo>
                  <a:pt x="17" y="2364"/>
                </a:lnTo>
                <a:lnTo>
                  <a:pt x="17" y="2419"/>
                </a:lnTo>
                <a:lnTo>
                  <a:pt x="17" y="2421"/>
                </a:lnTo>
                <a:lnTo>
                  <a:pt x="16" y="2422"/>
                </a:lnTo>
                <a:lnTo>
                  <a:pt x="14" y="2425"/>
                </a:lnTo>
                <a:lnTo>
                  <a:pt x="12" y="2426"/>
                </a:lnTo>
                <a:lnTo>
                  <a:pt x="10" y="2428"/>
                </a:lnTo>
                <a:lnTo>
                  <a:pt x="9" y="2428"/>
                </a:lnTo>
                <a:lnTo>
                  <a:pt x="6" y="2428"/>
                </a:lnTo>
                <a:lnTo>
                  <a:pt x="4" y="2426"/>
                </a:lnTo>
                <a:lnTo>
                  <a:pt x="2" y="2425"/>
                </a:lnTo>
                <a:lnTo>
                  <a:pt x="0" y="2422"/>
                </a:lnTo>
                <a:lnTo>
                  <a:pt x="0" y="2421"/>
                </a:lnTo>
                <a:lnTo>
                  <a:pt x="0" y="2419"/>
                </a:lnTo>
                <a:lnTo>
                  <a:pt x="0" y="2419"/>
                </a:lnTo>
                <a:close/>
                <a:moveTo>
                  <a:pt x="0" y="2292"/>
                </a:moveTo>
                <a:lnTo>
                  <a:pt x="0" y="2239"/>
                </a:lnTo>
                <a:lnTo>
                  <a:pt x="0" y="2236"/>
                </a:lnTo>
                <a:lnTo>
                  <a:pt x="0" y="2235"/>
                </a:lnTo>
                <a:lnTo>
                  <a:pt x="2" y="2232"/>
                </a:lnTo>
                <a:lnTo>
                  <a:pt x="4" y="2231"/>
                </a:lnTo>
                <a:lnTo>
                  <a:pt x="6" y="2231"/>
                </a:lnTo>
                <a:lnTo>
                  <a:pt x="9" y="2231"/>
                </a:lnTo>
                <a:lnTo>
                  <a:pt x="10" y="2231"/>
                </a:lnTo>
                <a:lnTo>
                  <a:pt x="12" y="2231"/>
                </a:lnTo>
                <a:lnTo>
                  <a:pt x="14" y="2232"/>
                </a:lnTo>
                <a:lnTo>
                  <a:pt x="16" y="2235"/>
                </a:lnTo>
                <a:lnTo>
                  <a:pt x="17" y="2236"/>
                </a:lnTo>
                <a:lnTo>
                  <a:pt x="17" y="2239"/>
                </a:lnTo>
                <a:lnTo>
                  <a:pt x="17" y="2292"/>
                </a:lnTo>
                <a:lnTo>
                  <a:pt x="17" y="2294"/>
                </a:lnTo>
                <a:lnTo>
                  <a:pt x="16" y="2297"/>
                </a:lnTo>
                <a:lnTo>
                  <a:pt x="14" y="2300"/>
                </a:lnTo>
                <a:lnTo>
                  <a:pt x="12" y="2301"/>
                </a:lnTo>
                <a:lnTo>
                  <a:pt x="10" y="2301"/>
                </a:lnTo>
                <a:lnTo>
                  <a:pt x="9" y="2303"/>
                </a:lnTo>
                <a:lnTo>
                  <a:pt x="6" y="2301"/>
                </a:lnTo>
                <a:lnTo>
                  <a:pt x="4" y="2301"/>
                </a:lnTo>
                <a:lnTo>
                  <a:pt x="2" y="2300"/>
                </a:lnTo>
                <a:lnTo>
                  <a:pt x="0" y="2297"/>
                </a:lnTo>
                <a:lnTo>
                  <a:pt x="0" y="2294"/>
                </a:lnTo>
                <a:lnTo>
                  <a:pt x="0" y="2292"/>
                </a:lnTo>
                <a:lnTo>
                  <a:pt x="0" y="2292"/>
                </a:lnTo>
                <a:close/>
                <a:moveTo>
                  <a:pt x="0" y="2167"/>
                </a:moveTo>
                <a:lnTo>
                  <a:pt x="0" y="2113"/>
                </a:lnTo>
                <a:lnTo>
                  <a:pt x="0" y="2111"/>
                </a:lnTo>
                <a:lnTo>
                  <a:pt x="0" y="2110"/>
                </a:lnTo>
                <a:lnTo>
                  <a:pt x="2" y="2107"/>
                </a:lnTo>
                <a:lnTo>
                  <a:pt x="4" y="2105"/>
                </a:lnTo>
                <a:lnTo>
                  <a:pt x="6" y="2104"/>
                </a:lnTo>
                <a:lnTo>
                  <a:pt x="9" y="2104"/>
                </a:lnTo>
                <a:lnTo>
                  <a:pt x="10" y="2104"/>
                </a:lnTo>
                <a:lnTo>
                  <a:pt x="12" y="2105"/>
                </a:lnTo>
                <a:lnTo>
                  <a:pt x="14" y="2107"/>
                </a:lnTo>
                <a:lnTo>
                  <a:pt x="16" y="2110"/>
                </a:lnTo>
                <a:lnTo>
                  <a:pt x="17" y="2111"/>
                </a:lnTo>
                <a:lnTo>
                  <a:pt x="17" y="2113"/>
                </a:lnTo>
                <a:lnTo>
                  <a:pt x="17" y="2167"/>
                </a:lnTo>
                <a:lnTo>
                  <a:pt x="17" y="2169"/>
                </a:lnTo>
                <a:lnTo>
                  <a:pt x="16" y="2170"/>
                </a:lnTo>
                <a:lnTo>
                  <a:pt x="14" y="2173"/>
                </a:lnTo>
                <a:lnTo>
                  <a:pt x="12" y="2174"/>
                </a:lnTo>
                <a:lnTo>
                  <a:pt x="10" y="2176"/>
                </a:lnTo>
                <a:lnTo>
                  <a:pt x="9" y="2176"/>
                </a:lnTo>
                <a:lnTo>
                  <a:pt x="6" y="2176"/>
                </a:lnTo>
                <a:lnTo>
                  <a:pt x="4" y="2174"/>
                </a:lnTo>
                <a:lnTo>
                  <a:pt x="2" y="2173"/>
                </a:lnTo>
                <a:lnTo>
                  <a:pt x="0" y="2170"/>
                </a:lnTo>
                <a:lnTo>
                  <a:pt x="0" y="2169"/>
                </a:lnTo>
                <a:lnTo>
                  <a:pt x="0" y="2167"/>
                </a:lnTo>
                <a:lnTo>
                  <a:pt x="0" y="2167"/>
                </a:lnTo>
                <a:close/>
                <a:moveTo>
                  <a:pt x="0" y="2041"/>
                </a:moveTo>
                <a:lnTo>
                  <a:pt x="0" y="1987"/>
                </a:lnTo>
                <a:lnTo>
                  <a:pt x="0" y="1984"/>
                </a:lnTo>
                <a:lnTo>
                  <a:pt x="0" y="1983"/>
                </a:lnTo>
                <a:lnTo>
                  <a:pt x="2" y="1980"/>
                </a:lnTo>
                <a:lnTo>
                  <a:pt x="4" y="1979"/>
                </a:lnTo>
                <a:lnTo>
                  <a:pt x="6" y="1979"/>
                </a:lnTo>
                <a:lnTo>
                  <a:pt x="9" y="1979"/>
                </a:lnTo>
                <a:lnTo>
                  <a:pt x="10" y="1979"/>
                </a:lnTo>
                <a:lnTo>
                  <a:pt x="12" y="1979"/>
                </a:lnTo>
                <a:lnTo>
                  <a:pt x="14" y="1980"/>
                </a:lnTo>
                <a:lnTo>
                  <a:pt x="16" y="1983"/>
                </a:lnTo>
                <a:lnTo>
                  <a:pt x="17" y="1984"/>
                </a:lnTo>
                <a:lnTo>
                  <a:pt x="17" y="1987"/>
                </a:lnTo>
                <a:lnTo>
                  <a:pt x="17" y="2041"/>
                </a:lnTo>
                <a:lnTo>
                  <a:pt x="17" y="2042"/>
                </a:lnTo>
                <a:lnTo>
                  <a:pt x="16" y="2045"/>
                </a:lnTo>
                <a:lnTo>
                  <a:pt x="14" y="2048"/>
                </a:lnTo>
                <a:lnTo>
                  <a:pt x="12" y="2049"/>
                </a:lnTo>
                <a:lnTo>
                  <a:pt x="10" y="2049"/>
                </a:lnTo>
                <a:lnTo>
                  <a:pt x="9" y="2051"/>
                </a:lnTo>
                <a:lnTo>
                  <a:pt x="6" y="2049"/>
                </a:lnTo>
                <a:lnTo>
                  <a:pt x="4" y="2049"/>
                </a:lnTo>
                <a:lnTo>
                  <a:pt x="2" y="2048"/>
                </a:lnTo>
                <a:lnTo>
                  <a:pt x="0" y="2045"/>
                </a:lnTo>
                <a:lnTo>
                  <a:pt x="0" y="2042"/>
                </a:lnTo>
                <a:lnTo>
                  <a:pt x="0" y="2041"/>
                </a:lnTo>
                <a:lnTo>
                  <a:pt x="0" y="2041"/>
                </a:lnTo>
                <a:close/>
                <a:moveTo>
                  <a:pt x="0" y="1915"/>
                </a:moveTo>
                <a:lnTo>
                  <a:pt x="0" y="1861"/>
                </a:lnTo>
                <a:lnTo>
                  <a:pt x="0" y="1859"/>
                </a:lnTo>
                <a:lnTo>
                  <a:pt x="0" y="1858"/>
                </a:lnTo>
                <a:lnTo>
                  <a:pt x="2" y="1855"/>
                </a:lnTo>
                <a:lnTo>
                  <a:pt x="4" y="1853"/>
                </a:lnTo>
                <a:lnTo>
                  <a:pt x="6" y="1852"/>
                </a:lnTo>
                <a:lnTo>
                  <a:pt x="9" y="1852"/>
                </a:lnTo>
                <a:lnTo>
                  <a:pt x="10" y="1852"/>
                </a:lnTo>
                <a:lnTo>
                  <a:pt x="12" y="1853"/>
                </a:lnTo>
                <a:lnTo>
                  <a:pt x="14" y="1855"/>
                </a:lnTo>
                <a:lnTo>
                  <a:pt x="16" y="1858"/>
                </a:lnTo>
                <a:lnTo>
                  <a:pt x="17" y="1859"/>
                </a:lnTo>
                <a:lnTo>
                  <a:pt x="17" y="1861"/>
                </a:lnTo>
                <a:lnTo>
                  <a:pt x="17" y="1915"/>
                </a:lnTo>
                <a:lnTo>
                  <a:pt x="17" y="1917"/>
                </a:lnTo>
                <a:lnTo>
                  <a:pt x="16" y="1918"/>
                </a:lnTo>
                <a:lnTo>
                  <a:pt x="14" y="1921"/>
                </a:lnTo>
                <a:lnTo>
                  <a:pt x="12" y="1922"/>
                </a:lnTo>
                <a:lnTo>
                  <a:pt x="10" y="1924"/>
                </a:lnTo>
                <a:lnTo>
                  <a:pt x="9" y="1924"/>
                </a:lnTo>
                <a:lnTo>
                  <a:pt x="6" y="1924"/>
                </a:lnTo>
                <a:lnTo>
                  <a:pt x="4" y="1922"/>
                </a:lnTo>
                <a:lnTo>
                  <a:pt x="2" y="1921"/>
                </a:lnTo>
                <a:lnTo>
                  <a:pt x="0" y="1918"/>
                </a:lnTo>
                <a:lnTo>
                  <a:pt x="0" y="1917"/>
                </a:lnTo>
                <a:lnTo>
                  <a:pt x="0" y="1915"/>
                </a:lnTo>
                <a:lnTo>
                  <a:pt x="0" y="1915"/>
                </a:lnTo>
                <a:close/>
                <a:moveTo>
                  <a:pt x="0" y="1789"/>
                </a:moveTo>
                <a:lnTo>
                  <a:pt x="0" y="1735"/>
                </a:lnTo>
                <a:lnTo>
                  <a:pt x="0" y="1732"/>
                </a:lnTo>
                <a:lnTo>
                  <a:pt x="0" y="1731"/>
                </a:lnTo>
                <a:lnTo>
                  <a:pt x="2" y="1728"/>
                </a:lnTo>
                <a:lnTo>
                  <a:pt x="4" y="1727"/>
                </a:lnTo>
                <a:lnTo>
                  <a:pt x="6" y="1727"/>
                </a:lnTo>
                <a:lnTo>
                  <a:pt x="9" y="1727"/>
                </a:lnTo>
                <a:lnTo>
                  <a:pt x="10" y="1727"/>
                </a:lnTo>
                <a:lnTo>
                  <a:pt x="12" y="1727"/>
                </a:lnTo>
                <a:lnTo>
                  <a:pt x="14" y="1728"/>
                </a:lnTo>
                <a:lnTo>
                  <a:pt x="16" y="1731"/>
                </a:lnTo>
                <a:lnTo>
                  <a:pt x="17" y="1732"/>
                </a:lnTo>
                <a:lnTo>
                  <a:pt x="17" y="1735"/>
                </a:lnTo>
                <a:lnTo>
                  <a:pt x="17" y="1789"/>
                </a:lnTo>
                <a:lnTo>
                  <a:pt x="17" y="1790"/>
                </a:lnTo>
                <a:lnTo>
                  <a:pt x="16" y="1793"/>
                </a:lnTo>
                <a:lnTo>
                  <a:pt x="14" y="1796"/>
                </a:lnTo>
                <a:lnTo>
                  <a:pt x="12" y="1797"/>
                </a:lnTo>
                <a:lnTo>
                  <a:pt x="10" y="1797"/>
                </a:lnTo>
                <a:lnTo>
                  <a:pt x="9" y="1799"/>
                </a:lnTo>
                <a:lnTo>
                  <a:pt x="6" y="1797"/>
                </a:lnTo>
                <a:lnTo>
                  <a:pt x="4" y="1797"/>
                </a:lnTo>
                <a:lnTo>
                  <a:pt x="2" y="1796"/>
                </a:lnTo>
                <a:lnTo>
                  <a:pt x="0" y="1793"/>
                </a:lnTo>
                <a:lnTo>
                  <a:pt x="0" y="1790"/>
                </a:lnTo>
                <a:lnTo>
                  <a:pt x="0" y="1789"/>
                </a:lnTo>
                <a:lnTo>
                  <a:pt x="0" y="1789"/>
                </a:lnTo>
                <a:close/>
                <a:moveTo>
                  <a:pt x="0" y="1663"/>
                </a:moveTo>
                <a:lnTo>
                  <a:pt x="0" y="1609"/>
                </a:lnTo>
                <a:lnTo>
                  <a:pt x="0" y="1607"/>
                </a:lnTo>
                <a:lnTo>
                  <a:pt x="0" y="1606"/>
                </a:lnTo>
                <a:lnTo>
                  <a:pt x="2" y="1603"/>
                </a:lnTo>
                <a:lnTo>
                  <a:pt x="4" y="1601"/>
                </a:lnTo>
                <a:lnTo>
                  <a:pt x="6" y="1600"/>
                </a:lnTo>
                <a:lnTo>
                  <a:pt x="9" y="1600"/>
                </a:lnTo>
                <a:lnTo>
                  <a:pt x="10" y="1600"/>
                </a:lnTo>
                <a:lnTo>
                  <a:pt x="12" y="1601"/>
                </a:lnTo>
                <a:lnTo>
                  <a:pt x="14" y="1603"/>
                </a:lnTo>
                <a:lnTo>
                  <a:pt x="16" y="1606"/>
                </a:lnTo>
                <a:lnTo>
                  <a:pt x="17" y="1607"/>
                </a:lnTo>
                <a:lnTo>
                  <a:pt x="17" y="1609"/>
                </a:lnTo>
                <a:lnTo>
                  <a:pt x="17" y="1663"/>
                </a:lnTo>
                <a:lnTo>
                  <a:pt x="17" y="1665"/>
                </a:lnTo>
                <a:lnTo>
                  <a:pt x="16" y="1666"/>
                </a:lnTo>
                <a:lnTo>
                  <a:pt x="14" y="1669"/>
                </a:lnTo>
                <a:lnTo>
                  <a:pt x="12" y="1671"/>
                </a:lnTo>
                <a:lnTo>
                  <a:pt x="10" y="1672"/>
                </a:lnTo>
                <a:lnTo>
                  <a:pt x="9" y="1672"/>
                </a:lnTo>
                <a:lnTo>
                  <a:pt x="6" y="1672"/>
                </a:lnTo>
                <a:lnTo>
                  <a:pt x="4" y="1671"/>
                </a:lnTo>
                <a:lnTo>
                  <a:pt x="2" y="1669"/>
                </a:lnTo>
                <a:lnTo>
                  <a:pt x="0" y="1666"/>
                </a:lnTo>
                <a:lnTo>
                  <a:pt x="0" y="1665"/>
                </a:lnTo>
                <a:lnTo>
                  <a:pt x="0" y="1663"/>
                </a:lnTo>
                <a:lnTo>
                  <a:pt x="0" y="1663"/>
                </a:lnTo>
                <a:close/>
                <a:moveTo>
                  <a:pt x="0" y="1537"/>
                </a:moveTo>
                <a:lnTo>
                  <a:pt x="0" y="1483"/>
                </a:lnTo>
                <a:lnTo>
                  <a:pt x="0" y="1480"/>
                </a:lnTo>
                <a:lnTo>
                  <a:pt x="0" y="1479"/>
                </a:lnTo>
                <a:lnTo>
                  <a:pt x="2" y="1476"/>
                </a:lnTo>
                <a:lnTo>
                  <a:pt x="4" y="1475"/>
                </a:lnTo>
                <a:lnTo>
                  <a:pt x="6" y="1475"/>
                </a:lnTo>
                <a:lnTo>
                  <a:pt x="9" y="1475"/>
                </a:lnTo>
                <a:lnTo>
                  <a:pt x="10" y="1475"/>
                </a:lnTo>
                <a:lnTo>
                  <a:pt x="12" y="1475"/>
                </a:lnTo>
                <a:lnTo>
                  <a:pt x="14" y="1476"/>
                </a:lnTo>
                <a:lnTo>
                  <a:pt x="16" y="1479"/>
                </a:lnTo>
                <a:lnTo>
                  <a:pt x="17" y="1480"/>
                </a:lnTo>
                <a:lnTo>
                  <a:pt x="17" y="1483"/>
                </a:lnTo>
                <a:lnTo>
                  <a:pt x="17" y="1537"/>
                </a:lnTo>
                <a:lnTo>
                  <a:pt x="17" y="1538"/>
                </a:lnTo>
                <a:lnTo>
                  <a:pt x="16" y="1541"/>
                </a:lnTo>
                <a:lnTo>
                  <a:pt x="14" y="1544"/>
                </a:lnTo>
                <a:lnTo>
                  <a:pt x="12" y="1545"/>
                </a:lnTo>
                <a:lnTo>
                  <a:pt x="10" y="1545"/>
                </a:lnTo>
                <a:lnTo>
                  <a:pt x="9" y="1547"/>
                </a:lnTo>
                <a:lnTo>
                  <a:pt x="6" y="1545"/>
                </a:lnTo>
                <a:lnTo>
                  <a:pt x="4" y="1545"/>
                </a:lnTo>
                <a:lnTo>
                  <a:pt x="2" y="1544"/>
                </a:lnTo>
                <a:lnTo>
                  <a:pt x="0" y="1541"/>
                </a:lnTo>
                <a:lnTo>
                  <a:pt x="0" y="1538"/>
                </a:lnTo>
                <a:lnTo>
                  <a:pt x="0" y="1537"/>
                </a:lnTo>
                <a:lnTo>
                  <a:pt x="0" y="1537"/>
                </a:lnTo>
                <a:close/>
                <a:moveTo>
                  <a:pt x="0" y="1411"/>
                </a:moveTo>
                <a:lnTo>
                  <a:pt x="0" y="1357"/>
                </a:lnTo>
                <a:lnTo>
                  <a:pt x="0" y="1355"/>
                </a:lnTo>
                <a:lnTo>
                  <a:pt x="0" y="1354"/>
                </a:lnTo>
                <a:lnTo>
                  <a:pt x="2" y="1351"/>
                </a:lnTo>
                <a:lnTo>
                  <a:pt x="4" y="1349"/>
                </a:lnTo>
                <a:lnTo>
                  <a:pt x="6" y="1348"/>
                </a:lnTo>
                <a:lnTo>
                  <a:pt x="9" y="1348"/>
                </a:lnTo>
                <a:lnTo>
                  <a:pt x="10" y="1348"/>
                </a:lnTo>
                <a:lnTo>
                  <a:pt x="12" y="1349"/>
                </a:lnTo>
                <a:lnTo>
                  <a:pt x="14" y="1351"/>
                </a:lnTo>
                <a:lnTo>
                  <a:pt x="16" y="1354"/>
                </a:lnTo>
                <a:lnTo>
                  <a:pt x="17" y="1355"/>
                </a:lnTo>
                <a:lnTo>
                  <a:pt x="17" y="1357"/>
                </a:lnTo>
                <a:lnTo>
                  <a:pt x="17" y="1411"/>
                </a:lnTo>
                <a:lnTo>
                  <a:pt x="17" y="1413"/>
                </a:lnTo>
                <a:lnTo>
                  <a:pt x="16" y="1414"/>
                </a:lnTo>
                <a:lnTo>
                  <a:pt x="14" y="1417"/>
                </a:lnTo>
                <a:lnTo>
                  <a:pt x="12" y="1419"/>
                </a:lnTo>
                <a:lnTo>
                  <a:pt x="10" y="1420"/>
                </a:lnTo>
                <a:lnTo>
                  <a:pt x="9" y="1420"/>
                </a:lnTo>
                <a:lnTo>
                  <a:pt x="6" y="1420"/>
                </a:lnTo>
                <a:lnTo>
                  <a:pt x="4" y="1419"/>
                </a:lnTo>
                <a:lnTo>
                  <a:pt x="2" y="1417"/>
                </a:lnTo>
                <a:lnTo>
                  <a:pt x="0" y="1414"/>
                </a:lnTo>
                <a:lnTo>
                  <a:pt x="0" y="1413"/>
                </a:lnTo>
                <a:lnTo>
                  <a:pt x="0" y="1411"/>
                </a:lnTo>
                <a:lnTo>
                  <a:pt x="0" y="1411"/>
                </a:lnTo>
                <a:close/>
                <a:moveTo>
                  <a:pt x="0" y="1285"/>
                </a:moveTo>
                <a:lnTo>
                  <a:pt x="0" y="1231"/>
                </a:lnTo>
                <a:lnTo>
                  <a:pt x="0" y="1229"/>
                </a:lnTo>
                <a:lnTo>
                  <a:pt x="0" y="1227"/>
                </a:lnTo>
                <a:lnTo>
                  <a:pt x="2" y="1224"/>
                </a:lnTo>
                <a:lnTo>
                  <a:pt x="4" y="1223"/>
                </a:lnTo>
                <a:lnTo>
                  <a:pt x="6" y="1223"/>
                </a:lnTo>
                <a:lnTo>
                  <a:pt x="9" y="1223"/>
                </a:lnTo>
                <a:lnTo>
                  <a:pt x="10" y="1223"/>
                </a:lnTo>
                <a:lnTo>
                  <a:pt x="12" y="1223"/>
                </a:lnTo>
                <a:lnTo>
                  <a:pt x="14" y="1224"/>
                </a:lnTo>
                <a:lnTo>
                  <a:pt x="16" y="1227"/>
                </a:lnTo>
                <a:lnTo>
                  <a:pt x="17" y="1229"/>
                </a:lnTo>
                <a:lnTo>
                  <a:pt x="17" y="1231"/>
                </a:lnTo>
                <a:lnTo>
                  <a:pt x="17" y="1285"/>
                </a:lnTo>
                <a:lnTo>
                  <a:pt x="17" y="1286"/>
                </a:lnTo>
                <a:lnTo>
                  <a:pt x="16" y="1289"/>
                </a:lnTo>
                <a:lnTo>
                  <a:pt x="14" y="1292"/>
                </a:lnTo>
                <a:lnTo>
                  <a:pt x="12" y="1293"/>
                </a:lnTo>
                <a:lnTo>
                  <a:pt x="10" y="1293"/>
                </a:lnTo>
                <a:lnTo>
                  <a:pt x="9" y="1295"/>
                </a:lnTo>
                <a:lnTo>
                  <a:pt x="6" y="1293"/>
                </a:lnTo>
                <a:lnTo>
                  <a:pt x="4" y="1293"/>
                </a:lnTo>
                <a:lnTo>
                  <a:pt x="2" y="1292"/>
                </a:lnTo>
                <a:lnTo>
                  <a:pt x="0" y="1289"/>
                </a:lnTo>
                <a:lnTo>
                  <a:pt x="0" y="1286"/>
                </a:lnTo>
                <a:lnTo>
                  <a:pt x="0" y="1285"/>
                </a:lnTo>
                <a:lnTo>
                  <a:pt x="0" y="1285"/>
                </a:lnTo>
                <a:close/>
                <a:moveTo>
                  <a:pt x="0" y="1159"/>
                </a:moveTo>
                <a:lnTo>
                  <a:pt x="0" y="1105"/>
                </a:lnTo>
                <a:lnTo>
                  <a:pt x="0" y="1103"/>
                </a:lnTo>
                <a:lnTo>
                  <a:pt x="0" y="1102"/>
                </a:lnTo>
                <a:lnTo>
                  <a:pt x="2" y="1099"/>
                </a:lnTo>
                <a:lnTo>
                  <a:pt x="4" y="1098"/>
                </a:lnTo>
                <a:lnTo>
                  <a:pt x="6" y="1096"/>
                </a:lnTo>
                <a:lnTo>
                  <a:pt x="9" y="1096"/>
                </a:lnTo>
                <a:lnTo>
                  <a:pt x="10" y="1096"/>
                </a:lnTo>
                <a:lnTo>
                  <a:pt x="12" y="1098"/>
                </a:lnTo>
                <a:lnTo>
                  <a:pt x="14" y="1099"/>
                </a:lnTo>
                <a:lnTo>
                  <a:pt x="16" y="1102"/>
                </a:lnTo>
                <a:lnTo>
                  <a:pt x="17" y="1103"/>
                </a:lnTo>
                <a:lnTo>
                  <a:pt x="17" y="1105"/>
                </a:lnTo>
                <a:lnTo>
                  <a:pt x="17" y="1159"/>
                </a:lnTo>
                <a:lnTo>
                  <a:pt x="17" y="1161"/>
                </a:lnTo>
                <a:lnTo>
                  <a:pt x="16" y="1162"/>
                </a:lnTo>
                <a:lnTo>
                  <a:pt x="14" y="1165"/>
                </a:lnTo>
                <a:lnTo>
                  <a:pt x="12" y="1167"/>
                </a:lnTo>
                <a:lnTo>
                  <a:pt x="10" y="1168"/>
                </a:lnTo>
                <a:lnTo>
                  <a:pt x="9" y="1168"/>
                </a:lnTo>
                <a:lnTo>
                  <a:pt x="6" y="1168"/>
                </a:lnTo>
                <a:lnTo>
                  <a:pt x="4" y="1167"/>
                </a:lnTo>
                <a:lnTo>
                  <a:pt x="2" y="1165"/>
                </a:lnTo>
                <a:lnTo>
                  <a:pt x="0" y="1162"/>
                </a:lnTo>
                <a:lnTo>
                  <a:pt x="0" y="1161"/>
                </a:lnTo>
                <a:lnTo>
                  <a:pt x="0" y="1159"/>
                </a:lnTo>
                <a:lnTo>
                  <a:pt x="0" y="1159"/>
                </a:lnTo>
                <a:close/>
                <a:moveTo>
                  <a:pt x="0" y="1033"/>
                </a:moveTo>
                <a:lnTo>
                  <a:pt x="0" y="979"/>
                </a:lnTo>
                <a:lnTo>
                  <a:pt x="0" y="977"/>
                </a:lnTo>
                <a:lnTo>
                  <a:pt x="0" y="975"/>
                </a:lnTo>
                <a:lnTo>
                  <a:pt x="2" y="972"/>
                </a:lnTo>
                <a:lnTo>
                  <a:pt x="4" y="971"/>
                </a:lnTo>
                <a:lnTo>
                  <a:pt x="6" y="971"/>
                </a:lnTo>
                <a:lnTo>
                  <a:pt x="9" y="971"/>
                </a:lnTo>
                <a:lnTo>
                  <a:pt x="10" y="971"/>
                </a:lnTo>
                <a:lnTo>
                  <a:pt x="12" y="971"/>
                </a:lnTo>
                <a:lnTo>
                  <a:pt x="14" y="972"/>
                </a:lnTo>
                <a:lnTo>
                  <a:pt x="16" y="975"/>
                </a:lnTo>
                <a:lnTo>
                  <a:pt x="17" y="977"/>
                </a:lnTo>
                <a:lnTo>
                  <a:pt x="17" y="979"/>
                </a:lnTo>
                <a:lnTo>
                  <a:pt x="17" y="1033"/>
                </a:lnTo>
                <a:lnTo>
                  <a:pt x="17" y="1034"/>
                </a:lnTo>
                <a:lnTo>
                  <a:pt x="16" y="1037"/>
                </a:lnTo>
                <a:lnTo>
                  <a:pt x="14" y="1040"/>
                </a:lnTo>
                <a:lnTo>
                  <a:pt x="12" y="1041"/>
                </a:lnTo>
                <a:lnTo>
                  <a:pt x="10" y="1041"/>
                </a:lnTo>
                <a:lnTo>
                  <a:pt x="9" y="1043"/>
                </a:lnTo>
                <a:lnTo>
                  <a:pt x="6" y="1041"/>
                </a:lnTo>
                <a:lnTo>
                  <a:pt x="4" y="1041"/>
                </a:lnTo>
                <a:lnTo>
                  <a:pt x="2" y="1040"/>
                </a:lnTo>
                <a:lnTo>
                  <a:pt x="0" y="1037"/>
                </a:lnTo>
                <a:lnTo>
                  <a:pt x="0" y="1034"/>
                </a:lnTo>
                <a:lnTo>
                  <a:pt x="0" y="1033"/>
                </a:lnTo>
                <a:lnTo>
                  <a:pt x="0" y="1033"/>
                </a:lnTo>
                <a:close/>
                <a:moveTo>
                  <a:pt x="0" y="907"/>
                </a:moveTo>
                <a:lnTo>
                  <a:pt x="0" y="853"/>
                </a:lnTo>
                <a:lnTo>
                  <a:pt x="0" y="851"/>
                </a:lnTo>
                <a:lnTo>
                  <a:pt x="0" y="850"/>
                </a:lnTo>
                <a:lnTo>
                  <a:pt x="2" y="847"/>
                </a:lnTo>
                <a:lnTo>
                  <a:pt x="4" y="846"/>
                </a:lnTo>
                <a:lnTo>
                  <a:pt x="6" y="844"/>
                </a:lnTo>
                <a:lnTo>
                  <a:pt x="9" y="844"/>
                </a:lnTo>
                <a:lnTo>
                  <a:pt x="10" y="844"/>
                </a:lnTo>
                <a:lnTo>
                  <a:pt x="12" y="846"/>
                </a:lnTo>
                <a:lnTo>
                  <a:pt x="14" y="847"/>
                </a:lnTo>
                <a:lnTo>
                  <a:pt x="16" y="850"/>
                </a:lnTo>
                <a:lnTo>
                  <a:pt x="17" y="851"/>
                </a:lnTo>
                <a:lnTo>
                  <a:pt x="17" y="853"/>
                </a:lnTo>
                <a:lnTo>
                  <a:pt x="17" y="907"/>
                </a:lnTo>
                <a:lnTo>
                  <a:pt x="17" y="909"/>
                </a:lnTo>
                <a:lnTo>
                  <a:pt x="16" y="910"/>
                </a:lnTo>
                <a:lnTo>
                  <a:pt x="14" y="913"/>
                </a:lnTo>
                <a:lnTo>
                  <a:pt x="12" y="915"/>
                </a:lnTo>
                <a:lnTo>
                  <a:pt x="10" y="916"/>
                </a:lnTo>
                <a:lnTo>
                  <a:pt x="9" y="916"/>
                </a:lnTo>
                <a:lnTo>
                  <a:pt x="6" y="916"/>
                </a:lnTo>
                <a:lnTo>
                  <a:pt x="4" y="915"/>
                </a:lnTo>
                <a:lnTo>
                  <a:pt x="2" y="913"/>
                </a:lnTo>
                <a:lnTo>
                  <a:pt x="0" y="910"/>
                </a:lnTo>
                <a:lnTo>
                  <a:pt x="0" y="909"/>
                </a:lnTo>
                <a:lnTo>
                  <a:pt x="0" y="907"/>
                </a:lnTo>
                <a:lnTo>
                  <a:pt x="0" y="907"/>
                </a:lnTo>
                <a:close/>
                <a:moveTo>
                  <a:pt x="0" y="781"/>
                </a:moveTo>
                <a:lnTo>
                  <a:pt x="0" y="728"/>
                </a:lnTo>
                <a:lnTo>
                  <a:pt x="0" y="725"/>
                </a:lnTo>
                <a:lnTo>
                  <a:pt x="0" y="723"/>
                </a:lnTo>
                <a:lnTo>
                  <a:pt x="2" y="720"/>
                </a:lnTo>
                <a:lnTo>
                  <a:pt x="4" y="719"/>
                </a:lnTo>
                <a:lnTo>
                  <a:pt x="6" y="719"/>
                </a:lnTo>
                <a:lnTo>
                  <a:pt x="9" y="719"/>
                </a:lnTo>
                <a:lnTo>
                  <a:pt x="10" y="719"/>
                </a:lnTo>
                <a:lnTo>
                  <a:pt x="12" y="719"/>
                </a:lnTo>
                <a:lnTo>
                  <a:pt x="14" y="720"/>
                </a:lnTo>
                <a:lnTo>
                  <a:pt x="16" y="723"/>
                </a:lnTo>
                <a:lnTo>
                  <a:pt x="17" y="725"/>
                </a:lnTo>
                <a:lnTo>
                  <a:pt x="17" y="728"/>
                </a:lnTo>
                <a:lnTo>
                  <a:pt x="17" y="781"/>
                </a:lnTo>
                <a:lnTo>
                  <a:pt x="17" y="782"/>
                </a:lnTo>
                <a:lnTo>
                  <a:pt x="16" y="785"/>
                </a:lnTo>
                <a:lnTo>
                  <a:pt x="14" y="788"/>
                </a:lnTo>
                <a:lnTo>
                  <a:pt x="12" y="789"/>
                </a:lnTo>
                <a:lnTo>
                  <a:pt x="10" y="789"/>
                </a:lnTo>
                <a:lnTo>
                  <a:pt x="9" y="791"/>
                </a:lnTo>
                <a:lnTo>
                  <a:pt x="6" y="789"/>
                </a:lnTo>
                <a:lnTo>
                  <a:pt x="4" y="789"/>
                </a:lnTo>
                <a:lnTo>
                  <a:pt x="2" y="788"/>
                </a:lnTo>
                <a:lnTo>
                  <a:pt x="0" y="785"/>
                </a:lnTo>
                <a:lnTo>
                  <a:pt x="0" y="782"/>
                </a:lnTo>
                <a:lnTo>
                  <a:pt x="0" y="781"/>
                </a:lnTo>
                <a:lnTo>
                  <a:pt x="0" y="781"/>
                </a:lnTo>
                <a:close/>
                <a:moveTo>
                  <a:pt x="0" y="656"/>
                </a:move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2" y="595"/>
                </a:lnTo>
                <a:lnTo>
                  <a:pt x="4" y="594"/>
                </a:lnTo>
                <a:lnTo>
                  <a:pt x="6" y="592"/>
                </a:lnTo>
                <a:lnTo>
                  <a:pt x="9" y="592"/>
                </a:lnTo>
                <a:lnTo>
                  <a:pt x="10" y="592"/>
                </a:lnTo>
                <a:lnTo>
                  <a:pt x="12" y="594"/>
                </a:lnTo>
                <a:lnTo>
                  <a:pt x="14" y="595"/>
                </a:lnTo>
                <a:lnTo>
                  <a:pt x="16" y="598"/>
                </a:lnTo>
                <a:lnTo>
                  <a:pt x="17" y="599"/>
                </a:lnTo>
                <a:lnTo>
                  <a:pt x="17" y="601"/>
                </a:lnTo>
                <a:lnTo>
                  <a:pt x="17" y="656"/>
                </a:lnTo>
                <a:lnTo>
                  <a:pt x="17" y="657"/>
                </a:lnTo>
                <a:lnTo>
                  <a:pt x="16" y="658"/>
                </a:lnTo>
                <a:lnTo>
                  <a:pt x="14" y="661"/>
                </a:lnTo>
                <a:lnTo>
                  <a:pt x="12" y="663"/>
                </a:lnTo>
                <a:lnTo>
                  <a:pt x="10" y="664"/>
                </a:lnTo>
                <a:lnTo>
                  <a:pt x="9" y="664"/>
                </a:lnTo>
                <a:lnTo>
                  <a:pt x="6" y="664"/>
                </a:lnTo>
                <a:lnTo>
                  <a:pt x="4" y="663"/>
                </a:lnTo>
                <a:lnTo>
                  <a:pt x="2" y="661"/>
                </a:lnTo>
                <a:lnTo>
                  <a:pt x="0" y="658"/>
                </a:lnTo>
                <a:lnTo>
                  <a:pt x="0" y="657"/>
                </a:lnTo>
                <a:lnTo>
                  <a:pt x="0" y="656"/>
                </a:lnTo>
                <a:lnTo>
                  <a:pt x="0" y="656"/>
                </a:lnTo>
                <a:close/>
                <a:moveTo>
                  <a:pt x="0" y="529"/>
                </a:moveTo>
                <a:lnTo>
                  <a:pt x="0" y="476"/>
                </a:lnTo>
                <a:lnTo>
                  <a:pt x="0" y="473"/>
                </a:lnTo>
                <a:lnTo>
                  <a:pt x="0" y="471"/>
                </a:lnTo>
                <a:lnTo>
                  <a:pt x="2" y="468"/>
                </a:lnTo>
                <a:lnTo>
                  <a:pt x="4" y="467"/>
                </a:lnTo>
                <a:lnTo>
                  <a:pt x="6" y="467"/>
                </a:lnTo>
                <a:lnTo>
                  <a:pt x="9" y="467"/>
                </a:lnTo>
                <a:lnTo>
                  <a:pt x="10" y="467"/>
                </a:lnTo>
                <a:lnTo>
                  <a:pt x="12" y="467"/>
                </a:lnTo>
                <a:lnTo>
                  <a:pt x="14" y="468"/>
                </a:lnTo>
                <a:lnTo>
                  <a:pt x="16" y="471"/>
                </a:lnTo>
                <a:lnTo>
                  <a:pt x="17" y="473"/>
                </a:lnTo>
                <a:lnTo>
                  <a:pt x="17" y="476"/>
                </a:lnTo>
                <a:lnTo>
                  <a:pt x="17" y="529"/>
                </a:lnTo>
                <a:lnTo>
                  <a:pt x="17" y="530"/>
                </a:lnTo>
                <a:lnTo>
                  <a:pt x="16" y="533"/>
                </a:lnTo>
                <a:lnTo>
                  <a:pt x="14" y="536"/>
                </a:lnTo>
                <a:lnTo>
                  <a:pt x="12" y="537"/>
                </a:lnTo>
                <a:lnTo>
                  <a:pt x="10" y="537"/>
                </a:lnTo>
                <a:lnTo>
                  <a:pt x="9" y="539"/>
                </a:lnTo>
                <a:lnTo>
                  <a:pt x="6" y="537"/>
                </a:lnTo>
                <a:lnTo>
                  <a:pt x="4" y="537"/>
                </a:lnTo>
                <a:lnTo>
                  <a:pt x="2" y="536"/>
                </a:lnTo>
                <a:lnTo>
                  <a:pt x="0" y="533"/>
                </a:lnTo>
                <a:lnTo>
                  <a:pt x="0" y="530"/>
                </a:lnTo>
                <a:lnTo>
                  <a:pt x="0" y="529"/>
                </a:lnTo>
                <a:lnTo>
                  <a:pt x="0" y="529"/>
                </a:lnTo>
                <a:close/>
                <a:moveTo>
                  <a:pt x="0" y="404"/>
                </a:moveTo>
                <a:lnTo>
                  <a:pt x="0" y="349"/>
                </a:lnTo>
                <a:lnTo>
                  <a:pt x="0" y="347"/>
                </a:lnTo>
                <a:lnTo>
                  <a:pt x="0" y="346"/>
                </a:lnTo>
                <a:lnTo>
                  <a:pt x="2" y="343"/>
                </a:lnTo>
                <a:lnTo>
                  <a:pt x="4" y="342"/>
                </a:lnTo>
                <a:lnTo>
                  <a:pt x="6" y="340"/>
                </a:lnTo>
                <a:lnTo>
                  <a:pt x="9" y="340"/>
                </a:lnTo>
                <a:lnTo>
                  <a:pt x="10" y="340"/>
                </a:lnTo>
                <a:lnTo>
                  <a:pt x="12" y="342"/>
                </a:lnTo>
                <a:lnTo>
                  <a:pt x="14" y="343"/>
                </a:lnTo>
                <a:lnTo>
                  <a:pt x="16" y="346"/>
                </a:lnTo>
                <a:lnTo>
                  <a:pt x="17" y="347"/>
                </a:lnTo>
                <a:lnTo>
                  <a:pt x="17" y="349"/>
                </a:lnTo>
                <a:lnTo>
                  <a:pt x="17" y="404"/>
                </a:lnTo>
                <a:lnTo>
                  <a:pt x="17" y="405"/>
                </a:lnTo>
                <a:lnTo>
                  <a:pt x="16" y="406"/>
                </a:lnTo>
                <a:lnTo>
                  <a:pt x="14" y="409"/>
                </a:lnTo>
                <a:lnTo>
                  <a:pt x="12" y="411"/>
                </a:lnTo>
                <a:lnTo>
                  <a:pt x="10" y="412"/>
                </a:lnTo>
                <a:lnTo>
                  <a:pt x="9" y="412"/>
                </a:lnTo>
                <a:lnTo>
                  <a:pt x="6" y="412"/>
                </a:lnTo>
                <a:lnTo>
                  <a:pt x="4" y="411"/>
                </a:lnTo>
                <a:lnTo>
                  <a:pt x="2" y="409"/>
                </a:lnTo>
                <a:lnTo>
                  <a:pt x="0" y="406"/>
                </a:lnTo>
                <a:lnTo>
                  <a:pt x="0" y="405"/>
                </a:lnTo>
                <a:lnTo>
                  <a:pt x="0" y="404"/>
                </a:lnTo>
                <a:lnTo>
                  <a:pt x="0" y="404"/>
                </a:lnTo>
                <a:close/>
                <a:moveTo>
                  <a:pt x="0" y="277"/>
                </a:moveTo>
                <a:lnTo>
                  <a:pt x="0" y="224"/>
                </a:lnTo>
                <a:lnTo>
                  <a:pt x="0" y="221"/>
                </a:lnTo>
                <a:lnTo>
                  <a:pt x="0" y="219"/>
                </a:lnTo>
                <a:lnTo>
                  <a:pt x="2" y="216"/>
                </a:lnTo>
                <a:lnTo>
                  <a:pt x="4" y="215"/>
                </a:lnTo>
                <a:lnTo>
                  <a:pt x="6" y="215"/>
                </a:lnTo>
                <a:lnTo>
                  <a:pt x="9" y="215"/>
                </a:lnTo>
                <a:lnTo>
                  <a:pt x="10" y="215"/>
                </a:lnTo>
                <a:lnTo>
                  <a:pt x="12" y="215"/>
                </a:lnTo>
                <a:lnTo>
                  <a:pt x="14" y="216"/>
                </a:lnTo>
                <a:lnTo>
                  <a:pt x="16" y="219"/>
                </a:lnTo>
                <a:lnTo>
                  <a:pt x="17" y="221"/>
                </a:lnTo>
                <a:lnTo>
                  <a:pt x="17" y="224"/>
                </a:lnTo>
                <a:lnTo>
                  <a:pt x="17" y="277"/>
                </a:lnTo>
                <a:lnTo>
                  <a:pt x="17" y="278"/>
                </a:lnTo>
                <a:lnTo>
                  <a:pt x="16" y="281"/>
                </a:lnTo>
                <a:lnTo>
                  <a:pt x="14" y="284"/>
                </a:lnTo>
                <a:lnTo>
                  <a:pt x="12" y="286"/>
                </a:lnTo>
                <a:lnTo>
                  <a:pt x="10" y="286"/>
                </a:lnTo>
                <a:lnTo>
                  <a:pt x="9" y="287"/>
                </a:lnTo>
                <a:lnTo>
                  <a:pt x="6" y="286"/>
                </a:lnTo>
                <a:lnTo>
                  <a:pt x="4" y="286"/>
                </a:lnTo>
                <a:lnTo>
                  <a:pt x="2" y="284"/>
                </a:lnTo>
                <a:lnTo>
                  <a:pt x="0" y="281"/>
                </a:lnTo>
                <a:lnTo>
                  <a:pt x="0" y="278"/>
                </a:lnTo>
                <a:lnTo>
                  <a:pt x="0" y="277"/>
                </a:lnTo>
                <a:lnTo>
                  <a:pt x="0" y="277"/>
                </a:lnTo>
                <a:close/>
                <a:moveTo>
                  <a:pt x="0" y="152"/>
                </a:moveTo>
                <a:lnTo>
                  <a:pt x="0" y="97"/>
                </a:lnTo>
                <a:lnTo>
                  <a:pt x="0" y="95"/>
                </a:lnTo>
                <a:lnTo>
                  <a:pt x="0" y="94"/>
                </a:lnTo>
                <a:lnTo>
                  <a:pt x="2" y="91"/>
                </a:lnTo>
                <a:lnTo>
                  <a:pt x="4" y="90"/>
                </a:lnTo>
                <a:lnTo>
                  <a:pt x="6" y="88"/>
                </a:lnTo>
                <a:lnTo>
                  <a:pt x="9" y="88"/>
                </a:lnTo>
                <a:lnTo>
                  <a:pt x="10" y="88"/>
                </a:lnTo>
                <a:lnTo>
                  <a:pt x="12" y="90"/>
                </a:lnTo>
                <a:lnTo>
                  <a:pt x="14" y="91"/>
                </a:lnTo>
                <a:lnTo>
                  <a:pt x="16" y="94"/>
                </a:lnTo>
                <a:lnTo>
                  <a:pt x="17" y="95"/>
                </a:lnTo>
                <a:lnTo>
                  <a:pt x="17" y="97"/>
                </a:lnTo>
                <a:lnTo>
                  <a:pt x="17" y="152"/>
                </a:lnTo>
                <a:lnTo>
                  <a:pt x="17" y="153"/>
                </a:lnTo>
                <a:lnTo>
                  <a:pt x="16" y="155"/>
                </a:lnTo>
                <a:lnTo>
                  <a:pt x="14" y="157"/>
                </a:lnTo>
                <a:lnTo>
                  <a:pt x="12" y="159"/>
                </a:lnTo>
                <a:lnTo>
                  <a:pt x="10" y="160"/>
                </a:lnTo>
                <a:lnTo>
                  <a:pt x="9" y="160"/>
                </a:lnTo>
                <a:lnTo>
                  <a:pt x="6" y="160"/>
                </a:lnTo>
                <a:lnTo>
                  <a:pt x="4" y="159"/>
                </a:lnTo>
                <a:lnTo>
                  <a:pt x="2" y="157"/>
                </a:lnTo>
                <a:lnTo>
                  <a:pt x="0" y="155"/>
                </a:lnTo>
                <a:lnTo>
                  <a:pt x="0" y="153"/>
                </a:lnTo>
                <a:lnTo>
                  <a:pt x="0" y="152"/>
                </a:lnTo>
                <a:lnTo>
                  <a:pt x="0" y="152"/>
                </a:lnTo>
                <a:close/>
                <a:moveTo>
                  <a:pt x="0" y="25"/>
                </a:moveTo>
                <a:lnTo>
                  <a:pt x="0" y="9"/>
                </a:lnTo>
                <a:lnTo>
                  <a:pt x="0" y="6"/>
                </a:lnTo>
                <a:lnTo>
                  <a:pt x="0" y="5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6" y="5"/>
                </a:lnTo>
                <a:lnTo>
                  <a:pt x="17" y="6"/>
                </a:lnTo>
                <a:lnTo>
                  <a:pt x="17" y="9"/>
                </a:lnTo>
                <a:lnTo>
                  <a:pt x="17" y="25"/>
                </a:lnTo>
                <a:lnTo>
                  <a:pt x="17" y="26"/>
                </a:lnTo>
                <a:lnTo>
                  <a:pt x="16" y="29"/>
                </a:lnTo>
                <a:lnTo>
                  <a:pt x="14" y="32"/>
                </a:lnTo>
                <a:lnTo>
                  <a:pt x="12" y="34"/>
                </a:lnTo>
                <a:lnTo>
                  <a:pt x="10" y="34"/>
                </a:lnTo>
                <a:lnTo>
                  <a:pt x="9" y="35"/>
                </a:lnTo>
                <a:lnTo>
                  <a:pt x="6" y="34"/>
                </a:lnTo>
                <a:lnTo>
                  <a:pt x="4" y="34"/>
                </a:lnTo>
                <a:lnTo>
                  <a:pt x="2" y="32"/>
                </a:lnTo>
                <a:lnTo>
                  <a:pt x="0" y="29"/>
                </a:lnTo>
                <a:lnTo>
                  <a:pt x="0" y="26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rot="16200000">
            <a:off x="3980880" y="2507760"/>
            <a:ext cx="155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rot="16200000">
            <a:off x="4185720" y="2512440"/>
            <a:ext cx="144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4902840" y="252756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6249600" y="207108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6391800" y="20862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4866480" y="221040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117760" y="22125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16200000">
            <a:off x="5116680" y="2226600"/>
            <a:ext cx="98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807600" y="475308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705360" y="455292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620760" y="515448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port IOZ/D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00080" y="4389480"/>
            <a:ext cx="55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4840" y="5070600"/>
            <a:ext cx="62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mbe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785280" y="486720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241960" y="5226120"/>
            <a:ext cx="40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m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614200" y="536112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51212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ximum mining depth for selected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14560" y="51465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114560" y="45370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14560" y="392580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14560" y="3314880"/>
            <a:ext cx="727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14560" y="270504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14560" y="209376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14560" y="1484280"/>
            <a:ext cx="7273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14560" y="1484280"/>
            <a:ext cx="7273800" cy="4273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14560" y="1484280"/>
            <a:ext cx="1440" cy="427356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058760" y="575784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58760" y="51465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058760" y="45370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058760" y="392580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58760" y="3314880"/>
            <a:ext cx="55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058760" y="270504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058760" y="209376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058760" y="1484280"/>
            <a:ext cx="55800" cy="180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14560" y="5757840"/>
            <a:ext cx="7273800" cy="144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1145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023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933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84192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475128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66100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56892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478640" y="5757840"/>
            <a:ext cx="180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388360" y="5757840"/>
            <a:ext cx="1440" cy="60480"/>
          </a:xfrm>
          <a:prstGeom prst="line">
            <a:avLst/>
          </a:prstGeom>
          <a:ln w="0">
            <a:solidFill>
              <a:srgbClr val="bbe0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673680" y="4991040"/>
            <a:ext cx="6372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44" y="0"/>
                </a:moveTo>
                <a:lnTo>
                  <a:pt x="88" y="44"/>
                </a:lnTo>
                <a:lnTo>
                  <a:pt x="44" y="89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218360" y="4502160"/>
            <a:ext cx="65160" cy="698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081920" y="4135320"/>
            <a:ext cx="65160" cy="698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173640" y="4624560"/>
            <a:ext cx="65160" cy="698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536920" y="562464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253692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6860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536920" y="565956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568600" y="562428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568600" y="56242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565956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90880" y="5600880"/>
            <a:ext cx="6660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2991960" y="56005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24360" y="56358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991960" y="56358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024360" y="560052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024360" y="560052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024360" y="56358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35200" y="5538960"/>
            <a:ext cx="684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3534840" y="554004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570120" y="557532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534840" y="5575320"/>
            <a:ext cx="349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570120" y="5540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70120" y="554004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70120" y="55753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308480" y="538632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4309560" y="5386320"/>
            <a:ext cx="320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341960" y="542304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4309560" y="542304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341960" y="5386320"/>
            <a:ext cx="3168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341960" y="5386320"/>
            <a:ext cx="1440" cy="36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341960" y="542304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72160" y="502596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5673240" y="502560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705640" y="506088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673240" y="5060880"/>
            <a:ext cx="320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705640" y="5025600"/>
            <a:ext cx="3312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705640" y="5025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05640" y="506088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035760" y="4745160"/>
            <a:ext cx="69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6037200" y="474480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068880" y="478152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6037200" y="478152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068880" y="474480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068880" y="4744800"/>
            <a:ext cx="180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68880" y="4781520"/>
            <a:ext cx="180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62600" y="4440240"/>
            <a:ext cx="6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6764400" y="4439880"/>
            <a:ext cx="316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796080" y="4476600"/>
            <a:ext cx="334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6764400" y="4476600"/>
            <a:ext cx="3168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796080" y="4439880"/>
            <a:ext cx="3348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96080" y="4439880"/>
            <a:ext cx="1440" cy="3636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796080" y="4476600"/>
            <a:ext cx="1440" cy="349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73680" y="4745160"/>
            <a:ext cx="63720" cy="712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764320" y="4159080"/>
            <a:ext cx="65160" cy="70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00800" y="4013280"/>
            <a:ext cx="651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27960" y="3828960"/>
            <a:ext cx="64800" cy="716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581880" y="3193920"/>
            <a:ext cx="65160" cy="716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172280" y="2071800"/>
            <a:ext cx="65160" cy="69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27920" y="4713120"/>
            <a:ext cx="66600" cy="12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218360" y="4475160"/>
            <a:ext cx="66600" cy="1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037120" y="4965840"/>
            <a:ext cx="63360" cy="6984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718320" y="3402000"/>
            <a:ext cx="65160" cy="7128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88"/>
                </a:lnTo>
                <a:lnTo>
                  <a:pt x="0" y="88"/>
                </a:lnTo>
                <a:lnTo>
                  <a:pt x="44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73680" y="4892760"/>
            <a:ext cx="63720" cy="69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673680" y="4257720"/>
            <a:ext cx="63720" cy="6984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620040" y="4884840"/>
            <a:ext cx="8064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659640" y="4885920"/>
            <a:ext cx="144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59640" y="4927680"/>
            <a:ext cx="1440" cy="410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62148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659640" y="4927680"/>
            <a:ext cx="38160" cy="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211880" y="4433760"/>
            <a:ext cx="795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7250040" y="4433400"/>
            <a:ext cx="1800" cy="42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250040" y="4476600"/>
            <a:ext cx="1800" cy="414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211880" y="4476600"/>
            <a:ext cx="3816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50040" y="4476600"/>
            <a:ext cx="39600" cy="18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4280" y="5648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66000" y="50371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71320" y="44258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1320" y="38163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71320" y="32050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71320" y="25938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71320" y="198432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71320" y="13730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3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02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8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11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20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62952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539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4788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35616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26660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8175240" y="592920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20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502520" y="6251400"/>
            <a:ext cx="4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-64080" y="3510000"/>
            <a:ext cx="96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66"/>
                </a:solidFill>
                <a:latin typeface="Times New Roman"/>
              </a:rPr>
              <a:t>DEPTH (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958440" y="3346560"/>
            <a:ext cx="57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unt I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329960" y="4497480"/>
            <a:ext cx="41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324200" y="4319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dgew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788880" y="4191120"/>
            <a:ext cx="49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alab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254360" y="1917720"/>
            <a:ext cx="65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dd Cr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182360" y="406548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ingham Can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3040" y="4695840"/>
            <a:ext cx="89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eeport (DO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689440" y="461160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ru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775920" y="4830840"/>
            <a:ext cx="80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lympic D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56320" y="1517760"/>
            <a:ext cx="1080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1517760"/>
            <a:ext cx="9720" cy="4206600"/>
          </a:xfrm>
          <a:custGeom>
            <a:avLst/>
            <a:gdLst/>
            <a:ahLst/>
            <a:rect l="l" t="t" r="r" b="b"/>
            <a:pathLst>
              <a:path w="14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2" y="5253"/>
                </a:lnTo>
                <a:lnTo>
                  <a:pt x="3" y="5251"/>
                </a:lnTo>
                <a:lnTo>
                  <a:pt x="5" y="5248"/>
                </a:lnTo>
                <a:lnTo>
                  <a:pt x="6" y="5248"/>
                </a:lnTo>
                <a:lnTo>
                  <a:pt x="8" y="5248"/>
                </a:lnTo>
                <a:lnTo>
                  <a:pt x="9" y="5248"/>
                </a:lnTo>
                <a:lnTo>
                  <a:pt x="10" y="5248"/>
                </a:lnTo>
                <a:lnTo>
                  <a:pt x="12" y="5251"/>
                </a:lnTo>
                <a:lnTo>
                  <a:pt x="13" y="5253"/>
                </a:lnTo>
                <a:lnTo>
                  <a:pt x="14" y="5254"/>
                </a:lnTo>
                <a:lnTo>
                  <a:pt x="14" y="5255"/>
                </a:lnTo>
                <a:lnTo>
                  <a:pt x="14" y="5295"/>
                </a:lnTo>
                <a:lnTo>
                  <a:pt x="14" y="5296"/>
                </a:lnTo>
                <a:lnTo>
                  <a:pt x="13" y="5297"/>
                </a:lnTo>
                <a:lnTo>
                  <a:pt x="12" y="5299"/>
                </a:lnTo>
                <a:lnTo>
                  <a:pt x="10" y="5300"/>
                </a:lnTo>
                <a:lnTo>
                  <a:pt x="9" y="5301"/>
                </a:lnTo>
                <a:lnTo>
                  <a:pt x="8" y="5301"/>
                </a:lnTo>
                <a:lnTo>
                  <a:pt x="6" y="5301"/>
                </a:lnTo>
                <a:lnTo>
                  <a:pt x="5" y="5300"/>
                </a:lnTo>
                <a:lnTo>
                  <a:pt x="3" y="5299"/>
                </a:lnTo>
                <a:lnTo>
                  <a:pt x="2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2" y="5160"/>
                </a:lnTo>
                <a:lnTo>
                  <a:pt x="3" y="5158"/>
                </a:lnTo>
                <a:lnTo>
                  <a:pt x="5" y="5157"/>
                </a:lnTo>
                <a:lnTo>
                  <a:pt x="6" y="5156"/>
                </a:lnTo>
                <a:lnTo>
                  <a:pt x="8" y="5156"/>
                </a:lnTo>
                <a:lnTo>
                  <a:pt x="9" y="5156"/>
                </a:lnTo>
                <a:lnTo>
                  <a:pt x="10" y="5157"/>
                </a:lnTo>
                <a:lnTo>
                  <a:pt x="12" y="5158"/>
                </a:lnTo>
                <a:lnTo>
                  <a:pt x="13" y="5160"/>
                </a:lnTo>
                <a:lnTo>
                  <a:pt x="14" y="5161"/>
                </a:lnTo>
                <a:lnTo>
                  <a:pt x="14" y="5163"/>
                </a:lnTo>
                <a:lnTo>
                  <a:pt x="14" y="5202"/>
                </a:lnTo>
                <a:lnTo>
                  <a:pt x="14" y="5203"/>
                </a:lnTo>
                <a:lnTo>
                  <a:pt x="13" y="5204"/>
                </a:lnTo>
                <a:lnTo>
                  <a:pt x="12" y="5206"/>
                </a:lnTo>
                <a:lnTo>
                  <a:pt x="10" y="5208"/>
                </a:lnTo>
                <a:lnTo>
                  <a:pt x="9" y="5208"/>
                </a:lnTo>
                <a:lnTo>
                  <a:pt x="8" y="5208"/>
                </a:lnTo>
                <a:lnTo>
                  <a:pt x="6" y="5208"/>
                </a:lnTo>
                <a:lnTo>
                  <a:pt x="5" y="5208"/>
                </a:lnTo>
                <a:lnTo>
                  <a:pt x="3" y="5206"/>
                </a:lnTo>
                <a:lnTo>
                  <a:pt x="2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2" y="5068"/>
                </a:lnTo>
                <a:lnTo>
                  <a:pt x="3" y="5066"/>
                </a:lnTo>
                <a:lnTo>
                  <a:pt x="5" y="5064"/>
                </a:lnTo>
                <a:lnTo>
                  <a:pt x="6" y="5064"/>
                </a:lnTo>
                <a:lnTo>
                  <a:pt x="8" y="5064"/>
                </a:lnTo>
                <a:lnTo>
                  <a:pt x="9" y="5064"/>
                </a:lnTo>
                <a:lnTo>
                  <a:pt x="10" y="5064"/>
                </a:lnTo>
                <a:lnTo>
                  <a:pt x="12" y="5066"/>
                </a:lnTo>
                <a:lnTo>
                  <a:pt x="13" y="5068"/>
                </a:lnTo>
                <a:lnTo>
                  <a:pt x="14" y="5070"/>
                </a:lnTo>
                <a:lnTo>
                  <a:pt x="14" y="5071"/>
                </a:lnTo>
                <a:lnTo>
                  <a:pt x="14" y="5111"/>
                </a:lnTo>
                <a:lnTo>
                  <a:pt x="14" y="5112"/>
                </a:lnTo>
                <a:lnTo>
                  <a:pt x="13" y="5113"/>
                </a:lnTo>
                <a:lnTo>
                  <a:pt x="12" y="5115"/>
                </a:lnTo>
                <a:lnTo>
                  <a:pt x="10" y="5116"/>
                </a:lnTo>
                <a:lnTo>
                  <a:pt x="9" y="5117"/>
                </a:lnTo>
                <a:lnTo>
                  <a:pt x="8" y="5117"/>
                </a:lnTo>
                <a:lnTo>
                  <a:pt x="6" y="5117"/>
                </a:lnTo>
                <a:lnTo>
                  <a:pt x="5" y="5116"/>
                </a:lnTo>
                <a:lnTo>
                  <a:pt x="3" y="5115"/>
                </a:lnTo>
                <a:lnTo>
                  <a:pt x="2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2" y="4976"/>
                </a:lnTo>
                <a:lnTo>
                  <a:pt x="3" y="4974"/>
                </a:lnTo>
                <a:lnTo>
                  <a:pt x="5" y="4973"/>
                </a:lnTo>
                <a:lnTo>
                  <a:pt x="6" y="4972"/>
                </a:lnTo>
                <a:lnTo>
                  <a:pt x="8" y="4972"/>
                </a:lnTo>
                <a:lnTo>
                  <a:pt x="9" y="4972"/>
                </a:lnTo>
                <a:lnTo>
                  <a:pt x="10" y="4973"/>
                </a:lnTo>
                <a:lnTo>
                  <a:pt x="12" y="4974"/>
                </a:lnTo>
                <a:lnTo>
                  <a:pt x="13" y="4976"/>
                </a:lnTo>
                <a:lnTo>
                  <a:pt x="14" y="4977"/>
                </a:lnTo>
                <a:lnTo>
                  <a:pt x="14" y="4979"/>
                </a:lnTo>
                <a:lnTo>
                  <a:pt x="14" y="5018"/>
                </a:lnTo>
                <a:lnTo>
                  <a:pt x="14" y="5019"/>
                </a:lnTo>
                <a:lnTo>
                  <a:pt x="13" y="5020"/>
                </a:lnTo>
                <a:lnTo>
                  <a:pt x="12" y="5022"/>
                </a:lnTo>
                <a:lnTo>
                  <a:pt x="10" y="5024"/>
                </a:lnTo>
                <a:lnTo>
                  <a:pt x="9" y="5024"/>
                </a:lnTo>
                <a:lnTo>
                  <a:pt x="8" y="5024"/>
                </a:lnTo>
                <a:lnTo>
                  <a:pt x="6" y="5024"/>
                </a:lnTo>
                <a:lnTo>
                  <a:pt x="5" y="5024"/>
                </a:lnTo>
                <a:lnTo>
                  <a:pt x="3" y="5022"/>
                </a:lnTo>
                <a:lnTo>
                  <a:pt x="2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2" y="4884"/>
                </a:lnTo>
                <a:lnTo>
                  <a:pt x="3" y="4882"/>
                </a:lnTo>
                <a:lnTo>
                  <a:pt x="5" y="4880"/>
                </a:lnTo>
                <a:lnTo>
                  <a:pt x="6" y="4880"/>
                </a:lnTo>
                <a:lnTo>
                  <a:pt x="8" y="4880"/>
                </a:lnTo>
                <a:lnTo>
                  <a:pt x="9" y="4880"/>
                </a:lnTo>
                <a:lnTo>
                  <a:pt x="10" y="4880"/>
                </a:lnTo>
                <a:lnTo>
                  <a:pt x="12" y="4882"/>
                </a:lnTo>
                <a:lnTo>
                  <a:pt x="13" y="4884"/>
                </a:lnTo>
                <a:lnTo>
                  <a:pt x="14" y="4885"/>
                </a:lnTo>
                <a:lnTo>
                  <a:pt x="14" y="4886"/>
                </a:lnTo>
                <a:lnTo>
                  <a:pt x="14" y="4926"/>
                </a:lnTo>
                <a:lnTo>
                  <a:pt x="14" y="4927"/>
                </a:lnTo>
                <a:lnTo>
                  <a:pt x="13" y="4929"/>
                </a:lnTo>
                <a:lnTo>
                  <a:pt x="12" y="4931"/>
                </a:lnTo>
                <a:lnTo>
                  <a:pt x="10" y="4932"/>
                </a:lnTo>
                <a:lnTo>
                  <a:pt x="9" y="4933"/>
                </a:lnTo>
                <a:lnTo>
                  <a:pt x="8" y="4933"/>
                </a:lnTo>
                <a:lnTo>
                  <a:pt x="6" y="4933"/>
                </a:lnTo>
                <a:lnTo>
                  <a:pt x="5" y="4932"/>
                </a:lnTo>
                <a:lnTo>
                  <a:pt x="3" y="4931"/>
                </a:lnTo>
                <a:lnTo>
                  <a:pt x="2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2" y="4792"/>
                </a:lnTo>
                <a:lnTo>
                  <a:pt x="3" y="4790"/>
                </a:lnTo>
                <a:lnTo>
                  <a:pt x="5" y="4789"/>
                </a:lnTo>
                <a:lnTo>
                  <a:pt x="6" y="4788"/>
                </a:lnTo>
                <a:lnTo>
                  <a:pt x="8" y="4788"/>
                </a:lnTo>
                <a:lnTo>
                  <a:pt x="9" y="4788"/>
                </a:lnTo>
                <a:lnTo>
                  <a:pt x="10" y="4789"/>
                </a:lnTo>
                <a:lnTo>
                  <a:pt x="12" y="4790"/>
                </a:lnTo>
                <a:lnTo>
                  <a:pt x="13" y="4792"/>
                </a:lnTo>
                <a:lnTo>
                  <a:pt x="14" y="4793"/>
                </a:lnTo>
                <a:lnTo>
                  <a:pt x="14" y="4795"/>
                </a:lnTo>
                <a:lnTo>
                  <a:pt x="14" y="4834"/>
                </a:lnTo>
                <a:lnTo>
                  <a:pt x="14" y="4835"/>
                </a:lnTo>
                <a:lnTo>
                  <a:pt x="13" y="4836"/>
                </a:lnTo>
                <a:lnTo>
                  <a:pt x="12" y="4838"/>
                </a:lnTo>
                <a:lnTo>
                  <a:pt x="10" y="4840"/>
                </a:lnTo>
                <a:lnTo>
                  <a:pt x="9" y="4840"/>
                </a:lnTo>
                <a:lnTo>
                  <a:pt x="8" y="4840"/>
                </a:lnTo>
                <a:lnTo>
                  <a:pt x="6" y="4840"/>
                </a:lnTo>
                <a:lnTo>
                  <a:pt x="5" y="4840"/>
                </a:lnTo>
                <a:lnTo>
                  <a:pt x="3" y="4838"/>
                </a:lnTo>
                <a:lnTo>
                  <a:pt x="2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2" y="4700"/>
                </a:lnTo>
                <a:lnTo>
                  <a:pt x="3" y="4698"/>
                </a:lnTo>
                <a:lnTo>
                  <a:pt x="5" y="4696"/>
                </a:lnTo>
                <a:lnTo>
                  <a:pt x="6" y="4696"/>
                </a:lnTo>
                <a:lnTo>
                  <a:pt x="8" y="4696"/>
                </a:lnTo>
                <a:lnTo>
                  <a:pt x="9" y="4696"/>
                </a:lnTo>
                <a:lnTo>
                  <a:pt x="10" y="4696"/>
                </a:lnTo>
                <a:lnTo>
                  <a:pt x="12" y="4698"/>
                </a:lnTo>
                <a:lnTo>
                  <a:pt x="13" y="4700"/>
                </a:lnTo>
                <a:lnTo>
                  <a:pt x="14" y="4701"/>
                </a:lnTo>
                <a:lnTo>
                  <a:pt x="14" y="4702"/>
                </a:lnTo>
                <a:lnTo>
                  <a:pt x="14" y="4742"/>
                </a:lnTo>
                <a:lnTo>
                  <a:pt x="14" y="4743"/>
                </a:lnTo>
                <a:lnTo>
                  <a:pt x="13" y="4744"/>
                </a:lnTo>
                <a:lnTo>
                  <a:pt x="12" y="4747"/>
                </a:lnTo>
                <a:lnTo>
                  <a:pt x="10" y="4748"/>
                </a:lnTo>
                <a:lnTo>
                  <a:pt x="9" y="4749"/>
                </a:lnTo>
                <a:lnTo>
                  <a:pt x="8" y="4749"/>
                </a:lnTo>
                <a:lnTo>
                  <a:pt x="6" y="4749"/>
                </a:lnTo>
                <a:lnTo>
                  <a:pt x="5" y="4748"/>
                </a:lnTo>
                <a:lnTo>
                  <a:pt x="3" y="4747"/>
                </a:lnTo>
                <a:lnTo>
                  <a:pt x="2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2" y="4608"/>
                </a:lnTo>
                <a:lnTo>
                  <a:pt x="3" y="4606"/>
                </a:lnTo>
                <a:lnTo>
                  <a:pt x="5" y="4604"/>
                </a:lnTo>
                <a:lnTo>
                  <a:pt x="6" y="4603"/>
                </a:lnTo>
                <a:lnTo>
                  <a:pt x="8" y="4603"/>
                </a:lnTo>
                <a:lnTo>
                  <a:pt x="9" y="4603"/>
                </a:lnTo>
                <a:lnTo>
                  <a:pt x="10" y="4604"/>
                </a:lnTo>
                <a:lnTo>
                  <a:pt x="12" y="4606"/>
                </a:lnTo>
                <a:lnTo>
                  <a:pt x="13" y="4608"/>
                </a:lnTo>
                <a:lnTo>
                  <a:pt x="14" y="4609"/>
                </a:lnTo>
                <a:lnTo>
                  <a:pt x="14" y="4611"/>
                </a:lnTo>
                <a:lnTo>
                  <a:pt x="14" y="4650"/>
                </a:lnTo>
                <a:lnTo>
                  <a:pt x="14" y="4651"/>
                </a:lnTo>
                <a:lnTo>
                  <a:pt x="13" y="4652"/>
                </a:lnTo>
                <a:lnTo>
                  <a:pt x="12" y="4654"/>
                </a:lnTo>
                <a:lnTo>
                  <a:pt x="10" y="4656"/>
                </a:lnTo>
                <a:lnTo>
                  <a:pt x="9" y="4656"/>
                </a:lnTo>
                <a:lnTo>
                  <a:pt x="8" y="4656"/>
                </a:lnTo>
                <a:lnTo>
                  <a:pt x="6" y="4656"/>
                </a:lnTo>
                <a:lnTo>
                  <a:pt x="5" y="4656"/>
                </a:lnTo>
                <a:lnTo>
                  <a:pt x="3" y="4654"/>
                </a:lnTo>
                <a:lnTo>
                  <a:pt x="2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2" y="4516"/>
                </a:lnTo>
                <a:lnTo>
                  <a:pt x="3" y="4514"/>
                </a:lnTo>
                <a:lnTo>
                  <a:pt x="5" y="4512"/>
                </a:lnTo>
                <a:lnTo>
                  <a:pt x="6" y="4512"/>
                </a:lnTo>
                <a:lnTo>
                  <a:pt x="8" y="4512"/>
                </a:lnTo>
                <a:lnTo>
                  <a:pt x="9" y="4512"/>
                </a:lnTo>
                <a:lnTo>
                  <a:pt x="10" y="4512"/>
                </a:lnTo>
                <a:lnTo>
                  <a:pt x="12" y="4514"/>
                </a:lnTo>
                <a:lnTo>
                  <a:pt x="13" y="4516"/>
                </a:lnTo>
                <a:lnTo>
                  <a:pt x="14" y="4517"/>
                </a:lnTo>
                <a:lnTo>
                  <a:pt x="14" y="4518"/>
                </a:lnTo>
                <a:lnTo>
                  <a:pt x="14" y="4558"/>
                </a:lnTo>
                <a:lnTo>
                  <a:pt x="14" y="4559"/>
                </a:lnTo>
                <a:lnTo>
                  <a:pt x="13" y="4560"/>
                </a:lnTo>
                <a:lnTo>
                  <a:pt x="12" y="4562"/>
                </a:lnTo>
                <a:lnTo>
                  <a:pt x="10" y="4563"/>
                </a:lnTo>
                <a:lnTo>
                  <a:pt x="9" y="4564"/>
                </a:lnTo>
                <a:lnTo>
                  <a:pt x="8" y="4564"/>
                </a:lnTo>
                <a:lnTo>
                  <a:pt x="6" y="4564"/>
                </a:lnTo>
                <a:lnTo>
                  <a:pt x="5" y="4563"/>
                </a:lnTo>
                <a:lnTo>
                  <a:pt x="3" y="4562"/>
                </a:lnTo>
                <a:lnTo>
                  <a:pt x="2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2" y="4423"/>
                </a:lnTo>
                <a:lnTo>
                  <a:pt x="3" y="4421"/>
                </a:lnTo>
                <a:lnTo>
                  <a:pt x="5" y="4420"/>
                </a:lnTo>
                <a:lnTo>
                  <a:pt x="6" y="4419"/>
                </a:lnTo>
                <a:lnTo>
                  <a:pt x="8" y="4419"/>
                </a:lnTo>
                <a:lnTo>
                  <a:pt x="9" y="4419"/>
                </a:lnTo>
                <a:lnTo>
                  <a:pt x="10" y="4420"/>
                </a:lnTo>
                <a:lnTo>
                  <a:pt x="12" y="4421"/>
                </a:lnTo>
                <a:lnTo>
                  <a:pt x="13" y="4423"/>
                </a:lnTo>
                <a:lnTo>
                  <a:pt x="14" y="4425"/>
                </a:lnTo>
                <a:lnTo>
                  <a:pt x="14" y="4427"/>
                </a:lnTo>
                <a:lnTo>
                  <a:pt x="14" y="4466"/>
                </a:lnTo>
                <a:lnTo>
                  <a:pt x="14" y="4467"/>
                </a:lnTo>
                <a:lnTo>
                  <a:pt x="13" y="4468"/>
                </a:lnTo>
                <a:lnTo>
                  <a:pt x="12" y="4470"/>
                </a:lnTo>
                <a:lnTo>
                  <a:pt x="10" y="4472"/>
                </a:lnTo>
                <a:lnTo>
                  <a:pt x="9" y="4472"/>
                </a:lnTo>
                <a:lnTo>
                  <a:pt x="8" y="4472"/>
                </a:lnTo>
                <a:lnTo>
                  <a:pt x="6" y="4472"/>
                </a:lnTo>
                <a:lnTo>
                  <a:pt x="5" y="4472"/>
                </a:lnTo>
                <a:lnTo>
                  <a:pt x="3" y="4470"/>
                </a:lnTo>
                <a:lnTo>
                  <a:pt x="2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2" y="4332"/>
                </a:lnTo>
                <a:lnTo>
                  <a:pt x="3" y="4330"/>
                </a:lnTo>
                <a:lnTo>
                  <a:pt x="5" y="4328"/>
                </a:lnTo>
                <a:lnTo>
                  <a:pt x="6" y="4328"/>
                </a:lnTo>
                <a:lnTo>
                  <a:pt x="8" y="4328"/>
                </a:lnTo>
                <a:lnTo>
                  <a:pt x="9" y="4328"/>
                </a:lnTo>
                <a:lnTo>
                  <a:pt x="10" y="4328"/>
                </a:lnTo>
                <a:lnTo>
                  <a:pt x="12" y="4330"/>
                </a:lnTo>
                <a:lnTo>
                  <a:pt x="13" y="4332"/>
                </a:lnTo>
                <a:lnTo>
                  <a:pt x="14" y="4333"/>
                </a:lnTo>
                <a:lnTo>
                  <a:pt x="14" y="4334"/>
                </a:lnTo>
                <a:lnTo>
                  <a:pt x="14" y="4374"/>
                </a:lnTo>
                <a:lnTo>
                  <a:pt x="14" y="4375"/>
                </a:lnTo>
                <a:lnTo>
                  <a:pt x="13" y="4376"/>
                </a:lnTo>
                <a:lnTo>
                  <a:pt x="12" y="4378"/>
                </a:lnTo>
                <a:lnTo>
                  <a:pt x="10" y="4379"/>
                </a:lnTo>
                <a:lnTo>
                  <a:pt x="9" y="4380"/>
                </a:lnTo>
                <a:lnTo>
                  <a:pt x="8" y="4380"/>
                </a:lnTo>
                <a:lnTo>
                  <a:pt x="6" y="4380"/>
                </a:lnTo>
                <a:lnTo>
                  <a:pt x="5" y="4379"/>
                </a:lnTo>
                <a:lnTo>
                  <a:pt x="3" y="4378"/>
                </a:lnTo>
                <a:lnTo>
                  <a:pt x="2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2" y="4239"/>
                </a:lnTo>
                <a:lnTo>
                  <a:pt x="3" y="4237"/>
                </a:lnTo>
                <a:lnTo>
                  <a:pt x="5" y="4236"/>
                </a:lnTo>
                <a:lnTo>
                  <a:pt x="6" y="4235"/>
                </a:lnTo>
                <a:lnTo>
                  <a:pt x="8" y="4235"/>
                </a:lnTo>
                <a:lnTo>
                  <a:pt x="9" y="4235"/>
                </a:lnTo>
                <a:lnTo>
                  <a:pt x="10" y="4236"/>
                </a:lnTo>
                <a:lnTo>
                  <a:pt x="12" y="4237"/>
                </a:lnTo>
                <a:lnTo>
                  <a:pt x="13" y="4239"/>
                </a:lnTo>
                <a:lnTo>
                  <a:pt x="14" y="4240"/>
                </a:lnTo>
                <a:lnTo>
                  <a:pt x="14" y="4243"/>
                </a:lnTo>
                <a:lnTo>
                  <a:pt x="14" y="4281"/>
                </a:lnTo>
                <a:lnTo>
                  <a:pt x="14" y="4283"/>
                </a:lnTo>
                <a:lnTo>
                  <a:pt x="13" y="4284"/>
                </a:lnTo>
                <a:lnTo>
                  <a:pt x="12" y="4286"/>
                </a:lnTo>
                <a:lnTo>
                  <a:pt x="10" y="4288"/>
                </a:lnTo>
                <a:lnTo>
                  <a:pt x="9" y="4288"/>
                </a:lnTo>
                <a:lnTo>
                  <a:pt x="8" y="4288"/>
                </a:lnTo>
                <a:lnTo>
                  <a:pt x="6" y="4288"/>
                </a:lnTo>
                <a:lnTo>
                  <a:pt x="5" y="4288"/>
                </a:lnTo>
                <a:lnTo>
                  <a:pt x="3" y="4286"/>
                </a:lnTo>
                <a:lnTo>
                  <a:pt x="2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2" y="4148"/>
                </a:lnTo>
                <a:lnTo>
                  <a:pt x="3" y="4146"/>
                </a:lnTo>
                <a:lnTo>
                  <a:pt x="5" y="4144"/>
                </a:lnTo>
                <a:lnTo>
                  <a:pt x="6" y="4144"/>
                </a:lnTo>
                <a:lnTo>
                  <a:pt x="8" y="4144"/>
                </a:lnTo>
                <a:lnTo>
                  <a:pt x="9" y="4144"/>
                </a:lnTo>
                <a:lnTo>
                  <a:pt x="10" y="4144"/>
                </a:lnTo>
                <a:lnTo>
                  <a:pt x="12" y="4146"/>
                </a:lnTo>
                <a:lnTo>
                  <a:pt x="13" y="4148"/>
                </a:lnTo>
                <a:lnTo>
                  <a:pt x="14" y="4149"/>
                </a:lnTo>
                <a:lnTo>
                  <a:pt x="14" y="4150"/>
                </a:lnTo>
                <a:lnTo>
                  <a:pt x="14" y="4190"/>
                </a:lnTo>
                <a:lnTo>
                  <a:pt x="14" y="4191"/>
                </a:lnTo>
                <a:lnTo>
                  <a:pt x="13" y="4192"/>
                </a:lnTo>
                <a:lnTo>
                  <a:pt x="12" y="4194"/>
                </a:lnTo>
                <a:lnTo>
                  <a:pt x="10" y="4195"/>
                </a:lnTo>
                <a:lnTo>
                  <a:pt x="9" y="4196"/>
                </a:lnTo>
                <a:lnTo>
                  <a:pt x="8" y="4196"/>
                </a:lnTo>
                <a:lnTo>
                  <a:pt x="6" y="4196"/>
                </a:lnTo>
                <a:lnTo>
                  <a:pt x="5" y="4195"/>
                </a:lnTo>
                <a:lnTo>
                  <a:pt x="3" y="4194"/>
                </a:lnTo>
                <a:lnTo>
                  <a:pt x="2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2" y="4055"/>
                </a:lnTo>
                <a:lnTo>
                  <a:pt x="3" y="4053"/>
                </a:lnTo>
                <a:lnTo>
                  <a:pt x="5" y="4052"/>
                </a:lnTo>
                <a:lnTo>
                  <a:pt x="6" y="4051"/>
                </a:lnTo>
                <a:lnTo>
                  <a:pt x="8" y="4051"/>
                </a:lnTo>
                <a:lnTo>
                  <a:pt x="9" y="4051"/>
                </a:lnTo>
                <a:lnTo>
                  <a:pt x="10" y="4052"/>
                </a:lnTo>
                <a:lnTo>
                  <a:pt x="12" y="4053"/>
                </a:lnTo>
                <a:lnTo>
                  <a:pt x="13" y="4055"/>
                </a:lnTo>
                <a:lnTo>
                  <a:pt x="14" y="4056"/>
                </a:lnTo>
                <a:lnTo>
                  <a:pt x="14" y="4058"/>
                </a:lnTo>
                <a:lnTo>
                  <a:pt x="14" y="4097"/>
                </a:lnTo>
                <a:lnTo>
                  <a:pt x="14" y="4098"/>
                </a:lnTo>
                <a:lnTo>
                  <a:pt x="13" y="4099"/>
                </a:lnTo>
                <a:lnTo>
                  <a:pt x="12" y="4102"/>
                </a:lnTo>
                <a:lnTo>
                  <a:pt x="10" y="4104"/>
                </a:lnTo>
                <a:lnTo>
                  <a:pt x="9" y="4104"/>
                </a:lnTo>
                <a:lnTo>
                  <a:pt x="8" y="4104"/>
                </a:lnTo>
                <a:lnTo>
                  <a:pt x="6" y="4104"/>
                </a:lnTo>
                <a:lnTo>
                  <a:pt x="5" y="4104"/>
                </a:lnTo>
                <a:lnTo>
                  <a:pt x="3" y="4102"/>
                </a:lnTo>
                <a:lnTo>
                  <a:pt x="2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2" y="3964"/>
                </a:lnTo>
                <a:lnTo>
                  <a:pt x="3" y="3962"/>
                </a:lnTo>
                <a:lnTo>
                  <a:pt x="5" y="3959"/>
                </a:lnTo>
                <a:lnTo>
                  <a:pt x="6" y="3959"/>
                </a:lnTo>
                <a:lnTo>
                  <a:pt x="8" y="3959"/>
                </a:lnTo>
                <a:lnTo>
                  <a:pt x="9" y="3959"/>
                </a:lnTo>
                <a:lnTo>
                  <a:pt x="10" y="3959"/>
                </a:lnTo>
                <a:lnTo>
                  <a:pt x="12" y="3962"/>
                </a:lnTo>
                <a:lnTo>
                  <a:pt x="13" y="3964"/>
                </a:lnTo>
                <a:lnTo>
                  <a:pt x="14" y="3965"/>
                </a:lnTo>
                <a:lnTo>
                  <a:pt x="14" y="3966"/>
                </a:lnTo>
                <a:lnTo>
                  <a:pt x="14" y="4006"/>
                </a:lnTo>
                <a:lnTo>
                  <a:pt x="14" y="4007"/>
                </a:lnTo>
                <a:lnTo>
                  <a:pt x="13" y="4008"/>
                </a:lnTo>
                <a:lnTo>
                  <a:pt x="12" y="4010"/>
                </a:lnTo>
                <a:lnTo>
                  <a:pt x="10" y="4011"/>
                </a:lnTo>
                <a:lnTo>
                  <a:pt x="9" y="4012"/>
                </a:lnTo>
                <a:lnTo>
                  <a:pt x="8" y="4012"/>
                </a:lnTo>
                <a:lnTo>
                  <a:pt x="6" y="4012"/>
                </a:lnTo>
                <a:lnTo>
                  <a:pt x="5" y="4011"/>
                </a:lnTo>
                <a:lnTo>
                  <a:pt x="3" y="4010"/>
                </a:lnTo>
                <a:lnTo>
                  <a:pt x="2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2" y="3871"/>
                </a:lnTo>
                <a:lnTo>
                  <a:pt x="3" y="3869"/>
                </a:lnTo>
                <a:lnTo>
                  <a:pt x="5" y="3868"/>
                </a:lnTo>
                <a:lnTo>
                  <a:pt x="6" y="3867"/>
                </a:lnTo>
                <a:lnTo>
                  <a:pt x="8" y="3867"/>
                </a:lnTo>
                <a:lnTo>
                  <a:pt x="9" y="3867"/>
                </a:lnTo>
                <a:lnTo>
                  <a:pt x="10" y="3868"/>
                </a:lnTo>
                <a:lnTo>
                  <a:pt x="12" y="3869"/>
                </a:lnTo>
                <a:lnTo>
                  <a:pt x="13" y="3871"/>
                </a:lnTo>
                <a:lnTo>
                  <a:pt x="14" y="3872"/>
                </a:lnTo>
                <a:lnTo>
                  <a:pt x="14" y="3874"/>
                </a:lnTo>
                <a:lnTo>
                  <a:pt x="14" y="3913"/>
                </a:lnTo>
                <a:lnTo>
                  <a:pt x="14" y="3914"/>
                </a:lnTo>
                <a:lnTo>
                  <a:pt x="13" y="3915"/>
                </a:lnTo>
                <a:lnTo>
                  <a:pt x="12" y="3917"/>
                </a:lnTo>
                <a:lnTo>
                  <a:pt x="10" y="3920"/>
                </a:lnTo>
                <a:lnTo>
                  <a:pt x="9" y="3920"/>
                </a:lnTo>
                <a:lnTo>
                  <a:pt x="8" y="3920"/>
                </a:lnTo>
                <a:lnTo>
                  <a:pt x="6" y="3920"/>
                </a:lnTo>
                <a:lnTo>
                  <a:pt x="5" y="3920"/>
                </a:lnTo>
                <a:lnTo>
                  <a:pt x="3" y="3917"/>
                </a:lnTo>
                <a:lnTo>
                  <a:pt x="2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2" y="3780"/>
                </a:lnTo>
                <a:lnTo>
                  <a:pt x="3" y="3777"/>
                </a:lnTo>
                <a:lnTo>
                  <a:pt x="5" y="3775"/>
                </a:lnTo>
                <a:lnTo>
                  <a:pt x="6" y="3775"/>
                </a:lnTo>
                <a:lnTo>
                  <a:pt x="8" y="3775"/>
                </a:lnTo>
                <a:lnTo>
                  <a:pt x="9" y="3775"/>
                </a:lnTo>
                <a:lnTo>
                  <a:pt x="10" y="3775"/>
                </a:lnTo>
                <a:lnTo>
                  <a:pt x="12" y="3777"/>
                </a:lnTo>
                <a:lnTo>
                  <a:pt x="13" y="3780"/>
                </a:lnTo>
                <a:lnTo>
                  <a:pt x="14" y="3781"/>
                </a:lnTo>
                <a:lnTo>
                  <a:pt x="14" y="3782"/>
                </a:lnTo>
                <a:lnTo>
                  <a:pt x="14" y="3822"/>
                </a:lnTo>
                <a:lnTo>
                  <a:pt x="14" y="3823"/>
                </a:lnTo>
                <a:lnTo>
                  <a:pt x="13" y="3824"/>
                </a:lnTo>
                <a:lnTo>
                  <a:pt x="12" y="3826"/>
                </a:lnTo>
                <a:lnTo>
                  <a:pt x="10" y="3827"/>
                </a:lnTo>
                <a:lnTo>
                  <a:pt x="9" y="3828"/>
                </a:lnTo>
                <a:lnTo>
                  <a:pt x="8" y="3828"/>
                </a:lnTo>
                <a:lnTo>
                  <a:pt x="6" y="3828"/>
                </a:lnTo>
                <a:lnTo>
                  <a:pt x="5" y="3827"/>
                </a:lnTo>
                <a:lnTo>
                  <a:pt x="3" y="3826"/>
                </a:lnTo>
                <a:lnTo>
                  <a:pt x="2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2" y="3687"/>
                </a:lnTo>
                <a:lnTo>
                  <a:pt x="3" y="3685"/>
                </a:lnTo>
                <a:lnTo>
                  <a:pt x="5" y="3684"/>
                </a:lnTo>
                <a:lnTo>
                  <a:pt x="6" y="3683"/>
                </a:lnTo>
                <a:lnTo>
                  <a:pt x="8" y="3683"/>
                </a:lnTo>
                <a:lnTo>
                  <a:pt x="9" y="3683"/>
                </a:lnTo>
                <a:lnTo>
                  <a:pt x="10" y="3684"/>
                </a:lnTo>
                <a:lnTo>
                  <a:pt x="12" y="3685"/>
                </a:lnTo>
                <a:lnTo>
                  <a:pt x="13" y="3687"/>
                </a:lnTo>
                <a:lnTo>
                  <a:pt x="14" y="3688"/>
                </a:lnTo>
                <a:lnTo>
                  <a:pt x="14" y="3690"/>
                </a:lnTo>
                <a:lnTo>
                  <a:pt x="14" y="3729"/>
                </a:lnTo>
                <a:lnTo>
                  <a:pt x="14" y="3730"/>
                </a:lnTo>
                <a:lnTo>
                  <a:pt x="13" y="3731"/>
                </a:lnTo>
                <a:lnTo>
                  <a:pt x="12" y="3733"/>
                </a:lnTo>
                <a:lnTo>
                  <a:pt x="10" y="3735"/>
                </a:lnTo>
                <a:lnTo>
                  <a:pt x="9" y="3735"/>
                </a:lnTo>
                <a:lnTo>
                  <a:pt x="8" y="3735"/>
                </a:lnTo>
                <a:lnTo>
                  <a:pt x="6" y="3735"/>
                </a:lnTo>
                <a:lnTo>
                  <a:pt x="5" y="3735"/>
                </a:lnTo>
                <a:lnTo>
                  <a:pt x="3" y="3733"/>
                </a:lnTo>
                <a:lnTo>
                  <a:pt x="2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2" y="3595"/>
                </a:lnTo>
                <a:lnTo>
                  <a:pt x="3" y="3593"/>
                </a:lnTo>
                <a:lnTo>
                  <a:pt x="5" y="3591"/>
                </a:lnTo>
                <a:lnTo>
                  <a:pt x="6" y="3591"/>
                </a:lnTo>
                <a:lnTo>
                  <a:pt x="8" y="3591"/>
                </a:lnTo>
                <a:lnTo>
                  <a:pt x="9" y="3591"/>
                </a:lnTo>
                <a:lnTo>
                  <a:pt x="10" y="3591"/>
                </a:lnTo>
                <a:lnTo>
                  <a:pt x="12" y="3593"/>
                </a:lnTo>
                <a:lnTo>
                  <a:pt x="13" y="3595"/>
                </a:lnTo>
                <a:lnTo>
                  <a:pt x="14" y="3596"/>
                </a:lnTo>
                <a:lnTo>
                  <a:pt x="14" y="3598"/>
                </a:lnTo>
                <a:lnTo>
                  <a:pt x="14" y="3638"/>
                </a:lnTo>
                <a:lnTo>
                  <a:pt x="14" y="3639"/>
                </a:lnTo>
                <a:lnTo>
                  <a:pt x="13" y="3640"/>
                </a:lnTo>
                <a:lnTo>
                  <a:pt x="12" y="3642"/>
                </a:lnTo>
                <a:lnTo>
                  <a:pt x="10" y="3643"/>
                </a:lnTo>
                <a:lnTo>
                  <a:pt x="9" y="3644"/>
                </a:lnTo>
                <a:lnTo>
                  <a:pt x="8" y="3644"/>
                </a:lnTo>
                <a:lnTo>
                  <a:pt x="6" y="3644"/>
                </a:lnTo>
                <a:lnTo>
                  <a:pt x="5" y="3643"/>
                </a:lnTo>
                <a:lnTo>
                  <a:pt x="3" y="3642"/>
                </a:lnTo>
                <a:lnTo>
                  <a:pt x="2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2" y="3503"/>
                </a:lnTo>
                <a:lnTo>
                  <a:pt x="3" y="3501"/>
                </a:lnTo>
                <a:lnTo>
                  <a:pt x="5" y="3500"/>
                </a:lnTo>
                <a:lnTo>
                  <a:pt x="6" y="3499"/>
                </a:lnTo>
                <a:lnTo>
                  <a:pt x="8" y="3499"/>
                </a:lnTo>
                <a:lnTo>
                  <a:pt x="9" y="3499"/>
                </a:lnTo>
                <a:lnTo>
                  <a:pt x="10" y="3500"/>
                </a:lnTo>
                <a:lnTo>
                  <a:pt x="12" y="3501"/>
                </a:lnTo>
                <a:lnTo>
                  <a:pt x="13" y="3503"/>
                </a:lnTo>
                <a:lnTo>
                  <a:pt x="14" y="3504"/>
                </a:lnTo>
                <a:lnTo>
                  <a:pt x="14" y="3506"/>
                </a:lnTo>
                <a:lnTo>
                  <a:pt x="14" y="3545"/>
                </a:lnTo>
                <a:lnTo>
                  <a:pt x="14" y="3546"/>
                </a:lnTo>
                <a:lnTo>
                  <a:pt x="13" y="3547"/>
                </a:lnTo>
                <a:lnTo>
                  <a:pt x="12" y="3549"/>
                </a:lnTo>
                <a:lnTo>
                  <a:pt x="10" y="3551"/>
                </a:lnTo>
                <a:lnTo>
                  <a:pt x="9" y="3551"/>
                </a:lnTo>
                <a:lnTo>
                  <a:pt x="8" y="3551"/>
                </a:lnTo>
                <a:lnTo>
                  <a:pt x="6" y="3551"/>
                </a:lnTo>
                <a:lnTo>
                  <a:pt x="5" y="3551"/>
                </a:lnTo>
                <a:lnTo>
                  <a:pt x="3" y="3549"/>
                </a:lnTo>
                <a:lnTo>
                  <a:pt x="2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2" y="3411"/>
                </a:lnTo>
                <a:lnTo>
                  <a:pt x="3" y="3409"/>
                </a:lnTo>
                <a:lnTo>
                  <a:pt x="5" y="3407"/>
                </a:lnTo>
                <a:lnTo>
                  <a:pt x="6" y="3407"/>
                </a:lnTo>
                <a:lnTo>
                  <a:pt x="8" y="3407"/>
                </a:lnTo>
                <a:lnTo>
                  <a:pt x="9" y="3407"/>
                </a:lnTo>
                <a:lnTo>
                  <a:pt x="10" y="3407"/>
                </a:lnTo>
                <a:lnTo>
                  <a:pt x="12" y="3409"/>
                </a:lnTo>
                <a:lnTo>
                  <a:pt x="13" y="3411"/>
                </a:lnTo>
                <a:lnTo>
                  <a:pt x="14" y="3412"/>
                </a:lnTo>
                <a:lnTo>
                  <a:pt x="14" y="3413"/>
                </a:lnTo>
                <a:lnTo>
                  <a:pt x="14" y="3453"/>
                </a:lnTo>
                <a:lnTo>
                  <a:pt x="14" y="3454"/>
                </a:lnTo>
                <a:lnTo>
                  <a:pt x="13" y="3456"/>
                </a:lnTo>
                <a:lnTo>
                  <a:pt x="12" y="3458"/>
                </a:lnTo>
                <a:lnTo>
                  <a:pt x="10" y="3459"/>
                </a:lnTo>
                <a:lnTo>
                  <a:pt x="9" y="3460"/>
                </a:lnTo>
                <a:lnTo>
                  <a:pt x="8" y="3460"/>
                </a:lnTo>
                <a:lnTo>
                  <a:pt x="6" y="3460"/>
                </a:lnTo>
                <a:lnTo>
                  <a:pt x="5" y="3459"/>
                </a:lnTo>
                <a:lnTo>
                  <a:pt x="3" y="3458"/>
                </a:lnTo>
                <a:lnTo>
                  <a:pt x="2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2" y="3319"/>
                </a:lnTo>
                <a:lnTo>
                  <a:pt x="3" y="3317"/>
                </a:lnTo>
                <a:lnTo>
                  <a:pt x="5" y="3316"/>
                </a:lnTo>
                <a:lnTo>
                  <a:pt x="6" y="3315"/>
                </a:lnTo>
                <a:lnTo>
                  <a:pt x="8" y="3315"/>
                </a:lnTo>
                <a:lnTo>
                  <a:pt x="9" y="3315"/>
                </a:lnTo>
                <a:lnTo>
                  <a:pt x="10" y="3316"/>
                </a:lnTo>
                <a:lnTo>
                  <a:pt x="12" y="3317"/>
                </a:lnTo>
                <a:lnTo>
                  <a:pt x="13" y="3319"/>
                </a:lnTo>
                <a:lnTo>
                  <a:pt x="14" y="3320"/>
                </a:lnTo>
                <a:lnTo>
                  <a:pt x="14" y="3322"/>
                </a:lnTo>
                <a:lnTo>
                  <a:pt x="14" y="3361"/>
                </a:lnTo>
                <a:lnTo>
                  <a:pt x="14" y="3362"/>
                </a:lnTo>
                <a:lnTo>
                  <a:pt x="13" y="3363"/>
                </a:lnTo>
                <a:lnTo>
                  <a:pt x="12" y="3365"/>
                </a:lnTo>
                <a:lnTo>
                  <a:pt x="10" y="3367"/>
                </a:lnTo>
                <a:lnTo>
                  <a:pt x="9" y="3367"/>
                </a:lnTo>
                <a:lnTo>
                  <a:pt x="8" y="3367"/>
                </a:lnTo>
                <a:lnTo>
                  <a:pt x="6" y="3367"/>
                </a:lnTo>
                <a:lnTo>
                  <a:pt x="5" y="3367"/>
                </a:lnTo>
                <a:lnTo>
                  <a:pt x="3" y="3365"/>
                </a:lnTo>
                <a:lnTo>
                  <a:pt x="2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2" y="3227"/>
                </a:lnTo>
                <a:lnTo>
                  <a:pt x="3" y="3225"/>
                </a:lnTo>
                <a:lnTo>
                  <a:pt x="5" y="3223"/>
                </a:lnTo>
                <a:lnTo>
                  <a:pt x="6" y="3223"/>
                </a:lnTo>
                <a:lnTo>
                  <a:pt x="8" y="3223"/>
                </a:lnTo>
                <a:lnTo>
                  <a:pt x="9" y="3223"/>
                </a:lnTo>
                <a:lnTo>
                  <a:pt x="10" y="3223"/>
                </a:lnTo>
                <a:lnTo>
                  <a:pt x="12" y="3225"/>
                </a:lnTo>
                <a:lnTo>
                  <a:pt x="13" y="3227"/>
                </a:lnTo>
                <a:lnTo>
                  <a:pt x="14" y="3228"/>
                </a:lnTo>
                <a:lnTo>
                  <a:pt x="14" y="3229"/>
                </a:lnTo>
                <a:lnTo>
                  <a:pt x="14" y="3269"/>
                </a:lnTo>
                <a:lnTo>
                  <a:pt x="14" y="3270"/>
                </a:lnTo>
                <a:lnTo>
                  <a:pt x="13" y="3271"/>
                </a:lnTo>
                <a:lnTo>
                  <a:pt x="12" y="3273"/>
                </a:lnTo>
                <a:lnTo>
                  <a:pt x="10" y="3275"/>
                </a:lnTo>
                <a:lnTo>
                  <a:pt x="9" y="3276"/>
                </a:lnTo>
                <a:lnTo>
                  <a:pt x="8" y="3276"/>
                </a:lnTo>
                <a:lnTo>
                  <a:pt x="6" y="3276"/>
                </a:lnTo>
                <a:lnTo>
                  <a:pt x="5" y="3275"/>
                </a:lnTo>
                <a:lnTo>
                  <a:pt x="3" y="3273"/>
                </a:lnTo>
                <a:lnTo>
                  <a:pt x="2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2" y="3135"/>
                </a:lnTo>
                <a:lnTo>
                  <a:pt x="3" y="3132"/>
                </a:lnTo>
                <a:lnTo>
                  <a:pt x="5" y="3131"/>
                </a:lnTo>
                <a:lnTo>
                  <a:pt x="6" y="3130"/>
                </a:lnTo>
                <a:lnTo>
                  <a:pt x="8" y="3130"/>
                </a:lnTo>
                <a:lnTo>
                  <a:pt x="9" y="3130"/>
                </a:lnTo>
                <a:lnTo>
                  <a:pt x="10" y="3131"/>
                </a:lnTo>
                <a:lnTo>
                  <a:pt x="12" y="3132"/>
                </a:lnTo>
                <a:lnTo>
                  <a:pt x="13" y="3135"/>
                </a:lnTo>
                <a:lnTo>
                  <a:pt x="14" y="3136"/>
                </a:lnTo>
                <a:lnTo>
                  <a:pt x="14" y="3138"/>
                </a:lnTo>
                <a:lnTo>
                  <a:pt x="14" y="3177"/>
                </a:lnTo>
                <a:lnTo>
                  <a:pt x="14" y="3178"/>
                </a:lnTo>
                <a:lnTo>
                  <a:pt x="13" y="3179"/>
                </a:lnTo>
                <a:lnTo>
                  <a:pt x="12" y="3181"/>
                </a:lnTo>
                <a:lnTo>
                  <a:pt x="10" y="3183"/>
                </a:lnTo>
                <a:lnTo>
                  <a:pt x="9" y="3183"/>
                </a:lnTo>
                <a:lnTo>
                  <a:pt x="8" y="3183"/>
                </a:lnTo>
                <a:lnTo>
                  <a:pt x="6" y="3183"/>
                </a:lnTo>
                <a:lnTo>
                  <a:pt x="5" y="3183"/>
                </a:lnTo>
                <a:lnTo>
                  <a:pt x="3" y="3181"/>
                </a:lnTo>
                <a:lnTo>
                  <a:pt x="2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2" y="3043"/>
                </a:lnTo>
                <a:lnTo>
                  <a:pt x="3" y="3041"/>
                </a:lnTo>
                <a:lnTo>
                  <a:pt x="5" y="3039"/>
                </a:lnTo>
                <a:lnTo>
                  <a:pt x="6" y="3039"/>
                </a:lnTo>
                <a:lnTo>
                  <a:pt x="8" y="3039"/>
                </a:lnTo>
                <a:lnTo>
                  <a:pt x="9" y="3039"/>
                </a:lnTo>
                <a:lnTo>
                  <a:pt x="10" y="3039"/>
                </a:lnTo>
                <a:lnTo>
                  <a:pt x="12" y="3041"/>
                </a:lnTo>
                <a:lnTo>
                  <a:pt x="13" y="3043"/>
                </a:lnTo>
                <a:lnTo>
                  <a:pt x="14" y="3044"/>
                </a:lnTo>
                <a:lnTo>
                  <a:pt x="14" y="3045"/>
                </a:lnTo>
                <a:lnTo>
                  <a:pt x="14" y="3085"/>
                </a:lnTo>
                <a:lnTo>
                  <a:pt x="14" y="3086"/>
                </a:lnTo>
                <a:lnTo>
                  <a:pt x="13" y="3087"/>
                </a:lnTo>
                <a:lnTo>
                  <a:pt x="12" y="3089"/>
                </a:lnTo>
                <a:lnTo>
                  <a:pt x="10" y="3090"/>
                </a:lnTo>
                <a:lnTo>
                  <a:pt x="9" y="3091"/>
                </a:lnTo>
                <a:lnTo>
                  <a:pt x="8" y="3091"/>
                </a:lnTo>
                <a:lnTo>
                  <a:pt x="6" y="3091"/>
                </a:lnTo>
                <a:lnTo>
                  <a:pt x="5" y="3090"/>
                </a:lnTo>
                <a:lnTo>
                  <a:pt x="3" y="3089"/>
                </a:lnTo>
                <a:lnTo>
                  <a:pt x="2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2" y="2950"/>
                </a:lnTo>
                <a:lnTo>
                  <a:pt x="3" y="2948"/>
                </a:lnTo>
                <a:lnTo>
                  <a:pt x="5" y="2947"/>
                </a:lnTo>
                <a:lnTo>
                  <a:pt x="6" y="2946"/>
                </a:lnTo>
                <a:lnTo>
                  <a:pt x="8" y="2946"/>
                </a:lnTo>
                <a:lnTo>
                  <a:pt x="9" y="2946"/>
                </a:lnTo>
                <a:lnTo>
                  <a:pt x="10" y="2947"/>
                </a:lnTo>
                <a:lnTo>
                  <a:pt x="12" y="2948"/>
                </a:lnTo>
                <a:lnTo>
                  <a:pt x="13" y="2950"/>
                </a:lnTo>
                <a:lnTo>
                  <a:pt x="14" y="2952"/>
                </a:lnTo>
                <a:lnTo>
                  <a:pt x="14" y="2954"/>
                </a:lnTo>
                <a:lnTo>
                  <a:pt x="14" y="2993"/>
                </a:lnTo>
                <a:lnTo>
                  <a:pt x="14" y="2994"/>
                </a:lnTo>
                <a:lnTo>
                  <a:pt x="13" y="2995"/>
                </a:lnTo>
                <a:lnTo>
                  <a:pt x="12" y="2997"/>
                </a:lnTo>
                <a:lnTo>
                  <a:pt x="10" y="2999"/>
                </a:lnTo>
                <a:lnTo>
                  <a:pt x="9" y="2999"/>
                </a:lnTo>
                <a:lnTo>
                  <a:pt x="8" y="2999"/>
                </a:lnTo>
                <a:lnTo>
                  <a:pt x="6" y="2999"/>
                </a:lnTo>
                <a:lnTo>
                  <a:pt x="5" y="2999"/>
                </a:lnTo>
                <a:lnTo>
                  <a:pt x="3" y="2997"/>
                </a:lnTo>
                <a:lnTo>
                  <a:pt x="2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2" y="2859"/>
                </a:lnTo>
                <a:lnTo>
                  <a:pt x="3" y="2857"/>
                </a:lnTo>
                <a:lnTo>
                  <a:pt x="5" y="2855"/>
                </a:lnTo>
                <a:lnTo>
                  <a:pt x="6" y="2855"/>
                </a:lnTo>
                <a:lnTo>
                  <a:pt x="8" y="2855"/>
                </a:lnTo>
                <a:lnTo>
                  <a:pt x="9" y="2855"/>
                </a:lnTo>
                <a:lnTo>
                  <a:pt x="10" y="2855"/>
                </a:lnTo>
                <a:lnTo>
                  <a:pt x="12" y="2857"/>
                </a:lnTo>
                <a:lnTo>
                  <a:pt x="13" y="2859"/>
                </a:lnTo>
                <a:lnTo>
                  <a:pt x="14" y="2860"/>
                </a:lnTo>
                <a:lnTo>
                  <a:pt x="14" y="2861"/>
                </a:lnTo>
                <a:lnTo>
                  <a:pt x="14" y="2901"/>
                </a:lnTo>
                <a:lnTo>
                  <a:pt x="14" y="2902"/>
                </a:lnTo>
                <a:lnTo>
                  <a:pt x="13" y="2903"/>
                </a:lnTo>
                <a:lnTo>
                  <a:pt x="12" y="2905"/>
                </a:lnTo>
                <a:lnTo>
                  <a:pt x="10" y="2906"/>
                </a:lnTo>
                <a:lnTo>
                  <a:pt x="9" y="2907"/>
                </a:lnTo>
                <a:lnTo>
                  <a:pt x="8" y="2907"/>
                </a:lnTo>
                <a:lnTo>
                  <a:pt x="6" y="2907"/>
                </a:lnTo>
                <a:lnTo>
                  <a:pt x="5" y="2906"/>
                </a:lnTo>
                <a:lnTo>
                  <a:pt x="3" y="2905"/>
                </a:lnTo>
                <a:lnTo>
                  <a:pt x="2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2" y="2766"/>
                </a:lnTo>
                <a:lnTo>
                  <a:pt x="3" y="2764"/>
                </a:lnTo>
                <a:lnTo>
                  <a:pt x="5" y="2763"/>
                </a:lnTo>
                <a:lnTo>
                  <a:pt x="6" y="2762"/>
                </a:lnTo>
                <a:lnTo>
                  <a:pt x="8" y="2762"/>
                </a:lnTo>
                <a:lnTo>
                  <a:pt x="9" y="2762"/>
                </a:lnTo>
                <a:lnTo>
                  <a:pt x="10" y="2763"/>
                </a:lnTo>
                <a:lnTo>
                  <a:pt x="12" y="2764"/>
                </a:lnTo>
                <a:lnTo>
                  <a:pt x="13" y="2766"/>
                </a:lnTo>
                <a:lnTo>
                  <a:pt x="14" y="2767"/>
                </a:lnTo>
                <a:lnTo>
                  <a:pt x="14" y="2769"/>
                </a:lnTo>
                <a:lnTo>
                  <a:pt x="14" y="2808"/>
                </a:lnTo>
                <a:lnTo>
                  <a:pt x="14" y="2809"/>
                </a:lnTo>
                <a:lnTo>
                  <a:pt x="13" y="2811"/>
                </a:lnTo>
                <a:lnTo>
                  <a:pt x="12" y="2813"/>
                </a:lnTo>
                <a:lnTo>
                  <a:pt x="10" y="2815"/>
                </a:lnTo>
                <a:lnTo>
                  <a:pt x="9" y="2815"/>
                </a:lnTo>
                <a:lnTo>
                  <a:pt x="8" y="2815"/>
                </a:lnTo>
                <a:lnTo>
                  <a:pt x="6" y="2815"/>
                </a:lnTo>
                <a:lnTo>
                  <a:pt x="5" y="2815"/>
                </a:lnTo>
                <a:lnTo>
                  <a:pt x="3" y="2813"/>
                </a:lnTo>
                <a:lnTo>
                  <a:pt x="2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2" y="2675"/>
                </a:lnTo>
                <a:lnTo>
                  <a:pt x="3" y="2673"/>
                </a:lnTo>
                <a:lnTo>
                  <a:pt x="5" y="2671"/>
                </a:lnTo>
                <a:lnTo>
                  <a:pt x="6" y="2671"/>
                </a:lnTo>
                <a:lnTo>
                  <a:pt x="8" y="2671"/>
                </a:lnTo>
                <a:lnTo>
                  <a:pt x="9" y="2671"/>
                </a:lnTo>
                <a:lnTo>
                  <a:pt x="10" y="2671"/>
                </a:lnTo>
                <a:lnTo>
                  <a:pt x="12" y="2673"/>
                </a:lnTo>
                <a:lnTo>
                  <a:pt x="13" y="2675"/>
                </a:lnTo>
                <a:lnTo>
                  <a:pt x="14" y="2676"/>
                </a:lnTo>
                <a:lnTo>
                  <a:pt x="14" y="2677"/>
                </a:lnTo>
                <a:lnTo>
                  <a:pt x="14" y="2717"/>
                </a:lnTo>
                <a:lnTo>
                  <a:pt x="14" y="2718"/>
                </a:lnTo>
                <a:lnTo>
                  <a:pt x="13" y="2719"/>
                </a:lnTo>
                <a:lnTo>
                  <a:pt x="12" y="2721"/>
                </a:lnTo>
                <a:lnTo>
                  <a:pt x="10" y="2722"/>
                </a:lnTo>
                <a:lnTo>
                  <a:pt x="9" y="2723"/>
                </a:lnTo>
                <a:lnTo>
                  <a:pt x="8" y="2723"/>
                </a:lnTo>
                <a:lnTo>
                  <a:pt x="6" y="2723"/>
                </a:lnTo>
                <a:lnTo>
                  <a:pt x="5" y="2722"/>
                </a:lnTo>
                <a:lnTo>
                  <a:pt x="3" y="2721"/>
                </a:lnTo>
                <a:lnTo>
                  <a:pt x="2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2" y="2582"/>
                </a:lnTo>
                <a:lnTo>
                  <a:pt x="3" y="2580"/>
                </a:lnTo>
                <a:lnTo>
                  <a:pt x="5" y="2579"/>
                </a:lnTo>
                <a:lnTo>
                  <a:pt x="6" y="2578"/>
                </a:lnTo>
                <a:lnTo>
                  <a:pt x="8" y="2578"/>
                </a:lnTo>
                <a:lnTo>
                  <a:pt x="9" y="2578"/>
                </a:lnTo>
                <a:lnTo>
                  <a:pt x="10" y="2579"/>
                </a:lnTo>
                <a:lnTo>
                  <a:pt x="12" y="2580"/>
                </a:lnTo>
                <a:lnTo>
                  <a:pt x="13" y="2582"/>
                </a:lnTo>
                <a:lnTo>
                  <a:pt x="14" y="2583"/>
                </a:lnTo>
                <a:lnTo>
                  <a:pt x="14" y="2585"/>
                </a:lnTo>
                <a:lnTo>
                  <a:pt x="14" y="2624"/>
                </a:lnTo>
                <a:lnTo>
                  <a:pt x="14" y="2625"/>
                </a:lnTo>
                <a:lnTo>
                  <a:pt x="13" y="2626"/>
                </a:lnTo>
                <a:lnTo>
                  <a:pt x="12" y="2628"/>
                </a:lnTo>
                <a:lnTo>
                  <a:pt x="10" y="2631"/>
                </a:lnTo>
                <a:lnTo>
                  <a:pt x="9" y="2631"/>
                </a:lnTo>
                <a:lnTo>
                  <a:pt x="8" y="2631"/>
                </a:lnTo>
                <a:lnTo>
                  <a:pt x="6" y="2631"/>
                </a:lnTo>
                <a:lnTo>
                  <a:pt x="5" y="2631"/>
                </a:lnTo>
                <a:lnTo>
                  <a:pt x="3" y="2628"/>
                </a:lnTo>
                <a:lnTo>
                  <a:pt x="2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2" y="2491"/>
                </a:lnTo>
                <a:lnTo>
                  <a:pt x="3" y="2489"/>
                </a:lnTo>
                <a:lnTo>
                  <a:pt x="5" y="2486"/>
                </a:lnTo>
                <a:lnTo>
                  <a:pt x="6" y="2486"/>
                </a:lnTo>
                <a:lnTo>
                  <a:pt x="8" y="2486"/>
                </a:lnTo>
                <a:lnTo>
                  <a:pt x="9" y="2486"/>
                </a:lnTo>
                <a:lnTo>
                  <a:pt x="10" y="2486"/>
                </a:lnTo>
                <a:lnTo>
                  <a:pt x="12" y="2489"/>
                </a:lnTo>
                <a:lnTo>
                  <a:pt x="13" y="2491"/>
                </a:lnTo>
                <a:lnTo>
                  <a:pt x="14" y="2492"/>
                </a:lnTo>
                <a:lnTo>
                  <a:pt x="14" y="2493"/>
                </a:lnTo>
                <a:lnTo>
                  <a:pt x="14" y="2533"/>
                </a:lnTo>
                <a:lnTo>
                  <a:pt x="14" y="2534"/>
                </a:lnTo>
                <a:lnTo>
                  <a:pt x="13" y="2535"/>
                </a:lnTo>
                <a:lnTo>
                  <a:pt x="12" y="2537"/>
                </a:lnTo>
                <a:lnTo>
                  <a:pt x="10" y="2538"/>
                </a:lnTo>
                <a:lnTo>
                  <a:pt x="9" y="2539"/>
                </a:lnTo>
                <a:lnTo>
                  <a:pt x="8" y="2539"/>
                </a:lnTo>
                <a:lnTo>
                  <a:pt x="6" y="2539"/>
                </a:lnTo>
                <a:lnTo>
                  <a:pt x="5" y="2538"/>
                </a:lnTo>
                <a:lnTo>
                  <a:pt x="3" y="2537"/>
                </a:lnTo>
                <a:lnTo>
                  <a:pt x="2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2" y="2398"/>
                </a:lnTo>
                <a:lnTo>
                  <a:pt x="3" y="2396"/>
                </a:lnTo>
                <a:lnTo>
                  <a:pt x="5" y="2395"/>
                </a:lnTo>
                <a:lnTo>
                  <a:pt x="6" y="2394"/>
                </a:lnTo>
                <a:lnTo>
                  <a:pt x="8" y="2394"/>
                </a:lnTo>
                <a:lnTo>
                  <a:pt x="9" y="2394"/>
                </a:lnTo>
                <a:lnTo>
                  <a:pt x="10" y="2395"/>
                </a:lnTo>
                <a:lnTo>
                  <a:pt x="12" y="2396"/>
                </a:lnTo>
                <a:lnTo>
                  <a:pt x="13" y="2398"/>
                </a:lnTo>
                <a:lnTo>
                  <a:pt x="14" y="2399"/>
                </a:lnTo>
                <a:lnTo>
                  <a:pt x="14" y="2401"/>
                </a:lnTo>
                <a:lnTo>
                  <a:pt x="14" y="2440"/>
                </a:lnTo>
                <a:lnTo>
                  <a:pt x="14" y="2441"/>
                </a:lnTo>
                <a:lnTo>
                  <a:pt x="13" y="2442"/>
                </a:lnTo>
                <a:lnTo>
                  <a:pt x="12" y="2444"/>
                </a:lnTo>
                <a:lnTo>
                  <a:pt x="10" y="2446"/>
                </a:lnTo>
                <a:lnTo>
                  <a:pt x="9" y="2446"/>
                </a:lnTo>
                <a:lnTo>
                  <a:pt x="8" y="2446"/>
                </a:lnTo>
                <a:lnTo>
                  <a:pt x="6" y="2446"/>
                </a:lnTo>
                <a:lnTo>
                  <a:pt x="5" y="2446"/>
                </a:lnTo>
                <a:lnTo>
                  <a:pt x="3" y="2444"/>
                </a:lnTo>
                <a:lnTo>
                  <a:pt x="2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2" y="2307"/>
                </a:lnTo>
                <a:lnTo>
                  <a:pt x="3" y="2304"/>
                </a:lnTo>
                <a:lnTo>
                  <a:pt x="5" y="2302"/>
                </a:lnTo>
                <a:lnTo>
                  <a:pt x="6" y="2302"/>
                </a:lnTo>
                <a:lnTo>
                  <a:pt x="8" y="2302"/>
                </a:lnTo>
                <a:lnTo>
                  <a:pt x="9" y="2302"/>
                </a:lnTo>
                <a:lnTo>
                  <a:pt x="10" y="2302"/>
                </a:lnTo>
                <a:lnTo>
                  <a:pt x="12" y="2304"/>
                </a:lnTo>
                <a:lnTo>
                  <a:pt x="13" y="2307"/>
                </a:lnTo>
                <a:lnTo>
                  <a:pt x="14" y="2308"/>
                </a:lnTo>
                <a:lnTo>
                  <a:pt x="14" y="2309"/>
                </a:lnTo>
                <a:lnTo>
                  <a:pt x="14" y="2349"/>
                </a:lnTo>
                <a:lnTo>
                  <a:pt x="14" y="2350"/>
                </a:lnTo>
                <a:lnTo>
                  <a:pt x="13" y="2351"/>
                </a:lnTo>
                <a:lnTo>
                  <a:pt x="12" y="2353"/>
                </a:lnTo>
                <a:lnTo>
                  <a:pt x="10" y="2354"/>
                </a:lnTo>
                <a:lnTo>
                  <a:pt x="9" y="2355"/>
                </a:lnTo>
                <a:lnTo>
                  <a:pt x="8" y="2355"/>
                </a:lnTo>
                <a:lnTo>
                  <a:pt x="6" y="2355"/>
                </a:lnTo>
                <a:lnTo>
                  <a:pt x="5" y="2354"/>
                </a:lnTo>
                <a:lnTo>
                  <a:pt x="3" y="2353"/>
                </a:lnTo>
                <a:lnTo>
                  <a:pt x="2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2" y="2214"/>
                </a:lnTo>
                <a:lnTo>
                  <a:pt x="3" y="2212"/>
                </a:lnTo>
                <a:lnTo>
                  <a:pt x="5" y="2211"/>
                </a:lnTo>
                <a:lnTo>
                  <a:pt x="6" y="2210"/>
                </a:lnTo>
                <a:lnTo>
                  <a:pt x="8" y="2210"/>
                </a:lnTo>
                <a:lnTo>
                  <a:pt x="9" y="2210"/>
                </a:lnTo>
                <a:lnTo>
                  <a:pt x="10" y="2211"/>
                </a:lnTo>
                <a:lnTo>
                  <a:pt x="12" y="2212"/>
                </a:lnTo>
                <a:lnTo>
                  <a:pt x="13" y="2214"/>
                </a:lnTo>
                <a:lnTo>
                  <a:pt x="14" y="2215"/>
                </a:lnTo>
                <a:lnTo>
                  <a:pt x="14" y="2217"/>
                </a:lnTo>
                <a:lnTo>
                  <a:pt x="14" y="2256"/>
                </a:lnTo>
                <a:lnTo>
                  <a:pt x="14" y="2257"/>
                </a:lnTo>
                <a:lnTo>
                  <a:pt x="13" y="2258"/>
                </a:lnTo>
                <a:lnTo>
                  <a:pt x="12" y="2260"/>
                </a:lnTo>
                <a:lnTo>
                  <a:pt x="10" y="2262"/>
                </a:lnTo>
                <a:lnTo>
                  <a:pt x="9" y="2262"/>
                </a:lnTo>
                <a:lnTo>
                  <a:pt x="8" y="2262"/>
                </a:lnTo>
                <a:lnTo>
                  <a:pt x="6" y="2262"/>
                </a:lnTo>
                <a:lnTo>
                  <a:pt x="5" y="2262"/>
                </a:lnTo>
                <a:lnTo>
                  <a:pt x="3" y="2260"/>
                </a:lnTo>
                <a:lnTo>
                  <a:pt x="2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2" y="2122"/>
                </a:lnTo>
                <a:lnTo>
                  <a:pt x="3" y="2120"/>
                </a:lnTo>
                <a:lnTo>
                  <a:pt x="5" y="2118"/>
                </a:lnTo>
                <a:lnTo>
                  <a:pt x="6" y="2118"/>
                </a:lnTo>
                <a:lnTo>
                  <a:pt x="8" y="2118"/>
                </a:lnTo>
                <a:lnTo>
                  <a:pt x="9" y="2118"/>
                </a:lnTo>
                <a:lnTo>
                  <a:pt x="10" y="2118"/>
                </a:lnTo>
                <a:lnTo>
                  <a:pt x="12" y="2120"/>
                </a:lnTo>
                <a:lnTo>
                  <a:pt x="13" y="2122"/>
                </a:lnTo>
                <a:lnTo>
                  <a:pt x="14" y="2123"/>
                </a:lnTo>
                <a:lnTo>
                  <a:pt x="14" y="2125"/>
                </a:lnTo>
                <a:lnTo>
                  <a:pt x="14" y="2164"/>
                </a:lnTo>
                <a:lnTo>
                  <a:pt x="14" y="2166"/>
                </a:lnTo>
                <a:lnTo>
                  <a:pt x="13" y="2167"/>
                </a:lnTo>
                <a:lnTo>
                  <a:pt x="12" y="2169"/>
                </a:lnTo>
                <a:lnTo>
                  <a:pt x="10" y="2170"/>
                </a:lnTo>
                <a:lnTo>
                  <a:pt x="9" y="2171"/>
                </a:lnTo>
                <a:lnTo>
                  <a:pt x="8" y="2171"/>
                </a:lnTo>
                <a:lnTo>
                  <a:pt x="6" y="2171"/>
                </a:lnTo>
                <a:lnTo>
                  <a:pt x="5" y="2170"/>
                </a:lnTo>
                <a:lnTo>
                  <a:pt x="3" y="2169"/>
                </a:lnTo>
                <a:lnTo>
                  <a:pt x="2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2" y="2030"/>
                </a:lnTo>
                <a:lnTo>
                  <a:pt x="3" y="2028"/>
                </a:lnTo>
                <a:lnTo>
                  <a:pt x="5" y="2027"/>
                </a:lnTo>
                <a:lnTo>
                  <a:pt x="6" y="2026"/>
                </a:lnTo>
                <a:lnTo>
                  <a:pt x="8" y="2026"/>
                </a:lnTo>
                <a:lnTo>
                  <a:pt x="9" y="2026"/>
                </a:lnTo>
                <a:lnTo>
                  <a:pt x="10" y="2027"/>
                </a:lnTo>
                <a:lnTo>
                  <a:pt x="12" y="2028"/>
                </a:lnTo>
                <a:lnTo>
                  <a:pt x="13" y="2030"/>
                </a:lnTo>
                <a:lnTo>
                  <a:pt x="14" y="2031"/>
                </a:lnTo>
                <a:lnTo>
                  <a:pt x="14" y="2033"/>
                </a:lnTo>
                <a:lnTo>
                  <a:pt x="14" y="2072"/>
                </a:lnTo>
                <a:lnTo>
                  <a:pt x="14" y="2073"/>
                </a:lnTo>
                <a:lnTo>
                  <a:pt x="13" y="2074"/>
                </a:lnTo>
                <a:lnTo>
                  <a:pt x="12" y="2076"/>
                </a:lnTo>
                <a:lnTo>
                  <a:pt x="10" y="2078"/>
                </a:lnTo>
                <a:lnTo>
                  <a:pt x="9" y="2078"/>
                </a:lnTo>
                <a:lnTo>
                  <a:pt x="8" y="2078"/>
                </a:lnTo>
                <a:lnTo>
                  <a:pt x="6" y="2078"/>
                </a:lnTo>
                <a:lnTo>
                  <a:pt x="5" y="2078"/>
                </a:lnTo>
                <a:lnTo>
                  <a:pt x="3" y="2076"/>
                </a:lnTo>
                <a:lnTo>
                  <a:pt x="2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2" y="1938"/>
                </a:lnTo>
                <a:lnTo>
                  <a:pt x="3" y="1936"/>
                </a:lnTo>
                <a:lnTo>
                  <a:pt x="5" y="1934"/>
                </a:lnTo>
                <a:lnTo>
                  <a:pt x="6" y="1934"/>
                </a:lnTo>
                <a:lnTo>
                  <a:pt x="8" y="1934"/>
                </a:lnTo>
                <a:lnTo>
                  <a:pt x="9" y="1934"/>
                </a:lnTo>
                <a:lnTo>
                  <a:pt x="10" y="1934"/>
                </a:lnTo>
                <a:lnTo>
                  <a:pt x="12" y="1936"/>
                </a:lnTo>
                <a:lnTo>
                  <a:pt x="13" y="1938"/>
                </a:lnTo>
                <a:lnTo>
                  <a:pt x="14" y="1939"/>
                </a:lnTo>
                <a:lnTo>
                  <a:pt x="14" y="1940"/>
                </a:lnTo>
                <a:lnTo>
                  <a:pt x="14" y="1980"/>
                </a:lnTo>
                <a:lnTo>
                  <a:pt x="14" y="1981"/>
                </a:lnTo>
                <a:lnTo>
                  <a:pt x="13" y="1982"/>
                </a:lnTo>
                <a:lnTo>
                  <a:pt x="12" y="1985"/>
                </a:lnTo>
                <a:lnTo>
                  <a:pt x="10" y="1986"/>
                </a:lnTo>
                <a:lnTo>
                  <a:pt x="9" y="1987"/>
                </a:lnTo>
                <a:lnTo>
                  <a:pt x="8" y="1987"/>
                </a:lnTo>
                <a:lnTo>
                  <a:pt x="6" y="1987"/>
                </a:lnTo>
                <a:lnTo>
                  <a:pt x="5" y="1986"/>
                </a:lnTo>
                <a:lnTo>
                  <a:pt x="3" y="1985"/>
                </a:lnTo>
                <a:lnTo>
                  <a:pt x="2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2" y="1846"/>
                </a:lnTo>
                <a:lnTo>
                  <a:pt x="3" y="1844"/>
                </a:lnTo>
                <a:lnTo>
                  <a:pt x="5" y="1843"/>
                </a:lnTo>
                <a:lnTo>
                  <a:pt x="6" y="1841"/>
                </a:lnTo>
                <a:lnTo>
                  <a:pt x="8" y="1841"/>
                </a:lnTo>
                <a:lnTo>
                  <a:pt x="9" y="1841"/>
                </a:lnTo>
                <a:lnTo>
                  <a:pt x="10" y="1843"/>
                </a:lnTo>
                <a:lnTo>
                  <a:pt x="12" y="1844"/>
                </a:lnTo>
                <a:lnTo>
                  <a:pt x="13" y="1846"/>
                </a:lnTo>
                <a:lnTo>
                  <a:pt x="14" y="1847"/>
                </a:lnTo>
                <a:lnTo>
                  <a:pt x="14" y="1849"/>
                </a:lnTo>
                <a:lnTo>
                  <a:pt x="14" y="1888"/>
                </a:lnTo>
                <a:lnTo>
                  <a:pt x="14" y="1889"/>
                </a:lnTo>
                <a:lnTo>
                  <a:pt x="13" y="1890"/>
                </a:lnTo>
                <a:lnTo>
                  <a:pt x="12" y="1892"/>
                </a:lnTo>
                <a:lnTo>
                  <a:pt x="10" y="1894"/>
                </a:lnTo>
                <a:lnTo>
                  <a:pt x="9" y="1894"/>
                </a:lnTo>
                <a:lnTo>
                  <a:pt x="8" y="1894"/>
                </a:lnTo>
                <a:lnTo>
                  <a:pt x="6" y="1894"/>
                </a:lnTo>
                <a:lnTo>
                  <a:pt x="5" y="1894"/>
                </a:lnTo>
                <a:lnTo>
                  <a:pt x="3" y="1892"/>
                </a:lnTo>
                <a:lnTo>
                  <a:pt x="2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2" y="1754"/>
                </a:lnTo>
                <a:lnTo>
                  <a:pt x="3" y="1752"/>
                </a:lnTo>
                <a:lnTo>
                  <a:pt x="5" y="1750"/>
                </a:lnTo>
                <a:lnTo>
                  <a:pt x="6" y="1750"/>
                </a:lnTo>
                <a:lnTo>
                  <a:pt x="8" y="1750"/>
                </a:lnTo>
                <a:lnTo>
                  <a:pt x="9" y="1750"/>
                </a:lnTo>
                <a:lnTo>
                  <a:pt x="10" y="1750"/>
                </a:lnTo>
                <a:lnTo>
                  <a:pt x="12" y="1752"/>
                </a:lnTo>
                <a:lnTo>
                  <a:pt x="13" y="1754"/>
                </a:lnTo>
                <a:lnTo>
                  <a:pt x="14" y="1755"/>
                </a:lnTo>
                <a:lnTo>
                  <a:pt x="14" y="1756"/>
                </a:lnTo>
                <a:lnTo>
                  <a:pt x="14" y="1796"/>
                </a:lnTo>
                <a:lnTo>
                  <a:pt x="14" y="1797"/>
                </a:lnTo>
                <a:lnTo>
                  <a:pt x="13" y="1798"/>
                </a:lnTo>
                <a:lnTo>
                  <a:pt x="12" y="1800"/>
                </a:lnTo>
                <a:lnTo>
                  <a:pt x="10" y="1801"/>
                </a:lnTo>
                <a:lnTo>
                  <a:pt x="9" y="1803"/>
                </a:lnTo>
                <a:lnTo>
                  <a:pt x="8" y="1803"/>
                </a:lnTo>
                <a:lnTo>
                  <a:pt x="6" y="1803"/>
                </a:lnTo>
                <a:lnTo>
                  <a:pt x="5" y="1801"/>
                </a:lnTo>
                <a:lnTo>
                  <a:pt x="3" y="1800"/>
                </a:lnTo>
                <a:lnTo>
                  <a:pt x="2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2" y="1662"/>
                </a:lnTo>
                <a:lnTo>
                  <a:pt x="3" y="1659"/>
                </a:lnTo>
                <a:lnTo>
                  <a:pt x="5" y="1658"/>
                </a:lnTo>
                <a:lnTo>
                  <a:pt x="6" y="1657"/>
                </a:lnTo>
                <a:lnTo>
                  <a:pt x="8" y="1657"/>
                </a:lnTo>
                <a:lnTo>
                  <a:pt x="9" y="1657"/>
                </a:lnTo>
                <a:lnTo>
                  <a:pt x="10" y="1658"/>
                </a:lnTo>
                <a:lnTo>
                  <a:pt x="12" y="1659"/>
                </a:lnTo>
                <a:lnTo>
                  <a:pt x="13" y="1662"/>
                </a:lnTo>
                <a:lnTo>
                  <a:pt x="14" y="1663"/>
                </a:lnTo>
                <a:lnTo>
                  <a:pt x="14" y="1665"/>
                </a:lnTo>
                <a:lnTo>
                  <a:pt x="14" y="1704"/>
                </a:lnTo>
                <a:lnTo>
                  <a:pt x="14" y="1705"/>
                </a:lnTo>
                <a:lnTo>
                  <a:pt x="13" y="1706"/>
                </a:lnTo>
                <a:lnTo>
                  <a:pt x="12" y="1708"/>
                </a:lnTo>
                <a:lnTo>
                  <a:pt x="10" y="1710"/>
                </a:lnTo>
                <a:lnTo>
                  <a:pt x="9" y="1710"/>
                </a:lnTo>
                <a:lnTo>
                  <a:pt x="8" y="1710"/>
                </a:lnTo>
                <a:lnTo>
                  <a:pt x="6" y="1710"/>
                </a:lnTo>
                <a:lnTo>
                  <a:pt x="5" y="1710"/>
                </a:lnTo>
                <a:lnTo>
                  <a:pt x="3" y="1708"/>
                </a:lnTo>
                <a:lnTo>
                  <a:pt x="2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2" y="1570"/>
                </a:lnTo>
                <a:lnTo>
                  <a:pt x="3" y="1568"/>
                </a:lnTo>
                <a:lnTo>
                  <a:pt x="5" y="1566"/>
                </a:lnTo>
                <a:lnTo>
                  <a:pt x="6" y="1566"/>
                </a:lnTo>
                <a:lnTo>
                  <a:pt x="8" y="1566"/>
                </a:lnTo>
                <a:lnTo>
                  <a:pt x="9" y="1566"/>
                </a:lnTo>
                <a:lnTo>
                  <a:pt x="10" y="1566"/>
                </a:lnTo>
                <a:lnTo>
                  <a:pt x="12" y="1568"/>
                </a:lnTo>
                <a:lnTo>
                  <a:pt x="13" y="1570"/>
                </a:lnTo>
                <a:lnTo>
                  <a:pt x="14" y="1571"/>
                </a:lnTo>
                <a:lnTo>
                  <a:pt x="14" y="1572"/>
                </a:lnTo>
                <a:lnTo>
                  <a:pt x="14" y="1612"/>
                </a:lnTo>
                <a:lnTo>
                  <a:pt x="14" y="1613"/>
                </a:lnTo>
                <a:lnTo>
                  <a:pt x="13" y="1614"/>
                </a:lnTo>
                <a:lnTo>
                  <a:pt x="12" y="1616"/>
                </a:lnTo>
                <a:lnTo>
                  <a:pt x="10" y="1617"/>
                </a:lnTo>
                <a:lnTo>
                  <a:pt x="9" y="1618"/>
                </a:lnTo>
                <a:lnTo>
                  <a:pt x="8" y="1618"/>
                </a:lnTo>
                <a:lnTo>
                  <a:pt x="6" y="1618"/>
                </a:lnTo>
                <a:lnTo>
                  <a:pt x="5" y="1617"/>
                </a:lnTo>
                <a:lnTo>
                  <a:pt x="3" y="1616"/>
                </a:lnTo>
                <a:lnTo>
                  <a:pt x="2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2" y="1477"/>
                </a:lnTo>
                <a:lnTo>
                  <a:pt x="3" y="1475"/>
                </a:lnTo>
                <a:lnTo>
                  <a:pt x="5" y="1474"/>
                </a:lnTo>
                <a:lnTo>
                  <a:pt x="6" y="1473"/>
                </a:lnTo>
                <a:lnTo>
                  <a:pt x="8" y="1473"/>
                </a:lnTo>
                <a:lnTo>
                  <a:pt x="9" y="1473"/>
                </a:lnTo>
                <a:lnTo>
                  <a:pt x="10" y="1474"/>
                </a:lnTo>
                <a:lnTo>
                  <a:pt x="12" y="1475"/>
                </a:lnTo>
                <a:lnTo>
                  <a:pt x="13" y="1477"/>
                </a:lnTo>
                <a:lnTo>
                  <a:pt x="14" y="1478"/>
                </a:lnTo>
                <a:lnTo>
                  <a:pt x="14" y="1481"/>
                </a:lnTo>
                <a:lnTo>
                  <a:pt x="14" y="1520"/>
                </a:lnTo>
                <a:lnTo>
                  <a:pt x="14" y="1521"/>
                </a:lnTo>
                <a:lnTo>
                  <a:pt x="13" y="1522"/>
                </a:lnTo>
                <a:lnTo>
                  <a:pt x="12" y="1524"/>
                </a:lnTo>
                <a:lnTo>
                  <a:pt x="10" y="1526"/>
                </a:lnTo>
                <a:lnTo>
                  <a:pt x="9" y="1526"/>
                </a:lnTo>
                <a:lnTo>
                  <a:pt x="8" y="1526"/>
                </a:lnTo>
                <a:lnTo>
                  <a:pt x="6" y="1526"/>
                </a:lnTo>
                <a:lnTo>
                  <a:pt x="5" y="1526"/>
                </a:lnTo>
                <a:lnTo>
                  <a:pt x="3" y="1524"/>
                </a:lnTo>
                <a:lnTo>
                  <a:pt x="2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2" y="1386"/>
                </a:lnTo>
                <a:lnTo>
                  <a:pt x="3" y="1384"/>
                </a:lnTo>
                <a:lnTo>
                  <a:pt x="5" y="1382"/>
                </a:lnTo>
                <a:lnTo>
                  <a:pt x="6" y="1382"/>
                </a:lnTo>
                <a:lnTo>
                  <a:pt x="8" y="1382"/>
                </a:lnTo>
                <a:lnTo>
                  <a:pt x="9" y="1382"/>
                </a:lnTo>
                <a:lnTo>
                  <a:pt x="10" y="1382"/>
                </a:lnTo>
                <a:lnTo>
                  <a:pt x="12" y="1384"/>
                </a:lnTo>
                <a:lnTo>
                  <a:pt x="13" y="1386"/>
                </a:lnTo>
                <a:lnTo>
                  <a:pt x="14" y="1387"/>
                </a:lnTo>
                <a:lnTo>
                  <a:pt x="14" y="1388"/>
                </a:lnTo>
                <a:lnTo>
                  <a:pt x="14" y="1428"/>
                </a:lnTo>
                <a:lnTo>
                  <a:pt x="14" y="1429"/>
                </a:lnTo>
                <a:lnTo>
                  <a:pt x="13" y="1430"/>
                </a:lnTo>
                <a:lnTo>
                  <a:pt x="12" y="1432"/>
                </a:lnTo>
                <a:lnTo>
                  <a:pt x="10" y="1433"/>
                </a:lnTo>
                <a:lnTo>
                  <a:pt x="9" y="1434"/>
                </a:lnTo>
                <a:lnTo>
                  <a:pt x="8" y="1434"/>
                </a:lnTo>
                <a:lnTo>
                  <a:pt x="6" y="1434"/>
                </a:lnTo>
                <a:lnTo>
                  <a:pt x="5" y="1433"/>
                </a:lnTo>
                <a:lnTo>
                  <a:pt x="3" y="1432"/>
                </a:lnTo>
                <a:lnTo>
                  <a:pt x="2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2" y="1293"/>
                </a:lnTo>
                <a:lnTo>
                  <a:pt x="3" y="1291"/>
                </a:lnTo>
                <a:lnTo>
                  <a:pt x="5" y="1290"/>
                </a:lnTo>
                <a:lnTo>
                  <a:pt x="6" y="1289"/>
                </a:lnTo>
                <a:lnTo>
                  <a:pt x="8" y="1289"/>
                </a:lnTo>
                <a:lnTo>
                  <a:pt x="9" y="1289"/>
                </a:lnTo>
                <a:lnTo>
                  <a:pt x="10" y="1290"/>
                </a:lnTo>
                <a:lnTo>
                  <a:pt x="12" y="1291"/>
                </a:lnTo>
                <a:lnTo>
                  <a:pt x="13" y="1293"/>
                </a:lnTo>
                <a:lnTo>
                  <a:pt x="14" y="1294"/>
                </a:lnTo>
                <a:lnTo>
                  <a:pt x="14" y="1296"/>
                </a:lnTo>
                <a:lnTo>
                  <a:pt x="14" y="1335"/>
                </a:lnTo>
                <a:lnTo>
                  <a:pt x="14" y="1336"/>
                </a:lnTo>
                <a:lnTo>
                  <a:pt x="13" y="1337"/>
                </a:lnTo>
                <a:lnTo>
                  <a:pt x="12" y="1340"/>
                </a:lnTo>
                <a:lnTo>
                  <a:pt x="10" y="1342"/>
                </a:lnTo>
                <a:lnTo>
                  <a:pt x="9" y="1342"/>
                </a:lnTo>
                <a:lnTo>
                  <a:pt x="8" y="1342"/>
                </a:lnTo>
                <a:lnTo>
                  <a:pt x="6" y="1342"/>
                </a:lnTo>
                <a:lnTo>
                  <a:pt x="5" y="1342"/>
                </a:lnTo>
                <a:lnTo>
                  <a:pt x="3" y="1340"/>
                </a:lnTo>
                <a:lnTo>
                  <a:pt x="2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2" y="1202"/>
                </a:lnTo>
                <a:lnTo>
                  <a:pt x="3" y="1200"/>
                </a:lnTo>
                <a:lnTo>
                  <a:pt x="5" y="1198"/>
                </a:lnTo>
                <a:lnTo>
                  <a:pt x="6" y="1198"/>
                </a:lnTo>
                <a:lnTo>
                  <a:pt x="8" y="1198"/>
                </a:lnTo>
                <a:lnTo>
                  <a:pt x="9" y="1198"/>
                </a:lnTo>
                <a:lnTo>
                  <a:pt x="10" y="1198"/>
                </a:lnTo>
                <a:lnTo>
                  <a:pt x="12" y="1200"/>
                </a:lnTo>
                <a:lnTo>
                  <a:pt x="13" y="1202"/>
                </a:lnTo>
                <a:lnTo>
                  <a:pt x="14" y="1203"/>
                </a:lnTo>
                <a:lnTo>
                  <a:pt x="14" y="1204"/>
                </a:lnTo>
                <a:lnTo>
                  <a:pt x="14" y="1244"/>
                </a:lnTo>
                <a:lnTo>
                  <a:pt x="14" y="1245"/>
                </a:lnTo>
                <a:lnTo>
                  <a:pt x="13" y="1246"/>
                </a:lnTo>
                <a:lnTo>
                  <a:pt x="12" y="1248"/>
                </a:lnTo>
                <a:lnTo>
                  <a:pt x="10" y="1249"/>
                </a:lnTo>
                <a:lnTo>
                  <a:pt x="9" y="1250"/>
                </a:lnTo>
                <a:lnTo>
                  <a:pt x="8" y="1250"/>
                </a:lnTo>
                <a:lnTo>
                  <a:pt x="6" y="1250"/>
                </a:lnTo>
                <a:lnTo>
                  <a:pt x="5" y="1249"/>
                </a:lnTo>
                <a:lnTo>
                  <a:pt x="3" y="1248"/>
                </a:lnTo>
                <a:lnTo>
                  <a:pt x="2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2" y="1109"/>
                </a:lnTo>
                <a:lnTo>
                  <a:pt x="3" y="1107"/>
                </a:lnTo>
                <a:lnTo>
                  <a:pt x="5" y="1106"/>
                </a:lnTo>
                <a:lnTo>
                  <a:pt x="6" y="1105"/>
                </a:lnTo>
                <a:lnTo>
                  <a:pt x="8" y="1105"/>
                </a:lnTo>
                <a:lnTo>
                  <a:pt x="9" y="1105"/>
                </a:lnTo>
                <a:lnTo>
                  <a:pt x="10" y="1106"/>
                </a:lnTo>
                <a:lnTo>
                  <a:pt x="12" y="1107"/>
                </a:lnTo>
                <a:lnTo>
                  <a:pt x="13" y="1109"/>
                </a:lnTo>
                <a:lnTo>
                  <a:pt x="14" y="1110"/>
                </a:lnTo>
                <a:lnTo>
                  <a:pt x="14" y="1112"/>
                </a:lnTo>
                <a:lnTo>
                  <a:pt x="14" y="1151"/>
                </a:lnTo>
                <a:lnTo>
                  <a:pt x="14" y="1152"/>
                </a:lnTo>
                <a:lnTo>
                  <a:pt x="13" y="1153"/>
                </a:lnTo>
                <a:lnTo>
                  <a:pt x="12" y="1155"/>
                </a:lnTo>
                <a:lnTo>
                  <a:pt x="10" y="1158"/>
                </a:lnTo>
                <a:lnTo>
                  <a:pt x="9" y="1158"/>
                </a:lnTo>
                <a:lnTo>
                  <a:pt x="8" y="1158"/>
                </a:lnTo>
                <a:lnTo>
                  <a:pt x="6" y="1158"/>
                </a:lnTo>
                <a:lnTo>
                  <a:pt x="5" y="1158"/>
                </a:lnTo>
                <a:lnTo>
                  <a:pt x="3" y="1155"/>
                </a:lnTo>
                <a:lnTo>
                  <a:pt x="2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2" y="1018"/>
                </a:lnTo>
                <a:lnTo>
                  <a:pt x="3" y="1016"/>
                </a:lnTo>
                <a:lnTo>
                  <a:pt x="5" y="1013"/>
                </a:lnTo>
                <a:lnTo>
                  <a:pt x="6" y="1013"/>
                </a:lnTo>
                <a:lnTo>
                  <a:pt x="8" y="1013"/>
                </a:lnTo>
                <a:lnTo>
                  <a:pt x="9" y="1013"/>
                </a:lnTo>
                <a:lnTo>
                  <a:pt x="10" y="1013"/>
                </a:lnTo>
                <a:lnTo>
                  <a:pt x="12" y="1016"/>
                </a:lnTo>
                <a:lnTo>
                  <a:pt x="13" y="1018"/>
                </a:lnTo>
                <a:lnTo>
                  <a:pt x="14" y="1019"/>
                </a:lnTo>
                <a:lnTo>
                  <a:pt x="14" y="1020"/>
                </a:lnTo>
                <a:lnTo>
                  <a:pt x="14" y="1060"/>
                </a:lnTo>
                <a:lnTo>
                  <a:pt x="14" y="1061"/>
                </a:lnTo>
                <a:lnTo>
                  <a:pt x="13" y="1062"/>
                </a:lnTo>
                <a:lnTo>
                  <a:pt x="12" y="1064"/>
                </a:lnTo>
                <a:lnTo>
                  <a:pt x="10" y="1065"/>
                </a:lnTo>
                <a:lnTo>
                  <a:pt x="9" y="1066"/>
                </a:lnTo>
                <a:lnTo>
                  <a:pt x="8" y="1066"/>
                </a:lnTo>
                <a:lnTo>
                  <a:pt x="6" y="1066"/>
                </a:lnTo>
                <a:lnTo>
                  <a:pt x="5" y="1065"/>
                </a:lnTo>
                <a:lnTo>
                  <a:pt x="3" y="1064"/>
                </a:lnTo>
                <a:lnTo>
                  <a:pt x="2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2" y="925"/>
                </a:lnTo>
                <a:lnTo>
                  <a:pt x="3" y="923"/>
                </a:lnTo>
                <a:lnTo>
                  <a:pt x="5" y="922"/>
                </a:lnTo>
                <a:lnTo>
                  <a:pt x="6" y="921"/>
                </a:lnTo>
                <a:lnTo>
                  <a:pt x="8" y="921"/>
                </a:lnTo>
                <a:lnTo>
                  <a:pt x="9" y="921"/>
                </a:lnTo>
                <a:lnTo>
                  <a:pt x="10" y="922"/>
                </a:lnTo>
                <a:lnTo>
                  <a:pt x="12" y="923"/>
                </a:lnTo>
                <a:lnTo>
                  <a:pt x="13" y="925"/>
                </a:lnTo>
                <a:lnTo>
                  <a:pt x="14" y="926"/>
                </a:lnTo>
                <a:lnTo>
                  <a:pt x="14" y="928"/>
                </a:lnTo>
                <a:lnTo>
                  <a:pt x="14" y="967"/>
                </a:lnTo>
                <a:lnTo>
                  <a:pt x="14" y="968"/>
                </a:lnTo>
                <a:lnTo>
                  <a:pt x="13" y="969"/>
                </a:lnTo>
                <a:lnTo>
                  <a:pt x="12" y="971"/>
                </a:lnTo>
                <a:lnTo>
                  <a:pt x="10" y="973"/>
                </a:lnTo>
                <a:lnTo>
                  <a:pt x="9" y="973"/>
                </a:lnTo>
                <a:lnTo>
                  <a:pt x="8" y="973"/>
                </a:lnTo>
                <a:lnTo>
                  <a:pt x="6" y="973"/>
                </a:lnTo>
                <a:lnTo>
                  <a:pt x="5" y="973"/>
                </a:lnTo>
                <a:lnTo>
                  <a:pt x="3" y="971"/>
                </a:lnTo>
                <a:lnTo>
                  <a:pt x="2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2" y="833"/>
                </a:lnTo>
                <a:lnTo>
                  <a:pt x="3" y="831"/>
                </a:lnTo>
                <a:lnTo>
                  <a:pt x="5" y="829"/>
                </a:lnTo>
                <a:lnTo>
                  <a:pt x="6" y="829"/>
                </a:lnTo>
                <a:lnTo>
                  <a:pt x="8" y="829"/>
                </a:lnTo>
                <a:lnTo>
                  <a:pt x="9" y="829"/>
                </a:lnTo>
                <a:lnTo>
                  <a:pt x="10" y="829"/>
                </a:lnTo>
                <a:lnTo>
                  <a:pt x="12" y="831"/>
                </a:lnTo>
                <a:lnTo>
                  <a:pt x="13" y="833"/>
                </a:lnTo>
                <a:lnTo>
                  <a:pt x="14" y="835"/>
                </a:lnTo>
                <a:lnTo>
                  <a:pt x="14" y="836"/>
                </a:lnTo>
                <a:lnTo>
                  <a:pt x="14" y="876"/>
                </a:lnTo>
                <a:lnTo>
                  <a:pt x="14" y="877"/>
                </a:lnTo>
                <a:lnTo>
                  <a:pt x="13" y="878"/>
                </a:lnTo>
                <a:lnTo>
                  <a:pt x="12" y="880"/>
                </a:lnTo>
                <a:lnTo>
                  <a:pt x="10" y="881"/>
                </a:lnTo>
                <a:lnTo>
                  <a:pt x="9" y="882"/>
                </a:lnTo>
                <a:lnTo>
                  <a:pt x="8" y="882"/>
                </a:lnTo>
                <a:lnTo>
                  <a:pt x="6" y="882"/>
                </a:lnTo>
                <a:lnTo>
                  <a:pt x="5" y="881"/>
                </a:lnTo>
                <a:lnTo>
                  <a:pt x="3" y="880"/>
                </a:lnTo>
                <a:lnTo>
                  <a:pt x="2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2" y="741"/>
                </a:lnTo>
                <a:lnTo>
                  <a:pt x="3" y="739"/>
                </a:lnTo>
                <a:lnTo>
                  <a:pt x="5" y="738"/>
                </a:lnTo>
                <a:lnTo>
                  <a:pt x="6" y="737"/>
                </a:lnTo>
                <a:lnTo>
                  <a:pt x="8" y="737"/>
                </a:lnTo>
                <a:lnTo>
                  <a:pt x="9" y="737"/>
                </a:lnTo>
                <a:lnTo>
                  <a:pt x="10" y="738"/>
                </a:lnTo>
                <a:lnTo>
                  <a:pt x="12" y="739"/>
                </a:lnTo>
                <a:lnTo>
                  <a:pt x="13" y="741"/>
                </a:lnTo>
                <a:lnTo>
                  <a:pt x="14" y="742"/>
                </a:lnTo>
                <a:lnTo>
                  <a:pt x="14" y="744"/>
                </a:lnTo>
                <a:lnTo>
                  <a:pt x="14" y="783"/>
                </a:lnTo>
                <a:lnTo>
                  <a:pt x="14" y="784"/>
                </a:lnTo>
                <a:lnTo>
                  <a:pt x="13" y="785"/>
                </a:lnTo>
                <a:lnTo>
                  <a:pt x="12" y="787"/>
                </a:lnTo>
                <a:lnTo>
                  <a:pt x="10" y="789"/>
                </a:lnTo>
                <a:lnTo>
                  <a:pt x="9" y="789"/>
                </a:lnTo>
                <a:lnTo>
                  <a:pt x="8" y="789"/>
                </a:lnTo>
                <a:lnTo>
                  <a:pt x="6" y="789"/>
                </a:lnTo>
                <a:lnTo>
                  <a:pt x="5" y="789"/>
                </a:lnTo>
                <a:lnTo>
                  <a:pt x="3" y="787"/>
                </a:lnTo>
                <a:lnTo>
                  <a:pt x="2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2" y="649"/>
                </a:lnTo>
                <a:lnTo>
                  <a:pt x="3" y="647"/>
                </a:lnTo>
                <a:lnTo>
                  <a:pt x="5" y="645"/>
                </a:lnTo>
                <a:lnTo>
                  <a:pt x="6" y="645"/>
                </a:lnTo>
                <a:lnTo>
                  <a:pt x="8" y="645"/>
                </a:lnTo>
                <a:lnTo>
                  <a:pt x="9" y="645"/>
                </a:lnTo>
                <a:lnTo>
                  <a:pt x="10" y="645"/>
                </a:lnTo>
                <a:lnTo>
                  <a:pt x="12" y="647"/>
                </a:lnTo>
                <a:lnTo>
                  <a:pt x="13" y="649"/>
                </a:lnTo>
                <a:lnTo>
                  <a:pt x="14" y="650"/>
                </a:lnTo>
                <a:lnTo>
                  <a:pt x="14" y="651"/>
                </a:lnTo>
                <a:lnTo>
                  <a:pt x="14" y="691"/>
                </a:lnTo>
                <a:lnTo>
                  <a:pt x="14" y="693"/>
                </a:lnTo>
                <a:lnTo>
                  <a:pt x="13" y="694"/>
                </a:lnTo>
                <a:lnTo>
                  <a:pt x="12" y="696"/>
                </a:lnTo>
                <a:lnTo>
                  <a:pt x="10" y="697"/>
                </a:lnTo>
                <a:lnTo>
                  <a:pt x="9" y="698"/>
                </a:lnTo>
                <a:lnTo>
                  <a:pt x="8" y="698"/>
                </a:lnTo>
                <a:lnTo>
                  <a:pt x="6" y="698"/>
                </a:lnTo>
                <a:lnTo>
                  <a:pt x="5" y="697"/>
                </a:lnTo>
                <a:lnTo>
                  <a:pt x="3" y="696"/>
                </a:lnTo>
                <a:lnTo>
                  <a:pt x="2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2" y="557"/>
                </a:lnTo>
                <a:lnTo>
                  <a:pt x="3" y="555"/>
                </a:lnTo>
                <a:lnTo>
                  <a:pt x="5" y="554"/>
                </a:lnTo>
                <a:lnTo>
                  <a:pt x="6" y="553"/>
                </a:lnTo>
                <a:lnTo>
                  <a:pt x="8" y="553"/>
                </a:lnTo>
                <a:lnTo>
                  <a:pt x="9" y="553"/>
                </a:lnTo>
                <a:lnTo>
                  <a:pt x="10" y="554"/>
                </a:lnTo>
                <a:lnTo>
                  <a:pt x="12" y="555"/>
                </a:lnTo>
                <a:lnTo>
                  <a:pt x="13" y="557"/>
                </a:lnTo>
                <a:lnTo>
                  <a:pt x="14" y="558"/>
                </a:lnTo>
                <a:lnTo>
                  <a:pt x="14" y="560"/>
                </a:lnTo>
                <a:lnTo>
                  <a:pt x="14" y="599"/>
                </a:lnTo>
                <a:lnTo>
                  <a:pt x="14" y="600"/>
                </a:lnTo>
                <a:lnTo>
                  <a:pt x="13" y="601"/>
                </a:lnTo>
                <a:lnTo>
                  <a:pt x="12" y="603"/>
                </a:lnTo>
                <a:lnTo>
                  <a:pt x="10" y="605"/>
                </a:lnTo>
                <a:lnTo>
                  <a:pt x="9" y="605"/>
                </a:lnTo>
                <a:lnTo>
                  <a:pt x="8" y="605"/>
                </a:lnTo>
                <a:lnTo>
                  <a:pt x="6" y="605"/>
                </a:lnTo>
                <a:lnTo>
                  <a:pt x="5" y="605"/>
                </a:lnTo>
                <a:lnTo>
                  <a:pt x="3" y="603"/>
                </a:lnTo>
                <a:lnTo>
                  <a:pt x="2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2" y="465"/>
                </a:lnTo>
                <a:lnTo>
                  <a:pt x="3" y="463"/>
                </a:lnTo>
                <a:lnTo>
                  <a:pt x="5" y="461"/>
                </a:lnTo>
                <a:lnTo>
                  <a:pt x="6" y="461"/>
                </a:lnTo>
                <a:lnTo>
                  <a:pt x="8" y="461"/>
                </a:lnTo>
                <a:lnTo>
                  <a:pt x="9" y="461"/>
                </a:lnTo>
                <a:lnTo>
                  <a:pt x="10" y="461"/>
                </a:lnTo>
                <a:lnTo>
                  <a:pt x="12" y="463"/>
                </a:lnTo>
                <a:lnTo>
                  <a:pt x="13" y="465"/>
                </a:lnTo>
                <a:lnTo>
                  <a:pt x="14" y="466"/>
                </a:lnTo>
                <a:lnTo>
                  <a:pt x="14" y="467"/>
                </a:lnTo>
                <a:lnTo>
                  <a:pt x="14" y="507"/>
                </a:lnTo>
                <a:lnTo>
                  <a:pt x="14" y="508"/>
                </a:lnTo>
                <a:lnTo>
                  <a:pt x="13" y="509"/>
                </a:lnTo>
                <a:lnTo>
                  <a:pt x="12" y="512"/>
                </a:lnTo>
                <a:lnTo>
                  <a:pt x="10" y="513"/>
                </a:lnTo>
                <a:lnTo>
                  <a:pt x="9" y="514"/>
                </a:lnTo>
                <a:lnTo>
                  <a:pt x="8" y="514"/>
                </a:lnTo>
                <a:lnTo>
                  <a:pt x="6" y="514"/>
                </a:lnTo>
                <a:lnTo>
                  <a:pt x="5" y="513"/>
                </a:lnTo>
                <a:lnTo>
                  <a:pt x="3" y="512"/>
                </a:lnTo>
                <a:lnTo>
                  <a:pt x="2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2" y="373"/>
                </a:lnTo>
                <a:lnTo>
                  <a:pt x="3" y="371"/>
                </a:lnTo>
                <a:lnTo>
                  <a:pt x="5" y="369"/>
                </a:lnTo>
                <a:lnTo>
                  <a:pt x="6" y="368"/>
                </a:lnTo>
                <a:lnTo>
                  <a:pt x="8" y="368"/>
                </a:lnTo>
                <a:lnTo>
                  <a:pt x="9" y="368"/>
                </a:lnTo>
                <a:lnTo>
                  <a:pt x="10" y="369"/>
                </a:lnTo>
                <a:lnTo>
                  <a:pt x="12" y="371"/>
                </a:lnTo>
                <a:lnTo>
                  <a:pt x="13" y="373"/>
                </a:lnTo>
                <a:lnTo>
                  <a:pt x="14" y="374"/>
                </a:lnTo>
                <a:lnTo>
                  <a:pt x="14" y="376"/>
                </a:lnTo>
                <a:lnTo>
                  <a:pt x="14" y="415"/>
                </a:lnTo>
                <a:lnTo>
                  <a:pt x="14" y="416"/>
                </a:lnTo>
                <a:lnTo>
                  <a:pt x="13" y="417"/>
                </a:lnTo>
                <a:lnTo>
                  <a:pt x="12" y="419"/>
                </a:lnTo>
                <a:lnTo>
                  <a:pt x="10" y="421"/>
                </a:lnTo>
                <a:lnTo>
                  <a:pt x="9" y="421"/>
                </a:lnTo>
                <a:lnTo>
                  <a:pt x="8" y="421"/>
                </a:lnTo>
                <a:lnTo>
                  <a:pt x="6" y="421"/>
                </a:lnTo>
                <a:lnTo>
                  <a:pt x="5" y="421"/>
                </a:lnTo>
                <a:lnTo>
                  <a:pt x="3" y="419"/>
                </a:lnTo>
                <a:lnTo>
                  <a:pt x="2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2" y="281"/>
                </a:lnTo>
                <a:lnTo>
                  <a:pt x="3" y="279"/>
                </a:lnTo>
                <a:lnTo>
                  <a:pt x="5" y="277"/>
                </a:lnTo>
                <a:lnTo>
                  <a:pt x="6" y="277"/>
                </a:lnTo>
                <a:lnTo>
                  <a:pt x="8" y="277"/>
                </a:lnTo>
                <a:lnTo>
                  <a:pt x="9" y="277"/>
                </a:lnTo>
                <a:lnTo>
                  <a:pt x="10" y="277"/>
                </a:lnTo>
                <a:lnTo>
                  <a:pt x="12" y="279"/>
                </a:lnTo>
                <a:lnTo>
                  <a:pt x="13" y="281"/>
                </a:lnTo>
                <a:lnTo>
                  <a:pt x="14" y="282"/>
                </a:lnTo>
                <a:lnTo>
                  <a:pt x="14" y="283"/>
                </a:lnTo>
                <a:lnTo>
                  <a:pt x="14" y="323"/>
                </a:lnTo>
                <a:lnTo>
                  <a:pt x="14" y="324"/>
                </a:lnTo>
                <a:lnTo>
                  <a:pt x="13" y="325"/>
                </a:lnTo>
                <a:lnTo>
                  <a:pt x="12" y="327"/>
                </a:lnTo>
                <a:lnTo>
                  <a:pt x="10" y="328"/>
                </a:lnTo>
                <a:lnTo>
                  <a:pt x="9" y="330"/>
                </a:lnTo>
                <a:lnTo>
                  <a:pt x="8" y="330"/>
                </a:lnTo>
                <a:lnTo>
                  <a:pt x="6" y="330"/>
                </a:lnTo>
                <a:lnTo>
                  <a:pt x="5" y="328"/>
                </a:lnTo>
                <a:lnTo>
                  <a:pt x="3" y="327"/>
                </a:lnTo>
                <a:lnTo>
                  <a:pt x="2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2" y="189"/>
                </a:lnTo>
                <a:lnTo>
                  <a:pt x="3" y="186"/>
                </a:lnTo>
                <a:lnTo>
                  <a:pt x="5" y="185"/>
                </a:lnTo>
                <a:lnTo>
                  <a:pt x="6" y="184"/>
                </a:lnTo>
                <a:lnTo>
                  <a:pt x="8" y="184"/>
                </a:lnTo>
                <a:lnTo>
                  <a:pt x="9" y="184"/>
                </a:lnTo>
                <a:lnTo>
                  <a:pt x="10" y="185"/>
                </a:lnTo>
                <a:lnTo>
                  <a:pt x="12" y="186"/>
                </a:lnTo>
                <a:lnTo>
                  <a:pt x="13" y="189"/>
                </a:lnTo>
                <a:lnTo>
                  <a:pt x="14" y="190"/>
                </a:lnTo>
                <a:lnTo>
                  <a:pt x="14" y="192"/>
                </a:lnTo>
                <a:lnTo>
                  <a:pt x="14" y="231"/>
                </a:lnTo>
                <a:lnTo>
                  <a:pt x="14" y="232"/>
                </a:lnTo>
                <a:lnTo>
                  <a:pt x="13" y="233"/>
                </a:lnTo>
                <a:lnTo>
                  <a:pt x="12" y="235"/>
                </a:lnTo>
                <a:lnTo>
                  <a:pt x="10" y="237"/>
                </a:lnTo>
                <a:lnTo>
                  <a:pt x="9" y="237"/>
                </a:lnTo>
                <a:lnTo>
                  <a:pt x="8" y="237"/>
                </a:lnTo>
                <a:lnTo>
                  <a:pt x="6" y="237"/>
                </a:lnTo>
                <a:lnTo>
                  <a:pt x="5" y="237"/>
                </a:lnTo>
                <a:lnTo>
                  <a:pt x="3" y="235"/>
                </a:lnTo>
                <a:lnTo>
                  <a:pt x="2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2" y="97"/>
                </a:lnTo>
                <a:lnTo>
                  <a:pt x="3" y="95"/>
                </a:lnTo>
                <a:lnTo>
                  <a:pt x="5" y="93"/>
                </a:lnTo>
                <a:lnTo>
                  <a:pt x="6" y="93"/>
                </a:lnTo>
                <a:lnTo>
                  <a:pt x="8" y="93"/>
                </a:lnTo>
                <a:lnTo>
                  <a:pt x="9" y="93"/>
                </a:lnTo>
                <a:lnTo>
                  <a:pt x="10" y="93"/>
                </a:lnTo>
                <a:lnTo>
                  <a:pt x="12" y="95"/>
                </a:lnTo>
                <a:lnTo>
                  <a:pt x="13" y="97"/>
                </a:lnTo>
                <a:lnTo>
                  <a:pt x="14" y="98"/>
                </a:lnTo>
                <a:lnTo>
                  <a:pt x="14" y="99"/>
                </a:lnTo>
                <a:lnTo>
                  <a:pt x="14" y="139"/>
                </a:lnTo>
                <a:lnTo>
                  <a:pt x="14" y="140"/>
                </a:lnTo>
                <a:lnTo>
                  <a:pt x="13" y="141"/>
                </a:lnTo>
                <a:lnTo>
                  <a:pt x="12" y="143"/>
                </a:lnTo>
                <a:lnTo>
                  <a:pt x="10" y="144"/>
                </a:lnTo>
                <a:lnTo>
                  <a:pt x="9" y="145"/>
                </a:lnTo>
                <a:lnTo>
                  <a:pt x="8" y="145"/>
                </a:lnTo>
                <a:lnTo>
                  <a:pt x="6" y="145"/>
                </a:lnTo>
                <a:lnTo>
                  <a:pt x="5" y="144"/>
                </a:lnTo>
                <a:lnTo>
                  <a:pt x="3" y="143"/>
                </a:lnTo>
                <a:lnTo>
                  <a:pt x="2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2" y="2"/>
                </a:lnTo>
                <a:lnTo>
                  <a:pt x="13" y="4"/>
                </a:lnTo>
                <a:lnTo>
                  <a:pt x="14" y="5"/>
                </a:lnTo>
                <a:lnTo>
                  <a:pt x="14" y="8"/>
                </a:lnTo>
                <a:lnTo>
                  <a:pt x="14" y="46"/>
                </a:lnTo>
                <a:lnTo>
                  <a:pt x="14" y="48"/>
                </a:lnTo>
                <a:lnTo>
                  <a:pt x="13" y="49"/>
                </a:lnTo>
                <a:lnTo>
                  <a:pt x="12" y="51"/>
                </a:lnTo>
                <a:lnTo>
                  <a:pt x="10" y="53"/>
                </a:lnTo>
                <a:lnTo>
                  <a:pt x="9" y="53"/>
                </a:lnTo>
                <a:lnTo>
                  <a:pt x="8" y="53"/>
                </a:lnTo>
                <a:lnTo>
                  <a:pt x="6" y="53"/>
                </a:lnTo>
                <a:lnTo>
                  <a:pt x="5" y="53"/>
                </a:lnTo>
                <a:lnTo>
                  <a:pt x="3" y="51"/>
                </a:lnTo>
                <a:lnTo>
                  <a:pt x="2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8156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491080" y="1517760"/>
            <a:ext cx="9720" cy="4206600"/>
          </a:xfrm>
          <a:custGeom>
            <a:avLst/>
            <a:gdLst/>
            <a:ahLst/>
            <a:rect l="l" t="t" r="r" b="b"/>
            <a:pathLst>
              <a:path w="13" h="5301">
                <a:moveTo>
                  <a:pt x="0" y="5295"/>
                </a:moveTo>
                <a:lnTo>
                  <a:pt x="0" y="5255"/>
                </a:lnTo>
                <a:lnTo>
                  <a:pt x="0" y="5254"/>
                </a:lnTo>
                <a:lnTo>
                  <a:pt x="1" y="5253"/>
                </a:lnTo>
                <a:lnTo>
                  <a:pt x="2" y="5251"/>
                </a:lnTo>
                <a:lnTo>
                  <a:pt x="4" y="5248"/>
                </a:lnTo>
                <a:lnTo>
                  <a:pt x="5" y="5248"/>
                </a:lnTo>
                <a:lnTo>
                  <a:pt x="7" y="5248"/>
                </a:lnTo>
                <a:lnTo>
                  <a:pt x="8" y="5248"/>
                </a:lnTo>
                <a:lnTo>
                  <a:pt x="9" y="5248"/>
                </a:lnTo>
                <a:lnTo>
                  <a:pt x="11" y="5251"/>
                </a:lnTo>
                <a:lnTo>
                  <a:pt x="12" y="5253"/>
                </a:lnTo>
                <a:lnTo>
                  <a:pt x="13" y="5254"/>
                </a:lnTo>
                <a:lnTo>
                  <a:pt x="13" y="5255"/>
                </a:lnTo>
                <a:lnTo>
                  <a:pt x="13" y="5295"/>
                </a:lnTo>
                <a:lnTo>
                  <a:pt x="13" y="5296"/>
                </a:lnTo>
                <a:lnTo>
                  <a:pt x="12" y="5297"/>
                </a:lnTo>
                <a:lnTo>
                  <a:pt x="11" y="5299"/>
                </a:lnTo>
                <a:lnTo>
                  <a:pt x="9" y="5300"/>
                </a:lnTo>
                <a:lnTo>
                  <a:pt x="8" y="5301"/>
                </a:lnTo>
                <a:lnTo>
                  <a:pt x="7" y="5301"/>
                </a:lnTo>
                <a:lnTo>
                  <a:pt x="5" y="5301"/>
                </a:lnTo>
                <a:lnTo>
                  <a:pt x="4" y="5300"/>
                </a:lnTo>
                <a:lnTo>
                  <a:pt x="2" y="5299"/>
                </a:lnTo>
                <a:lnTo>
                  <a:pt x="1" y="5297"/>
                </a:lnTo>
                <a:lnTo>
                  <a:pt x="0" y="5296"/>
                </a:lnTo>
                <a:lnTo>
                  <a:pt x="0" y="5295"/>
                </a:lnTo>
                <a:lnTo>
                  <a:pt x="0" y="5295"/>
                </a:lnTo>
                <a:close/>
                <a:moveTo>
                  <a:pt x="0" y="5202"/>
                </a:moveTo>
                <a:lnTo>
                  <a:pt x="0" y="5163"/>
                </a:lnTo>
                <a:lnTo>
                  <a:pt x="0" y="5161"/>
                </a:lnTo>
                <a:lnTo>
                  <a:pt x="1" y="5160"/>
                </a:lnTo>
                <a:lnTo>
                  <a:pt x="2" y="5158"/>
                </a:lnTo>
                <a:lnTo>
                  <a:pt x="4" y="5157"/>
                </a:lnTo>
                <a:lnTo>
                  <a:pt x="5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7"/>
                </a:lnTo>
                <a:lnTo>
                  <a:pt x="11" y="5158"/>
                </a:lnTo>
                <a:lnTo>
                  <a:pt x="12" y="5160"/>
                </a:lnTo>
                <a:lnTo>
                  <a:pt x="13" y="5161"/>
                </a:lnTo>
                <a:lnTo>
                  <a:pt x="13" y="5163"/>
                </a:lnTo>
                <a:lnTo>
                  <a:pt x="13" y="5202"/>
                </a:lnTo>
                <a:lnTo>
                  <a:pt x="13" y="5203"/>
                </a:lnTo>
                <a:lnTo>
                  <a:pt x="12" y="5204"/>
                </a:lnTo>
                <a:lnTo>
                  <a:pt x="11" y="5206"/>
                </a:lnTo>
                <a:lnTo>
                  <a:pt x="9" y="5208"/>
                </a:lnTo>
                <a:lnTo>
                  <a:pt x="8" y="5208"/>
                </a:lnTo>
                <a:lnTo>
                  <a:pt x="7" y="5208"/>
                </a:lnTo>
                <a:lnTo>
                  <a:pt x="5" y="5208"/>
                </a:lnTo>
                <a:lnTo>
                  <a:pt x="4" y="5208"/>
                </a:lnTo>
                <a:lnTo>
                  <a:pt x="2" y="5206"/>
                </a:lnTo>
                <a:lnTo>
                  <a:pt x="1" y="5204"/>
                </a:lnTo>
                <a:lnTo>
                  <a:pt x="0" y="5203"/>
                </a:lnTo>
                <a:lnTo>
                  <a:pt x="0" y="5202"/>
                </a:lnTo>
                <a:lnTo>
                  <a:pt x="0" y="5202"/>
                </a:lnTo>
                <a:close/>
                <a:moveTo>
                  <a:pt x="0" y="5111"/>
                </a:moveTo>
                <a:lnTo>
                  <a:pt x="0" y="5071"/>
                </a:lnTo>
                <a:lnTo>
                  <a:pt x="0" y="5070"/>
                </a:lnTo>
                <a:lnTo>
                  <a:pt x="1" y="5068"/>
                </a:lnTo>
                <a:lnTo>
                  <a:pt x="2" y="5066"/>
                </a:lnTo>
                <a:lnTo>
                  <a:pt x="4" y="5064"/>
                </a:lnTo>
                <a:lnTo>
                  <a:pt x="5" y="5064"/>
                </a:lnTo>
                <a:lnTo>
                  <a:pt x="7" y="5064"/>
                </a:lnTo>
                <a:lnTo>
                  <a:pt x="8" y="5064"/>
                </a:lnTo>
                <a:lnTo>
                  <a:pt x="9" y="5064"/>
                </a:lnTo>
                <a:lnTo>
                  <a:pt x="11" y="5066"/>
                </a:lnTo>
                <a:lnTo>
                  <a:pt x="12" y="5068"/>
                </a:lnTo>
                <a:lnTo>
                  <a:pt x="13" y="5070"/>
                </a:lnTo>
                <a:lnTo>
                  <a:pt x="13" y="5071"/>
                </a:lnTo>
                <a:lnTo>
                  <a:pt x="13" y="5111"/>
                </a:lnTo>
                <a:lnTo>
                  <a:pt x="13" y="5112"/>
                </a:lnTo>
                <a:lnTo>
                  <a:pt x="12" y="5113"/>
                </a:lnTo>
                <a:lnTo>
                  <a:pt x="11" y="5115"/>
                </a:lnTo>
                <a:lnTo>
                  <a:pt x="9" y="5116"/>
                </a:lnTo>
                <a:lnTo>
                  <a:pt x="8" y="5117"/>
                </a:lnTo>
                <a:lnTo>
                  <a:pt x="7" y="5117"/>
                </a:lnTo>
                <a:lnTo>
                  <a:pt x="5" y="5117"/>
                </a:lnTo>
                <a:lnTo>
                  <a:pt x="4" y="5116"/>
                </a:lnTo>
                <a:lnTo>
                  <a:pt x="2" y="5115"/>
                </a:lnTo>
                <a:lnTo>
                  <a:pt x="1" y="5113"/>
                </a:lnTo>
                <a:lnTo>
                  <a:pt x="0" y="5112"/>
                </a:lnTo>
                <a:lnTo>
                  <a:pt x="0" y="5111"/>
                </a:lnTo>
                <a:lnTo>
                  <a:pt x="0" y="5111"/>
                </a:lnTo>
                <a:close/>
                <a:moveTo>
                  <a:pt x="0" y="5018"/>
                </a:moveTo>
                <a:lnTo>
                  <a:pt x="0" y="4979"/>
                </a:lnTo>
                <a:lnTo>
                  <a:pt x="0" y="4977"/>
                </a:lnTo>
                <a:lnTo>
                  <a:pt x="1" y="4976"/>
                </a:lnTo>
                <a:lnTo>
                  <a:pt x="2" y="4974"/>
                </a:lnTo>
                <a:lnTo>
                  <a:pt x="4" y="4973"/>
                </a:lnTo>
                <a:lnTo>
                  <a:pt x="5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3"/>
                </a:lnTo>
                <a:lnTo>
                  <a:pt x="11" y="4974"/>
                </a:lnTo>
                <a:lnTo>
                  <a:pt x="12" y="4976"/>
                </a:lnTo>
                <a:lnTo>
                  <a:pt x="13" y="4977"/>
                </a:lnTo>
                <a:lnTo>
                  <a:pt x="13" y="4979"/>
                </a:lnTo>
                <a:lnTo>
                  <a:pt x="13" y="5018"/>
                </a:lnTo>
                <a:lnTo>
                  <a:pt x="13" y="5019"/>
                </a:lnTo>
                <a:lnTo>
                  <a:pt x="12" y="5020"/>
                </a:lnTo>
                <a:lnTo>
                  <a:pt x="11" y="5022"/>
                </a:lnTo>
                <a:lnTo>
                  <a:pt x="9" y="5024"/>
                </a:lnTo>
                <a:lnTo>
                  <a:pt x="8" y="5024"/>
                </a:lnTo>
                <a:lnTo>
                  <a:pt x="7" y="5024"/>
                </a:lnTo>
                <a:lnTo>
                  <a:pt x="5" y="5024"/>
                </a:lnTo>
                <a:lnTo>
                  <a:pt x="4" y="5024"/>
                </a:lnTo>
                <a:lnTo>
                  <a:pt x="2" y="5022"/>
                </a:lnTo>
                <a:lnTo>
                  <a:pt x="1" y="5020"/>
                </a:lnTo>
                <a:lnTo>
                  <a:pt x="0" y="5019"/>
                </a:lnTo>
                <a:lnTo>
                  <a:pt x="0" y="5018"/>
                </a:lnTo>
                <a:lnTo>
                  <a:pt x="0" y="5018"/>
                </a:lnTo>
                <a:close/>
                <a:moveTo>
                  <a:pt x="0" y="4926"/>
                </a:moveTo>
                <a:lnTo>
                  <a:pt x="0" y="4886"/>
                </a:lnTo>
                <a:lnTo>
                  <a:pt x="0" y="4885"/>
                </a:lnTo>
                <a:lnTo>
                  <a:pt x="1" y="4884"/>
                </a:lnTo>
                <a:lnTo>
                  <a:pt x="2" y="4882"/>
                </a:lnTo>
                <a:lnTo>
                  <a:pt x="4" y="4880"/>
                </a:lnTo>
                <a:lnTo>
                  <a:pt x="5" y="4880"/>
                </a:lnTo>
                <a:lnTo>
                  <a:pt x="7" y="4880"/>
                </a:lnTo>
                <a:lnTo>
                  <a:pt x="8" y="4880"/>
                </a:lnTo>
                <a:lnTo>
                  <a:pt x="9" y="4880"/>
                </a:lnTo>
                <a:lnTo>
                  <a:pt x="11" y="4882"/>
                </a:lnTo>
                <a:lnTo>
                  <a:pt x="12" y="4884"/>
                </a:lnTo>
                <a:lnTo>
                  <a:pt x="13" y="4885"/>
                </a:lnTo>
                <a:lnTo>
                  <a:pt x="13" y="4886"/>
                </a:lnTo>
                <a:lnTo>
                  <a:pt x="13" y="4926"/>
                </a:lnTo>
                <a:lnTo>
                  <a:pt x="13" y="4927"/>
                </a:lnTo>
                <a:lnTo>
                  <a:pt x="12" y="4929"/>
                </a:lnTo>
                <a:lnTo>
                  <a:pt x="11" y="4931"/>
                </a:lnTo>
                <a:lnTo>
                  <a:pt x="9" y="4932"/>
                </a:lnTo>
                <a:lnTo>
                  <a:pt x="8" y="4933"/>
                </a:lnTo>
                <a:lnTo>
                  <a:pt x="7" y="4933"/>
                </a:lnTo>
                <a:lnTo>
                  <a:pt x="5" y="4933"/>
                </a:lnTo>
                <a:lnTo>
                  <a:pt x="4" y="4932"/>
                </a:lnTo>
                <a:lnTo>
                  <a:pt x="2" y="4931"/>
                </a:lnTo>
                <a:lnTo>
                  <a:pt x="1" y="4929"/>
                </a:lnTo>
                <a:lnTo>
                  <a:pt x="0" y="4927"/>
                </a:lnTo>
                <a:lnTo>
                  <a:pt x="0" y="4926"/>
                </a:lnTo>
                <a:lnTo>
                  <a:pt x="0" y="4926"/>
                </a:lnTo>
                <a:close/>
                <a:moveTo>
                  <a:pt x="0" y="4834"/>
                </a:moveTo>
                <a:lnTo>
                  <a:pt x="0" y="4795"/>
                </a:lnTo>
                <a:lnTo>
                  <a:pt x="0" y="4793"/>
                </a:lnTo>
                <a:lnTo>
                  <a:pt x="1" y="4792"/>
                </a:lnTo>
                <a:lnTo>
                  <a:pt x="2" y="4790"/>
                </a:lnTo>
                <a:lnTo>
                  <a:pt x="4" y="4789"/>
                </a:lnTo>
                <a:lnTo>
                  <a:pt x="5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9"/>
                </a:lnTo>
                <a:lnTo>
                  <a:pt x="11" y="4790"/>
                </a:lnTo>
                <a:lnTo>
                  <a:pt x="12" y="4792"/>
                </a:lnTo>
                <a:lnTo>
                  <a:pt x="13" y="4793"/>
                </a:lnTo>
                <a:lnTo>
                  <a:pt x="13" y="4795"/>
                </a:lnTo>
                <a:lnTo>
                  <a:pt x="13" y="4834"/>
                </a:lnTo>
                <a:lnTo>
                  <a:pt x="13" y="4835"/>
                </a:lnTo>
                <a:lnTo>
                  <a:pt x="12" y="4836"/>
                </a:lnTo>
                <a:lnTo>
                  <a:pt x="11" y="4838"/>
                </a:lnTo>
                <a:lnTo>
                  <a:pt x="9" y="4840"/>
                </a:lnTo>
                <a:lnTo>
                  <a:pt x="8" y="4840"/>
                </a:lnTo>
                <a:lnTo>
                  <a:pt x="7" y="4840"/>
                </a:lnTo>
                <a:lnTo>
                  <a:pt x="5" y="4840"/>
                </a:lnTo>
                <a:lnTo>
                  <a:pt x="4" y="4840"/>
                </a:lnTo>
                <a:lnTo>
                  <a:pt x="2" y="4838"/>
                </a:lnTo>
                <a:lnTo>
                  <a:pt x="1" y="4836"/>
                </a:lnTo>
                <a:lnTo>
                  <a:pt x="0" y="4835"/>
                </a:lnTo>
                <a:lnTo>
                  <a:pt x="0" y="4834"/>
                </a:lnTo>
                <a:lnTo>
                  <a:pt x="0" y="4834"/>
                </a:lnTo>
                <a:close/>
                <a:moveTo>
                  <a:pt x="0" y="4742"/>
                </a:moveTo>
                <a:lnTo>
                  <a:pt x="0" y="4702"/>
                </a:lnTo>
                <a:lnTo>
                  <a:pt x="0" y="4701"/>
                </a:lnTo>
                <a:lnTo>
                  <a:pt x="1" y="4700"/>
                </a:lnTo>
                <a:lnTo>
                  <a:pt x="2" y="4698"/>
                </a:lnTo>
                <a:lnTo>
                  <a:pt x="4" y="4696"/>
                </a:lnTo>
                <a:lnTo>
                  <a:pt x="5" y="4696"/>
                </a:lnTo>
                <a:lnTo>
                  <a:pt x="7" y="4696"/>
                </a:lnTo>
                <a:lnTo>
                  <a:pt x="8" y="4696"/>
                </a:lnTo>
                <a:lnTo>
                  <a:pt x="9" y="4696"/>
                </a:lnTo>
                <a:lnTo>
                  <a:pt x="11" y="4698"/>
                </a:lnTo>
                <a:lnTo>
                  <a:pt x="12" y="4700"/>
                </a:lnTo>
                <a:lnTo>
                  <a:pt x="13" y="4701"/>
                </a:lnTo>
                <a:lnTo>
                  <a:pt x="13" y="4702"/>
                </a:lnTo>
                <a:lnTo>
                  <a:pt x="13" y="4742"/>
                </a:lnTo>
                <a:lnTo>
                  <a:pt x="13" y="4743"/>
                </a:lnTo>
                <a:lnTo>
                  <a:pt x="12" y="4744"/>
                </a:lnTo>
                <a:lnTo>
                  <a:pt x="11" y="4747"/>
                </a:lnTo>
                <a:lnTo>
                  <a:pt x="9" y="4748"/>
                </a:lnTo>
                <a:lnTo>
                  <a:pt x="8" y="4749"/>
                </a:lnTo>
                <a:lnTo>
                  <a:pt x="7" y="4749"/>
                </a:lnTo>
                <a:lnTo>
                  <a:pt x="5" y="4749"/>
                </a:lnTo>
                <a:lnTo>
                  <a:pt x="4" y="4748"/>
                </a:lnTo>
                <a:lnTo>
                  <a:pt x="2" y="4747"/>
                </a:lnTo>
                <a:lnTo>
                  <a:pt x="1" y="4744"/>
                </a:lnTo>
                <a:lnTo>
                  <a:pt x="0" y="4743"/>
                </a:lnTo>
                <a:lnTo>
                  <a:pt x="0" y="4742"/>
                </a:lnTo>
                <a:lnTo>
                  <a:pt x="0" y="4742"/>
                </a:lnTo>
                <a:close/>
                <a:moveTo>
                  <a:pt x="0" y="4650"/>
                </a:moveTo>
                <a:lnTo>
                  <a:pt x="0" y="4611"/>
                </a:lnTo>
                <a:lnTo>
                  <a:pt x="0" y="4609"/>
                </a:lnTo>
                <a:lnTo>
                  <a:pt x="1" y="4608"/>
                </a:lnTo>
                <a:lnTo>
                  <a:pt x="2" y="4606"/>
                </a:lnTo>
                <a:lnTo>
                  <a:pt x="4" y="4604"/>
                </a:lnTo>
                <a:lnTo>
                  <a:pt x="5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4"/>
                </a:lnTo>
                <a:lnTo>
                  <a:pt x="11" y="4606"/>
                </a:lnTo>
                <a:lnTo>
                  <a:pt x="12" y="4608"/>
                </a:lnTo>
                <a:lnTo>
                  <a:pt x="13" y="4609"/>
                </a:lnTo>
                <a:lnTo>
                  <a:pt x="13" y="4611"/>
                </a:lnTo>
                <a:lnTo>
                  <a:pt x="13" y="4650"/>
                </a:lnTo>
                <a:lnTo>
                  <a:pt x="13" y="4651"/>
                </a:lnTo>
                <a:lnTo>
                  <a:pt x="12" y="4652"/>
                </a:lnTo>
                <a:lnTo>
                  <a:pt x="11" y="4654"/>
                </a:lnTo>
                <a:lnTo>
                  <a:pt x="9" y="4656"/>
                </a:lnTo>
                <a:lnTo>
                  <a:pt x="8" y="4656"/>
                </a:lnTo>
                <a:lnTo>
                  <a:pt x="7" y="4656"/>
                </a:lnTo>
                <a:lnTo>
                  <a:pt x="5" y="4656"/>
                </a:lnTo>
                <a:lnTo>
                  <a:pt x="4" y="4656"/>
                </a:lnTo>
                <a:lnTo>
                  <a:pt x="2" y="4654"/>
                </a:lnTo>
                <a:lnTo>
                  <a:pt x="1" y="4652"/>
                </a:lnTo>
                <a:lnTo>
                  <a:pt x="0" y="4651"/>
                </a:lnTo>
                <a:lnTo>
                  <a:pt x="0" y="4650"/>
                </a:lnTo>
                <a:lnTo>
                  <a:pt x="0" y="4650"/>
                </a:lnTo>
                <a:close/>
                <a:moveTo>
                  <a:pt x="0" y="4558"/>
                </a:moveTo>
                <a:lnTo>
                  <a:pt x="0" y="4518"/>
                </a:lnTo>
                <a:lnTo>
                  <a:pt x="0" y="4517"/>
                </a:lnTo>
                <a:lnTo>
                  <a:pt x="1" y="4516"/>
                </a:lnTo>
                <a:lnTo>
                  <a:pt x="2" y="4514"/>
                </a:lnTo>
                <a:lnTo>
                  <a:pt x="4" y="4512"/>
                </a:lnTo>
                <a:lnTo>
                  <a:pt x="5" y="4512"/>
                </a:lnTo>
                <a:lnTo>
                  <a:pt x="7" y="4512"/>
                </a:lnTo>
                <a:lnTo>
                  <a:pt x="8" y="4512"/>
                </a:lnTo>
                <a:lnTo>
                  <a:pt x="9" y="4512"/>
                </a:lnTo>
                <a:lnTo>
                  <a:pt x="11" y="4514"/>
                </a:lnTo>
                <a:lnTo>
                  <a:pt x="12" y="4516"/>
                </a:lnTo>
                <a:lnTo>
                  <a:pt x="13" y="4517"/>
                </a:lnTo>
                <a:lnTo>
                  <a:pt x="13" y="4518"/>
                </a:lnTo>
                <a:lnTo>
                  <a:pt x="13" y="4558"/>
                </a:lnTo>
                <a:lnTo>
                  <a:pt x="13" y="4559"/>
                </a:lnTo>
                <a:lnTo>
                  <a:pt x="12" y="4560"/>
                </a:lnTo>
                <a:lnTo>
                  <a:pt x="11" y="4562"/>
                </a:lnTo>
                <a:lnTo>
                  <a:pt x="9" y="4563"/>
                </a:lnTo>
                <a:lnTo>
                  <a:pt x="8" y="4564"/>
                </a:lnTo>
                <a:lnTo>
                  <a:pt x="7" y="4564"/>
                </a:lnTo>
                <a:lnTo>
                  <a:pt x="5" y="4564"/>
                </a:lnTo>
                <a:lnTo>
                  <a:pt x="4" y="4563"/>
                </a:lnTo>
                <a:lnTo>
                  <a:pt x="2" y="4562"/>
                </a:lnTo>
                <a:lnTo>
                  <a:pt x="1" y="4560"/>
                </a:lnTo>
                <a:lnTo>
                  <a:pt x="0" y="4559"/>
                </a:lnTo>
                <a:lnTo>
                  <a:pt x="0" y="4558"/>
                </a:lnTo>
                <a:lnTo>
                  <a:pt x="0" y="4558"/>
                </a:lnTo>
                <a:close/>
                <a:moveTo>
                  <a:pt x="0" y="4466"/>
                </a:moveTo>
                <a:lnTo>
                  <a:pt x="0" y="4427"/>
                </a:lnTo>
                <a:lnTo>
                  <a:pt x="0" y="4425"/>
                </a:lnTo>
                <a:lnTo>
                  <a:pt x="1" y="4423"/>
                </a:lnTo>
                <a:lnTo>
                  <a:pt x="2" y="4421"/>
                </a:lnTo>
                <a:lnTo>
                  <a:pt x="4" y="4420"/>
                </a:lnTo>
                <a:lnTo>
                  <a:pt x="5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20"/>
                </a:lnTo>
                <a:lnTo>
                  <a:pt x="11" y="4421"/>
                </a:lnTo>
                <a:lnTo>
                  <a:pt x="12" y="4423"/>
                </a:lnTo>
                <a:lnTo>
                  <a:pt x="13" y="4425"/>
                </a:lnTo>
                <a:lnTo>
                  <a:pt x="13" y="4427"/>
                </a:lnTo>
                <a:lnTo>
                  <a:pt x="13" y="4466"/>
                </a:lnTo>
                <a:lnTo>
                  <a:pt x="13" y="4467"/>
                </a:lnTo>
                <a:lnTo>
                  <a:pt x="12" y="4468"/>
                </a:lnTo>
                <a:lnTo>
                  <a:pt x="11" y="4470"/>
                </a:lnTo>
                <a:lnTo>
                  <a:pt x="9" y="4472"/>
                </a:lnTo>
                <a:lnTo>
                  <a:pt x="8" y="4472"/>
                </a:lnTo>
                <a:lnTo>
                  <a:pt x="7" y="4472"/>
                </a:lnTo>
                <a:lnTo>
                  <a:pt x="5" y="4472"/>
                </a:lnTo>
                <a:lnTo>
                  <a:pt x="4" y="4472"/>
                </a:lnTo>
                <a:lnTo>
                  <a:pt x="2" y="4470"/>
                </a:lnTo>
                <a:lnTo>
                  <a:pt x="1" y="4468"/>
                </a:lnTo>
                <a:lnTo>
                  <a:pt x="0" y="4467"/>
                </a:lnTo>
                <a:lnTo>
                  <a:pt x="0" y="4466"/>
                </a:lnTo>
                <a:lnTo>
                  <a:pt x="0" y="4466"/>
                </a:lnTo>
                <a:close/>
                <a:moveTo>
                  <a:pt x="0" y="4374"/>
                </a:moveTo>
                <a:lnTo>
                  <a:pt x="0" y="4334"/>
                </a:lnTo>
                <a:lnTo>
                  <a:pt x="0" y="4333"/>
                </a:lnTo>
                <a:lnTo>
                  <a:pt x="1" y="4332"/>
                </a:lnTo>
                <a:lnTo>
                  <a:pt x="2" y="4330"/>
                </a:lnTo>
                <a:lnTo>
                  <a:pt x="4" y="4328"/>
                </a:lnTo>
                <a:lnTo>
                  <a:pt x="5" y="4328"/>
                </a:lnTo>
                <a:lnTo>
                  <a:pt x="7" y="4328"/>
                </a:lnTo>
                <a:lnTo>
                  <a:pt x="8" y="4328"/>
                </a:lnTo>
                <a:lnTo>
                  <a:pt x="9" y="4328"/>
                </a:lnTo>
                <a:lnTo>
                  <a:pt x="11" y="4330"/>
                </a:lnTo>
                <a:lnTo>
                  <a:pt x="12" y="4332"/>
                </a:lnTo>
                <a:lnTo>
                  <a:pt x="13" y="4333"/>
                </a:lnTo>
                <a:lnTo>
                  <a:pt x="13" y="4334"/>
                </a:lnTo>
                <a:lnTo>
                  <a:pt x="13" y="4374"/>
                </a:lnTo>
                <a:lnTo>
                  <a:pt x="13" y="4375"/>
                </a:lnTo>
                <a:lnTo>
                  <a:pt x="12" y="4376"/>
                </a:lnTo>
                <a:lnTo>
                  <a:pt x="11" y="4378"/>
                </a:lnTo>
                <a:lnTo>
                  <a:pt x="9" y="4379"/>
                </a:lnTo>
                <a:lnTo>
                  <a:pt x="8" y="4380"/>
                </a:lnTo>
                <a:lnTo>
                  <a:pt x="7" y="4380"/>
                </a:lnTo>
                <a:lnTo>
                  <a:pt x="5" y="4380"/>
                </a:lnTo>
                <a:lnTo>
                  <a:pt x="4" y="4379"/>
                </a:lnTo>
                <a:lnTo>
                  <a:pt x="2" y="4378"/>
                </a:lnTo>
                <a:lnTo>
                  <a:pt x="1" y="4376"/>
                </a:lnTo>
                <a:lnTo>
                  <a:pt x="0" y="4375"/>
                </a:lnTo>
                <a:lnTo>
                  <a:pt x="0" y="4374"/>
                </a:lnTo>
                <a:lnTo>
                  <a:pt x="0" y="4374"/>
                </a:lnTo>
                <a:close/>
                <a:moveTo>
                  <a:pt x="0" y="4281"/>
                </a:moveTo>
                <a:lnTo>
                  <a:pt x="0" y="4243"/>
                </a:lnTo>
                <a:lnTo>
                  <a:pt x="0" y="4240"/>
                </a:lnTo>
                <a:lnTo>
                  <a:pt x="1" y="4239"/>
                </a:lnTo>
                <a:lnTo>
                  <a:pt x="2" y="4237"/>
                </a:lnTo>
                <a:lnTo>
                  <a:pt x="4" y="4236"/>
                </a:lnTo>
                <a:lnTo>
                  <a:pt x="5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6"/>
                </a:lnTo>
                <a:lnTo>
                  <a:pt x="11" y="4237"/>
                </a:lnTo>
                <a:lnTo>
                  <a:pt x="12" y="4239"/>
                </a:lnTo>
                <a:lnTo>
                  <a:pt x="13" y="4240"/>
                </a:lnTo>
                <a:lnTo>
                  <a:pt x="13" y="4243"/>
                </a:lnTo>
                <a:lnTo>
                  <a:pt x="13" y="4281"/>
                </a:lnTo>
                <a:lnTo>
                  <a:pt x="13" y="4283"/>
                </a:lnTo>
                <a:lnTo>
                  <a:pt x="12" y="4284"/>
                </a:lnTo>
                <a:lnTo>
                  <a:pt x="11" y="4286"/>
                </a:lnTo>
                <a:lnTo>
                  <a:pt x="9" y="4288"/>
                </a:lnTo>
                <a:lnTo>
                  <a:pt x="8" y="4288"/>
                </a:lnTo>
                <a:lnTo>
                  <a:pt x="7" y="4288"/>
                </a:lnTo>
                <a:lnTo>
                  <a:pt x="5" y="4288"/>
                </a:lnTo>
                <a:lnTo>
                  <a:pt x="4" y="4288"/>
                </a:lnTo>
                <a:lnTo>
                  <a:pt x="2" y="4286"/>
                </a:lnTo>
                <a:lnTo>
                  <a:pt x="1" y="4284"/>
                </a:lnTo>
                <a:lnTo>
                  <a:pt x="0" y="4283"/>
                </a:lnTo>
                <a:lnTo>
                  <a:pt x="0" y="4281"/>
                </a:lnTo>
                <a:lnTo>
                  <a:pt x="0" y="4281"/>
                </a:lnTo>
                <a:close/>
                <a:moveTo>
                  <a:pt x="0" y="4190"/>
                </a:moveTo>
                <a:lnTo>
                  <a:pt x="0" y="4150"/>
                </a:lnTo>
                <a:lnTo>
                  <a:pt x="0" y="4149"/>
                </a:lnTo>
                <a:lnTo>
                  <a:pt x="1" y="4148"/>
                </a:lnTo>
                <a:lnTo>
                  <a:pt x="2" y="4146"/>
                </a:lnTo>
                <a:lnTo>
                  <a:pt x="4" y="4144"/>
                </a:lnTo>
                <a:lnTo>
                  <a:pt x="5" y="4144"/>
                </a:lnTo>
                <a:lnTo>
                  <a:pt x="7" y="4144"/>
                </a:lnTo>
                <a:lnTo>
                  <a:pt x="8" y="4144"/>
                </a:lnTo>
                <a:lnTo>
                  <a:pt x="9" y="4144"/>
                </a:lnTo>
                <a:lnTo>
                  <a:pt x="11" y="4146"/>
                </a:lnTo>
                <a:lnTo>
                  <a:pt x="12" y="4148"/>
                </a:lnTo>
                <a:lnTo>
                  <a:pt x="13" y="4149"/>
                </a:lnTo>
                <a:lnTo>
                  <a:pt x="13" y="4150"/>
                </a:lnTo>
                <a:lnTo>
                  <a:pt x="13" y="4190"/>
                </a:lnTo>
                <a:lnTo>
                  <a:pt x="13" y="4191"/>
                </a:lnTo>
                <a:lnTo>
                  <a:pt x="12" y="4192"/>
                </a:lnTo>
                <a:lnTo>
                  <a:pt x="11" y="4194"/>
                </a:lnTo>
                <a:lnTo>
                  <a:pt x="9" y="4195"/>
                </a:lnTo>
                <a:lnTo>
                  <a:pt x="8" y="4196"/>
                </a:lnTo>
                <a:lnTo>
                  <a:pt x="7" y="4196"/>
                </a:lnTo>
                <a:lnTo>
                  <a:pt x="5" y="4196"/>
                </a:lnTo>
                <a:lnTo>
                  <a:pt x="4" y="4195"/>
                </a:lnTo>
                <a:lnTo>
                  <a:pt x="2" y="4194"/>
                </a:lnTo>
                <a:lnTo>
                  <a:pt x="1" y="4192"/>
                </a:lnTo>
                <a:lnTo>
                  <a:pt x="0" y="4191"/>
                </a:lnTo>
                <a:lnTo>
                  <a:pt x="0" y="4190"/>
                </a:lnTo>
                <a:lnTo>
                  <a:pt x="0" y="4190"/>
                </a:lnTo>
                <a:close/>
                <a:moveTo>
                  <a:pt x="0" y="4097"/>
                </a:moveTo>
                <a:lnTo>
                  <a:pt x="0" y="4058"/>
                </a:lnTo>
                <a:lnTo>
                  <a:pt x="0" y="4056"/>
                </a:lnTo>
                <a:lnTo>
                  <a:pt x="1" y="4055"/>
                </a:lnTo>
                <a:lnTo>
                  <a:pt x="2" y="4053"/>
                </a:lnTo>
                <a:lnTo>
                  <a:pt x="4" y="4052"/>
                </a:lnTo>
                <a:lnTo>
                  <a:pt x="5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2"/>
                </a:lnTo>
                <a:lnTo>
                  <a:pt x="11" y="4053"/>
                </a:lnTo>
                <a:lnTo>
                  <a:pt x="12" y="4055"/>
                </a:lnTo>
                <a:lnTo>
                  <a:pt x="13" y="4056"/>
                </a:lnTo>
                <a:lnTo>
                  <a:pt x="13" y="4058"/>
                </a:lnTo>
                <a:lnTo>
                  <a:pt x="13" y="4097"/>
                </a:lnTo>
                <a:lnTo>
                  <a:pt x="13" y="4098"/>
                </a:lnTo>
                <a:lnTo>
                  <a:pt x="12" y="4099"/>
                </a:lnTo>
                <a:lnTo>
                  <a:pt x="11" y="4102"/>
                </a:lnTo>
                <a:lnTo>
                  <a:pt x="9" y="4104"/>
                </a:lnTo>
                <a:lnTo>
                  <a:pt x="8" y="4104"/>
                </a:lnTo>
                <a:lnTo>
                  <a:pt x="7" y="4104"/>
                </a:lnTo>
                <a:lnTo>
                  <a:pt x="5" y="4104"/>
                </a:lnTo>
                <a:lnTo>
                  <a:pt x="4" y="4104"/>
                </a:lnTo>
                <a:lnTo>
                  <a:pt x="2" y="4102"/>
                </a:lnTo>
                <a:lnTo>
                  <a:pt x="1" y="4099"/>
                </a:lnTo>
                <a:lnTo>
                  <a:pt x="0" y="4098"/>
                </a:lnTo>
                <a:lnTo>
                  <a:pt x="0" y="4097"/>
                </a:lnTo>
                <a:lnTo>
                  <a:pt x="0" y="4097"/>
                </a:lnTo>
                <a:close/>
                <a:moveTo>
                  <a:pt x="0" y="4006"/>
                </a:moveTo>
                <a:lnTo>
                  <a:pt x="0" y="3966"/>
                </a:lnTo>
                <a:lnTo>
                  <a:pt x="0" y="3965"/>
                </a:lnTo>
                <a:lnTo>
                  <a:pt x="1" y="3964"/>
                </a:lnTo>
                <a:lnTo>
                  <a:pt x="2" y="3962"/>
                </a:lnTo>
                <a:lnTo>
                  <a:pt x="4" y="3959"/>
                </a:lnTo>
                <a:lnTo>
                  <a:pt x="5" y="3959"/>
                </a:lnTo>
                <a:lnTo>
                  <a:pt x="7" y="3959"/>
                </a:lnTo>
                <a:lnTo>
                  <a:pt x="8" y="3959"/>
                </a:lnTo>
                <a:lnTo>
                  <a:pt x="9" y="3959"/>
                </a:lnTo>
                <a:lnTo>
                  <a:pt x="11" y="3962"/>
                </a:lnTo>
                <a:lnTo>
                  <a:pt x="12" y="3964"/>
                </a:lnTo>
                <a:lnTo>
                  <a:pt x="13" y="3965"/>
                </a:lnTo>
                <a:lnTo>
                  <a:pt x="13" y="3966"/>
                </a:lnTo>
                <a:lnTo>
                  <a:pt x="13" y="4006"/>
                </a:lnTo>
                <a:lnTo>
                  <a:pt x="13" y="4007"/>
                </a:lnTo>
                <a:lnTo>
                  <a:pt x="12" y="4008"/>
                </a:lnTo>
                <a:lnTo>
                  <a:pt x="11" y="4010"/>
                </a:lnTo>
                <a:lnTo>
                  <a:pt x="9" y="4011"/>
                </a:lnTo>
                <a:lnTo>
                  <a:pt x="8" y="4012"/>
                </a:lnTo>
                <a:lnTo>
                  <a:pt x="7" y="4012"/>
                </a:lnTo>
                <a:lnTo>
                  <a:pt x="5" y="4012"/>
                </a:lnTo>
                <a:lnTo>
                  <a:pt x="4" y="4011"/>
                </a:lnTo>
                <a:lnTo>
                  <a:pt x="2" y="4010"/>
                </a:lnTo>
                <a:lnTo>
                  <a:pt x="1" y="4008"/>
                </a:lnTo>
                <a:lnTo>
                  <a:pt x="0" y="4007"/>
                </a:lnTo>
                <a:lnTo>
                  <a:pt x="0" y="4006"/>
                </a:lnTo>
                <a:lnTo>
                  <a:pt x="0" y="4006"/>
                </a:lnTo>
                <a:close/>
                <a:moveTo>
                  <a:pt x="0" y="3913"/>
                </a:moveTo>
                <a:lnTo>
                  <a:pt x="0" y="3874"/>
                </a:lnTo>
                <a:lnTo>
                  <a:pt x="0" y="3872"/>
                </a:lnTo>
                <a:lnTo>
                  <a:pt x="1" y="3871"/>
                </a:lnTo>
                <a:lnTo>
                  <a:pt x="2" y="3869"/>
                </a:lnTo>
                <a:lnTo>
                  <a:pt x="4" y="3868"/>
                </a:lnTo>
                <a:lnTo>
                  <a:pt x="5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8"/>
                </a:lnTo>
                <a:lnTo>
                  <a:pt x="11" y="3869"/>
                </a:lnTo>
                <a:lnTo>
                  <a:pt x="12" y="3871"/>
                </a:lnTo>
                <a:lnTo>
                  <a:pt x="13" y="3872"/>
                </a:lnTo>
                <a:lnTo>
                  <a:pt x="13" y="3874"/>
                </a:lnTo>
                <a:lnTo>
                  <a:pt x="13" y="3913"/>
                </a:lnTo>
                <a:lnTo>
                  <a:pt x="13" y="3914"/>
                </a:lnTo>
                <a:lnTo>
                  <a:pt x="12" y="3915"/>
                </a:lnTo>
                <a:lnTo>
                  <a:pt x="11" y="3917"/>
                </a:lnTo>
                <a:lnTo>
                  <a:pt x="9" y="3920"/>
                </a:lnTo>
                <a:lnTo>
                  <a:pt x="8" y="3920"/>
                </a:lnTo>
                <a:lnTo>
                  <a:pt x="7" y="3920"/>
                </a:lnTo>
                <a:lnTo>
                  <a:pt x="5" y="3920"/>
                </a:lnTo>
                <a:lnTo>
                  <a:pt x="4" y="3920"/>
                </a:lnTo>
                <a:lnTo>
                  <a:pt x="2" y="3917"/>
                </a:lnTo>
                <a:lnTo>
                  <a:pt x="1" y="3915"/>
                </a:lnTo>
                <a:lnTo>
                  <a:pt x="0" y="3914"/>
                </a:lnTo>
                <a:lnTo>
                  <a:pt x="0" y="3913"/>
                </a:lnTo>
                <a:lnTo>
                  <a:pt x="0" y="3913"/>
                </a:lnTo>
                <a:close/>
                <a:moveTo>
                  <a:pt x="0" y="3822"/>
                </a:moveTo>
                <a:lnTo>
                  <a:pt x="0" y="3782"/>
                </a:lnTo>
                <a:lnTo>
                  <a:pt x="0" y="3781"/>
                </a:lnTo>
                <a:lnTo>
                  <a:pt x="1" y="3780"/>
                </a:lnTo>
                <a:lnTo>
                  <a:pt x="2" y="3777"/>
                </a:lnTo>
                <a:lnTo>
                  <a:pt x="4" y="3775"/>
                </a:lnTo>
                <a:lnTo>
                  <a:pt x="5" y="3775"/>
                </a:lnTo>
                <a:lnTo>
                  <a:pt x="7" y="3775"/>
                </a:lnTo>
                <a:lnTo>
                  <a:pt x="8" y="3775"/>
                </a:lnTo>
                <a:lnTo>
                  <a:pt x="9" y="3775"/>
                </a:lnTo>
                <a:lnTo>
                  <a:pt x="11" y="3777"/>
                </a:lnTo>
                <a:lnTo>
                  <a:pt x="12" y="3780"/>
                </a:lnTo>
                <a:lnTo>
                  <a:pt x="13" y="3781"/>
                </a:lnTo>
                <a:lnTo>
                  <a:pt x="13" y="3782"/>
                </a:lnTo>
                <a:lnTo>
                  <a:pt x="13" y="3822"/>
                </a:lnTo>
                <a:lnTo>
                  <a:pt x="13" y="3823"/>
                </a:lnTo>
                <a:lnTo>
                  <a:pt x="12" y="3824"/>
                </a:lnTo>
                <a:lnTo>
                  <a:pt x="11" y="3826"/>
                </a:lnTo>
                <a:lnTo>
                  <a:pt x="9" y="3827"/>
                </a:lnTo>
                <a:lnTo>
                  <a:pt x="8" y="3828"/>
                </a:lnTo>
                <a:lnTo>
                  <a:pt x="7" y="3828"/>
                </a:lnTo>
                <a:lnTo>
                  <a:pt x="5" y="3828"/>
                </a:lnTo>
                <a:lnTo>
                  <a:pt x="4" y="3827"/>
                </a:lnTo>
                <a:lnTo>
                  <a:pt x="2" y="3826"/>
                </a:lnTo>
                <a:lnTo>
                  <a:pt x="1" y="3824"/>
                </a:lnTo>
                <a:lnTo>
                  <a:pt x="0" y="3823"/>
                </a:lnTo>
                <a:lnTo>
                  <a:pt x="0" y="3822"/>
                </a:lnTo>
                <a:lnTo>
                  <a:pt x="0" y="3822"/>
                </a:lnTo>
                <a:close/>
                <a:moveTo>
                  <a:pt x="0" y="3729"/>
                </a:moveTo>
                <a:lnTo>
                  <a:pt x="0" y="3690"/>
                </a:lnTo>
                <a:lnTo>
                  <a:pt x="0" y="3688"/>
                </a:lnTo>
                <a:lnTo>
                  <a:pt x="1" y="3687"/>
                </a:lnTo>
                <a:lnTo>
                  <a:pt x="2" y="3685"/>
                </a:lnTo>
                <a:lnTo>
                  <a:pt x="4" y="3684"/>
                </a:lnTo>
                <a:lnTo>
                  <a:pt x="5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4"/>
                </a:lnTo>
                <a:lnTo>
                  <a:pt x="11" y="3685"/>
                </a:lnTo>
                <a:lnTo>
                  <a:pt x="12" y="3687"/>
                </a:lnTo>
                <a:lnTo>
                  <a:pt x="13" y="3688"/>
                </a:lnTo>
                <a:lnTo>
                  <a:pt x="13" y="3690"/>
                </a:lnTo>
                <a:lnTo>
                  <a:pt x="13" y="3729"/>
                </a:lnTo>
                <a:lnTo>
                  <a:pt x="13" y="3730"/>
                </a:lnTo>
                <a:lnTo>
                  <a:pt x="12" y="3731"/>
                </a:lnTo>
                <a:lnTo>
                  <a:pt x="11" y="3733"/>
                </a:lnTo>
                <a:lnTo>
                  <a:pt x="9" y="3735"/>
                </a:lnTo>
                <a:lnTo>
                  <a:pt x="8" y="3735"/>
                </a:lnTo>
                <a:lnTo>
                  <a:pt x="7" y="3735"/>
                </a:lnTo>
                <a:lnTo>
                  <a:pt x="5" y="3735"/>
                </a:lnTo>
                <a:lnTo>
                  <a:pt x="4" y="3735"/>
                </a:lnTo>
                <a:lnTo>
                  <a:pt x="2" y="3733"/>
                </a:lnTo>
                <a:lnTo>
                  <a:pt x="1" y="3731"/>
                </a:lnTo>
                <a:lnTo>
                  <a:pt x="0" y="3730"/>
                </a:lnTo>
                <a:lnTo>
                  <a:pt x="0" y="3729"/>
                </a:lnTo>
                <a:lnTo>
                  <a:pt x="0" y="3729"/>
                </a:lnTo>
                <a:close/>
                <a:moveTo>
                  <a:pt x="0" y="3638"/>
                </a:moveTo>
                <a:lnTo>
                  <a:pt x="0" y="3598"/>
                </a:lnTo>
                <a:lnTo>
                  <a:pt x="0" y="3596"/>
                </a:lnTo>
                <a:lnTo>
                  <a:pt x="1" y="3595"/>
                </a:lnTo>
                <a:lnTo>
                  <a:pt x="2" y="3593"/>
                </a:lnTo>
                <a:lnTo>
                  <a:pt x="4" y="3591"/>
                </a:lnTo>
                <a:lnTo>
                  <a:pt x="5" y="3591"/>
                </a:lnTo>
                <a:lnTo>
                  <a:pt x="7" y="3591"/>
                </a:lnTo>
                <a:lnTo>
                  <a:pt x="8" y="3591"/>
                </a:lnTo>
                <a:lnTo>
                  <a:pt x="9" y="3591"/>
                </a:lnTo>
                <a:lnTo>
                  <a:pt x="11" y="3593"/>
                </a:lnTo>
                <a:lnTo>
                  <a:pt x="12" y="3595"/>
                </a:lnTo>
                <a:lnTo>
                  <a:pt x="13" y="3596"/>
                </a:lnTo>
                <a:lnTo>
                  <a:pt x="13" y="3598"/>
                </a:lnTo>
                <a:lnTo>
                  <a:pt x="13" y="3638"/>
                </a:lnTo>
                <a:lnTo>
                  <a:pt x="13" y="3639"/>
                </a:lnTo>
                <a:lnTo>
                  <a:pt x="12" y="3640"/>
                </a:lnTo>
                <a:lnTo>
                  <a:pt x="11" y="3642"/>
                </a:lnTo>
                <a:lnTo>
                  <a:pt x="9" y="3643"/>
                </a:lnTo>
                <a:lnTo>
                  <a:pt x="8" y="3644"/>
                </a:lnTo>
                <a:lnTo>
                  <a:pt x="7" y="3644"/>
                </a:lnTo>
                <a:lnTo>
                  <a:pt x="5" y="3644"/>
                </a:lnTo>
                <a:lnTo>
                  <a:pt x="4" y="3643"/>
                </a:lnTo>
                <a:lnTo>
                  <a:pt x="2" y="3642"/>
                </a:lnTo>
                <a:lnTo>
                  <a:pt x="1" y="3640"/>
                </a:lnTo>
                <a:lnTo>
                  <a:pt x="0" y="3639"/>
                </a:lnTo>
                <a:lnTo>
                  <a:pt x="0" y="3638"/>
                </a:lnTo>
                <a:lnTo>
                  <a:pt x="0" y="3638"/>
                </a:lnTo>
                <a:close/>
                <a:moveTo>
                  <a:pt x="0" y="3545"/>
                </a:moveTo>
                <a:lnTo>
                  <a:pt x="0" y="3506"/>
                </a:lnTo>
                <a:lnTo>
                  <a:pt x="0" y="3504"/>
                </a:lnTo>
                <a:lnTo>
                  <a:pt x="1" y="3503"/>
                </a:lnTo>
                <a:lnTo>
                  <a:pt x="2" y="3501"/>
                </a:lnTo>
                <a:lnTo>
                  <a:pt x="4" y="3500"/>
                </a:lnTo>
                <a:lnTo>
                  <a:pt x="5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500"/>
                </a:lnTo>
                <a:lnTo>
                  <a:pt x="11" y="3501"/>
                </a:lnTo>
                <a:lnTo>
                  <a:pt x="12" y="3503"/>
                </a:lnTo>
                <a:lnTo>
                  <a:pt x="13" y="3504"/>
                </a:lnTo>
                <a:lnTo>
                  <a:pt x="13" y="3506"/>
                </a:lnTo>
                <a:lnTo>
                  <a:pt x="13" y="3545"/>
                </a:lnTo>
                <a:lnTo>
                  <a:pt x="13" y="3546"/>
                </a:lnTo>
                <a:lnTo>
                  <a:pt x="12" y="3547"/>
                </a:lnTo>
                <a:lnTo>
                  <a:pt x="11" y="3549"/>
                </a:lnTo>
                <a:lnTo>
                  <a:pt x="9" y="3551"/>
                </a:lnTo>
                <a:lnTo>
                  <a:pt x="8" y="3551"/>
                </a:lnTo>
                <a:lnTo>
                  <a:pt x="7" y="3551"/>
                </a:lnTo>
                <a:lnTo>
                  <a:pt x="5" y="3551"/>
                </a:lnTo>
                <a:lnTo>
                  <a:pt x="4" y="3551"/>
                </a:lnTo>
                <a:lnTo>
                  <a:pt x="2" y="3549"/>
                </a:lnTo>
                <a:lnTo>
                  <a:pt x="1" y="3547"/>
                </a:lnTo>
                <a:lnTo>
                  <a:pt x="0" y="3546"/>
                </a:lnTo>
                <a:lnTo>
                  <a:pt x="0" y="3545"/>
                </a:lnTo>
                <a:lnTo>
                  <a:pt x="0" y="3545"/>
                </a:lnTo>
                <a:close/>
                <a:moveTo>
                  <a:pt x="0" y="3453"/>
                </a:moveTo>
                <a:lnTo>
                  <a:pt x="0" y="3413"/>
                </a:lnTo>
                <a:lnTo>
                  <a:pt x="0" y="3412"/>
                </a:lnTo>
                <a:lnTo>
                  <a:pt x="1" y="3411"/>
                </a:lnTo>
                <a:lnTo>
                  <a:pt x="2" y="3409"/>
                </a:lnTo>
                <a:lnTo>
                  <a:pt x="4" y="3407"/>
                </a:lnTo>
                <a:lnTo>
                  <a:pt x="5" y="3407"/>
                </a:lnTo>
                <a:lnTo>
                  <a:pt x="7" y="3407"/>
                </a:lnTo>
                <a:lnTo>
                  <a:pt x="8" y="3407"/>
                </a:lnTo>
                <a:lnTo>
                  <a:pt x="9" y="3407"/>
                </a:lnTo>
                <a:lnTo>
                  <a:pt x="11" y="3409"/>
                </a:lnTo>
                <a:lnTo>
                  <a:pt x="12" y="3411"/>
                </a:lnTo>
                <a:lnTo>
                  <a:pt x="13" y="3412"/>
                </a:lnTo>
                <a:lnTo>
                  <a:pt x="13" y="3413"/>
                </a:lnTo>
                <a:lnTo>
                  <a:pt x="13" y="3453"/>
                </a:lnTo>
                <a:lnTo>
                  <a:pt x="13" y="3454"/>
                </a:lnTo>
                <a:lnTo>
                  <a:pt x="12" y="3456"/>
                </a:lnTo>
                <a:lnTo>
                  <a:pt x="11" y="3458"/>
                </a:lnTo>
                <a:lnTo>
                  <a:pt x="9" y="3459"/>
                </a:lnTo>
                <a:lnTo>
                  <a:pt x="8" y="3460"/>
                </a:lnTo>
                <a:lnTo>
                  <a:pt x="7" y="3460"/>
                </a:lnTo>
                <a:lnTo>
                  <a:pt x="5" y="3460"/>
                </a:lnTo>
                <a:lnTo>
                  <a:pt x="4" y="3459"/>
                </a:lnTo>
                <a:lnTo>
                  <a:pt x="2" y="3458"/>
                </a:lnTo>
                <a:lnTo>
                  <a:pt x="1" y="3456"/>
                </a:lnTo>
                <a:lnTo>
                  <a:pt x="0" y="3454"/>
                </a:lnTo>
                <a:lnTo>
                  <a:pt x="0" y="3453"/>
                </a:lnTo>
                <a:lnTo>
                  <a:pt x="0" y="3453"/>
                </a:lnTo>
                <a:close/>
                <a:moveTo>
                  <a:pt x="0" y="3361"/>
                </a:moveTo>
                <a:lnTo>
                  <a:pt x="0" y="3322"/>
                </a:lnTo>
                <a:lnTo>
                  <a:pt x="0" y="3320"/>
                </a:lnTo>
                <a:lnTo>
                  <a:pt x="1" y="3319"/>
                </a:lnTo>
                <a:lnTo>
                  <a:pt x="2" y="3317"/>
                </a:lnTo>
                <a:lnTo>
                  <a:pt x="4" y="3316"/>
                </a:lnTo>
                <a:lnTo>
                  <a:pt x="5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6"/>
                </a:lnTo>
                <a:lnTo>
                  <a:pt x="11" y="3317"/>
                </a:lnTo>
                <a:lnTo>
                  <a:pt x="12" y="3319"/>
                </a:lnTo>
                <a:lnTo>
                  <a:pt x="13" y="3320"/>
                </a:lnTo>
                <a:lnTo>
                  <a:pt x="13" y="3322"/>
                </a:lnTo>
                <a:lnTo>
                  <a:pt x="13" y="3361"/>
                </a:lnTo>
                <a:lnTo>
                  <a:pt x="13" y="3362"/>
                </a:lnTo>
                <a:lnTo>
                  <a:pt x="12" y="3363"/>
                </a:lnTo>
                <a:lnTo>
                  <a:pt x="11" y="3365"/>
                </a:lnTo>
                <a:lnTo>
                  <a:pt x="9" y="3367"/>
                </a:lnTo>
                <a:lnTo>
                  <a:pt x="8" y="3367"/>
                </a:lnTo>
                <a:lnTo>
                  <a:pt x="7" y="3367"/>
                </a:lnTo>
                <a:lnTo>
                  <a:pt x="5" y="3367"/>
                </a:lnTo>
                <a:lnTo>
                  <a:pt x="4" y="3367"/>
                </a:lnTo>
                <a:lnTo>
                  <a:pt x="2" y="3365"/>
                </a:lnTo>
                <a:lnTo>
                  <a:pt x="1" y="3363"/>
                </a:lnTo>
                <a:lnTo>
                  <a:pt x="0" y="3362"/>
                </a:lnTo>
                <a:lnTo>
                  <a:pt x="0" y="3361"/>
                </a:lnTo>
                <a:lnTo>
                  <a:pt x="0" y="3361"/>
                </a:lnTo>
                <a:close/>
                <a:moveTo>
                  <a:pt x="0" y="3269"/>
                </a:moveTo>
                <a:lnTo>
                  <a:pt x="0" y="3229"/>
                </a:lnTo>
                <a:lnTo>
                  <a:pt x="0" y="3228"/>
                </a:lnTo>
                <a:lnTo>
                  <a:pt x="1" y="3227"/>
                </a:lnTo>
                <a:lnTo>
                  <a:pt x="2" y="3225"/>
                </a:lnTo>
                <a:lnTo>
                  <a:pt x="4" y="3223"/>
                </a:lnTo>
                <a:lnTo>
                  <a:pt x="5" y="3223"/>
                </a:lnTo>
                <a:lnTo>
                  <a:pt x="7" y="3223"/>
                </a:lnTo>
                <a:lnTo>
                  <a:pt x="8" y="3223"/>
                </a:lnTo>
                <a:lnTo>
                  <a:pt x="9" y="3223"/>
                </a:lnTo>
                <a:lnTo>
                  <a:pt x="11" y="3225"/>
                </a:lnTo>
                <a:lnTo>
                  <a:pt x="12" y="3227"/>
                </a:lnTo>
                <a:lnTo>
                  <a:pt x="13" y="3228"/>
                </a:lnTo>
                <a:lnTo>
                  <a:pt x="13" y="3229"/>
                </a:lnTo>
                <a:lnTo>
                  <a:pt x="13" y="3269"/>
                </a:lnTo>
                <a:lnTo>
                  <a:pt x="13" y="3270"/>
                </a:lnTo>
                <a:lnTo>
                  <a:pt x="12" y="3271"/>
                </a:lnTo>
                <a:lnTo>
                  <a:pt x="11" y="3273"/>
                </a:lnTo>
                <a:lnTo>
                  <a:pt x="9" y="3275"/>
                </a:lnTo>
                <a:lnTo>
                  <a:pt x="8" y="3276"/>
                </a:lnTo>
                <a:lnTo>
                  <a:pt x="7" y="3276"/>
                </a:lnTo>
                <a:lnTo>
                  <a:pt x="5" y="3276"/>
                </a:lnTo>
                <a:lnTo>
                  <a:pt x="4" y="3275"/>
                </a:lnTo>
                <a:lnTo>
                  <a:pt x="2" y="3273"/>
                </a:lnTo>
                <a:lnTo>
                  <a:pt x="1" y="3271"/>
                </a:lnTo>
                <a:lnTo>
                  <a:pt x="0" y="3270"/>
                </a:lnTo>
                <a:lnTo>
                  <a:pt x="0" y="3269"/>
                </a:lnTo>
                <a:lnTo>
                  <a:pt x="0" y="3269"/>
                </a:lnTo>
                <a:close/>
                <a:moveTo>
                  <a:pt x="0" y="3177"/>
                </a:moveTo>
                <a:lnTo>
                  <a:pt x="0" y="3138"/>
                </a:lnTo>
                <a:lnTo>
                  <a:pt x="0" y="3136"/>
                </a:lnTo>
                <a:lnTo>
                  <a:pt x="1" y="3135"/>
                </a:lnTo>
                <a:lnTo>
                  <a:pt x="2" y="3132"/>
                </a:lnTo>
                <a:lnTo>
                  <a:pt x="4" y="3131"/>
                </a:lnTo>
                <a:lnTo>
                  <a:pt x="5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1"/>
                </a:lnTo>
                <a:lnTo>
                  <a:pt x="11" y="3132"/>
                </a:lnTo>
                <a:lnTo>
                  <a:pt x="12" y="3135"/>
                </a:lnTo>
                <a:lnTo>
                  <a:pt x="13" y="3136"/>
                </a:lnTo>
                <a:lnTo>
                  <a:pt x="13" y="3138"/>
                </a:lnTo>
                <a:lnTo>
                  <a:pt x="13" y="3177"/>
                </a:lnTo>
                <a:lnTo>
                  <a:pt x="13" y="3178"/>
                </a:lnTo>
                <a:lnTo>
                  <a:pt x="12" y="3179"/>
                </a:lnTo>
                <a:lnTo>
                  <a:pt x="11" y="3181"/>
                </a:lnTo>
                <a:lnTo>
                  <a:pt x="9" y="3183"/>
                </a:lnTo>
                <a:lnTo>
                  <a:pt x="8" y="3183"/>
                </a:lnTo>
                <a:lnTo>
                  <a:pt x="7" y="3183"/>
                </a:lnTo>
                <a:lnTo>
                  <a:pt x="5" y="3183"/>
                </a:lnTo>
                <a:lnTo>
                  <a:pt x="4" y="3183"/>
                </a:lnTo>
                <a:lnTo>
                  <a:pt x="2" y="3181"/>
                </a:lnTo>
                <a:lnTo>
                  <a:pt x="1" y="3179"/>
                </a:lnTo>
                <a:lnTo>
                  <a:pt x="0" y="3178"/>
                </a:lnTo>
                <a:lnTo>
                  <a:pt x="0" y="3177"/>
                </a:lnTo>
                <a:lnTo>
                  <a:pt x="0" y="3177"/>
                </a:lnTo>
                <a:close/>
                <a:moveTo>
                  <a:pt x="0" y="3085"/>
                </a:moveTo>
                <a:lnTo>
                  <a:pt x="0" y="3045"/>
                </a:lnTo>
                <a:lnTo>
                  <a:pt x="0" y="3044"/>
                </a:lnTo>
                <a:lnTo>
                  <a:pt x="1" y="3043"/>
                </a:lnTo>
                <a:lnTo>
                  <a:pt x="2" y="3041"/>
                </a:lnTo>
                <a:lnTo>
                  <a:pt x="4" y="3039"/>
                </a:lnTo>
                <a:lnTo>
                  <a:pt x="5" y="3039"/>
                </a:lnTo>
                <a:lnTo>
                  <a:pt x="7" y="3039"/>
                </a:lnTo>
                <a:lnTo>
                  <a:pt x="8" y="3039"/>
                </a:lnTo>
                <a:lnTo>
                  <a:pt x="9" y="3039"/>
                </a:lnTo>
                <a:lnTo>
                  <a:pt x="11" y="3041"/>
                </a:lnTo>
                <a:lnTo>
                  <a:pt x="12" y="3043"/>
                </a:lnTo>
                <a:lnTo>
                  <a:pt x="13" y="3044"/>
                </a:lnTo>
                <a:lnTo>
                  <a:pt x="13" y="3045"/>
                </a:lnTo>
                <a:lnTo>
                  <a:pt x="13" y="3085"/>
                </a:lnTo>
                <a:lnTo>
                  <a:pt x="13" y="3086"/>
                </a:lnTo>
                <a:lnTo>
                  <a:pt x="12" y="3087"/>
                </a:lnTo>
                <a:lnTo>
                  <a:pt x="11" y="3089"/>
                </a:lnTo>
                <a:lnTo>
                  <a:pt x="9" y="3090"/>
                </a:lnTo>
                <a:lnTo>
                  <a:pt x="8" y="3091"/>
                </a:lnTo>
                <a:lnTo>
                  <a:pt x="7" y="3091"/>
                </a:lnTo>
                <a:lnTo>
                  <a:pt x="5" y="3091"/>
                </a:lnTo>
                <a:lnTo>
                  <a:pt x="4" y="3090"/>
                </a:lnTo>
                <a:lnTo>
                  <a:pt x="2" y="3089"/>
                </a:lnTo>
                <a:lnTo>
                  <a:pt x="1" y="3087"/>
                </a:lnTo>
                <a:lnTo>
                  <a:pt x="0" y="3086"/>
                </a:lnTo>
                <a:lnTo>
                  <a:pt x="0" y="3085"/>
                </a:lnTo>
                <a:lnTo>
                  <a:pt x="0" y="3085"/>
                </a:lnTo>
                <a:close/>
                <a:moveTo>
                  <a:pt x="0" y="2993"/>
                </a:moveTo>
                <a:lnTo>
                  <a:pt x="0" y="2954"/>
                </a:lnTo>
                <a:lnTo>
                  <a:pt x="0" y="2952"/>
                </a:lnTo>
                <a:lnTo>
                  <a:pt x="1" y="2950"/>
                </a:lnTo>
                <a:lnTo>
                  <a:pt x="2" y="2948"/>
                </a:lnTo>
                <a:lnTo>
                  <a:pt x="4" y="2947"/>
                </a:lnTo>
                <a:lnTo>
                  <a:pt x="5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7"/>
                </a:lnTo>
                <a:lnTo>
                  <a:pt x="11" y="2948"/>
                </a:lnTo>
                <a:lnTo>
                  <a:pt x="12" y="2950"/>
                </a:lnTo>
                <a:lnTo>
                  <a:pt x="13" y="2952"/>
                </a:lnTo>
                <a:lnTo>
                  <a:pt x="13" y="2954"/>
                </a:lnTo>
                <a:lnTo>
                  <a:pt x="13" y="2993"/>
                </a:lnTo>
                <a:lnTo>
                  <a:pt x="13" y="2994"/>
                </a:lnTo>
                <a:lnTo>
                  <a:pt x="12" y="2995"/>
                </a:lnTo>
                <a:lnTo>
                  <a:pt x="11" y="2997"/>
                </a:lnTo>
                <a:lnTo>
                  <a:pt x="9" y="2999"/>
                </a:lnTo>
                <a:lnTo>
                  <a:pt x="8" y="2999"/>
                </a:lnTo>
                <a:lnTo>
                  <a:pt x="7" y="2999"/>
                </a:lnTo>
                <a:lnTo>
                  <a:pt x="5" y="2999"/>
                </a:lnTo>
                <a:lnTo>
                  <a:pt x="4" y="2999"/>
                </a:lnTo>
                <a:lnTo>
                  <a:pt x="2" y="2997"/>
                </a:lnTo>
                <a:lnTo>
                  <a:pt x="1" y="2995"/>
                </a:lnTo>
                <a:lnTo>
                  <a:pt x="0" y="2994"/>
                </a:lnTo>
                <a:lnTo>
                  <a:pt x="0" y="2993"/>
                </a:lnTo>
                <a:lnTo>
                  <a:pt x="0" y="2993"/>
                </a:lnTo>
                <a:close/>
                <a:moveTo>
                  <a:pt x="0" y="2901"/>
                </a:moveTo>
                <a:lnTo>
                  <a:pt x="0" y="2861"/>
                </a:lnTo>
                <a:lnTo>
                  <a:pt x="0" y="2860"/>
                </a:lnTo>
                <a:lnTo>
                  <a:pt x="1" y="2859"/>
                </a:lnTo>
                <a:lnTo>
                  <a:pt x="2" y="2857"/>
                </a:lnTo>
                <a:lnTo>
                  <a:pt x="4" y="2855"/>
                </a:lnTo>
                <a:lnTo>
                  <a:pt x="5" y="2855"/>
                </a:lnTo>
                <a:lnTo>
                  <a:pt x="7" y="2855"/>
                </a:lnTo>
                <a:lnTo>
                  <a:pt x="8" y="2855"/>
                </a:lnTo>
                <a:lnTo>
                  <a:pt x="9" y="2855"/>
                </a:lnTo>
                <a:lnTo>
                  <a:pt x="11" y="2857"/>
                </a:lnTo>
                <a:lnTo>
                  <a:pt x="12" y="2859"/>
                </a:lnTo>
                <a:lnTo>
                  <a:pt x="13" y="2860"/>
                </a:lnTo>
                <a:lnTo>
                  <a:pt x="13" y="2861"/>
                </a:lnTo>
                <a:lnTo>
                  <a:pt x="13" y="2901"/>
                </a:lnTo>
                <a:lnTo>
                  <a:pt x="13" y="2902"/>
                </a:lnTo>
                <a:lnTo>
                  <a:pt x="12" y="2903"/>
                </a:lnTo>
                <a:lnTo>
                  <a:pt x="11" y="2905"/>
                </a:lnTo>
                <a:lnTo>
                  <a:pt x="9" y="2906"/>
                </a:lnTo>
                <a:lnTo>
                  <a:pt x="8" y="2907"/>
                </a:lnTo>
                <a:lnTo>
                  <a:pt x="7" y="2907"/>
                </a:lnTo>
                <a:lnTo>
                  <a:pt x="5" y="2907"/>
                </a:lnTo>
                <a:lnTo>
                  <a:pt x="4" y="2906"/>
                </a:lnTo>
                <a:lnTo>
                  <a:pt x="2" y="2905"/>
                </a:lnTo>
                <a:lnTo>
                  <a:pt x="1" y="2903"/>
                </a:lnTo>
                <a:lnTo>
                  <a:pt x="0" y="2902"/>
                </a:lnTo>
                <a:lnTo>
                  <a:pt x="0" y="2901"/>
                </a:lnTo>
                <a:lnTo>
                  <a:pt x="0" y="2901"/>
                </a:lnTo>
                <a:close/>
                <a:moveTo>
                  <a:pt x="0" y="2808"/>
                </a:moveTo>
                <a:lnTo>
                  <a:pt x="0" y="2769"/>
                </a:lnTo>
                <a:lnTo>
                  <a:pt x="0" y="2767"/>
                </a:lnTo>
                <a:lnTo>
                  <a:pt x="1" y="2766"/>
                </a:lnTo>
                <a:lnTo>
                  <a:pt x="2" y="2764"/>
                </a:lnTo>
                <a:lnTo>
                  <a:pt x="4" y="2763"/>
                </a:lnTo>
                <a:lnTo>
                  <a:pt x="5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3"/>
                </a:lnTo>
                <a:lnTo>
                  <a:pt x="11" y="2764"/>
                </a:lnTo>
                <a:lnTo>
                  <a:pt x="12" y="2766"/>
                </a:lnTo>
                <a:lnTo>
                  <a:pt x="13" y="2767"/>
                </a:lnTo>
                <a:lnTo>
                  <a:pt x="13" y="2769"/>
                </a:lnTo>
                <a:lnTo>
                  <a:pt x="13" y="2808"/>
                </a:lnTo>
                <a:lnTo>
                  <a:pt x="13" y="2809"/>
                </a:lnTo>
                <a:lnTo>
                  <a:pt x="12" y="2811"/>
                </a:lnTo>
                <a:lnTo>
                  <a:pt x="11" y="2813"/>
                </a:lnTo>
                <a:lnTo>
                  <a:pt x="9" y="2815"/>
                </a:lnTo>
                <a:lnTo>
                  <a:pt x="8" y="2815"/>
                </a:lnTo>
                <a:lnTo>
                  <a:pt x="7" y="2815"/>
                </a:lnTo>
                <a:lnTo>
                  <a:pt x="5" y="2815"/>
                </a:lnTo>
                <a:lnTo>
                  <a:pt x="4" y="2815"/>
                </a:lnTo>
                <a:lnTo>
                  <a:pt x="2" y="2813"/>
                </a:lnTo>
                <a:lnTo>
                  <a:pt x="1" y="2811"/>
                </a:lnTo>
                <a:lnTo>
                  <a:pt x="0" y="2809"/>
                </a:lnTo>
                <a:lnTo>
                  <a:pt x="0" y="2808"/>
                </a:lnTo>
                <a:lnTo>
                  <a:pt x="0" y="2808"/>
                </a:lnTo>
                <a:close/>
                <a:moveTo>
                  <a:pt x="0" y="2717"/>
                </a:moveTo>
                <a:lnTo>
                  <a:pt x="0" y="2677"/>
                </a:lnTo>
                <a:lnTo>
                  <a:pt x="0" y="2676"/>
                </a:lnTo>
                <a:lnTo>
                  <a:pt x="1" y="2675"/>
                </a:lnTo>
                <a:lnTo>
                  <a:pt x="2" y="2673"/>
                </a:lnTo>
                <a:lnTo>
                  <a:pt x="4" y="2671"/>
                </a:lnTo>
                <a:lnTo>
                  <a:pt x="5" y="2671"/>
                </a:lnTo>
                <a:lnTo>
                  <a:pt x="7" y="2671"/>
                </a:lnTo>
                <a:lnTo>
                  <a:pt x="8" y="2671"/>
                </a:lnTo>
                <a:lnTo>
                  <a:pt x="9" y="2671"/>
                </a:lnTo>
                <a:lnTo>
                  <a:pt x="11" y="2673"/>
                </a:lnTo>
                <a:lnTo>
                  <a:pt x="12" y="2675"/>
                </a:lnTo>
                <a:lnTo>
                  <a:pt x="13" y="2676"/>
                </a:lnTo>
                <a:lnTo>
                  <a:pt x="13" y="2677"/>
                </a:lnTo>
                <a:lnTo>
                  <a:pt x="13" y="2717"/>
                </a:lnTo>
                <a:lnTo>
                  <a:pt x="13" y="2718"/>
                </a:lnTo>
                <a:lnTo>
                  <a:pt x="12" y="2719"/>
                </a:lnTo>
                <a:lnTo>
                  <a:pt x="11" y="2721"/>
                </a:lnTo>
                <a:lnTo>
                  <a:pt x="9" y="2722"/>
                </a:lnTo>
                <a:lnTo>
                  <a:pt x="8" y="2723"/>
                </a:lnTo>
                <a:lnTo>
                  <a:pt x="7" y="2723"/>
                </a:lnTo>
                <a:lnTo>
                  <a:pt x="5" y="2723"/>
                </a:lnTo>
                <a:lnTo>
                  <a:pt x="4" y="2722"/>
                </a:lnTo>
                <a:lnTo>
                  <a:pt x="2" y="2721"/>
                </a:lnTo>
                <a:lnTo>
                  <a:pt x="1" y="2719"/>
                </a:lnTo>
                <a:lnTo>
                  <a:pt x="0" y="2718"/>
                </a:lnTo>
                <a:lnTo>
                  <a:pt x="0" y="2717"/>
                </a:lnTo>
                <a:lnTo>
                  <a:pt x="0" y="2717"/>
                </a:lnTo>
                <a:close/>
                <a:moveTo>
                  <a:pt x="0" y="2624"/>
                </a:moveTo>
                <a:lnTo>
                  <a:pt x="0" y="2585"/>
                </a:lnTo>
                <a:lnTo>
                  <a:pt x="0" y="2583"/>
                </a:lnTo>
                <a:lnTo>
                  <a:pt x="1" y="2582"/>
                </a:lnTo>
                <a:lnTo>
                  <a:pt x="2" y="2580"/>
                </a:lnTo>
                <a:lnTo>
                  <a:pt x="4" y="2579"/>
                </a:lnTo>
                <a:lnTo>
                  <a:pt x="5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9"/>
                </a:lnTo>
                <a:lnTo>
                  <a:pt x="11" y="2580"/>
                </a:lnTo>
                <a:lnTo>
                  <a:pt x="12" y="2582"/>
                </a:lnTo>
                <a:lnTo>
                  <a:pt x="13" y="2583"/>
                </a:lnTo>
                <a:lnTo>
                  <a:pt x="13" y="2585"/>
                </a:lnTo>
                <a:lnTo>
                  <a:pt x="13" y="2624"/>
                </a:lnTo>
                <a:lnTo>
                  <a:pt x="13" y="2625"/>
                </a:lnTo>
                <a:lnTo>
                  <a:pt x="12" y="2626"/>
                </a:lnTo>
                <a:lnTo>
                  <a:pt x="11" y="2628"/>
                </a:lnTo>
                <a:lnTo>
                  <a:pt x="9" y="2631"/>
                </a:lnTo>
                <a:lnTo>
                  <a:pt x="8" y="2631"/>
                </a:lnTo>
                <a:lnTo>
                  <a:pt x="7" y="2631"/>
                </a:lnTo>
                <a:lnTo>
                  <a:pt x="5" y="2631"/>
                </a:lnTo>
                <a:lnTo>
                  <a:pt x="4" y="2631"/>
                </a:lnTo>
                <a:lnTo>
                  <a:pt x="2" y="2628"/>
                </a:lnTo>
                <a:lnTo>
                  <a:pt x="1" y="2626"/>
                </a:lnTo>
                <a:lnTo>
                  <a:pt x="0" y="2625"/>
                </a:lnTo>
                <a:lnTo>
                  <a:pt x="0" y="2624"/>
                </a:lnTo>
                <a:lnTo>
                  <a:pt x="0" y="2624"/>
                </a:lnTo>
                <a:close/>
                <a:moveTo>
                  <a:pt x="0" y="2533"/>
                </a:moveTo>
                <a:lnTo>
                  <a:pt x="0" y="2493"/>
                </a:lnTo>
                <a:lnTo>
                  <a:pt x="0" y="2492"/>
                </a:lnTo>
                <a:lnTo>
                  <a:pt x="1" y="2491"/>
                </a:lnTo>
                <a:lnTo>
                  <a:pt x="2" y="2489"/>
                </a:lnTo>
                <a:lnTo>
                  <a:pt x="4" y="2486"/>
                </a:lnTo>
                <a:lnTo>
                  <a:pt x="5" y="2486"/>
                </a:lnTo>
                <a:lnTo>
                  <a:pt x="7" y="2486"/>
                </a:lnTo>
                <a:lnTo>
                  <a:pt x="8" y="2486"/>
                </a:lnTo>
                <a:lnTo>
                  <a:pt x="9" y="2486"/>
                </a:lnTo>
                <a:lnTo>
                  <a:pt x="11" y="2489"/>
                </a:lnTo>
                <a:lnTo>
                  <a:pt x="12" y="2491"/>
                </a:lnTo>
                <a:lnTo>
                  <a:pt x="13" y="2492"/>
                </a:lnTo>
                <a:lnTo>
                  <a:pt x="13" y="2493"/>
                </a:lnTo>
                <a:lnTo>
                  <a:pt x="13" y="2533"/>
                </a:lnTo>
                <a:lnTo>
                  <a:pt x="13" y="2534"/>
                </a:lnTo>
                <a:lnTo>
                  <a:pt x="12" y="2535"/>
                </a:lnTo>
                <a:lnTo>
                  <a:pt x="11" y="2537"/>
                </a:lnTo>
                <a:lnTo>
                  <a:pt x="9" y="2538"/>
                </a:lnTo>
                <a:lnTo>
                  <a:pt x="8" y="2539"/>
                </a:lnTo>
                <a:lnTo>
                  <a:pt x="7" y="2539"/>
                </a:lnTo>
                <a:lnTo>
                  <a:pt x="5" y="2539"/>
                </a:lnTo>
                <a:lnTo>
                  <a:pt x="4" y="2538"/>
                </a:lnTo>
                <a:lnTo>
                  <a:pt x="2" y="2537"/>
                </a:lnTo>
                <a:lnTo>
                  <a:pt x="1" y="2535"/>
                </a:lnTo>
                <a:lnTo>
                  <a:pt x="0" y="2534"/>
                </a:lnTo>
                <a:lnTo>
                  <a:pt x="0" y="2533"/>
                </a:lnTo>
                <a:lnTo>
                  <a:pt x="0" y="2533"/>
                </a:lnTo>
                <a:close/>
                <a:moveTo>
                  <a:pt x="0" y="2440"/>
                </a:moveTo>
                <a:lnTo>
                  <a:pt x="0" y="2401"/>
                </a:lnTo>
                <a:lnTo>
                  <a:pt x="0" y="2399"/>
                </a:lnTo>
                <a:lnTo>
                  <a:pt x="1" y="2398"/>
                </a:lnTo>
                <a:lnTo>
                  <a:pt x="2" y="2396"/>
                </a:lnTo>
                <a:lnTo>
                  <a:pt x="4" y="2395"/>
                </a:lnTo>
                <a:lnTo>
                  <a:pt x="5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5"/>
                </a:lnTo>
                <a:lnTo>
                  <a:pt x="11" y="2396"/>
                </a:lnTo>
                <a:lnTo>
                  <a:pt x="12" y="2398"/>
                </a:lnTo>
                <a:lnTo>
                  <a:pt x="13" y="2399"/>
                </a:lnTo>
                <a:lnTo>
                  <a:pt x="13" y="2401"/>
                </a:lnTo>
                <a:lnTo>
                  <a:pt x="13" y="2440"/>
                </a:lnTo>
                <a:lnTo>
                  <a:pt x="13" y="2441"/>
                </a:lnTo>
                <a:lnTo>
                  <a:pt x="12" y="2442"/>
                </a:lnTo>
                <a:lnTo>
                  <a:pt x="11" y="2444"/>
                </a:lnTo>
                <a:lnTo>
                  <a:pt x="9" y="2446"/>
                </a:lnTo>
                <a:lnTo>
                  <a:pt x="8" y="2446"/>
                </a:lnTo>
                <a:lnTo>
                  <a:pt x="7" y="2446"/>
                </a:lnTo>
                <a:lnTo>
                  <a:pt x="5" y="2446"/>
                </a:lnTo>
                <a:lnTo>
                  <a:pt x="4" y="2446"/>
                </a:lnTo>
                <a:lnTo>
                  <a:pt x="2" y="2444"/>
                </a:lnTo>
                <a:lnTo>
                  <a:pt x="1" y="2442"/>
                </a:lnTo>
                <a:lnTo>
                  <a:pt x="0" y="2441"/>
                </a:lnTo>
                <a:lnTo>
                  <a:pt x="0" y="2440"/>
                </a:lnTo>
                <a:lnTo>
                  <a:pt x="0" y="2440"/>
                </a:lnTo>
                <a:close/>
                <a:moveTo>
                  <a:pt x="0" y="2349"/>
                </a:moveTo>
                <a:lnTo>
                  <a:pt x="0" y="2309"/>
                </a:lnTo>
                <a:lnTo>
                  <a:pt x="0" y="2308"/>
                </a:lnTo>
                <a:lnTo>
                  <a:pt x="1" y="2307"/>
                </a:lnTo>
                <a:lnTo>
                  <a:pt x="2" y="2304"/>
                </a:lnTo>
                <a:lnTo>
                  <a:pt x="4" y="2302"/>
                </a:lnTo>
                <a:lnTo>
                  <a:pt x="5" y="2302"/>
                </a:lnTo>
                <a:lnTo>
                  <a:pt x="7" y="2302"/>
                </a:lnTo>
                <a:lnTo>
                  <a:pt x="8" y="2302"/>
                </a:lnTo>
                <a:lnTo>
                  <a:pt x="9" y="2302"/>
                </a:lnTo>
                <a:lnTo>
                  <a:pt x="11" y="2304"/>
                </a:lnTo>
                <a:lnTo>
                  <a:pt x="12" y="2307"/>
                </a:lnTo>
                <a:lnTo>
                  <a:pt x="13" y="2308"/>
                </a:lnTo>
                <a:lnTo>
                  <a:pt x="13" y="2309"/>
                </a:lnTo>
                <a:lnTo>
                  <a:pt x="13" y="2349"/>
                </a:lnTo>
                <a:lnTo>
                  <a:pt x="13" y="2350"/>
                </a:lnTo>
                <a:lnTo>
                  <a:pt x="12" y="2351"/>
                </a:lnTo>
                <a:lnTo>
                  <a:pt x="11" y="2353"/>
                </a:lnTo>
                <a:lnTo>
                  <a:pt x="9" y="2354"/>
                </a:lnTo>
                <a:lnTo>
                  <a:pt x="8" y="2355"/>
                </a:lnTo>
                <a:lnTo>
                  <a:pt x="7" y="2355"/>
                </a:lnTo>
                <a:lnTo>
                  <a:pt x="5" y="2355"/>
                </a:lnTo>
                <a:lnTo>
                  <a:pt x="4" y="2354"/>
                </a:lnTo>
                <a:lnTo>
                  <a:pt x="2" y="2353"/>
                </a:lnTo>
                <a:lnTo>
                  <a:pt x="1" y="2351"/>
                </a:lnTo>
                <a:lnTo>
                  <a:pt x="0" y="2350"/>
                </a:lnTo>
                <a:lnTo>
                  <a:pt x="0" y="2349"/>
                </a:lnTo>
                <a:lnTo>
                  <a:pt x="0" y="2349"/>
                </a:lnTo>
                <a:close/>
                <a:moveTo>
                  <a:pt x="0" y="2256"/>
                </a:moveTo>
                <a:lnTo>
                  <a:pt x="0" y="2217"/>
                </a:lnTo>
                <a:lnTo>
                  <a:pt x="0" y="2215"/>
                </a:lnTo>
                <a:lnTo>
                  <a:pt x="1" y="2214"/>
                </a:lnTo>
                <a:lnTo>
                  <a:pt x="2" y="2212"/>
                </a:lnTo>
                <a:lnTo>
                  <a:pt x="4" y="2211"/>
                </a:lnTo>
                <a:lnTo>
                  <a:pt x="5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1"/>
                </a:lnTo>
                <a:lnTo>
                  <a:pt x="11" y="2212"/>
                </a:lnTo>
                <a:lnTo>
                  <a:pt x="12" y="2214"/>
                </a:lnTo>
                <a:lnTo>
                  <a:pt x="13" y="2215"/>
                </a:lnTo>
                <a:lnTo>
                  <a:pt x="13" y="2217"/>
                </a:lnTo>
                <a:lnTo>
                  <a:pt x="13" y="2256"/>
                </a:lnTo>
                <a:lnTo>
                  <a:pt x="13" y="2257"/>
                </a:lnTo>
                <a:lnTo>
                  <a:pt x="12" y="2258"/>
                </a:lnTo>
                <a:lnTo>
                  <a:pt x="11" y="2260"/>
                </a:lnTo>
                <a:lnTo>
                  <a:pt x="9" y="2262"/>
                </a:lnTo>
                <a:lnTo>
                  <a:pt x="8" y="2262"/>
                </a:lnTo>
                <a:lnTo>
                  <a:pt x="7" y="2262"/>
                </a:lnTo>
                <a:lnTo>
                  <a:pt x="5" y="2262"/>
                </a:lnTo>
                <a:lnTo>
                  <a:pt x="4" y="2262"/>
                </a:lnTo>
                <a:lnTo>
                  <a:pt x="2" y="2260"/>
                </a:lnTo>
                <a:lnTo>
                  <a:pt x="1" y="2258"/>
                </a:lnTo>
                <a:lnTo>
                  <a:pt x="0" y="2257"/>
                </a:lnTo>
                <a:lnTo>
                  <a:pt x="0" y="2256"/>
                </a:lnTo>
                <a:lnTo>
                  <a:pt x="0" y="2256"/>
                </a:lnTo>
                <a:close/>
                <a:moveTo>
                  <a:pt x="0" y="2164"/>
                </a:moveTo>
                <a:lnTo>
                  <a:pt x="0" y="2125"/>
                </a:lnTo>
                <a:lnTo>
                  <a:pt x="0" y="2123"/>
                </a:lnTo>
                <a:lnTo>
                  <a:pt x="1" y="2122"/>
                </a:lnTo>
                <a:lnTo>
                  <a:pt x="2" y="2120"/>
                </a:lnTo>
                <a:lnTo>
                  <a:pt x="4" y="2118"/>
                </a:lnTo>
                <a:lnTo>
                  <a:pt x="5" y="2118"/>
                </a:lnTo>
                <a:lnTo>
                  <a:pt x="7" y="2118"/>
                </a:lnTo>
                <a:lnTo>
                  <a:pt x="8" y="2118"/>
                </a:lnTo>
                <a:lnTo>
                  <a:pt x="9" y="2118"/>
                </a:lnTo>
                <a:lnTo>
                  <a:pt x="11" y="2120"/>
                </a:lnTo>
                <a:lnTo>
                  <a:pt x="12" y="2122"/>
                </a:lnTo>
                <a:lnTo>
                  <a:pt x="13" y="2123"/>
                </a:lnTo>
                <a:lnTo>
                  <a:pt x="13" y="2125"/>
                </a:lnTo>
                <a:lnTo>
                  <a:pt x="13" y="2164"/>
                </a:lnTo>
                <a:lnTo>
                  <a:pt x="13" y="2166"/>
                </a:lnTo>
                <a:lnTo>
                  <a:pt x="12" y="2167"/>
                </a:lnTo>
                <a:lnTo>
                  <a:pt x="11" y="2169"/>
                </a:lnTo>
                <a:lnTo>
                  <a:pt x="9" y="2170"/>
                </a:lnTo>
                <a:lnTo>
                  <a:pt x="8" y="2171"/>
                </a:lnTo>
                <a:lnTo>
                  <a:pt x="7" y="2171"/>
                </a:lnTo>
                <a:lnTo>
                  <a:pt x="5" y="2171"/>
                </a:lnTo>
                <a:lnTo>
                  <a:pt x="4" y="2170"/>
                </a:lnTo>
                <a:lnTo>
                  <a:pt x="2" y="2169"/>
                </a:lnTo>
                <a:lnTo>
                  <a:pt x="1" y="2167"/>
                </a:lnTo>
                <a:lnTo>
                  <a:pt x="0" y="2166"/>
                </a:lnTo>
                <a:lnTo>
                  <a:pt x="0" y="2164"/>
                </a:lnTo>
                <a:lnTo>
                  <a:pt x="0" y="2164"/>
                </a:lnTo>
                <a:close/>
                <a:moveTo>
                  <a:pt x="0" y="2072"/>
                </a:moveTo>
                <a:lnTo>
                  <a:pt x="0" y="2033"/>
                </a:lnTo>
                <a:lnTo>
                  <a:pt x="0" y="2031"/>
                </a:lnTo>
                <a:lnTo>
                  <a:pt x="1" y="2030"/>
                </a:lnTo>
                <a:lnTo>
                  <a:pt x="2" y="2028"/>
                </a:lnTo>
                <a:lnTo>
                  <a:pt x="4" y="2027"/>
                </a:lnTo>
                <a:lnTo>
                  <a:pt x="5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7"/>
                </a:lnTo>
                <a:lnTo>
                  <a:pt x="11" y="2028"/>
                </a:lnTo>
                <a:lnTo>
                  <a:pt x="12" y="2030"/>
                </a:lnTo>
                <a:lnTo>
                  <a:pt x="13" y="2031"/>
                </a:lnTo>
                <a:lnTo>
                  <a:pt x="13" y="2033"/>
                </a:lnTo>
                <a:lnTo>
                  <a:pt x="13" y="2072"/>
                </a:lnTo>
                <a:lnTo>
                  <a:pt x="13" y="2073"/>
                </a:lnTo>
                <a:lnTo>
                  <a:pt x="12" y="2074"/>
                </a:lnTo>
                <a:lnTo>
                  <a:pt x="11" y="2076"/>
                </a:lnTo>
                <a:lnTo>
                  <a:pt x="9" y="2078"/>
                </a:lnTo>
                <a:lnTo>
                  <a:pt x="8" y="2078"/>
                </a:lnTo>
                <a:lnTo>
                  <a:pt x="7" y="2078"/>
                </a:lnTo>
                <a:lnTo>
                  <a:pt x="5" y="2078"/>
                </a:lnTo>
                <a:lnTo>
                  <a:pt x="4" y="2078"/>
                </a:lnTo>
                <a:lnTo>
                  <a:pt x="2" y="2076"/>
                </a:lnTo>
                <a:lnTo>
                  <a:pt x="1" y="2074"/>
                </a:lnTo>
                <a:lnTo>
                  <a:pt x="0" y="2073"/>
                </a:lnTo>
                <a:lnTo>
                  <a:pt x="0" y="2072"/>
                </a:lnTo>
                <a:lnTo>
                  <a:pt x="0" y="2072"/>
                </a:lnTo>
                <a:close/>
                <a:moveTo>
                  <a:pt x="0" y="1980"/>
                </a:moveTo>
                <a:lnTo>
                  <a:pt x="0" y="1940"/>
                </a:lnTo>
                <a:lnTo>
                  <a:pt x="0" y="1939"/>
                </a:lnTo>
                <a:lnTo>
                  <a:pt x="1" y="1938"/>
                </a:lnTo>
                <a:lnTo>
                  <a:pt x="2" y="1936"/>
                </a:lnTo>
                <a:lnTo>
                  <a:pt x="4" y="1934"/>
                </a:lnTo>
                <a:lnTo>
                  <a:pt x="5" y="1934"/>
                </a:lnTo>
                <a:lnTo>
                  <a:pt x="7" y="1934"/>
                </a:lnTo>
                <a:lnTo>
                  <a:pt x="8" y="1934"/>
                </a:lnTo>
                <a:lnTo>
                  <a:pt x="9" y="1934"/>
                </a:lnTo>
                <a:lnTo>
                  <a:pt x="11" y="1936"/>
                </a:lnTo>
                <a:lnTo>
                  <a:pt x="12" y="1938"/>
                </a:lnTo>
                <a:lnTo>
                  <a:pt x="13" y="1939"/>
                </a:lnTo>
                <a:lnTo>
                  <a:pt x="13" y="1940"/>
                </a:lnTo>
                <a:lnTo>
                  <a:pt x="13" y="1980"/>
                </a:lnTo>
                <a:lnTo>
                  <a:pt x="13" y="1981"/>
                </a:lnTo>
                <a:lnTo>
                  <a:pt x="12" y="1982"/>
                </a:lnTo>
                <a:lnTo>
                  <a:pt x="11" y="1985"/>
                </a:lnTo>
                <a:lnTo>
                  <a:pt x="9" y="1986"/>
                </a:lnTo>
                <a:lnTo>
                  <a:pt x="8" y="1987"/>
                </a:lnTo>
                <a:lnTo>
                  <a:pt x="7" y="1987"/>
                </a:lnTo>
                <a:lnTo>
                  <a:pt x="5" y="1987"/>
                </a:lnTo>
                <a:lnTo>
                  <a:pt x="4" y="1986"/>
                </a:lnTo>
                <a:lnTo>
                  <a:pt x="2" y="1985"/>
                </a:lnTo>
                <a:lnTo>
                  <a:pt x="1" y="1982"/>
                </a:lnTo>
                <a:lnTo>
                  <a:pt x="0" y="1981"/>
                </a:lnTo>
                <a:lnTo>
                  <a:pt x="0" y="1980"/>
                </a:lnTo>
                <a:lnTo>
                  <a:pt x="0" y="1980"/>
                </a:lnTo>
                <a:close/>
                <a:moveTo>
                  <a:pt x="0" y="1888"/>
                </a:moveTo>
                <a:lnTo>
                  <a:pt x="0" y="1849"/>
                </a:lnTo>
                <a:lnTo>
                  <a:pt x="0" y="1847"/>
                </a:lnTo>
                <a:lnTo>
                  <a:pt x="1" y="1846"/>
                </a:lnTo>
                <a:lnTo>
                  <a:pt x="2" y="1844"/>
                </a:lnTo>
                <a:lnTo>
                  <a:pt x="4" y="1843"/>
                </a:lnTo>
                <a:lnTo>
                  <a:pt x="5" y="1841"/>
                </a:lnTo>
                <a:lnTo>
                  <a:pt x="7" y="1841"/>
                </a:lnTo>
                <a:lnTo>
                  <a:pt x="8" y="1841"/>
                </a:lnTo>
                <a:lnTo>
                  <a:pt x="9" y="1843"/>
                </a:lnTo>
                <a:lnTo>
                  <a:pt x="11" y="1844"/>
                </a:lnTo>
                <a:lnTo>
                  <a:pt x="12" y="1846"/>
                </a:lnTo>
                <a:lnTo>
                  <a:pt x="13" y="1847"/>
                </a:lnTo>
                <a:lnTo>
                  <a:pt x="13" y="1849"/>
                </a:lnTo>
                <a:lnTo>
                  <a:pt x="13" y="1888"/>
                </a:lnTo>
                <a:lnTo>
                  <a:pt x="13" y="1889"/>
                </a:lnTo>
                <a:lnTo>
                  <a:pt x="12" y="1890"/>
                </a:lnTo>
                <a:lnTo>
                  <a:pt x="11" y="1892"/>
                </a:lnTo>
                <a:lnTo>
                  <a:pt x="9" y="1894"/>
                </a:lnTo>
                <a:lnTo>
                  <a:pt x="8" y="1894"/>
                </a:lnTo>
                <a:lnTo>
                  <a:pt x="7" y="1894"/>
                </a:lnTo>
                <a:lnTo>
                  <a:pt x="5" y="1894"/>
                </a:lnTo>
                <a:lnTo>
                  <a:pt x="4" y="1894"/>
                </a:lnTo>
                <a:lnTo>
                  <a:pt x="2" y="1892"/>
                </a:lnTo>
                <a:lnTo>
                  <a:pt x="1" y="1890"/>
                </a:lnTo>
                <a:lnTo>
                  <a:pt x="0" y="1889"/>
                </a:lnTo>
                <a:lnTo>
                  <a:pt x="0" y="1888"/>
                </a:lnTo>
                <a:lnTo>
                  <a:pt x="0" y="1888"/>
                </a:lnTo>
                <a:close/>
                <a:moveTo>
                  <a:pt x="0" y="1796"/>
                </a:moveTo>
                <a:lnTo>
                  <a:pt x="0" y="1756"/>
                </a:lnTo>
                <a:lnTo>
                  <a:pt x="0" y="1755"/>
                </a:lnTo>
                <a:lnTo>
                  <a:pt x="1" y="1754"/>
                </a:lnTo>
                <a:lnTo>
                  <a:pt x="2" y="1752"/>
                </a:lnTo>
                <a:lnTo>
                  <a:pt x="4" y="1750"/>
                </a:lnTo>
                <a:lnTo>
                  <a:pt x="5" y="1750"/>
                </a:lnTo>
                <a:lnTo>
                  <a:pt x="7" y="1750"/>
                </a:lnTo>
                <a:lnTo>
                  <a:pt x="8" y="1750"/>
                </a:lnTo>
                <a:lnTo>
                  <a:pt x="9" y="1750"/>
                </a:lnTo>
                <a:lnTo>
                  <a:pt x="11" y="1752"/>
                </a:lnTo>
                <a:lnTo>
                  <a:pt x="12" y="1754"/>
                </a:lnTo>
                <a:lnTo>
                  <a:pt x="13" y="1755"/>
                </a:lnTo>
                <a:lnTo>
                  <a:pt x="13" y="1756"/>
                </a:lnTo>
                <a:lnTo>
                  <a:pt x="13" y="1796"/>
                </a:lnTo>
                <a:lnTo>
                  <a:pt x="13" y="1797"/>
                </a:lnTo>
                <a:lnTo>
                  <a:pt x="12" y="1798"/>
                </a:lnTo>
                <a:lnTo>
                  <a:pt x="11" y="1800"/>
                </a:lnTo>
                <a:lnTo>
                  <a:pt x="9" y="1801"/>
                </a:lnTo>
                <a:lnTo>
                  <a:pt x="8" y="1803"/>
                </a:lnTo>
                <a:lnTo>
                  <a:pt x="7" y="1803"/>
                </a:lnTo>
                <a:lnTo>
                  <a:pt x="5" y="1803"/>
                </a:lnTo>
                <a:lnTo>
                  <a:pt x="4" y="1801"/>
                </a:lnTo>
                <a:lnTo>
                  <a:pt x="2" y="1800"/>
                </a:lnTo>
                <a:lnTo>
                  <a:pt x="1" y="1798"/>
                </a:lnTo>
                <a:lnTo>
                  <a:pt x="0" y="1797"/>
                </a:lnTo>
                <a:lnTo>
                  <a:pt x="0" y="1796"/>
                </a:lnTo>
                <a:lnTo>
                  <a:pt x="0" y="1796"/>
                </a:lnTo>
                <a:close/>
                <a:moveTo>
                  <a:pt x="0" y="1704"/>
                </a:moveTo>
                <a:lnTo>
                  <a:pt x="0" y="1665"/>
                </a:lnTo>
                <a:lnTo>
                  <a:pt x="0" y="1663"/>
                </a:lnTo>
                <a:lnTo>
                  <a:pt x="1" y="1662"/>
                </a:lnTo>
                <a:lnTo>
                  <a:pt x="2" y="1659"/>
                </a:lnTo>
                <a:lnTo>
                  <a:pt x="4" y="1658"/>
                </a:lnTo>
                <a:lnTo>
                  <a:pt x="5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8"/>
                </a:lnTo>
                <a:lnTo>
                  <a:pt x="11" y="1659"/>
                </a:lnTo>
                <a:lnTo>
                  <a:pt x="12" y="1662"/>
                </a:lnTo>
                <a:lnTo>
                  <a:pt x="13" y="1663"/>
                </a:lnTo>
                <a:lnTo>
                  <a:pt x="13" y="1665"/>
                </a:lnTo>
                <a:lnTo>
                  <a:pt x="13" y="1704"/>
                </a:lnTo>
                <a:lnTo>
                  <a:pt x="13" y="1705"/>
                </a:lnTo>
                <a:lnTo>
                  <a:pt x="12" y="1706"/>
                </a:lnTo>
                <a:lnTo>
                  <a:pt x="11" y="1708"/>
                </a:lnTo>
                <a:lnTo>
                  <a:pt x="9" y="1710"/>
                </a:lnTo>
                <a:lnTo>
                  <a:pt x="8" y="1710"/>
                </a:lnTo>
                <a:lnTo>
                  <a:pt x="7" y="1710"/>
                </a:lnTo>
                <a:lnTo>
                  <a:pt x="5" y="1710"/>
                </a:lnTo>
                <a:lnTo>
                  <a:pt x="4" y="1710"/>
                </a:lnTo>
                <a:lnTo>
                  <a:pt x="2" y="1708"/>
                </a:lnTo>
                <a:lnTo>
                  <a:pt x="1" y="1706"/>
                </a:lnTo>
                <a:lnTo>
                  <a:pt x="0" y="1705"/>
                </a:lnTo>
                <a:lnTo>
                  <a:pt x="0" y="1704"/>
                </a:lnTo>
                <a:lnTo>
                  <a:pt x="0" y="1704"/>
                </a:lnTo>
                <a:close/>
                <a:moveTo>
                  <a:pt x="0" y="1612"/>
                </a:moveTo>
                <a:lnTo>
                  <a:pt x="0" y="1572"/>
                </a:lnTo>
                <a:lnTo>
                  <a:pt x="0" y="1571"/>
                </a:lnTo>
                <a:lnTo>
                  <a:pt x="1" y="1570"/>
                </a:lnTo>
                <a:lnTo>
                  <a:pt x="2" y="1568"/>
                </a:lnTo>
                <a:lnTo>
                  <a:pt x="4" y="1566"/>
                </a:lnTo>
                <a:lnTo>
                  <a:pt x="5" y="1566"/>
                </a:lnTo>
                <a:lnTo>
                  <a:pt x="7" y="1566"/>
                </a:lnTo>
                <a:lnTo>
                  <a:pt x="8" y="1566"/>
                </a:lnTo>
                <a:lnTo>
                  <a:pt x="9" y="1566"/>
                </a:lnTo>
                <a:lnTo>
                  <a:pt x="11" y="1568"/>
                </a:lnTo>
                <a:lnTo>
                  <a:pt x="12" y="1570"/>
                </a:lnTo>
                <a:lnTo>
                  <a:pt x="13" y="1571"/>
                </a:lnTo>
                <a:lnTo>
                  <a:pt x="13" y="1572"/>
                </a:lnTo>
                <a:lnTo>
                  <a:pt x="13" y="1612"/>
                </a:lnTo>
                <a:lnTo>
                  <a:pt x="13" y="1613"/>
                </a:lnTo>
                <a:lnTo>
                  <a:pt x="12" y="1614"/>
                </a:lnTo>
                <a:lnTo>
                  <a:pt x="11" y="1616"/>
                </a:lnTo>
                <a:lnTo>
                  <a:pt x="9" y="1617"/>
                </a:lnTo>
                <a:lnTo>
                  <a:pt x="8" y="1618"/>
                </a:lnTo>
                <a:lnTo>
                  <a:pt x="7" y="1618"/>
                </a:lnTo>
                <a:lnTo>
                  <a:pt x="5" y="1618"/>
                </a:lnTo>
                <a:lnTo>
                  <a:pt x="4" y="1617"/>
                </a:lnTo>
                <a:lnTo>
                  <a:pt x="2" y="1616"/>
                </a:lnTo>
                <a:lnTo>
                  <a:pt x="1" y="1614"/>
                </a:lnTo>
                <a:lnTo>
                  <a:pt x="0" y="1613"/>
                </a:lnTo>
                <a:lnTo>
                  <a:pt x="0" y="1612"/>
                </a:lnTo>
                <a:lnTo>
                  <a:pt x="0" y="1612"/>
                </a:lnTo>
                <a:close/>
                <a:moveTo>
                  <a:pt x="0" y="1520"/>
                </a:moveTo>
                <a:lnTo>
                  <a:pt x="0" y="1481"/>
                </a:lnTo>
                <a:lnTo>
                  <a:pt x="0" y="1478"/>
                </a:lnTo>
                <a:lnTo>
                  <a:pt x="1" y="1477"/>
                </a:lnTo>
                <a:lnTo>
                  <a:pt x="2" y="1475"/>
                </a:lnTo>
                <a:lnTo>
                  <a:pt x="4" y="1474"/>
                </a:lnTo>
                <a:lnTo>
                  <a:pt x="5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4"/>
                </a:lnTo>
                <a:lnTo>
                  <a:pt x="11" y="1475"/>
                </a:lnTo>
                <a:lnTo>
                  <a:pt x="12" y="1477"/>
                </a:lnTo>
                <a:lnTo>
                  <a:pt x="13" y="1478"/>
                </a:lnTo>
                <a:lnTo>
                  <a:pt x="13" y="1481"/>
                </a:lnTo>
                <a:lnTo>
                  <a:pt x="13" y="1520"/>
                </a:lnTo>
                <a:lnTo>
                  <a:pt x="13" y="1521"/>
                </a:lnTo>
                <a:lnTo>
                  <a:pt x="12" y="1522"/>
                </a:lnTo>
                <a:lnTo>
                  <a:pt x="11" y="1524"/>
                </a:lnTo>
                <a:lnTo>
                  <a:pt x="9" y="1526"/>
                </a:lnTo>
                <a:lnTo>
                  <a:pt x="8" y="1526"/>
                </a:lnTo>
                <a:lnTo>
                  <a:pt x="7" y="1526"/>
                </a:lnTo>
                <a:lnTo>
                  <a:pt x="5" y="1526"/>
                </a:lnTo>
                <a:lnTo>
                  <a:pt x="4" y="1526"/>
                </a:lnTo>
                <a:lnTo>
                  <a:pt x="2" y="1524"/>
                </a:lnTo>
                <a:lnTo>
                  <a:pt x="1" y="1522"/>
                </a:lnTo>
                <a:lnTo>
                  <a:pt x="0" y="1521"/>
                </a:lnTo>
                <a:lnTo>
                  <a:pt x="0" y="1520"/>
                </a:lnTo>
                <a:lnTo>
                  <a:pt x="0" y="1520"/>
                </a:lnTo>
                <a:close/>
                <a:moveTo>
                  <a:pt x="0" y="1428"/>
                </a:moveTo>
                <a:lnTo>
                  <a:pt x="0" y="1388"/>
                </a:lnTo>
                <a:lnTo>
                  <a:pt x="0" y="1387"/>
                </a:lnTo>
                <a:lnTo>
                  <a:pt x="1" y="1386"/>
                </a:lnTo>
                <a:lnTo>
                  <a:pt x="2" y="1384"/>
                </a:lnTo>
                <a:lnTo>
                  <a:pt x="4" y="1382"/>
                </a:lnTo>
                <a:lnTo>
                  <a:pt x="5" y="1382"/>
                </a:lnTo>
                <a:lnTo>
                  <a:pt x="7" y="1382"/>
                </a:lnTo>
                <a:lnTo>
                  <a:pt x="8" y="1382"/>
                </a:lnTo>
                <a:lnTo>
                  <a:pt x="9" y="1382"/>
                </a:lnTo>
                <a:lnTo>
                  <a:pt x="11" y="1384"/>
                </a:lnTo>
                <a:lnTo>
                  <a:pt x="12" y="1386"/>
                </a:lnTo>
                <a:lnTo>
                  <a:pt x="13" y="1387"/>
                </a:lnTo>
                <a:lnTo>
                  <a:pt x="13" y="1388"/>
                </a:lnTo>
                <a:lnTo>
                  <a:pt x="13" y="1428"/>
                </a:lnTo>
                <a:lnTo>
                  <a:pt x="13" y="1429"/>
                </a:lnTo>
                <a:lnTo>
                  <a:pt x="12" y="1430"/>
                </a:lnTo>
                <a:lnTo>
                  <a:pt x="11" y="1432"/>
                </a:lnTo>
                <a:lnTo>
                  <a:pt x="9" y="1433"/>
                </a:lnTo>
                <a:lnTo>
                  <a:pt x="8" y="1434"/>
                </a:lnTo>
                <a:lnTo>
                  <a:pt x="7" y="1434"/>
                </a:lnTo>
                <a:lnTo>
                  <a:pt x="5" y="1434"/>
                </a:lnTo>
                <a:lnTo>
                  <a:pt x="4" y="1433"/>
                </a:lnTo>
                <a:lnTo>
                  <a:pt x="2" y="1432"/>
                </a:lnTo>
                <a:lnTo>
                  <a:pt x="1" y="1430"/>
                </a:lnTo>
                <a:lnTo>
                  <a:pt x="0" y="1429"/>
                </a:lnTo>
                <a:lnTo>
                  <a:pt x="0" y="1428"/>
                </a:lnTo>
                <a:lnTo>
                  <a:pt x="0" y="1428"/>
                </a:lnTo>
                <a:close/>
                <a:moveTo>
                  <a:pt x="0" y="1335"/>
                </a:moveTo>
                <a:lnTo>
                  <a:pt x="0" y="1296"/>
                </a:lnTo>
                <a:lnTo>
                  <a:pt x="0" y="1294"/>
                </a:lnTo>
                <a:lnTo>
                  <a:pt x="1" y="1293"/>
                </a:lnTo>
                <a:lnTo>
                  <a:pt x="2" y="1291"/>
                </a:lnTo>
                <a:lnTo>
                  <a:pt x="4" y="1290"/>
                </a:lnTo>
                <a:lnTo>
                  <a:pt x="5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90"/>
                </a:lnTo>
                <a:lnTo>
                  <a:pt x="11" y="1291"/>
                </a:lnTo>
                <a:lnTo>
                  <a:pt x="12" y="1293"/>
                </a:lnTo>
                <a:lnTo>
                  <a:pt x="13" y="1294"/>
                </a:lnTo>
                <a:lnTo>
                  <a:pt x="13" y="1296"/>
                </a:lnTo>
                <a:lnTo>
                  <a:pt x="13" y="1335"/>
                </a:lnTo>
                <a:lnTo>
                  <a:pt x="13" y="1336"/>
                </a:lnTo>
                <a:lnTo>
                  <a:pt x="12" y="1337"/>
                </a:lnTo>
                <a:lnTo>
                  <a:pt x="11" y="1340"/>
                </a:lnTo>
                <a:lnTo>
                  <a:pt x="9" y="1342"/>
                </a:lnTo>
                <a:lnTo>
                  <a:pt x="8" y="1342"/>
                </a:lnTo>
                <a:lnTo>
                  <a:pt x="7" y="1342"/>
                </a:lnTo>
                <a:lnTo>
                  <a:pt x="5" y="1342"/>
                </a:lnTo>
                <a:lnTo>
                  <a:pt x="4" y="1342"/>
                </a:lnTo>
                <a:lnTo>
                  <a:pt x="2" y="1340"/>
                </a:lnTo>
                <a:lnTo>
                  <a:pt x="1" y="1337"/>
                </a:lnTo>
                <a:lnTo>
                  <a:pt x="0" y="1336"/>
                </a:lnTo>
                <a:lnTo>
                  <a:pt x="0" y="1335"/>
                </a:lnTo>
                <a:lnTo>
                  <a:pt x="0" y="1335"/>
                </a:lnTo>
                <a:close/>
                <a:moveTo>
                  <a:pt x="0" y="1244"/>
                </a:moveTo>
                <a:lnTo>
                  <a:pt x="0" y="1204"/>
                </a:lnTo>
                <a:lnTo>
                  <a:pt x="0" y="1203"/>
                </a:lnTo>
                <a:lnTo>
                  <a:pt x="1" y="1202"/>
                </a:lnTo>
                <a:lnTo>
                  <a:pt x="2" y="1200"/>
                </a:lnTo>
                <a:lnTo>
                  <a:pt x="4" y="1198"/>
                </a:lnTo>
                <a:lnTo>
                  <a:pt x="5" y="1198"/>
                </a:lnTo>
                <a:lnTo>
                  <a:pt x="7" y="1198"/>
                </a:lnTo>
                <a:lnTo>
                  <a:pt x="8" y="1198"/>
                </a:lnTo>
                <a:lnTo>
                  <a:pt x="9" y="1198"/>
                </a:lnTo>
                <a:lnTo>
                  <a:pt x="11" y="1200"/>
                </a:lnTo>
                <a:lnTo>
                  <a:pt x="12" y="1202"/>
                </a:lnTo>
                <a:lnTo>
                  <a:pt x="13" y="1203"/>
                </a:lnTo>
                <a:lnTo>
                  <a:pt x="13" y="1204"/>
                </a:lnTo>
                <a:lnTo>
                  <a:pt x="13" y="1244"/>
                </a:lnTo>
                <a:lnTo>
                  <a:pt x="13" y="1245"/>
                </a:lnTo>
                <a:lnTo>
                  <a:pt x="12" y="1246"/>
                </a:lnTo>
                <a:lnTo>
                  <a:pt x="11" y="1248"/>
                </a:lnTo>
                <a:lnTo>
                  <a:pt x="9" y="1249"/>
                </a:lnTo>
                <a:lnTo>
                  <a:pt x="8" y="1250"/>
                </a:lnTo>
                <a:lnTo>
                  <a:pt x="7" y="1250"/>
                </a:lnTo>
                <a:lnTo>
                  <a:pt x="5" y="1250"/>
                </a:lnTo>
                <a:lnTo>
                  <a:pt x="4" y="1249"/>
                </a:lnTo>
                <a:lnTo>
                  <a:pt x="2" y="1248"/>
                </a:lnTo>
                <a:lnTo>
                  <a:pt x="1" y="1246"/>
                </a:lnTo>
                <a:lnTo>
                  <a:pt x="0" y="1245"/>
                </a:lnTo>
                <a:lnTo>
                  <a:pt x="0" y="1244"/>
                </a:lnTo>
                <a:lnTo>
                  <a:pt x="0" y="1244"/>
                </a:lnTo>
                <a:close/>
                <a:moveTo>
                  <a:pt x="0" y="1151"/>
                </a:moveTo>
                <a:lnTo>
                  <a:pt x="0" y="1112"/>
                </a:lnTo>
                <a:lnTo>
                  <a:pt x="0" y="1110"/>
                </a:lnTo>
                <a:lnTo>
                  <a:pt x="1" y="1109"/>
                </a:lnTo>
                <a:lnTo>
                  <a:pt x="2" y="1107"/>
                </a:lnTo>
                <a:lnTo>
                  <a:pt x="4" y="1106"/>
                </a:lnTo>
                <a:lnTo>
                  <a:pt x="5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6"/>
                </a:lnTo>
                <a:lnTo>
                  <a:pt x="11" y="1107"/>
                </a:lnTo>
                <a:lnTo>
                  <a:pt x="12" y="1109"/>
                </a:lnTo>
                <a:lnTo>
                  <a:pt x="13" y="1110"/>
                </a:lnTo>
                <a:lnTo>
                  <a:pt x="13" y="1112"/>
                </a:lnTo>
                <a:lnTo>
                  <a:pt x="13" y="1151"/>
                </a:lnTo>
                <a:lnTo>
                  <a:pt x="13" y="1152"/>
                </a:lnTo>
                <a:lnTo>
                  <a:pt x="12" y="1153"/>
                </a:lnTo>
                <a:lnTo>
                  <a:pt x="11" y="1155"/>
                </a:lnTo>
                <a:lnTo>
                  <a:pt x="9" y="1158"/>
                </a:lnTo>
                <a:lnTo>
                  <a:pt x="8" y="1158"/>
                </a:lnTo>
                <a:lnTo>
                  <a:pt x="7" y="1158"/>
                </a:lnTo>
                <a:lnTo>
                  <a:pt x="5" y="1158"/>
                </a:lnTo>
                <a:lnTo>
                  <a:pt x="4" y="1158"/>
                </a:lnTo>
                <a:lnTo>
                  <a:pt x="2" y="1155"/>
                </a:lnTo>
                <a:lnTo>
                  <a:pt x="1" y="1153"/>
                </a:lnTo>
                <a:lnTo>
                  <a:pt x="0" y="1152"/>
                </a:lnTo>
                <a:lnTo>
                  <a:pt x="0" y="1151"/>
                </a:lnTo>
                <a:lnTo>
                  <a:pt x="0" y="1151"/>
                </a:lnTo>
                <a:close/>
                <a:moveTo>
                  <a:pt x="0" y="1060"/>
                </a:moveTo>
                <a:lnTo>
                  <a:pt x="0" y="1020"/>
                </a:lnTo>
                <a:lnTo>
                  <a:pt x="0" y="1019"/>
                </a:lnTo>
                <a:lnTo>
                  <a:pt x="1" y="1018"/>
                </a:lnTo>
                <a:lnTo>
                  <a:pt x="2" y="1016"/>
                </a:lnTo>
                <a:lnTo>
                  <a:pt x="4" y="1013"/>
                </a:lnTo>
                <a:lnTo>
                  <a:pt x="5" y="1013"/>
                </a:lnTo>
                <a:lnTo>
                  <a:pt x="7" y="1013"/>
                </a:lnTo>
                <a:lnTo>
                  <a:pt x="8" y="1013"/>
                </a:lnTo>
                <a:lnTo>
                  <a:pt x="9" y="1013"/>
                </a:lnTo>
                <a:lnTo>
                  <a:pt x="11" y="1016"/>
                </a:lnTo>
                <a:lnTo>
                  <a:pt x="12" y="1018"/>
                </a:lnTo>
                <a:lnTo>
                  <a:pt x="13" y="1019"/>
                </a:lnTo>
                <a:lnTo>
                  <a:pt x="13" y="1020"/>
                </a:lnTo>
                <a:lnTo>
                  <a:pt x="13" y="1060"/>
                </a:lnTo>
                <a:lnTo>
                  <a:pt x="13" y="1061"/>
                </a:lnTo>
                <a:lnTo>
                  <a:pt x="12" y="1062"/>
                </a:lnTo>
                <a:lnTo>
                  <a:pt x="11" y="1064"/>
                </a:lnTo>
                <a:lnTo>
                  <a:pt x="9" y="1065"/>
                </a:lnTo>
                <a:lnTo>
                  <a:pt x="8" y="1066"/>
                </a:lnTo>
                <a:lnTo>
                  <a:pt x="7" y="1066"/>
                </a:lnTo>
                <a:lnTo>
                  <a:pt x="5" y="1066"/>
                </a:lnTo>
                <a:lnTo>
                  <a:pt x="4" y="1065"/>
                </a:lnTo>
                <a:lnTo>
                  <a:pt x="2" y="1064"/>
                </a:lnTo>
                <a:lnTo>
                  <a:pt x="1" y="1062"/>
                </a:lnTo>
                <a:lnTo>
                  <a:pt x="0" y="1061"/>
                </a:lnTo>
                <a:lnTo>
                  <a:pt x="0" y="1060"/>
                </a:lnTo>
                <a:lnTo>
                  <a:pt x="0" y="1060"/>
                </a:lnTo>
                <a:close/>
                <a:moveTo>
                  <a:pt x="0" y="967"/>
                </a:moveTo>
                <a:lnTo>
                  <a:pt x="0" y="928"/>
                </a:lnTo>
                <a:lnTo>
                  <a:pt x="0" y="926"/>
                </a:lnTo>
                <a:lnTo>
                  <a:pt x="1" y="925"/>
                </a:lnTo>
                <a:lnTo>
                  <a:pt x="2" y="923"/>
                </a:lnTo>
                <a:lnTo>
                  <a:pt x="4" y="922"/>
                </a:lnTo>
                <a:lnTo>
                  <a:pt x="5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2"/>
                </a:lnTo>
                <a:lnTo>
                  <a:pt x="11" y="923"/>
                </a:lnTo>
                <a:lnTo>
                  <a:pt x="12" y="925"/>
                </a:lnTo>
                <a:lnTo>
                  <a:pt x="13" y="926"/>
                </a:lnTo>
                <a:lnTo>
                  <a:pt x="13" y="928"/>
                </a:lnTo>
                <a:lnTo>
                  <a:pt x="13" y="967"/>
                </a:lnTo>
                <a:lnTo>
                  <a:pt x="13" y="968"/>
                </a:lnTo>
                <a:lnTo>
                  <a:pt x="12" y="969"/>
                </a:lnTo>
                <a:lnTo>
                  <a:pt x="11" y="971"/>
                </a:lnTo>
                <a:lnTo>
                  <a:pt x="9" y="973"/>
                </a:lnTo>
                <a:lnTo>
                  <a:pt x="8" y="973"/>
                </a:lnTo>
                <a:lnTo>
                  <a:pt x="7" y="973"/>
                </a:lnTo>
                <a:lnTo>
                  <a:pt x="5" y="973"/>
                </a:lnTo>
                <a:lnTo>
                  <a:pt x="4" y="973"/>
                </a:lnTo>
                <a:lnTo>
                  <a:pt x="2" y="971"/>
                </a:lnTo>
                <a:lnTo>
                  <a:pt x="1" y="969"/>
                </a:lnTo>
                <a:lnTo>
                  <a:pt x="0" y="968"/>
                </a:lnTo>
                <a:lnTo>
                  <a:pt x="0" y="967"/>
                </a:lnTo>
                <a:lnTo>
                  <a:pt x="0" y="967"/>
                </a:lnTo>
                <a:close/>
                <a:moveTo>
                  <a:pt x="0" y="876"/>
                </a:moveTo>
                <a:lnTo>
                  <a:pt x="0" y="836"/>
                </a:lnTo>
                <a:lnTo>
                  <a:pt x="0" y="835"/>
                </a:lnTo>
                <a:lnTo>
                  <a:pt x="1" y="833"/>
                </a:lnTo>
                <a:lnTo>
                  <a:pt x="2" y="831"/>
                </a:lnTo>
                <a:lnTo>
                  <a:pt x="4" y="829"/>
                </a:lnTo>
                <a:lnTo>
                  <a:pt x="5" y="829"/>
                </a:lnTo>
                <a:lnTo>
                  <a:pt x="7" y="829"/>
                </a:lnTo>
                <a:lnTo>
                  <a:pt x="8" y="829"/>
                </a:lnTo>
                <a:lnTo>
                  <a:pt x="9" y="829"/>
                </a:lnTo>
                <a:lnTo>
                  <a:pt x="11" y="831"/>
                </a:lnTo>
                <a:lnTo>
                  <a:pt x="12" y="833"/>
                </a:lnTo>
                <a:lnTo>
                  <a:pt x="13" y="835"/>
                </a:lnTo>
                <a:lnTo>
                  <a:pt x="13" y="836"/>
                </a:lnTo>
                <a:lnTo>
                  <a:pt x="13" y="876"/>
                </a:lnTo>
                <a:lnTo>
                  <a:pt x="13" y="877"/>
                </a:lnTo>
                <a:lnTo>
                  <a:pt x="12" y="878"/>
                </a:lnTo>
                <a:lnTo>
                  <a:pt x="11" y="880"/>
                </a:lnTo>
                <a:lnTo>
                  <a:pt x="9" y="881"/>
                </a:lnTo>
                <a:lnTo>
                  <a:pt x="8" y="882"/>
                </a:lnTo>
                <a:lnTo>
                  <a:pt x="7" y="882"/>
                </a:lnTo>
                <a:lnTo>
                  <a:pt x="5" y="882"/>
                </a:lnTo>
                <a:lnTo>
                  <a:pt x="4" y="881"/>
                </a:lnTo>
                <a:lnTo>
                  <a:pt x="2" y="880"/>
                </a:lnTo>
                <a:lnTo>
                  <a:pt x="1" y="878"/>
                </a:lnTo>
                <a:lnTo>
                  <a:pt x="0" y="877"/>
                </a:lnTo>
                <a:lnTo>
                  <a:pt x="0" y="876"/>
                </a:lnTo>
                <a:lnTo>
                  <a:pt x="0" y="876"/>
                </a:lnTo>
                <a:close/>
                <a:moveTo>
                  <a:pt x="0" y="783"/>
                </a:moveTo>
                <a:lnTo>
                  <a:pt x="0" y="744"/>
                </a:lnTo>
                <a:lnTo>
                  <a:pt x="0" y="742"/>
                </a:lnTo>
                <a:lnTo>
                  <a:pt x="1" y="741"/>
                </a:lnTo>
                <a:lnTo>
                  <a:pt x="2" y="739"/>
                </a:lnTo>
                <a:lnTo>
                  <a:pt x="4" y="738"/>
                </a:lnTo>
                <a:lnTo>
                  <a:pt x="5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8"/>
                </a:lnTo>
                <a:lnTo>
                  <a:pt x="11" y="739"/>
                </a:lnTo>
                <a:lnTo>
                  <a:pt x="12" y="741"/>
                </a:lnTo>
                <a:lnTo>
                  <a:pt x="13" y="742"/>
                </a:lnTo>
                <a:lnTo>
                  <a:pt x="13" y="744"/>
                </a:lnTo>
                <a:lnTo>
                  <a:pt x="13" y="783"/>
                </a:lnTo>
                <a:lnTo>
                  <a:pt x="13" y="784"/>
                </a:lnTo>
                <a:lnTo>
                  <a:pt x="12" y="785"/>
                </a:lnTo>
                <a:lnTo>
                  <a:pt x="11" y="787"/>
                </a:lnTo>
                <a:lnTo>
                  <a:pt x="9" y="789"/>
                </a:lnTo>
                <a:lnTo>
                  <a:pt x="8" y="789"/>
                </a:lnTo>
                <a:lnTo>
                  <a:pt x="7" y="789"/>
                </a:lnTo>
                <a:lnTo>
                  <a:pt x="5" y="789"/>
                </a:lnTo>
                <a:lnTo>
                  <a:pt x="4" y="789"/>
                </a:lnTo>
                <a:lnTo>
                  <a:pt x="2" y="787"/>
                </a:lnTo>
                <a:lnTo>
                  <a:pt x="1" y="785"/>
                </a:lnTo>
                <a:lnTo>
                  <a:pt x="0" y="784"/>
                </a:lnTo>
                <a:lnTo>
                  <a:pt x="0" y="783"/>
                </a:lnTo>
                <a:lnTo>
                  <a:pt x="0" y="783"/>
                </a:lnTo>
                <a:close/>
                <a:moveTo>
                  <a:pt x="0" y="691"/>
                </a:moveTo>
                <a:lnTo>
                  <a:pt x="0" y="651"/>
                </a:lnTo>
                <a:lnTo>
                  <a:pt x="0" y="650"/>
                </a:lnTo>
                <a:lnTo>
                  <a:pt x="1" y="649"/>
                </a:lnTo>
                <a:lnTo>
                  <a:pt x="2" y="647"/>
                </a:lnTo>
                <a:lnTo>
                  <a:pt x="4" y="645"/>
                </a:lnTo>
                <a:lnTo>
                  <a:pt x="5" y="645"/>
                </a:lnTo>
                <a:lnTo>
                  <a:pt x="7" y="645"/>
                </a:lnTo>
                <a:lnTo>
                  <a:pt x="8" y="645"/>
                </a:lnTo>
                <a:lnTo>
                  <a:pt x="9" y="645"/>
                </a:lnTo>
                <a:lnTo>
                  <a:pt x="11" y="647"/>
                </a:lnTo>
                <a:lnTo>
                  <a:pt x="12" y="649"/>
                </a:lnTo>
                <a:lnTo>
                  <a:pt x="13" y="650"/>
                </a:lnTo>
                <a:lnTo>
                  <a:pt x="13" y="651"/>
                </a:lnTo>
                <a:lnTo>
                  <a:pt x="13" y="691"/>
                </a:lnTo>
                <a:lnTo>
                  <a:pt x="13" y="693"/>
                </a:lnTo>
                <a:lnTo>
                  <a:pt x="12" y="694"/>
                </a:lnTo>
                <a:lnTo>
                  <a:pt x="11" y="696"/>
                </a:lnTo>
                <a:lnTo>
                  <a:pt x="9" y="697"/>
                </a:lnTo>
                <a:lnTo>
                  <a:pt x="8" y="698"/>
                </a:lnTo>
                <a:lnTo>
                  <a:pt x="7" y="698"/>
                </a:lnTo>
                <a:lnTo>
                  <a:pt x="5" y="698"/>
                </a:lnTo>
                <a:lnTo>
                  <a:pt x="4" y="697"/>
                </a:lnTo>
                <a:lnTo>
                  <a:pt x="2" y="696"/>
                </a:lnTo>
                <a:lnTo>
                  <a:pt x="1" y="694"/>
                </a:lnTo>
                <a:lnTo>
                  <a:pt x="0" y="693"/>
                </a:lnTo>
                <a:lnTo>
                  <a:pt x="0" y="691"/>
                </a:lnTo>
                <a:lnTo>
                  <a:pt x="0" y="691"/>
                </a:lnTo>
                <a:close/>
                <a:moveTo>
                  <a:pt x="0" y="599"/>
                </a:moveTo>
                <a:lnTo>
                  <a:pt x="0" y="560"/>
                </a:lnTo>
                <a:lnTo>
                  <a:pt x="0" y="558"/>
                </a:lnTo>
                <a:lnTo>
                  <a:pt x="1" y="557"/>
                </a:lnTo>
                <a:lnTo>
                  <a:pt x="2" y="555"/>
                </a:lnTo>
                <a:lnTo>
                  <a:pt x="4" y="554"/>
                </a:lnTo>
                <a:lnTo>
                  <a:pt x="5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4"/>
                </a:lnTo>
                <a:lnTo>
                  <a:pt x="11" y="555"/>
                </a:lnTo>
                <a:lnTo>
                  <a:pt x="12" y="557"/>
                </a:lnTo>
                <a:lnTo>
                  <a:pt x="13" y="558"/>
                </a:lnTo>
                <a:lnTo>
                  <a:pt x="13" y="560"/>
                </a:lnTo>
                <a:lnTo>
                  <a:pt x="13" y="599"/>
                </a:lnTo>
                <a:lnTo>
                  <a:pt x="13" y="600"/>
                </a:lnTo>
                <a:lnTo>
                  <a:pt x="12" y="601"/>
                </a:lnTo>
                <a:lnTo>
                  <a:pt x="11" y="603"/>
                </a:lnTo>
                <a:lnTo>
                  <a:pt x="9" y="605"/>
                </a:lnTo>
                <a:lnTo>
                  <a:pt x="8" y="605"/>
                </a:lnTo>
                <a:lnTo>
                  <a:pt x="7" y="605"/>
                </a:lnTo>
                <a:lnTo>
                  <a:pt x="5" y="605"/>
                </a:lnTo>
                <a:lnTo>
                  <a:pt x="4" y="605"/>
                </a:lnTo>
                <a:lnTo>
                  <a:pt x="2" y="603"/>
                </a:lnTo>
                <a:lnTo>
                  <a:pt x="1" y="601"/>
                </a:lnTo>
                <a:lnTo>
                  <a:pt x="0" y="600"/>
                </a:lnTo>
                <a:lnTo>
                  <a:pt x="0" y="599"/>
                </a:lnTo>
                <a:lnTo>
                  <a:pt x="0" y="599"/>
                </a:lnTo>
                <a:close/>
                <a:moveTo>
                  <a:pt x="0" y="507"/>
                </a:moveTo>
                <a:lnTo>
                  <a:pt x="0" y="467"/>
                </a:lnTo>
                <a:lnTo>
                  <a:pt x="0" y="466"/>
                </a:lnTo>
                <a:lnTo>
                  <a:pt x="1" y="465"/>
                </a:lnTo>
                <a:lnTo>
                  <a:pt x="2" y="463"/>
                </a:lnTo>
                <a:lnTo>
                  <a:pt x="4" y="461"/>
                </a:lnTo>
                <a:lnTo>
                  <a:pt x="5" y="461"/>
                </a:lnTo>
                <a:lnTo>
                  <a:pt x="7" y="461"/>
                </a:lnTo>
                <a:lnTo>
                  <a:pt x="8" y="461"/>
                </a:lnTo>
                <a:lnTo>
                  <a:pt x="9" y="461"/>
                </a:lnTo>
                <a:lnTo>
                  <a:pt x="11" y="463"/>
                </a:lnTo>
                <a:lnTo>
                  <a:pt x="12" y="465"/>
                </a:lnTo>
                <a:lnTo>
                  <a:pt x="13" y="466"/>
                </a:lnTo>
                <a:lnTo>
                  <a:pt x="13" y="467"/>
                </a:lnTo>
                <a:lnTo>
                  <a:pt x="13" y="507"/>
                </a:lnTo>
                <a:lnTo>
                  <a:pt x="13" y="508"/>
                </a:lnTo>
                <a:lnTo>
                  <a:pt x="12" y="509"/>
                </a:lnTo>
                <a:lnTo>
                  <a:pt x="11" y="512"/>
                </a:lnTo>
                <a:lnTo>
                  <a:pt x="9" y="513"/>
                </a:lnTo>
                <a:lnTo>
                  <a:pt x="8" y="514"/>
                </a:lnTo>
                <a:lnTo>
                  <a:pt x="7" y="514"/>
                </a:lnTo>
                <a:lnTo>
                  <a:pt x="5" y="514"/>
                </a:lnTo>
                <a:lnTo>
                  <a:pt x="4" y="513"/>
                </a:lnTo>
                <a:lnTo>
                  <a:pt x="2" y="512"/>
                </a:lnTo>
                <a:lnTo>
                  <a:pt x="1" y="509"/>
                </a:lnTo>
                <a:lnTo>
                  <a:pt x="0" y="508"/>
                </a:lnTo>
                <a:lnTo>
                  <a:pt x="0" y="507"/>
                </a:lnTo>
                <a:lnTo>
                  <a:pt x="0" y="507"/>
                </a:lnTo>
                <a:close/>
                <a:moveTo>
                  <a:pt x="0" y="415"/>
                </a:moveTo>
                <a:lnTo>
                  <a:pt x="0" y="376"/>
                </a:lnTo>
                <a:lnTo>
                  <a:pt x="0" y="374"/>
                </a:lnTo>
                <a:lnTo>
                  <a:pt x="1" y="373"/>
                </a:lnTo>
                <a:lnTo>
                  <a:pt x="2" y="371"/>
                </a:lnTo>
                <a:lnTo>
                  <a:pt x="4" y="369"/>
                </a:lnTo>
                <a:lnTo>
                  <a:pt x="5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9"/>
                </a:lnTo>
                <a:lnTo>
                  <a:pt x="11" y="371"/>
                </a:lnTo>
                <a:lnTo>
                  <a:pt x="12" y="373"/>
                </a:lnTo>
                <a:lnTo>
                  <a:pt x="13" y="374"/>
                </a:lnTo>
                <a:lnTo>
                  <a:pt x="13" y="376"/>
                </a:lnTo>
                <a:lnTo>
                  <a:pt x="13" y="415"/>
                </a:lnTo>
                <a:lnTo>
                  <a:pt x="13" y="416"/>
                </a:lnTo>
                <a:lnTo>
                  <a:pt x="12" y="417"/>
                </a:lnTo>
                <a:lnTo>
                  <a:pt x="11" y="419"/>
                </a:lnTo>
                <a:lnTo>
                  <a:pt x="9" y="421"/>
                </a:lnTo>
                <a:lnTo>
                  <a:pt x="8" y="421"/>
                </a:lnTo>
                <a:lnTo>
                  <a:pt x="7" y="421"/>
                </a:lnTo>
                <a:lnTo>
                  <a:pt x="5" y="421"/>
                </a:lnTo>
                <a:lnTo>
                  <a:pt x="4" y="421"/>
                </a:lnTo>
                <a:lnTo>
                  <a:pt x="2" y="419"/>
                </a:lnTo>
                <a:lnTo>
                  <a:pt x="1" y="417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close/>
                <a:moveTo>
                  <a:pt x="0" y="323"/>
                </a:moveTo>
                <a:lnTo>
                  <a:pt x="0" y="283"/>
                </a:lnTo>
                <a:lnTo>
                  <a:pt x="0" y="282"/>
                </a:lnTo>
                <a:lnTo>
                  <a:pt x="1" y="281"/>
                </a:lnTo>
                <a:lnTo>
                  <a:pt x="2" y="279"/>
                </a:lnTo>
                <a:lnTo>
                  <a:pt x="4" y="277"/>
                </a:lnTo>
                <a:lnTo>
                  <a:pt x="5" y="277"/>
                </a:lnTo>
                <a:lnTo>
                  <a:pt x="7" y="277"/>
                </a:lnTo>
                <a:lnTo>
                  <a:pt x="8" y="277"/>
                </a:lnTo>
                <a:lnTo>
                  <a:pt x="9" y="277"/>
                </a:lnTo>
                <a:lnTo>
                  <a:pt x="11" y="279"/>
                </a:lnTo>
                <a:lnTo>
                  <a:pt x="12" y="281"/>
                </a:lnTo>
                <a:lnTo>
                  <a:pt x="13" y="282"/>
                </a:lnTo>
                <a:lnTo>
                  <a:pt x="13" y="283"/>
                </a:lnTo>
                <a:lnTo>
                  <a:pt x="13" y="323"/>
                </a:lnTo>
                <a:lnTo>
                  <a:pt x="13" y="324"/>
                </a:lnTo>
                <a:lnTo>
                  <a:pt x="12" y="325"/>
                </a:lnTo>
                <a:lnTo>
                  <a:pt x="11" y="327"/>
                </a:lnTo>
                <a:lnTo>
                  <a:pt x="9" y="328"/>
                </a:lnTo>
                <a:lnTo>
                  <a:pt x="8" y="330"/>
                </a:lnTo>
                <a:lnTo>
                  <a:pt x="7" y="330"/>
                </a:lnTo>
                <a:lnTo>
                  <a:pt x="5" y="330"/>
                </a:lnTo>
                <a:lnTo>
                  <a:pt x="4" y="328"/>
                </a:lnTo>
                <a:lnTo>
                  <a:pt x="2" y="327"/>
                </a:lnTo>
                <a:lnTo>
                  <a:pt x="1" y="325"/>
                </a:lnTo>
                <a:lnTo>
                  <a:pt x="0" y="324"/>
                </a:lnTo>
                <a:lnTo>
                  <a:pt x="0" y="323"/>
                </a:lnTo>
                <a:lnTo>
                  <a:pt x="0" y="323"/>
                </a:lnTo>
                <a:close/>
                <a:moveTo>
                  <a:pt x="0" y="231"/>
                </a:moveTo>
                <a:lnTo>
                  <a:pt x="0" y="192"/>
                </a:lnTo>
                <a:lnTo>
                  <a:pt x="0" y="190"/>
                </a:lnTo>
                <a:lnTo>
                  <a:pt x="1" y="189"/>
                </a:lnTo>
                <a:lnTo>
                  <a:pt x="2" y="186"/>
                </a:lnTo>
                <a:lnTo>
                  <a:pt x="4" y="185"/>
                </a:lnTo>
                <a:lnTo>
                  <a:pt x="5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5"/>
                </a:lnTo>
                <a:lnTo>
                  <a:pt x="11" y="186"/>
                </a:lnTo>
                <a:lnTo>
                  <a:pt x="12" y="189"/>
                </a:lnTo>
                <a:lnTo>
                  <a:pt x="13" y="190"/>
                </a:lnTo>
                <a:lnTo>
                  <a:pt x="13" y="192"/>
                </a:lnTo>
                <a:lnTo>
                  <a:pt x="13" y="231"/>
                </a:lnTo>
                <a:lnTo>
                  <a:pt x="13" y="232"/>
                </a:lnTo>
                <a:lnTo>
                  <a:pt x="12" y="233"/>
                </a:lnTo>
                <a:lnTo>
                  <a:pt x="11" y="235"/>
                </a:lnTo>
                <a:lnTo>
                  <a:pt x="9" y="237"/>
                </a:lnTo>
                <a:lnTo>
                  <a:pt x="8" y="237"/>
                </a:lnTo>
                <a:lnTo>
                  <a:pt x="7" y="237"/>
                </a:lnTo>
                <a:lnTo>
                  <a:pt x="5" y="237"/>
                </a:lnTo>
                <a:lnTo>
                  <a:pt x="4" y="237"/>
                </a:lnTo>
                <a:lnTo>
                  <a:pt x="2" y="235"/>
                </a:lnTo>
                <a:lnTo>
                  <a:pt x="1" y="233"/>
                </a:lnTo>
                <a:lnTo>
                  <a:pt x="0" y="232"/>
                </a:lnTo>
                <a:lnTo>
                  <a:pt x="0" y="231"/>
                </a:lnTo>
                <a:lnTo>
                  <a:pt x="0" y="231"/>
                </a:lnTo>
                <a:close/>
                <a:moveTo>
                  <a:pt x="0" y="139"/>
                </a:moveTo>
                <a:lnTo>
                  <a:pt x="0" y="99"/>
                </a:lnTo>
                <a:lnTo>
                  <a:pt x="0" y="98"/>
                </a:lnTo>
                <a:lnTo>
                  <a:pt x="1" y="97"/>
                </a:lnTo>
                <a:lnTo>
                  <a:pt x="2" y="95"/>
                </a:lnTo>
                <a:lnTo>
                  <a:pt x="4" y="93"/>
                </a:lnTo>
                <a:lnTo>
                  <a:pt x="5" y="93"/>
                </a:lnTo>
                <a:lnTo>
                  <a:pt x="7" y="93"/>
                </a:lnTo>
                <a:lnTo>
                  <a:pt x="8" y="93"/>
                </a:lnTo>
                <a:lnTo>
                  <a:pt x="9" y="93"/>
                </a:lnTo>
                <a:lnTo>
                  <a:pt x="11" y="95"/>
                </a:lnTo>
                <a:lnTo>
                  <a:pt x="12" y="97"/>
                </a:lnTo>
                <a:lnTo>
                  <a:pt x="13" y="98"/>
                </a:lnTo>
                <a:lnTo>
                  <a:pt x="13" y="99"/>
                </a:lnTo>
                <a:lnTo>
                  <a:pt x="13" y="139"/>
                </a:lnTo>
                <a:lnTo>
                  <a:pt x="13" y="140"/>
                </a:lnTo>
                <a:lnTo>
                  <a:pt x="12" y="141"/>
                </a:lnTo>
                <a:lnTo>
                  <a:pt x="11" y="143"/>
                </a:lnTo>
                <a:lnTo>
                  <a:pt x="9" y="144"/>
                </a:lnTo>
                <a:lnTo>
                  <a:pt x="8" y="145"/>
                </a:lnTo>
                <a:lnTo>
                  <a:pt x="7" y="145"/>
                </a:lnTo>
                <a:lnTo>
                  <a:pt x="5" y="145"/>
                </a:lnTo>
                <a:lnTo>
                  <a:pt x="4" y="144"/>
                </a:lnTo>
                <a:lnTo>
                  <a:pt x="2" y="143"/>
                </a:lnTo>
                <a:lnTo>
                  <a:pt x="1" y="141"/>
                </a:lnTo>
                <a:lnTo>
                  <a:pt x="0" y="140"/>
                </a:lnTo>
                <a:lnTo>
                  <a:pt x="0" y="139"/>
                </a:lnTo>
                <a:lnTo>
                  <a:pt x="0" y="139"/>
                </a:lnTo>
                <a:close/>
                <a:moveTo>
                  <a:pt x="0" y="46"/>
                </a:moveTo>
                <a:lnTo>
                  <a:pt x="0" y="8"/>
                </a:lnTo>
                <a:lnTo>
                  <a:pt x="0" y="5"/>
                </a:lnTo>
                <a:lnTo>
                  <a:pt x="1" y="4"/>
                </a:lnTo>
                <a:lnTo>
                  <a:pt x="2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2" y="4"/>
                </a:lnTo>
                <a:lnTo>
                  <a:pt x="13" y="5"/>
                </a:lnTo>
                <a:lnTo>
                  <a:pt x="13" y="8"/>
                </a:lnTo>
                <a:lnTo>
                  <a:pt x="13" y="46"/>
                </a:lnTo>
                <a:lnTo>
                  <a:pt x="13" y="48"/>
                </a:lnTo>
                <a:lnTo>
                  <a:pt x="12" y="49"/>
                </a:lnTo>
                <a:lnTo>
                  <a:pt x="11" y="51"/>
                </a:lnTo>
                <a:lnTo>
                  <a:pt x="9" y="53"/>
                </a:lnTo>
                <a:lnTo>
                  <a:pt x="8" y="53"/>
                </a:lnTo>
                <a:lnTo>
                  <a:pt x="7" y="53"/>
                </a:lnTo>
                <a:lnTo>
                  <a:pt x="5" y="53"/>
                </a:lnTo>
                <a:lnTo>
                  <a:pt x="4" y="53"/>
                </a:lnTo>
                <a:lnTo>
                  <a:pt x="2" y="51"/>
                </a:lnTo>
                <a:lnTo>
                  <a:pt x="1" y="49"/>
                </a:lnTo>
                <a:lnTo>
                  <a:pt x="0" y="48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2924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754680" y="1517760"/>
            <a:ext cx="9720" cy="4206600"/>
          </a:xfrm>
          <a:custGeom>
            <a:avLst/>
            <a:gdLst/>
            <a:ahLst/>
            <a:rect l="l" t="t" r="r" b="b"/>
            <a:pathLst>
              <a:path w="13" h="5300">
                <a:moveTo>
                  <a:pt x="0" y="5294"/>
                </a:moveTo>
                <a:lnTo>
                  <a:pt x="0" y="5254"/>
                </a:lnTo>
                <a:lnTo>
                  <a:pt x="0" y="5253"/>
                </a:lnTo>
                <a:lnTo>
                  <a:pt x="0" y="5252"/>
                </a:lnTo>
                <a:lnTo>
                  <a:pt x="1" y="5250"/>
                </a:lnTo>
                <a:lnTo>
                  <a:pt x="3" y="5248"/>
                </a:lnTo>
                <a:lnTo>
                  <a:pt x="4" y="5247"/>
                </a:lnTo>
                <a:lnTo>
                  <a:pt x="7" y="5247"/>
                </a:lnTo>
                <a:lnTo>
                  <a:pt x="8" y="5247"/>
                </a:lnTo>
                <a:lnTo>
                  <a:pt x="9" y="5248"/>
                </a:lnTo>
                <a:lnTo>
                  <a:pt x="11" y="5250"/>
                </a:lnTo>
                <a:lnTo>
                  <a:pt x="12" y="5252"/>
                </a:lnTo>
                <a:lnTo>
                  <a:pt x="13" y="5253"/>
                </a:lnTo>
                <a:lnTo>
                  <a:pt x="13" y="5254"/>
                </a:lnTo>
                <a:lnTo>
                  <a:pt x="13" y="5294"/>
                </a:lnTo>
                <a:lnTo>
                  <a:pt x="13" y="5295"/>
                </a:lnTo>
                <a:lnTo>
                  <a:pt x="12" y="5296"/>
                </a:lnTo>
                <a:lnTo>
                  <a:pt x="11" y="5298"/>
                </a:lnTo>
                <a:lnTo>
                  <a:pt x="9" y="5299"/>
                </a:lnTo>
                <a:lnTo>
                  <a:pt x="8" y="5300"/>
                </a:lnTo>
                <a:lnTo>
                  <a:pt x="7" y="5300"/>
                </a:lnTo>
                <a:lnTo>
                  <a:pt x="4" y="5300"/>
                </a:lnTo>
                <a:lnTo>
                  <a:pt x="3" y="5299"/>
                </a:lnTo>
                <a:lnTo>
                  <a:pt x="1" y="5298"/>
                </a:lnTo>
                <a:lnTo>
                  <a:pt x="0" y="5296"/>
                </a:lnTo>
                <a:lnTo>
                  <a:pt x="0" y="5295"/>
                </a:lnTo>
                <a:lnTo>
                  <a:pt x="0" y="5294"/>
                </a:lnTo>
                <a:lnTo>
                  <a:pt x="0" y="5294"/>
                </a:lnTo>
                <a:close/>
                <a:moveTo>
                  <a:pt x="0" y="5201"/>
                </a:moveTo>
                <a:lnTo>
                  <a:pt x="0" y="5162"/>
                </a:lnTo>
                <a:lnTo>
                  <a:pt x="0" y="5160"/>
                </a:lnTo>
                <a:lnTo>
                  <a:pt x="0" y="5159"/>
                </a:lnTo>
                <a:lnTo>
                  <a:pt x="1" y="5157"/>
                </a:lnTo>
                <a:lnTo>
                  <a:pt x="3" y="5156"/>
                </a:lnTo>
                <a:lnTo>
                  <a:pt x="4" y="5156"/>
                </a:lnTo>
                <a:lnTo>
                  <a:pt x="7" y="5156"/>
                </a:lnTo>
                <a:lnTo>
                  <a:pt x="8" y="5156"/>
                </a:lnTo>
                <a:lnTo>
                  <a:pt x="9" y="5156"/>
                </a:lnTo>
                <a:lnTo>
                  <a:pt x="11" y="5157"/>
                </a:lnTo>
                <a:lnTo>
                  <a:pt x="12" y="5159"/>
                </a:lnTo>
                <a:lnTo>
                  <a:pt x="13" y="5160"/>
                </a:lnTo>
                <a:lnTo>
                  <a:pt x="13" y="5162"/>
                </a:lnTo>
                <a:lnTo>
                  <a:pt x="13" y="5201"/>
                </a:lnTo>
                <a:lnTo>
                  <a:pt x="13" y="5202"/>
                </a:lnTo>
                <a:lnTo>
                  <a:pt x="12" y="5204"/>
                </a:lnTo>
                <a:lnTo>
                  <a:pt x="11" y="5206"/>
                </a:lnTo>
                <a:lnTo>
                  <a:pt x="9" y="5207"/>
                </a:lnTo>
                <a:lnTo>
                  <a:pt x="8" y="5207"/>
                </a:lnTo>
                <a:lnTo>
                  <a:pt x="7" y="5208"/>
                </a:lnTo>
                <a:lnTo>
                  <a:pt x="4" y="5207"/>
                </a:lnTo>
                <a:lnTo>
                  <a:pt x="3" y="5207"/>
                </a:lnTo>
                <a:lnTo>
                  <a:pt x="1" y="5206"/>
                </a:lnTo>
                <a:lnTo>
                  <a:pt x="0" y="5204"/>
                </a:lnTo>
                <a:lnTo>
                  <a:pt x="0" y="5202"/>
                </a:lnTo>
                <a:lnTo>
                  <a:pt x="0" y="5201"/>
                </a:lnTo>
                <a:lnTo>
                  <a:pt x="0" y="5201"/>
                </a:lnTo>
                <a:close/>
                <a:moveTo>
                  <a:pt x="0" y="5110"/>
                </a:moveTo>
                <a:lnTo>
                  <a:pt x="0" y="5070"/>
                </a:lnTo>
                <a:lnTo>
                  <a:pt x="0" y="5069"/>
                </a:lnTo>
                <a:lnTo>
                  <a:pt x="0" y="5067"/>
                </a:lnTo>
                <a:lnTo>
                  <a:pt x="1" y="5065"/>
                </a:lnTo>
                <a:lnTo>
                  <a:pt x="3" y="5064"/>
                </a:lnTo>
                <a:lnTo>
                  <a:pt x="4" y="5063"/>
                </a:lnTo>
                <a:lnTo>
                  <a:pt x="7" y="5063"/>
                </a:lnTo>
                <a:lnTo>
                  <a:pt x="8" y="5063"/>
                </a:lnTo>
                <a:lnTo>
                  <a:pt x="9" y="5064"/>
                </a:lnTo>
                <a:lnTo>
                  <a:pt x="11" y="5065"/>
                </a:lnTo>
                <a:lnTo>
                  <a:pt x="12" y="5067"/>
                </a:lnTo>
                <a:lnTo>
                  <a:pt x="13" y="5069"/>
                </a:lnTo>
                <a:lnTo>
                  <a:pt x="13" y="5070"/>
                </a:lnTo>
                <a:lnTo>
                  <a:pt x="13" y="5110"/>
                </a:lnTo>
                <a:lnTo>
                  <a:pt x="13" y="5111"/>
                </a:lnTo>
                <a:lnTo>
                  <a:pt x="12" y="5112"/>
                </a:lnTo>
                <a:lnTo>
                  <a:pt x="11" y="5114"/>
                </a:lnTo>
                <a:lnTo>
                  <a:pt x="9" y="5115"/>
                </a:lnTo>
                <a:lnTo>
                  <a:pt x="8" y="5116"/>
                </a:lnTo>
                <a:lnTo>
                  <a:pt x="7" y="5116"/>
                </a:lnTo>
                <a:lnTo>
                  <a:pt x="4" y="5116"/>
                </a:lnTo>
                <a:lnTo>
                  <a:pt x="3" y="5115"/>
                </a:lnTo>
                <a:lnTo>
                  <a:pt x="1" y="5114"/>
                </a:lnTo>
                <a:lnTo>
                  <a:pt x="0" y="5112"/>
                </a:lnTo>
                <a:lnTo>
                  <a:pt x="0" y="5111"/>
                </a:lnTo>
                <a:lnTo>
                  <a:pt x="0" y="5110"/>
                </a:lnTo>
                <a:lnTo>
                  <a:pt x="0" y="5110"/>
                </a:lnTo>
                <a:close/>
                <a:moveTo>
                  <a:pt x="0" y="5017"/>
                </a:moveTo>
                <a:lnTo>
                  <a:pt x="0" y="4978"/>
                </a:lnTo>
                <a:lnTo>
                  <a:pt x="0" y="4976"/>
                </a:lnTo>
                <a:lnTo>
                  <a:pt x="0" y="4975"/>
                </a:lnTo>
                <a:lnTo>
                  <a:pt x="1" y="4973"/>
                </a:lnTo>
                <a:lnTo>
                  <a:pt x="3" y="4972"/>
                </a:lnTo>
                <a:lnTo>
                  <a:pt x="4" y="4972"/>
                </a:lnTo>
                <a:lnTo>
                  <a:pt x="7" y="4972"/>
                </a:lnTo>
                <a:lnTo>
                  <a:pt x="8" y="4972"/>
                </a:lnTo>
                <a:lnTo>
                  <a:pt x="9" y="4972"/>
                </a:lnTo>
                <a:lnTo>
                  <a:pt x="11" y="4973"/>
                </a:lnTo>
                <a:lnTo>
                  <a:pt x="12" y="4975"/>
                </a:lnTo>
                <a:lnTo>
                  <a:pt x="13" y="4976"/>
                </a:lnTo>
                <a:lnTo>
                  <a:pt x="13" y="4978"/>
                </a:lnTo>
                <a:lnTo>
                  <a:pt x="13" y="5017"/>
                </a:lnTo>
                <a:lnTo>
                  <a:pt x="13" y="5018"/>
                </a:lnTo>
                <a:lnTo>
                  <a:pt x="12" y="5020"/>
                </a:lnTo>
                <a:lnTo>
                  <a:pt x="11" y="5022"/>
                </a:lnTo>
                <a:lnTo>
                  <a:pt x="9" y="5023"/>
                </a:lnTo>
                <a:lnTo>
                  <a:pt x="8" y="5023"/>
                </a:lnTo>
                <a:lnTo>
                  <a:pt x="7" y="5024"/>
                </a:lnTo>
                <a:lnTo>
                  <a:pt x="4" y="5023"/>
                </a:lnTo>
                <a:lnTo>
                  <a:pt x="3" y="5023"/>
                </a:lnTo>
                <a:lnTo>
                  <a:pt x="1" y="5022"/>
                </a:lnTo>
                <a:lnTo>
                  <a:pt x="0" y="5020"/>
                </a:lnTo>
                <a:lnTo>
                  <a:pt x="0" y="5018"/>
                </a:lnTo>
                <a:lnTo>
                  <a:pt x="0" y="5017"/>
                </a:lnTo>
                <a:lnTo>
                  <a:pt x="0" y="5017"/>
                </a:lnTo>
                <a:close/>
                <a:moveTo>
                  <a:pt x="0" y="4925"/>
                </a:moveTo>
                <a:lnTo>
                  <a:pt x="0" y="4885"/>
                </a:lnTo>
                <a:lnTo>
                  <a:pt x="0" y="4884"/>
                </a:lnTo>
                <a:lnTo>
                  <a:pt x="0" y="4883"/>
                </a:lnTo>
                <a:lnTo>
                  <a:pt x="1" y="4881"/>
                </a:lnTo>
                <a:lnTo>
                  <a:pt x="3" y="4880"/>
                </a:lnTo>
                <a:lnTo>
                  <a:pt x="4" y="4879"/>
                </a:lnTo>
                <a:lnTo>
                  <a:pt x="7" y="4879"/>
                </a:lnTo>
                <a:lnTo>
                  <a:pt x="8" y="4879"/>
                </a:lnTo>
                <a:lnTo>
                  <a:pt x="9" y="4880"/>
                </a:lnTo>
                <a:lnTo>
                  <a:pt x="11" y="4881"/>
                </a:lnTo>
                <a:lnTo>
                  <a:pt x="12" y="4883"/>
                </a:lnTo>
                <a:lnTo>
                  <a:pt x="13" y="4884"/>
                </a:lnTo>
                <a:lnTo>
                  <a:pt x="13" y="4885"/>
                </a:lnTo>
                <a:lnTo>
                  <a:pt x="13" y="4925"/>
                </a:lnTo>
                <a:lnTo>
                  <a:pt x="13" y="4926"/>
                </a:lnTo>
                <a:lnTo>
                  <a:pt x="12" y="4928"/>
                </a:lnTo>
                <a:lnTo>
                  <a:pt x="11" y="4930"/>
                </a:lnTo>
                <a:lnTo>
                  <a:pt x="9" y="4931"/>
                </a:lnTo>
                <a:lnTo>
                  <a:pt x="8" y="4932"/>
                </a:lnTo>
                <a:lnTo>
                  <a:pt x="7" y="4932"/>
                </a:lnTo>
                <a:lnTo>
                  <a:pt x="4" y="4932"/>
                </a:lnTo>
                <a:lnTo>
                  <a:pt x="3" y="4931"/>
                </a:lnTo>
                <a:lnTo>
                  <a:pt x="1" y="4930"/>
                </a:lnTo>
                <a:lnTo>
                  <a:pt x="0" y="4928"/>
                </a:lnTo>
                <a:lnTo>
                  <a:pt x="0" y="4926"/>
                </a:lnTo>
                <a:lnTo>
                  <a:pt x="0" y="4925"/>
                </a:lnTo>
                <a:lnTo>
                  <a:pt x="0" y="4925"/>
                </a:lnTo>
                <a:close/>
                <a:moveTo>
                  <a:pt x="0" y="4833"/>
                </a:moveTo>
                <a:lnTo>
                  <a:pt x="0" y="4794"/>
                </a:lnTo>
                <a:lnTo>
                  <a:pt x="0" y="4792"/>
                </a:lnTo>
                <a:lnTo>
                  <a:pt x="0" y="4791"/>
                </a:lnTo>
                <a:lnTo>
                  <a:pt x="1" y="4789"/>
                </a:lnTo>
                <a:lnTo>
                  <a:pt x="3" y="4788"/>
                </a:lnTo>
                <a:lnTo>
                  <a:pt x="4" y="4788"/>
                </a:lnTo>
                <a:lnTo>
                  <a:pt x="7" y="4788"/>
                </a:lnTo>
                <a:lnTo>
                  <a:pt x="8" y="4788"/>
                </a:lnTo>
                <a:lnTo>
                  <a:pt x="9" y="4788"/>
                </a:lnTo>
                <a:lnTo>
                  <a:pt x="11" y="4789"/>
                </a:lnTo>
                <a:lnTo>
                  <a:pt x="12" y="4791"/>
                </a:lnTo>
                <a:lnTo>
                  <a:pt x="13" y="4792"/>
                </a:lnTo>
                <a:lnTo>
                  <a:pt x="13" y="4794"/>
                </a:lnTo>
                <a:lnTo>
                  <a:pt x="13" y="4833"/>
                </a:lnTo>
                <a:lnTo>
                  <a:pt x="13" y="4834"/>
                </a:lnTo>
                <a:lnTo>
                  <a:pt x="12" y="4836"/>
                </a:lnTo>
                <a:lnTo>
                  <a:pt x="11" y="4838"/>
                </a:lnTo>
                <a:lnTo>
                  <a:pt x="9" y="4839"/>
                </a:lnTo>
                <a:lnTo>
                  <a:pt x="8" y="4839"/>
                </a:lnTo>
                <a:lnTo>
                  <a:pt x="7" y="4840"/>
                </a:lnTo>
                <a:lnTo>
                  <a:pt x="4" y="4839"/>
                </a:lnTo>
                <a:lnTo>
                  <a:pt x="3" y="4839"/>
                </a:lnTo>
                <a:lnTo>
                  <a:pt x="1" y="4838"/>
                </a:lnTo>
                <a:lnTo>
                  <a:pt x="0" y="4836"/>
                </a:lnTo>
                <a:lnTo>
                  <a:pt x="0" y="4834"/>
                </a:lnTo>
                <a:lnTo>
                  <a:pt x="0" y="4833"/>
                </a:lnTo>
                <a:lnTo>
                  <a:pt x="0" y="4833"/>
                </a:lnTo>
                <a:close/>
                <a:moveTo>
                  <a:pt x="0" y="4741"/>
                </a:moveTo>
                <a:lnTo>
                  <a:pt x="0" y="4701"/>
                </a:lnTo>
                <a:lnTo>
                  <a:pt x="0" y="4700"/>
                </a:lnTo>
                <a:lnTo>
                  <a:pt x="0" y="4699"/>
                </a:lnTo>
                <a:lnTo>
                  <a:pt x="1" y="4697"/>
                </a:lnTo>
                <a:lnTo>
                  <a:pt x="3" y="4696"/>
                </a:lnTo>
                <a:lnTo>
                  <a:pt x="4" y="4695"/>
                </a:lnTo>
                <a:lnTo>
                  <a:pt x="7" y="4695"/>
                </a:lnTo>
                <a:lnTo>
                  <a:pt x="8" y="4695"/>
                </a:lnTo>
                <a:lnTo>
                  <a:pt x="9" y="4696"/>
                </a:lnTo>
                <a:lnTo>
                  <a:pt x="11" y="4697"/>
                </a:lnTo>
                <a:lnTo>
                  <a:pt x="12" y="4699"/>
                </a:lnTo>
                <a:lnTo>
                  <a:pt x="13" y="4700"/>
                </a:lnTo>
                <a:lnTo>
                  <a:pt x="13" y="4701"/>
                </a:lnTo>
                <a:lnTo>
                  <a:pt x="13" y="4741"/>
                </a:lnTo>
                <a:lnTo>
                  <a:pt x="13" y="4742"/>
                </a:lnTo>
                <a:lnTo>
                  <a:pt x="12" y="4743"/>
                </a:lnTo>
                <a:lnTo>
                  <a:pt x="11" y="4746"/>
                </a:lnTo>
                <a:lnTo>
                  <a:pt x="9" y="4747"/>
                </a:lnTo>
                <a:lnTo>
                  <a:pt x="8" y="4748"/>
                </a:lnTo>
                <a:lnTo>
                  <a:pt x="7" y="4748"/>
                </a:lnTo>
                <a:lnTo>
                  <a:pt x="4" y="4748"/>
                </a:lnTo>
                <a:lnTo>
                  <a:pt x="3" y="4747"/>
                </a:lnTo>
                <a:lnTo>
                  <a:pt x="1" y="4746"/>
                </a:lnTo>
                <a:lnTo>
                  <a:pt x="0" y="4743"/>
                </a:lnTo>
                <a:lnTo>
                  <a:pt x="0" y="4742"/>
                </a:lnTo>
                <a:lnTo>
                  <a:pt x="0" y="4741"/>
                </a:lnTo>
                <a:lnTo>
                  <a:pt x="0" y="4741"/>
                </a:lnTo>
                <a:close/>
                <a:moveTo>
                  <a:pt x="0" y="4649"/>
                </a:moveTo>
                <a:lnTo>
                  <a:pt x="0" y="4610"/>
                </a:lnTo>
                <a:lnTo>
                  <a:pt x="0" y="4608"/>
                </a:lnTo>
                <a:lnTo>
                  <a:pt x="0" y="4607"/>
                </a:lnTo>
                <a:lnTo>
                  <a:pt x="1" y="4605"/>
                </a:lnTo>
                <a:lnTo>
                  <a:pt x="3" y="4603"/>
                </a:lnTo>
                <a:lnTo>
                  <a:pt x="4" y="4603"/>
                </a:lnTo>
                <a:lnTo>
                  <a:pt x="7" y="4603"/>
                </a:lnTo>
                <a:lnTo>
                  <a:pt x="8" y="4603"/>
                </a:lnTo>
                <a:lnTo>
                  <a:pt x="9" y="4603"/>
                </a:lnTo>
                <a:lnTo>
                  <a:pt x="11" y="4605"/>
                </a:lnTo>
                <a:lnTo>
                  <a:pt x="12" y="4607"/>
                </a:lnTo>
                <a:lnTo>
                  <a:pt x="13" y="4608"/>
                </a:lnTo>
                <a:lnTo>
                  <a:pt x="13" y="4610"/>
                </a:lnTo>
                <a:lnTo>
                  <a:pt x="13" y="4649"/>
                </a:lnTo>
                <a:lnTo>
                  <a:pt x="13" y="4650"/>
                </a:lnTo>
                <a:lnTo>
                  <a:pt x="12" y="4652"/>
                </a:lnTo>
                <a:lnTo>
                  <a:pt x="11" y="4654"/>
                </a:lnTo>
                <a:lnTo>
                  <a:pt x="9" y="4655"/>
                </a:lnTo>
                <a:lnTo>
                  <a:pt x="8" y="4655"/>
                </a:lnTo>
                <a:lnTo>
                  <a:pt x="7" y="4656"/>
                </a:lnTo>
                <a:lnTo>
                  <a:pt x="4" y="4655"/>
                </a:lnTo>
                <a:lnTo>
                  <a:pt x="3" y="4655"/>
                </a:lnTo>
                <a:lnTo>
                  <a:pt x="1" y="4654"/>
                </a:lnTo>
                <a:lnTo>
                  <a:pt x="0" y="4652"/>
                </a:lnTo>
                <a:lnTo>
                  <a:pt x="0" y="4650"/>
                </a:lnTo>
                <a:lnTo>
                  <a:pt x="0" y="4649"/>
                </a:lnTo>
                <a:lnTo>
                  <a:pt x="0" y="4649"/>
                </a:lnTo>
                <a:close/>
                <a:moveTo>
                  <a:pt x="0" y="4557"/>
                </a:moveTo>
                <a:lnTo>
                  <a:pt x="0" y="4517"/>
                </a:lnTo>
                <a:lnTo>
                  <a:pt x="0" y="4516"/>
                </a:lnTo>
                <a:lnTo>
                  <a:pt x="0" y="4515"/>
                </a:lnTo>
                <a:lnTo>
                  <a:pt x="1" y="4513"/>
                </a:lnTo>
                <a:lnTo>
                  <a:pt x="3" y="4512"/>
                </a:lnTo>
                <a:lnTo>
                  <a:pt x="4" y="4511"/>
                </a:lnTo>
                <a:lnTo>
                  <a:pt x="7" y="4511"/>
                </a:lnTo>
                <a:lnTo>
                  <a:pt x="8" y="4511"/>
                </a:lnTo>
                <a:lnTo>
                  <a:pt x="9" y="4512"/>
                </a:lnTo>
                <a:lnTo>
                  <a:pt x="11" y="4513"/>
                </a:lnTo>
                <a:lnTo>
                  <a:pt x="12" y="4515"/>
                </a:lnTo>
                <a:lnTo>
                  <a:pt x="13" y="4516"/>
                </a:lnTo>
                <a:lnTo>
                  <a:pt x="13" y="4517"/>
                </a:lnTo>
                <a:lnTo>
                  <a:pt x="13" y="4557"/>
                </a:lnTo>
                <a:lnTo>
                  <a:pt x="13" y="4558"/>
                </a:lnTo>
                <a:lnTo>
                  <a:pt x="12" y="4559"/>
                </a:lnTo>
                <a:lnTo>
                  <a:pt x="11" y="4561"/>
                </a:lnTo>
                <a:lnTo>
                  <a:pt x="9" y="4562"/>
                </a:lnTo>
                <a:lnTo>
                  <a:pt x="8" y="4563"/>
                </a:lnTo>
                <a:lnTo>
                  <a:pt x="7" y="4563"/>
                </a:lnTo>
                <a:lnTo>
                  <a:pt x="4" y="4563"/>
                </a:lnTo>
                <a:lnTo>
                  <a:pt x="3" y="4562"/>
                </a:lnTo>
                <a:lnTo>
                  <a:pt x="1" y="4561"/>
                </a:lnTo>
                <a:lnTo>
                  <a:pt x="0" y="4559"/>
                </a:lnTo>
                <a:lnTo>
                  <a:pt x="0" y="4558"/>
                </a:lnTo>
                <a:lnTo>
                  <a:pt x="0" y="4557"/>
                </a:lnTo>
                <a:lnTo>
                  <a:pt x="0" y="4557"/>
                </a:lnTo>
                <a:close/>
                <a:moveTo>
                  <a:pt x="0" y="4465"/>
                </a:moveTo>
                <a:lnTo>
                  <a:pt x="0" y="4426"/>
                </a:lnTo>
                <a:lnTo>
                  <a:pt x="0" y="4424"/>
                </a:lnTo>
                <a:lnTo>
                  <a:pt x="0" y="4422"/>
                </a:lnTo>
                <a:lnTo>
                  <a:pt x="1" y="4420"/>
                </a:lnTo>
                <a:lnTo>
                  <a:pt x="3" y="4419"/>
                </a:lnTo>
                <a:lnTo>
                  <a:pt x="4" y="4419"/>
                </a:lnTo>
                <a:lnTo>
                  <a:pt x="7" y="4419"/>
                </a:lnTo>
                <a:lnTo>
                  <a:pt x="8" y="4419"/>
                </a:lnTo>
                <a:lnTo>
                  <a:pt x="9" y="4419"/>
                </a:lnTo>
                <a:lnTo>
                  <a:pt x="11" y="4420"/>
                </a:lnTo>
                <a:lnTo>
                  <a:pt x="12" y="4422"/>
                </a:lnTo>
                <a:lnTo>
                  <a:pt x="13" y="4424"/>
                </a:lnTo>
                <a:lnTo>
                  <a:pt x="13" y="4426"/>
                </a:lnTo>
                <a:lnTo>
                  <a:pt x="13" y="4465"/>
                </a:lnTo>
                <a:lnTo>
                  <a:pt x="13" y="4466"/>
                </a:lnTo>
                <a:lnTo>
                  <a:pt x="12" y="4468"/>
                </a:lnTo>
                <a:lnTo>
                  <a:pt x="11" y="4470"/>
                </a:lnTo>
                <a:lnTo>
                  <a:pt x="9" y="4471"/>
                </a:lnTo>
                <a:lnTo>
                  <a:pt x="8" y="4471"/>
                </a:lnTo>
                <a:lnTo>
                  <a:pt x="7" y="4472"/>
                </a:lnTo>
                <a:lnTo>
                  <a:pt x="4" y="4471"/>
                </a:lnTo>
                <a:lnTo>
                  <a:pt x="3" y="4471"/>
                </a:lnTo>
                <a:lnTo>
                  <a:pt x="1" y="4470"/>
                </a:lnTo>
                <a:lnTo>
                  <a:pt x="0" y="4468"/>
                </a:lnTo>
                <a:lnTo>
                  <a:pt x="0" y="4466"/>
                </a:lnTo>
                <a:lnTo>
                  <a:pt x="0" y="4465"/>
                </a:lnTo>
                <a:lnTo>
                  <a:pt x="0" y="4465"/>
                </a:lnTo>
                <a:close/>
                <a:moveTo>
                  <a:pt x="0" y="4373"/>
                </a:moveTo>
                <a:lnTo>
                  <a:pt x="0" y="4333"/>
                </a:lnTo>
                <a:lnTo>
                  <a:pt x="0" y="4332"/>
                </a:lnTo>
                <a:lnTo>
                  <a:pt x="0" y="4331"/>
                </a:lnTo>
                <a:lnTo>
                  <a:pt x="1" y="4329"/>
                </a:lnTo>
                <a:lnTo>
                  <a:pt x="3" y="4328"/>
                </a:lnTo>
                <a:lnTo>
                  <a:pt x="4" y="4327"/>
                </a:lnTo>
                <a:lnTo>
                  <a:pt x="7" y="4327"/>
                </a:lnTo>
                <a:lnTo>
                  <a:pt x="8" y="4327"/>
                </a:lnTo>
                <a:lnTo>
                  <a:pt x="9" y="4328"/>
                </a:lnTo>
                <a:lnTo>
                  <a:pt x="11" y="4329"/>
                </a:lnTo>
                <a:lnTo>
                  <a:pt x="12" y="4331"/>
                </a:lnTo>
                <a:lnTo>
                  <a:pt x="13" y="4332"/>
                </a:lnTo>
                <a:lnTo>
                  <a:pt x="13" y="4333"/>
                </a:lnTo>
                <a:lnTo>
                  <a:pt x="13" y="4373"/>
                </a:lnTo>
                <a:lnTo>
                  <a:pt x="13" y="4374"/>
                </a:lnTo>
                <a:lnTo>
                  <a:pt x="12" y="4375"/>
                </a:lnTo>
                <a:lnTo>
                  <a:pt x="11" y="4377"/>
                </a:lnTo>
                <a:lnTo>
                  <a:pt x="9" y="4378"/>
                </a:lnTo>
                <a:lnTo>
                  <a:pt x="8" y="4379"/>
                </a:lnTo>
                <a:lnTo>
                  <a:pt x="7" y="4379"/>
                </a:lnTo>
                <a:lnTo>
                  <a:pt x="4" y="4379"/>
                </a:lnTo>
                <a:lnTo>
                  <a:pt x="3" y="4378"/>
                </a:lnTo>
                <a:lnTo>
                  <a:pt x="1" y="4377"/>
                </a:lnTo>
                <a:lnTo>
                  <a:pt x="0" y="4375"/>
                </a:lnTo>
                <a:lnTo>
                  <a:pt x="0" y="4374"/>
                </a:lnTo>
                <a:lnTo>
                  <a:pt x="0" y="4373"/>
                </a:lnTo>
                <a:lnTo>
                  <a:pt x="0" y="4373"/>
                </a:lnTo>
                <a:close/>
                <a:moveTo>
                  <a:pt x="0" y="4280"/>
                </a:moveTo>
                <a:lnTo>
                  <a:pt x="0" y="4242"/>
                </a:lnTo>
                <a:lnTo>
                  <a:pt x="0" y="4239"/>
                </a:lnTo>
                <a:lnTo>
                  <a:pt x="0" y="4238"/>
                </a:lnTo>
                <a:lnTo>
                  <a:pt x="1" y="4236"/>
                </a:lnTo>
                <a:lnTo>
                  <a:pt x="3" y="4235"/>
                </a:lnTo>
                <a:lnTo>
                  <a:pt x="4" y="4235"/>
                </a:lnTo>
                <a:lnTo>
                  <a:pt x="7" y="4235"/>
                </a:lnTo>
                <a:lnTo>
                  <a:pt x="8" y="4235"/>
                </a:lnTo>
                <a:lnTo>
                  <a:pt x="9" y="4235"/>
                </a:lnTo>
                <a:lnTo>
                  <a:pt x="11" y="4236"/>
                </a:lnTo>
                <a:lnTo>
                  <a:pt x="12" y="4238"/>
                </a:lnTo>
                <a:lnTo>
                  <a:pt x="13" y="4239"/>
                </a:lnTo>
                <a:lnTo>
                  <a:pt x="13" y="4242"/>
                </a:lnTo>
                <a:lnTo>
                  <a:pt x="13" y="4280"/>
                </a:lnTo>
                <a:lnTo>
                  <a:pt x="13" y="4282"/>
                </a:lnTo>
                <a:lnTo>
                  <a:pt x="12" y="4284"/>
                </a:lnTo>
                <a:lnTo>
                  <a:pt x="11" y="4286"/>
                </a:lnTo>
                <a:lnTo>
                  <a:pt x="9" y="4287"/>
                </a:lnTo>
                <a:lnTo>
                  <a:pt x="8" y="4287"/>
                </a:lnTo>
                <a:lnTo>
                  <a:pt x="7" y="4288"/>
                </a:lnTo>
                <a:lnTo>
                  <a:pt x="4" y="4287"/>
                </a:lnTo>
                <a:lnTo>
                  <a:pt x="3" y="4287"/>
                </a:lnTo>
                <a:lnTo>
                  <a:pt x="1" y="4286"/>
                </a:lnTo>
                <a:lnTo>
                  <a:pt x="0" y="4284"/>
                </a:lnTo>
                <a:lnTo>
                  <a:pt x="0" y="4282"/>
                </a:lnTo>
                <a:lnTo>
                  <a:pt x="0" y="4280"/>
                </a:lnTo>
                <a:lnTo>
                  <a:pt x="0" y="4280"/>
                </a:lnTo>
                <a:close/>
                <a:moveTo>
                  <a:pt x="0" y="4189"/>
                </a:moveTo>
                <a:lnTo>
                  <a:pt x="0" y="4149"/>
                </a:lnTo>
                <a:lnTo>
                  <a:pt x="0" y="4148"/>
                </a:lnTo>
                <a:lnTo>
                  <a:pt x="0" y="4147"/>
                </a:lnTo>
                <a:lnTo>
                  <a:pt x="1" y="4145"/>
                </a:lnTo>
                <a:lnTo>
                  <a:pt x="3" y="4144"/>
                </a:lnTo>
                <a:lnTo>
                  <a:pt x="4" y="4143"/>
                </a:lnTo>
                <a:lnTo>
                  <a:pt x="7" y="4143"/>
                </a:lnTo>
                <a:lnTo>
                  <a:pt x="8" y="4143"/>
                </a:lnTo>
                <a:lnTo>
                  <a:pt x="9" y="4144"/>
                </a:lnTo>
                <a:lnTo>
                  <a:pt x="11" y="4145"/>
                </a:lnTo>
                <a:lnTo>
                  <a:pt x="12" y="4147"/>
                </a:lnTo>
                <a:lnTo>
                  <a:pt x="13" y="4148"/>
                </a:lnTo>
                <a:lnTo>
                  <a:pt x="13" y="4149"/>
                </a:lnTo>
                <a:lnTo>
                  <a:pt x="13" y="4189"/>
                </a:lnTo>
                <a:lnTo>
                  <a:pt x="13" y="4190"/>
                </a:lnTo>
                <a:lnTo>
                  <a:pt x="12" y="4191"/>
                </a:lnTo>
                <a:lnTo>
                  <a:pt x="11" y="4193"/>
                </a:lnTo>
                <a:lnTo>
                  <a:pt x="9" y="4194"/>
                </a:lnTo>
                <a:lnTo>
                  <a:pt x="8" y="4195"/>
                </a:lnTo>
                <a:lnTo>
                  <a:pt x="7" y="4195"/>
                </a:lnTo>
                <a:lnTo>
                  <a:pt x="4" y="4195"/>
                </a:lnTo>
                <a:lnTo>
                  <a:pt x="3" y="4194"/>
                </a:lnTo>
                <a:lnTo>
                  <a:pt x="1" y="4193"/>
                </a:lnTo>
                <a:lnTo>
                  <a:pt x="0" y="4191"/>
                </a:lnTo>
                <a:lnTo>
                  <a:pt x="0" y="4190"/>
                </a:lnTo>
                <a:lnTo>
                  <a:pt x="0" y="4189"/>
                </a:lnTo>
                <a:lnTo>
                  <a:pt x="0" y="4189"/>
                </a:lnTo>
                <a:close/>
                <a:moveTo>
                  <a:pt x="0" y="4096"/>
                </a:moveTo>
                <a:lnTo>
                  <a:pt x="0" y="4057"/>
                </a:lnTo>
                <a:lnTo>
                  <a:pt x="0" y="4055"/>
                </a:lnTo>
                <a:lnTo>
                  <a:pt x="0" y="4054"/>
                </a:lnTo>
                <a:lnTo>
                  <a:pt x="1" y="4052"/>
                </a:lnTo>
                <a:lnTo>
                  <a:pt x="3" y="4051"/>
                </a:lnTo>
                <a:lnTo>
                  <a:pt x="4" y="4051"/>
                </a:lnTo>
                <a:lnTo>
                  <a:pt x="7" y="4051"/>
                </a:lnTo>
                <a:lnTo>
                  <a:pt x="8" y="4051"/>
                </a:lnTo>
                <a:lnTo>
                  <a:pt x="9" y="4051"/>
                </a:lnTo>
                <a:lnTo>
                  <a:pt x="11" y="4052"/>
                </a:lnTo>
                <a:lnTo>
                  <a:pt x="12" y="4054"/>
                </a:lnTo>
                <a:lnTo>
                  <a:pt x="13" y="4055"/>
                </a:lnTo>
                <a:lnTo>
                  <a:pt x="13" y="4057"/>
                </a:lnTo>
                <a:lnTo>
                  <a:pt x="13" y="4096"/>
                </a:lnTo>
                <a:lnTo>
                  <a:pt x="13" y="4097"/>
                </a:lnTo>
                <a:lnTo>
                  <a:pt x="12" y="4099"/>
                </a:lnTo>
                <a:lnTo>
                  <a:pt x="11" y="4102"/>
                </a:lnTo>
                <a:lnTo>
                  <a:pt x="9" y="4103"/>
                </a:lnTo>
                <a:lnTo>
                  <a:pt x="8" y="4103"/>
                </a:lnTo>
                <a:lnTo>
                  <a:pt x="7" y="4104"/>
                </a:lnTo>
                <a:lnTo>
                  <a:pt x="4" y="4103"/>
                </a:lnTo>
                <a:lnTo>
                  <a:pt x="3" y="4103"/>
                </a:lnTo>
                <a:lnTo>
                  <a:pt x="1" y="4102"/>
                </a:lnTo>
                <a:lnTo>
                  <a:pt x="0" y="4099"/>
                </a:lnTo>
                <a:lnTo>
                  <a:pt x="0" y="4097"/>
                </a:lnTo>
                <a:lnTo>
                  <a:pt x="0" y="4096"/>
                </a:lnTo>
                <a:lnTo>
                  <a:pt x="0" y="4096"/>
                </a:lnTo>
                <a:close/>
                <a:moveTo>
                  <a:pt x="0" y="4005"/>
                </a:moveTo>
                <a:lnTo>
                  <a:pt x="0" y="3965"/>
                </a:lnTo>
                <a:lnTo>
                  <a:pt x="0" y="3964"/>
                </a:lnTo>
                <a:lnTo>
                  <a:pt x="0" y="3963"/>
                </a:lnTo>
                <a:lnTo>
                  <a:pt x="1" y="3961"/>
                </a:lnTo>
                <a:lnTo>
                  <a:pt x="3" y="3960"/>
                </a:lnTo>
                <a:lnTo>
                  <a:pt x="4" y="3958"/>
                </a:lnTo>
                <a:lnTo>
                  <a:pt x="7" y="3958"/>
                </a:lnTo>
                <a:lnTo>
                  <a:pt x="8" y="3958"/>
                </a:lnTo>
                <a:lnTo>
                  <a:pt x="9" y="3960"/>
                </a:lnTo>
                <a:lnTo>
                  <a:pt x="11" y="3961"/>
                </a:lnTo>
                <a:lnTo>
                  <a:pt x="12" y="3963"/>
                </a:lnTo>
                <a:lnTo>
                  <a:pt x="13" y="3964"/>
                </a:lnTo>
                <a:lnTo>
                  <a:pt x="13" y="3965"/>
                </a:lnTo>
                <a:lnTo>
                  <a:pt x="13" y="4005"/>
                </a:lnTo>
                <a:lnTo>
                  <a:pt x="13" y="4006"/>
                </a:lnTo>
                <a:lnTo>
                  <a:pt x="12" y="4007"/>
                </a:lnTo>
                <a:lnTo>
                  <a:pt x="11" y="4009"/>
                </a:lnTo>
                <a:lnTo>
                  <a:pt x="9" y="4010"/>
                </a:lnTo>
                <a:lnTo>
                  <a:pt x="8" y="4011"/>
                </a:lnTo>
                <a:lnTo>
                  <a:pt x="7" y="4011"/>
                </a:lnTo>
                <a:lnTo>
                  <a:pt x="4" y="4011"/>
                </a:lnTo>
                <a:lnTo>
                  <a:pt x="3" y="4010"/>
                </a:lnTo>
                <a:lnTo>
                  <a:pt x="1" y="4009"/>
                </a:lnTo>
                <a:lnTo>
                  <a:pt x="0" y="4007"/>
                </a:lnTo>
                <a:lnTo>
                  <a:pt x="0" y="4006"/>
                </a:lnTo>
                <a:lnTo>
                  <a:pt x="0" y="4005"/>
                </a:lnTo>
                <a:lnTo>
                  <a:pt x="0" y="4005"/>
                </a:lnTo>
                <a:close/>
                <a:moveTo>
                  <a:pt x="0" y="3912"/>
                </a:moveTo>
                <a:lnTo>
                  <a:pt x="0" y="3873"/>
                </a:lnTo>
                <a:lnTo>
                  <a:pt x="0" y="3871"/>
                </a:lnTo>
                <a:lnTo>
                  <a:pt x="0" y="3870"/>
                </a:lnTo>
                <a:lnTo>
                  <a:pt x="1" y="3868"/>
                </a:lnTo>
                <a:lnTo>
                  <a:pt x="3" y="3867"/>
                </a:lnTo>
                <a:lnTo>
                  <a:pt x="4" y="3867"/>
                </a:lnTo>
                <a:lnTo>
                  <a:pt x="7" y="3867"/>
                </a:lnTo>
                <a:lnTo>
                  <a:pt x="8" y="3867"/>
                </a:lnTo>
                <a:lnTo>
                  <a:pt x="9" y="3867"/>
                </a:lnTo>
                <a:lnTo>
                  <a:pt x="11" y="3868"/>
                </a:lnTo>
                <a:lnTo>
                  <a:pt x="12" y="3870"/>
                </a:lnTo>
                <a:lnTo>
                  <a:pt x="13" y="3871"/>
                </a:lnTo>
                <a:lnTo>
                  <a:pt x="13" y="3873"/>
                </a:lnTo>
                <a:lnTo>
                  <a:pt x="13" y="3912"/>
                </a:lnTo>
                <a:lnTo>
                  <a:pt x="13" y="3913"/>
                </a:lnTo>
                <a:lnTo>
                  <a:pt x="12" y="3915"/>
                </a:lnTo>
                <a:lnTo>
                  <a:pt x="11" y="3917"/>
                </a:lnTo>
                <a:lnTo>
                  <a:pt x="9" y="3919"/>
                </a:lnTo>
                <a:lnTo>
                  <a:pt x="8" y="3919"/>
                </a:lnTo>
                <a:lnTo>
                  <a:pt x="7" y="3920"/>
                </a:lnTo>
                <a:lnTo>
                  <a:pt x="4" y="3919"/>
                </a:lnTo>
                <a:lnTo>
                  <a:pt x="3" y="3919"/>
                </a:lnTo>
                <a:lnTo>
                  <a:pt x="1" y="3917"/>
                </a:lnTo>
                <a:lnTo>
                  <a:pt x="0" y="3915"/>
                </a:lnTo>
                <a:lnTo>
                  <a:pt x="0" y="3913"/>
                </a:lnTo>
                <a:lnTo>
                  <a:pt x="0" y="3912"/>
                </a:lnTo>
                <a:lnTo>
                  <a:pt x="0" y="3912"/>
                </a:lnTo>
                <a:close/>
                <a:moveTo>
                  <a:pt x="0" y="3821"/>
                </a:moveTo>
                <a:lnTo>
                  <a:pt x="0" y="3781"/>
                </a:lnTo>
                <a:lnTo>
                  <a:pt x="0" y="3780"/>
                </a:lnTo>
                <a:lnTo>
                  <a:pt x="0" y="3779"/>
                </a:lnTo>
                <a:lnTo>
                  <a:pt x="1" y="3776"/>
                </a:lnTo>
                <a:lnTo>
                  <a:pt x="3" y="3775"/>
                </a:lnTo>
                <a:lnTo>
                  <a:pt x="4" y="3774"/>
                </a:lnTo>
                <a:lnTo>
                  <a:pt x="7" y="3774"/>
                </a:lnTo>
                <a:lnTo>
                  <a:pt x="8" y="3774"/>
                </a:lnTo>
                <a:lnTo>
                  <a:pt x="9" y="3775"/>
                </a:lnTo>
                <a:lnTo>
                  <a:pt x="11" y="3776"/>
                </a:lnTo>
                <a:lnTo>
                  <a:pt x="12" y="3779"/>
                </a:lnTo>
                <a:lnTo>
                  <a:pt x="13" y="3780"/>
                </a:lnTo>
                <a:lnTo>
                  <a:pt x="13" y="3781"/>
                </a:lnTo>
                <a:lnTo>
                  <a:pt x="13" y="3821"/>
                </a:lnTo>
                <a:lnTo>
                  <a:pt x="13" y="3822"/>
                </a:lnTo>
                <a:lnTo>
                  <a:pt x="12" y="3823"/>
                </a:lnTo>
                <a:lnTo>
                  <a:pt x="11" y="3825"/>
                </a:lnTo>
                <a:lnTo>
                  <a:pt x="9" y="3826"/>
                </a:lnTo>
                <a:lnTo>
                  <a:pt x="8" y="3827"/>
                </a:lnTo>
                <a:lnTo>
                  <a:pt x="7" y="3827"/>
                </a:lnTo>
                <a:lnTo>
                  <a:pt x="4" y="3827"/>
                </a:lnTo>
                <a:lnTo>
                  <a:pt x="3" y="3826"/>
                </a:lnTo>
                <a:lnTo>
                  <a:pt x="1" y="3825"/>
                </a:lnTo>
                <a:lnTo>
                  <a:pt x="0" y="3823"/>
                </a:lnTo>
                <a:lnTo>
                  <a:pt x="0" y="3822"/>
                </a:lnTo>
                <a:lnTo>
                  <a:pt x="0" y="3821"/>
                </a:lnTo>
                <a:lnTo>
                  <a:pt x="0" y="3821"/>
                </a:lnTo>
                <a:close/>
                <a:moveTo>
                  <a:pt x="0" y="3728"/>
                </a:moveTo>
                <a:lnTo>
                  <a:pt x="0" y="3689"/>
                </a:lnTo>
                <a:lnTo>
                  <a:pt x="0" y="3687"/>
                </a:lnTo>
                <a:lnTo>
                  <a:pt x="0" y="3686"/>
                </a:lnTo>
                <a:lnTo>
                  <a:pt x="1" y="3684"/>
                </a:lnTo>
                <a:lnTo>
                  <a:pt x="3" y="3683"/>
                </a:lnTo>
                <a:lnTo>
                  <a:pt x="4" y="3683"/>
                </a:lnTo>
                <a:lnTo>
                  <a:pt x="7" y="3683"/>
                </a:lnTo>
                <a:lnTo>
                  <a:pt x="8" y="3683"/>
                </a:lnTo>
                <a:lnTo>
                  <a:pt x="9" y="3683"/>
                </a:lnTo>
                <a:lnTo>
                  <a:pt x="11" y="3684"/>
                </a:lnTo>
                <a:lnTo>
                  <a:pt x="12" y="3686"/>
                </a:lnTo>
                <a:lnTo>
                  <a:pt x="13" y="3687"/>
                </a:lnTo>
                <a:lnTo>
                  <a:pt x="13" y="3689"/>
                </a:lnTo>
                <a:lnTo>
                  <a:pt x="13" y="3728"/>
                </a:lnTo>
                <a:lnTo>
                  <a:pt x="13" y="3729"/>
                </a:lnTo>
                <a:lnTo>
                  <a:pt x="12" y="3731"/>
                </a:lnTo>
                <a:lnTo>
                  <a:pt x="11" y="3733"/>
                </a:lnTo>
                <a:lnTo>
                  <a:pt x="9" y="3734"/>
                </a:lnTo>
                <a:lnTo>
                  <a:pt x="8" y="3734"/>
                </a:lnTo>
                <a:lnTo>
                  <a:pt x="7" y="3735"/>
                </a:lnTo>
                <a:lnTo>
                  <a:pt x="4" y="3734"/>
                </a:lnTo>
                <a:lnTo>
                  <a:pt x="3" y="3734"/>
                </a:lnTo>
                <a:lnTo>
                  <a:pt x="1" y="3733"/>
                </a:lnTo>
                <a:lnTo>
                  <a:pt x="0" y="3731"/>
                </a:lnTo>
                <a:lnTo>
                  <a:pt x="0" y="3729"/>
                </a:lnTo>
                <a:lnTo>
                  <a:pt x="0" y="3728"/>
                </a:lnTo>
                <a:lnTo>
                  <a:pt x="0" y="3728"/>
                </a:lnTo>
                <a:close/>
                <a:moveTo>
                  <a:pt x="0" y="3637"/>
                </a:moveTo>
                <a:lnTo>
                  <a:pt x="0" y="3597"/>
                </a:lnTo>
                <a:lnTo>
                  <a:pt x="0" y="3595"/>
                </a:lnTo>
                <a:lnTo>
                  <a:pt x="0" y="3594"/>
                </a:lnTo>
                <a:lnTo>
                  <a:pt x="1" y="3592"/>
                </a:lnTo>
                <a:lnTo>
                  <a:pt x="3" y="3591"/>
                </a:lnTo>
                <a:lnTo>
                  <a:pt x="4" y="3590"/>
                </a:lnTo>
                <a:lnTo>
                  <a:pt x="7" y="3590"/>
                </a:lnTo>
                <a:lnTo>
                  <a:pt x="8" y="3590"/>
                </a:lnTo>
                <a:lnTo>
                  <a:pt x="9" y="3591"/>
                </a:lnTo>
                <a:lnTo>
                  <a:pt x="11" y="3592"/>
                </a:lnTo>
                <a:lnTo>
                  <a:pt x="12" y="3594"/>
                </a:lnTo>
                <a:lnTo>
                  <a:pt x="13" y="3595"/>
                </a:lnTo>
                <a:lnTo>
                  <a:pt x="13" y="3597"/>
                </a:lnTo>
                <a:lnTo>
                  <a:pt x="13" y="3637"/>
                </a:lnTo>
                <a:lnTo>
                  <a:pt x="13" y="3638"/>
                </a:lnTo>
                <a:lnTo>
                  <a:pt x="12" y="3639"/>
                </a:lnTo>
                <a:lnTo>
                  <a:pt x="11" y="3641"/>
                </a:lnTo>
                <a:lnTo>
                  <a:pt x="9" y="3642"/>
                </a:lnTo>
                <a:lnTo>
                  <a:pt x="8" y="3643"/>
                </a:lnTo>
                <a:lnTo>
                  <a:pt x="7" y="3643"/>
                </a:lnTo>
                <a:lnTo>
                  <a:pt x="4" y="3643"/>
                </a:lnTo>
                <a:lnTo>
                  <a:pt x="3" y="3642"/>
                </a:lnTo>
                <a:lnTo>
                  <a:pt x="1" y="3641"/>
                </a:lnTo>
                <a:lnTo>
                  <a:pt x="0" y="3639"/>
                </a:lnTo>
                <a:lnTo>
                  <a:pt x="0" y="3638"/>
                </a:lnTo>
                <a:lnTo>
                  <a:pt x="0" y="3637"/>
                </a:lnTo>
                <a:lnTo>
                  <a:pt x="0" y="3637"/>
                </a:lnTo>
                <a:close/>
                <a:moveTo>
                  <a:pt x="0" y="3544"/>
                </a:moveTo>
                <a:lnTo>
                  <a:pt x="0" y="3505"/>
                </a:lnTo>
                <a:lnTo>
                  <a:pt x="0" y="3503"/>
                </a:lnTo>
                <a:lnTo>
                  <a:pt x="0" y="3502"/>
                </a:lnTo>
                <a:lnTo>
                  <a:pt x="1" y="3500"/>
                </a:lnTo>
                <a:lnTo>
                  <a:pt x="3" y="3499"/>
                </a:lnTo>
                <a:lnTo>
                  <a:pt x="4" y="3499"/>
                </a:lnTo>
                <a:lnTo>
                  <a:pt x="7" y="3499"/>
                </a:lnTo>
                <a:lnTo>
                  <a:pt x="8" y="3499"/>
                </a:lnTo>
                <a:lnTo>
                  <a:pt x="9" y="3499"/>
                </a:lnTo>
                <a:lnTo>
                  <a:pt x="11" y="3500"/>
                </a:lnTo>
                <a:lnTo>
                  <a:pt x="12" y="3502"/>
                </a:lnTo>
                <a:lnTo>
                  <a:pt x="13" y="3503"/>
                </a:lnTo>
                <a:lnTo>
                  <a:pt x="13" y="3505"/>
                </a:lnTo>
                <a:lnTo>
                  <a:pt x="13" y="3544"/>
                </a:lnTo>
                <a:lnTo>
                  <a:pt x="13" y="3545"/>
                </a:lnTo>
                <a:lnTo>
                  <a:pt x="12" y="3547"/>
                </a:lnTo>
                <a:lnTo>
                  <a:pt x="11" y="3549"/>
                </a:lnTo>
                <a:lnTo>
                  <a:pt x="9" y="3550"/>
                </a:lnTo>
                <a:lnTo>
                  <a:pt x="8" y="3550"/>
                </a:lnTo>
                <a:lnTo>
                  <a:pt x="7" y="3551"/>
                </a:lnTo>
                <a:lnTo>
                  <a:pt x="4" y="3550"/>
                </a:lnTo>
                <a:lnTo>
                  <a:pt x="3" y="3550"/>
                </a:lnTo>
                <a:lnTo>
                  <a:pt x="1" y="3549"/>
                </a:lnTo>
                <a:lnTo>
                  <a:pt x="0" y="3547"/>
                </a:lnTo>
                <a:lnTo>
                  <a:pt x="0" y="3545"/>
                </a:lnTo>
                <a:lnTo>
                  <a:pt x="0" y="3544"/>
                </a:lnTo>
                <a:lnTo>
                  <a:pt x="0" y="3544"/>
                </a:lnTo>
                <a:close/>
                <a:moveTo>
                  <a:pt x="0" y="3452"/>
                </a:moveTo>
                <a:lnTo>
                  <a:pt x="0" y="3412"/>
                </a:lnTo>
                <a:lnTo>
                  <a:pt x="0" y="3411"/>
                </a:lnTo>
                <a:lnTo>
                  <a:pt x="0" y="3410"/>
                </a:lnTo>
                <a:lnTo>
                  <a:pt x="1" y="3408"/>
                </a:lnTo>
                <a:lnTo>
                  <a:pt x="3" y="3407"/>
                </a:lnTo>
                <a:lnTo>
                  <a:pt x="4" y="3406"/>
                </a:lnTo>
                <a:lnTo>
                  <a:pt x="7" y="3406"/>
                </a:lnTo>
                <a:lnTo>
                  <a:pt x="8" y="3406"/>
                </a:lnTo>
                <a:lnTo>
                  <a:pt x="9" y="3407"/>
                </a:lnTo>
                <a:lnTo>
                  <a:pt x="11" y="3408"/>
                </a:lnTo>
                <a:lnTo>
                  <a:pt x="12" y="3410"/>
                </a:lnTo>
                <a:lnTo>
                  <a:pt x="13" y="3411"/>
                </a:lnTo>
                <a:lnTo>
                  <a:pt x="13" y="3412"/>
                </a:lnTo>
                <a:lnTo>
                  <a:pt x="13" y="3452"/>
                </a:lnTo>
                <a:lnTo>
                  <a:pt x="13" y="3453"/>
                </a:lnTo>
                <a:lnTo>
                  <a:pt x="12" y="3455"/>
                </a:lnTo>
                <a:lnTo>
                  <a:pt x="11" y="3457"/>
                </a:lnTo>
                <a:lnTo>
                  <a:pt x="9" y="3458"/>
                </a:lnTo>
                <a:lnTo>
                  <a:pt x="8" y="3459"/>
                </a:lnTo>
                <a:lnTo>
                  <a:pt x="7" y="3459"/>
                </a:lnTo>
                <a:lnTo>
                  <a:pt x="4" y="3459"/>
                </a:lnTo>
                <a:lnTo>
                  <a:pt x="3" y="3458"/>
                </a:lnTo>
                <a:lnTo>
                  <a:pt x="1" y="3457"/>
                </a:lnTo>
                <a:lnTo>
                  <a:pt x="0" y="3455"/>
                </a:lnTo>
                <a:lnTo>
                  <a:pt x="0" y="3453"/>
                </a:lnTo>
                <a:lnTo>
                  <a:pt x="0" y="3452"/>
                </a:lnTo>
                <a:lnTo>
                  <a:pt x="0" y="3452"/>
                </a:lnTo>
                <a:close/>
                <a:moveTo>
                  <a:pt x="0" y="3360"/>
                </a:moveTo>
                <a:lnTo>
                  <a:pt x="0" y="3321"/>
                </a:lnTo>
                <a:lnTo>
                  <a:pt x="0" y="3319"/>
                </a:lnTo>
                <a:lnTo>
                  <a:pt x="0" y="3318"/>
                </a:lnTo>
                <a:lnTo>
                  <a:pt x="1" y="3316"/>
                </a:lnTo>
                <a:lnTo>
                  <a:pt x="3" y="3315"/>
                </a:lnTo>
                <a:lnTo>
                  <a:pt x="4" y="3315"/>
                </a:lnTo>
                <a:lnTo>
                  <a:pt x="7" y="3315"/>
                </a:lnTo>
                <a:lnTo>
                  <a:pt x="8" y="3315"/>
                </a:lnTo>
                <a:lnTo>
                  <a:pt x="9" y="3315"/>
                </a:lnTo>
                <a:lnTo>
                  <a:pt x="11" y="3316"/>
                </a:lnTo>
                <a:lnTo>
                  <a:pt x="12" y="3318"/>
                </a:lnTo>
                <a:lnTo>
                  <a:pt x="13" y="3319"/>
                </a:lnTo>
                <a:lnTo>
                  <a:pt x="13" y="3321"/>
                </a:lnTo>
                <a:lnTo>
                  <a:pt x="13" y="3360"/>
                </a:lnTo>
                <a:lnTo>
                  <a:pt x="13" y="3361"/>
                </a:lnTo>
                <a:lnTo>
                  <a:pt x="12" y="3363"/>
                </a:lnTo>
                <a:lnTo>
                  <a:pt x="11" y="3365"/>
                </a:lnTo>
                <a:lnTo>
                  <a:pt x="9" y="3366"/>
                </a:lnTo>
                <a:lnTo>
                  <a:pt x="8" y="3366"/>
                </a:lnTo>
                <a:lnTo>
                  <a:pt x="7" y="3367"/>
                </a:lnTo>
                <a:lnTo>
                  <a:pt x="4" y="3366"/>
                </a:lnTo>
                <a:lnTo>
                  <a:pt x="3" y="3366"/>
                </a:lnTo>
                <a:lnTo>
                  <a:pt x="1" y="3365"/>
                </a:lnTo>
                <a:lnTo>
                  <a:pt x="0" y="3363"/>
                </a:lnTo>
                <a:lnTo>
                  <a:pt x="0" y="3361"/>
                </a:lnTo>
                <a:lnTo>
                  <a:pt x="0" y="3360"/>
                </a:lnTo>
                <a:lnTo>
                  <a:pt x="0" y="3360"/>
                </a:lnTo>
                <a:close/>
                <a:moveTo>
                  <a:pt x="0" y="3268"/>
                </a:moveTo>
                <a:lnTo>
                  <a:pt x="0" y="3228"/>
                </a:lnTo>
                <a:lnTo>
                  <a:pt x="0" y="3227"/>
                </a:lnTo>
                <a:lnTo>
                  <a:pt x="0" y="3226"/>
                </a:lnTo>
                <a:lnTo>
                  <a:pt x="1" y="3224"/>
                </a:lnTo>
                <a:lnTo>
                  <a:pt x="3" y="3223"/>
                </a:lnTo>
                <a:lnTo>
                  <a:pt x="4" y="3222"/>
                </a:lnTo>
                <a:lnTo>
                  <a:pt x="7" y="3222"/>
                </a:lnTo>
                <a:lnTo>
                  <a:pt x="8" y="3222"/>
                </a:lnTo>
                <a:lnTo>
                  <a:pt x="9" y="3223"/>
                </a:lnTo>
                <a:lnTo>
                  <a:pt x="11" y="3224"/>
                </a:lnTo>
                <a:lnTo>
                  <a:pt x="12" y="3226"/>
                </a:lnTo>
                <a:lnTo>
                  <a:pt x="13" y="3227"/>
                </a:lnTo>
                <a:lnTo>
                  <a:pt x="13" y="3228"/>
                </a:lnTo>
                <a:lnTo>
                  <a:pt x="13" y="3268"/>
                </a:lnTo>
                <a:lnTo>
                  <a:pt x="13" y="3269"/>
                </a:lnTo>
                <a:lnTo>
                  <a:pt x="12" y="3270"/>
                </a:lnTo>
                <a:lnTo>
                  <a:pt x="11" y="3272"/>
                </a:lnTo>
                <a:lnTo>
                  <a:pt x="9" y="3274"/>
                </a:lnTo>
                <a:lnTo>
                  <a:pt x="8" y="3275"/>
                </a:lnTo>
                <a:lnTo>
                  <a:pt x="7" y="3275"/>
                </a:lnTo>
                <a:lnTo>
                  <a:pt x="4" y="3275"/>
                </a:lnTo>
                <a:lnTo>
                  <a:pt x="3" y="3274"/>
                </a:lnTo>
                <a:lnTo>
                  <a:pt x="1" y="3272"/>
                </a:lnTo>
                <a:lnTo>
                  <a:pt x="0" y="3270"/>
                </a:lnTo>
                <a:lnTo>
                  <a:pt x="0" y="3269"/>
                </a:lnTo>
                <a:lnTo>
                  <a:pt x="0" y="3268"/>
                </a:lnTo>
                <a:lnTo>
                  <a:pt x="0" y="3268"/>
                </a:lnTo>
                <a:close/>
                <a:moveTo>
                  <a:pt x="0" y="3176"/>
                </a:moveTo>
                <a:lnTo>
                  <a:pt x="0" y="3137"/>
                </a:lnTo>
                <a:lnTo>
                  <a:pt x="0" y="3135"/>
                </a:lnTo>
                <a:lnTo>
                  <a:pt x="0" y="3134"/>
                </a:lnTo>
                <a:lnTo>
                  <a:pt x="1" y="3131"/>
                </a:lnTo>
                <a:lnTo>
                  <a:pt x="3" y="3130"/>
                </a:lnTo>
                <a:lnTo>
                  <a:pt x="4" y="3130"/>
                </a:lnTo>
                <a:lnTo>
                  <a:pt x="7" y="3130"/>
                </a:lnTo>
                <a:lnTo>
                  <a:pt x="8" y="3130"/>
                </a:lnTo>
                <a:lnTo>
                  <a:pt x="9" y="3130"/>
                </a:lnTo>
                <a:lnTo>
                  <a:pt x="11" y="3131"/>
                </a:lnTo>
                <a:lnTo>
                  <a:pt x="12" y="3134"/>
                </a:lnTo>
                <a:lnTo>
                  <a:pt x="13" y="3135"/>
                </a:lnTo>
                <a:lnTo>
                  <a:pt x="13" y="3137"/>
                </a:lnTo>
                <a:lnTo>
                  <a:pt x="13" y="3176"/>
                </a:lnTo>
                <a:lnTo>
                  <a:pt x="13" y="3177"/>
                </a:lnTo>
                <a:lnTo>
                  <a:pt x="12" y="3179"/>
                </a:lnTo>
                <a:lnTo>
                  <a:pt x="11" y="3181"/>
                </a:lnTo>
                <a:lnTo>
                  <a:pt x="9" y="3182"/>
                </a:lnTo>
                <a:lnTo>
                  <a:pt x="8" y="3182"/>
                </a:lnTo>
                <a:lnTo>
                  <a:pt x="7" y="3183"/>
                </a:lnTo>
                <a:lnTo>
                  <a:pt x="4" y="3182"/>
                </a:lnTo>
                <a:lnTo>
                  <a:pt x="3" y="3182"/>
                </a:lnTo>
                <a:lnTo>
                  <a:pt x="1" y="3181"/>
                </a:lnTo>
                <a:lnTo>
                  <a:pt x="0" y="3179"/>
                </a:lnTo>
                <a:lnTo>
                  <a:pt x="0" y="3177"/>
                </a:lnTo>
                <a:lnTo>
                  <a:pt x="0" y="3176"/>
                </a:lnTo>
                <a:lnTo>
                  <a:pt x="0" y="3176"/>
                </a:lnTo>
                <a:close/>
                <a:moveTo>
                  <a:pt x="0" y="3084"/>
                </a:moveTo>
                <a:lnTo>
                  <a:pt x="0" y="3044"/>
                </a:lnTo>
                <a:lnTo>
                  <a:pt x="0" y="3043"/>
                </a:lnTo>
                <a:lnTo>
                  <a:pt x="0" y="3042"/>
                </a:lnTo>
                <a:lnTo>
                  <a:pt x="1" y="3040"/>
                </a:lnTo>
                <a:lnTo>
                  <a:pt x="3" y="3039"/>
                </a:lnTo>
                <a:lnTo>
                  <a:pt x="4" y="3038"/>
                </a:lnTo>
                <a:lnTo>
                  <a:pt x="7" y="3038"/>
                </a:lnTo>
                <a:lnTo>
                  <a:pt x="8" y="3038"/>
                </a:lnTo>
                <a:lnTo>
                  <a:pt x="9" y="3039"/>
                </a:lnTo>
                <a:lnTo>
                  <a:pt x="11" y="3040"/>
                </a:lnTo>
                <a:lnTo>
                  <a:pt x="12" y="3042"/>
                </a:lnTo>
                <a:lnTo>
                  <a:pt x="13" y="3043"/>
                </a:lnTo>
                <a:lnTo>
                  <a:pt x="13" y="3044"/>
                </a:lnTo>
                <a:lnTo>
                  <a:pt x="13" y="3084"/>
                </a:lnTo>
                <a:lnTo>
                  <a:pt x="13" y="3085"/>
                </a:lnTo>
                <a:lnTo>
                  <a:pt x="12" y="3086"/>
                </a:lnTo>
                <a:lnTo>
                  <a:pt x="11" y="3088"/>
                </a:lnTo>
                <a:lnTo>
                  <a:pt x="9" y="3089"/>
                </a:lnTo>
                <a:lnTo>
                  <a:pt x="8" y="3090"/>
                </a:lnTo>
                <a:lnTo>
                  <a:pt x="7" y="3090"/>
                </a:lnTo>
                <a:lnTo>
                  <a:pt x="4" y="3090"/>
                </a:lnTo>
                <a:lnTo>
                  <a:pt x="3" y="3089"/>
                </a:lnTo>
                <a:lnTo>
                  <a:pt x="1" y="3088"/>
                </a:lnTo>
                <a:lnTo>
                  <a:pt x="0" y="3086"/>
                </a:lnTo>
                <a:lnTo>
                  <a:pt x="0" y="3085"/>
                </a:lnTo>
                <a:lnTo>
                  <a:pt x="0" y="3084"/>
                </a:lnTo>
                <a:lnTo>
                  <a:pt x="0" y="3084"/>
                </a:lnTo>
                <a:close/>
                <a:moveTo>
                  <a:pt x="0" y="2992"/>
                </a:moveTo>
                <a:lnTo>
                  <a:pt x="0" y="2953"/>
                </a:lnTo>
                <a:lnTo>
                  <a:pt x="0" y="2951"/>
                </a:lnTo>
                <a:lnTo>
                  <a:pt x="0" y="2949"/>
                </a:lnTo>
                <a:lnTo>
                  <a:pt x="1" y="2947"/>
                </a:lnTo>
                <a:lnTo>
                  <a:pt x="3" y="2946"/>
                </a:lnTo>
                <a:lnTo>
                  <a:pt x="4" y="2946"/>
                </a:lnTo>
                <a:lnTo>
                  <a:pt x="7" y="2946"/>
                </a:lnTo>
                <a:lnTo>
                  <a:pt x="8" y="2946"/>
                </a:lnTo>
                <a:lnTo>
                  <a:pt x="9" y="2946"/>
                </a:lnTo>
                <a:lnTo>
                  <a:pt x="11" y="2947"/>
                </a:lnTo>
                <a:lnTo>
                  <a:pt x="12" y="2949"/>
                </a:lnTo>
                <a:lnTo>
                  <a:pt x="13" y="2951"/>
                </a:lnTo>
                <a:lnTo>
                  <a:pt x="13" y="2953"/>
                </a:lnTo>
                <a:lnTo>
                  <a:pt x="13" y="2992"/>
                </a:lnTo>
                <a:lnTo>
                  <a:pt x="13" y="2993"/>
                </a:lnTo>
                <a:lnTo>
                  <a:pt x="12" y="2995"/>
                </a:lnTo>
                <a:lnTo>
                  <a:pt x="11" y="2997"/>
                </a:lnTo>
                <a:lnTo>
                  <a:pt x="9" y="2998"/>
                </a:lnTo>
                <a:lnTo>
                  <a:pt x="8" y="2998"/>
                </a:lnTo>
                <a:lnTo>
                  <a:pt x="7" y="2999"/>
                </a:lnTo>
                <a:lnTo>
                  <a:pt x="4" y="2998"/>
                </a:lnTo>
                <a:lnTo>
                  <a:pt x="3" y="2998"/>
                </a:lnTo>
                <a:lnTo>
                  <a:pt x="1" y="2997"/>
                </a:lnTo>
                <a:lnTo>
                  <a:pt x="0" y="2995"/>
                </a:lnTo>
                <a:lnTo>
                  <a:pt x="0" y="2993"/>
                </a:lnTo>
                <a:lnTo>
                  <a:pt x="0" y="2992"/>
                </a:lnTo>
                <a:lnTo>
                  <a:pt x="0" y="2992"/>
                </a:lnTo>
                <a:close/>
                <a:moveTo>
                  <a:pt x="0" y="2900"/>
                </a:moveTo>
                <a:lnTo>
                  <a:pt x="0" y="2860"/>
                </a:lnTo>
                <a:lnTo>
                  <a:pt x="0" y="2859"/>
                </a:lnTo>
                <a:lnTo>
                  <a:pt x="0" y="2858"/>
                </a:lnTo>
                <a:lnTo>
                  <a:pt x="1" y="2856"/>
                </a:lnTo>
                <a:lnTo>
                  <a:pt x="3" y="2855"/>
                </a:lnTo>
                <a:lnTo>
                  <a:pt x="4" y="2854"/>
                </a:lnTo>
                <a:lnTo>
                  <a:pt x="7" y="2854"/>
                </a:lnTo>
                <a:lnTo>
                  <a:pt x="8" y="2854"/>
                </a:lnTo>
                <a:lnTo>
                  <a:pt x="9" y="2855"/>
                </a:lnTo>
                <a:lnTo>
                  <a:pt x="11" y="2856"/>
                </a:lnTo>
                <a:lnTo>
                  <a:pt x="12" y="2858"/>
                </a:lnTo>
                <a:lnTo>
                  <a:pt x="13" y="2859"/>
                </a:lnTo>
                <a:lnTo>
                  <a:pt x="13" y="2860"/>
                </a:lnTo>
                <a:lnTo>
                  <a:pt x="13" y="2900"/>
                </a:lnTo>
                <a:lnTo>
                  <a:pt x="13" y="2901"/>
                </a:lnTo>
                <a:lnTo>
                  <a:pt x="12" y="2902"/>
                </a:lnTo>
                <a:lnTo>
                  <a:pt x="11" y="2904"/>
                </a:lnTo>
                <a:lnTo>
                  <a:pt x="9" y="2905"/>
                </a:lnTo>
                <a:lnTo>
                  <a:pt x="8" y="2906"/>
                </a:lnTo>
                <a:lnTo>
                  <a:pt x="7" y="2906"/>
                </a:lnTo>
                <a:lnTo>
                  <a:pt x="4" y="2906"/>
                </a:lnTo>
                <a:lnTo>
                  <a:pt x="3" y="2905"/>
                </a:lnTo>
                <a:lnTo>
                  <a:pt x="1" y="2904"/>
                </a:lnTo>
                <a:lnTo>
                  <a:pt x="0" y="2902"/>
                </a:lnTo>
                <a:lnTo>
                  <a:pt x="0" y="2901"/>
                </a:lnTo>
                <a:lnTo>
                  <a:pt x="0" y="2900"/>
                </a:lnTo>
                <a:lnTo>
                  <a:pt x="0" y="2900"/>
                </a:lnTo>
                <a:close/>
                <a:moveTo>
                  <a:pt x="0" y="2807"/>
                </a:moveTo>
                <a:lnTo>
                  <a:pt x="0" y="2768"/>
                </a:lnTo>
                <a:lnTo>
                  <a:pt x="0" y="2766"/>
                </a:lnTo>
                <a:lnTo>
                  <a:pt x="0" y="2765"/>
                </a:lnTo>
                <a:lnTo>
                  <a:pt x="1" y="2763"/>
                </a:lnTo>
                <a:lnTo>
                  <a:pt x="3" y="2762"/>
                </a:lnTo>
                <a:lnTo>
                  <a:pt x="4" y="2762"/>
                </a:lnTo>
                <a:lnTo>
                  <a:pt x="7" y="2762"/>
                </a:lnTo>
                <a:lnTo>
                  <a:pt x="8" y="2762"/>
                </a:lnTo>
                <a:lnTo>
                  <a:pt x="9" y="2762"/>
                </a:lnTo>
                <a:lnTo>
                  <a:pt x="11" y="2763"/>
                </a:lnTo>
                <a:lnTo>
                  <a:pt x="12" y="2765"/>
                </a:lnTo>
                <a:lnTo>
                  <a:pt x="13" y="2766"/>
                </a:lnTo>
                <a:lnTo>
                  <a:pt x="13" y="2768"/>
                </a:lnTo>
                <a:lnTo>
                  <a:pt x="13" y="2807"/>
                </a:lnTo>
                <a:lnTo>
                  <a:pt x="13" y="2808"/>
                </a:lnTo>
                <a:lnTo>
                  <a:pt x="12" y="2811"/>
                </a:lnTo>
                <a:lnTo>
                  <a:pt x="11" y="2813"/>
                </a:lnTo>
                <a:lnTo>
                  <a:pt x="9" y="2814"/>
                </a:lnTo>
                <a:lnTo>
                  <a:pt x="8" y="2814"/>
                </a:lnTo>
                <a:lnTo>
                  <a:pt x="7" y="2815"/>
                </a:lnTo>
                <a:lnTo>
                  <a:pt x="4" y="2814"/>
                </a:lnTo>
                <a:lnTo>
                  <a:pt x="3" y="2814"/>
                </a:lnTo>
                <a:lnTo>
                  <a:pt x="1" y="2813"/>
                </a:lnTo>
                <a:lnTo>
                  <a:pt x="0" y="2811"/>
                </a:lnTo>
                <a:lnTo>
                  <a:pt x="0" y="2808"/>
                </a:lnTo>
                <a:lnTo>
                  <a:pt x="0" y="2807"/>
                </a:lnTo>
                <a:lnTo>
                  <a:pt x="0" y="2807"/>
                </a:lnTo>
                <a:close/>
                <a:moveTo>
                  <a:pt x="0" y="2716"/>
                </a:moveTo>
                <a:lnTo>
                  <a:pt x="0" y="2676"/>
                </a:lnTo>
                <a:lnTo>
                  <a:pt x="0" y="2675"/>
                </a:lnTo>
                <a:lnTo>
                  <a:pt x="0" y="2674"/>
                </a:lnTo>
                <a:lnTo>
                  <a:pt x="1" y="2672"/>
                </a:lnTo>
                <a:lnTo>
                  <a:pt x="3" y="2671"/>
                </a:lnTo>
                <a:lnTo>
                  <a:pt x="4" y="2670"/>
                </a:lnTo>
                <a:lnTo>
                  <a:pt x="7" y="2670"/>
                </a:lnTo>
                <a:lnTo>
                  <a:pt x="8" y="2670"/>
                </a:lnTo>
                <a:lnTo>
                  <a:pt x="9" y="2671"/>
                </a:lnTo>
                <a:lnTo>
                  <a:pt x="11" y="2672"/>
                </a:lnTo>
                <a:lnTo>
                  <a:pt x="12" y="2674"/>
                </a:lnTo>
                <a:lnTo>
                  <a:pt x="13" y="2675"/>
                </a:lnTo>
                <a:lnTo>
                  <a:pt x="13" y="2676"/>
                </a:lnTo>
                <a:lnTo>
                  <a:pt x="13" y="2716"/>
                </a:lnTo>
                <a:lnTo>
                  <a:pt x="13" y="2717"/>
                </a:lnTo>
                <a:lnTo>
                  <a:pt x="12" y="2718"/>
                </a:lnTo>
                <a:lnTo>
                  <a:pt x="11" y="2720"/>
                </a:lnTo>
                <a:lnTo>
                  <a:pt x="9" y="2721"/>
                </a:lnTo>
                <a:lnTo>
                  <a:pt x="8" y="2722"/>
                </a:lnTo>
                <a:lnTo>
                  <a:pt x="7" y="2722"/>
                </a:lnTo>
                <a:lnTo>
                  <a:pt x="4" y="2722"/>
                </a:lnTo>
                <a:lnTo>
                  <a:pt x="3" y="2721"/>
                </a:lnTo>
                <a:lnTo>
                  <a:pt x="1" y="2720"/>
                </a:lnTo>
                <a:lnTo>
                  <a:pt x="0" y="2718"/>
                </a:lnTo>
                <a:lnTo>
                  <a:pt x="0" y="2717"/>
                </a:lnTo>
                <a:lnTo>
                  <a:pt x="0" y="2716"/>
                </a:lnTo>
                <a:lnTo>
                  <a:pt x="0" y="2716"/>
                </a:lnTo>
                <a:close/>
                <a:moveTo>
                  <a:pt x="0" y="2623"/>
                </a:moveTo>
                <a:lnTo>
                  <a:pt x="0" y="2584"/>
                </a:lnTo>
                <a:lnTo>
                  <a:pt x="0" y="2582"/>
                </a:lnTo>
                <a:lnTo>
                  <a:pt x="0" y="2581"/>
                </a:lnTo>
                <a:lnTo>
                  <a:pt x="1" y="2579"/>
                </a:lnTo>
                <a:lnTo>
                  <a:pt x="3" y="2578"/>
                </a:lnTo>
                <a:lnTo>
                  <a:pt x="4" y="2578"/>
                </a:lnTo>
                <a:lnTo>
                  <a:pt x="7" y="2578"/>
                </a:lnTo>
                <a:lnTo>
                  <a:pt x="8" y="2578"/>
                </a:lnTo>
                <a:lnTo>
                  <a:pt x="9" y="2578"/>
                </a:lnTo>
                <a:lnTo>
                  <a:pt x="11" y="2579"/>
                </a:lnTo>
                <a:lnTo>
                  <a:pt x="12" y="2581"/>
                </a:lnTo>
                <a:lnTo>
                  <a:pt x="13" y="2582"/>
                </a:lnTo>
                <a:lnTo>
                  <a:pt x="13" y="2584"/>
                </a:lnTo>
                <a:lnTo>
                  <a:pt x="13" y="2623"/>
                </a:lnTo>
                <a:lnTo>
                  <a:pt x="13" y="2624"/>
                </a:lnTo>
                <a:lnTo>
                  <a:pt x="12" y="2626"/>
                </a:lnTo>
                <a:lnTo>
                  <a:pt x="11" y="2629"/>
                </a:lnTo>
                <a:lnTo>
                  <a:pt x="9" y="2630"/>
                </a:lnTo>
                <a:lnTo>
                  <a:pt x="8" y="2630"/>
                </a:lnTo>
                <a:lnTo>
                  <a:pt x="7" y="2631"/>
                </a:lnTo>
                <a:lnTo>
                  <a:pt x="4" y="2630"/>
                </a:lnTo>
                <a:lnTo>
                  <a:pt x="3" y="2630"/>
                </a:lnTo>
                <a:lnTo>
                  <a:pt x="1" y="2629"/>
                </a:lnTo>
                <a:lnTo>
                  <a:pt x="0" y="2626"/>
                </a:lnTo>
                <a:lnTo>
                  <a:pt x="0" y="2624"/>
                </a:lnTo>
                <a:lnTo>
                  <a:pt x="0" y="2623"/>
                </a:lnTo>
                <a:lnTo>
                  <a:pt x="0" y="2623"/>
                </a:lnTo>
                <a:close/>
                <a:moveTo>
                  <a:pt x="0" y="2532"/>
                </a:moveTo>
                <a:lnTo>
                  <a:pt x="0" y="2492"/>
                </a:lnTo>
                <a:lnTo>
                  <a:pt x="0" y="2491"/>
                </a:lnTo>
                <a:lnTo>
                  <a:pt x="0" y="2490"/>
                </a:lnTo>
                <a:lnTo>
                  <a:pt x="1" y="2488"/>
                </a:lnTo>
                <a:lnTo>
                  <a:pt x="3" y="2487"/>
                </a:lnTo>
                <a:lnTo>
                  <a:pt x="4" y="2485"/>
                </a:lnTo>
                <a:lnTo>
                  <a:pt x="7" y="2485"/>
                </a:lnTo>
                <a:lnTo>
                  <a:pt x="8" y="2485"/>
                </a:lnTo>
                <a:lnTo>
                  <a:pt x="9" y="2487"/>
                </a:lnTo>
                <a:lnTo>
                  <a:pt x="11" y="2488"/>
                </a:lnTo>
                <a:lnTo>
                  <a:pt x="12" y="2490"/>
                </a:lnTo>
                <a:lnTo>
                  <a:pt x="13" y="2491"/>
                </a:lnTo>
                <a:lnTo>
                  <a:pt x="13" y="2492"/>
                </a:lnTo>
                <a:lnTo>
                  <a:pt x="13" y="2532"/>
                </a:lnTo>
                <a:lnTo>
                  <a:pt x="13" y="2533"/>
                </a:lnTo>
                <a:lnTo>
                  <a:pt x="12" y="2534"/>
                </a:lnTo>
                <a:lnTo>
                  <a:pt x="11" y="2536"/>
                </a:lnTo>
                <a:lnTo>
                  <a:pt x="9" y="2537"/>
                </a:lnTo>
                <a:lnTo>
                  <a:pt x="8" y="2538"/>
                </a:lnTo>
                <a:lnTo>
                  <a:pt x="7" y="2538"/>
                </a:lnTo>
                <a:lnTo>
                  <a:pt x="4" y="2538"/>
                </a:lnTo>
                <a:lnTo>
                  <a:pt x="3" y="2537"/>
                </a:lnTo>
                <a:lnTo>
                  <a:pt x="1" y="2536"/>
                </a:lnTo>
                <a:lnTo>
                  <a:pt x="0" y="2534"/>
                </a:lnTo>
                <a:lnTo>
                  <a:pt x="0" y="2533"/>
                </a:lnTo>
                <a:lnTo>
                  <a:pt x="0" y="2532"/>
                </a:lnTo>
                <a:lnTo>
                  <a:pt x="0" y="2532"/>
                </a:lnTo>
                <a:close/>
                <a:moveTo>
                  <a:pt x="0" y="2439"/>
                </a:moveTo>
                <a:lnTo>
                  <a:pt x="0" y="2400"/>
                </a:lnTo>
                <a:lnTo>
                  <a:pt x="0" y="2398"/>
                </a:lnTo>
                <a:lnTo>
                  <a:pt x="0" y="2397"/>
                </a:lnTo>
                <a:lnTo>
                  <a:pt x="1" y="2395"/>
                </a:lnTo>
                <a:lnTo>
                  <a:pt x="3" y="2394"/>
                </a:lnTo>
                <a:lnTo>
                  <a:pt x="4" y="2394"/>
                </a:lnTo>
                <a:lnTo>
                  <a:pt x="7" y="2394"/>
                </a:lnTo>
                <a:lnTo>
                  <a:pt x="8" y="2394"/>
                </a:lnTo>
                <a:lnTo>
                  <a:pt x="9" y="2394"/>
                </a:lnTo>
                <a:lnTo>
                  <a:pt x="11" y="2395"/>
                </a:lnTo>
                <a:lnTo>
                  <a:pt x="12" y="2397"/>
                </a:lnTo>
                <a:lnTo>
                  <a:pt x="13" y="2398"/>
                </a:lnTo>
                <a:lnTo>
                  <a:pt x="13" y="2400"/>
                </a:lnTo>
                <a:lnTo>
                  <a:pt x="13" y="2439"/>
                </a:lnTo>
                <a:lnTo>
                  <a:pt x="13" y="2440"/>
                </a:lnTo>
                <a:lnTo>
                  <a:pt x="12" y="2442"/>
                </a:lnTo>
                <a:lnTo>
                  <a:pt x="11" y="2444"/>
                </a:lnTo>
                <a:lnTo>
                  <a:pt x="9" y="2445"/>
                </a:lnTo>
                <a:lnTo>
                  <a:pt x="8" y="2445"/>
                </a:lnTo>
                <a:lnTo>
                  <a:pt x="7" y="2447"/>
                </a:lnTo>
                <a:lnTo>
                  <a:pt x="4" y="2445"/>
                </a:lnTo>
                <a:lnTo>
                  <a:pt x="3" y="2445"/>
                </a:lnTo>
                <a:lnTo>
                  <a:pt x="1" y="2444"/>
                </a:lnTo>
                <a:lnTo>
                  <a:pt x="0" y="2442"/>
                </a:lnTo>
                <a:lnTo>
                  <a:pt x="0" y="2440"/>
                </a:lnTo>
                <a:lnTo>
                  <a:pt x="0" y="2439"/>
                </a:lnTo>
                <a:lnTo>
                  <a:pt x="0" y="2439"/>
                </a:lnTo>
                <a:close/>
                <a:moveTo>
                  <a:pt x="0" y="2348"/>
                </a:moveTo>
                <a:lnTo>
                  <a:pt x="0" y="2308"/>
                </a:lnTo>
                <a:lnTo>
                  <a:pt x="0" y="2307"/>
                </a:lnTo>
                <a:lnTo>
                  <a:pt x="0" y="2306"/>
                </a:lnTo>
                <a:lnTo>
                  <a:pt x="1" y="2303"/>
                </a:lnTo>
                <a:lnTo>
                  <a:pt x="3" y="2302"/>
                </a:lnTo>
                <a:lnTo>
                  <a:pt x="4" y="2301"/>
                </a:lnTo>
                <a:lnTo>
                  <a:pt x="7" y="2301"/>
                </a:lnTo>
                <a:lnTo>
                  <a:pt x="8" y="2301"/>
                </a:lnTo>
                <a:lnTo>
                  <a:pt x="9" y="2302"/>
                </a:lnTo>
                <a:lnTo>
                  <a:pt x="11" y="2303"/>
                </a:lnTo>
                <a:lnTo>
                  <a:pt x="12" y="2306"/>
                </a:lnTo>
                <a:lnTo>
                  <a:pt x="13" y="2307"/>
                </a:lnTo>
                <a:lnTo>
                  <a:pt x="13" y="2308"/>
                </a:lnTo>
                <a:lnTo>
                  <a:pt x="13" y="2348"/>
                </a:lnTo>
                <a:lnTo>
                  <a:pt x="13" y="2349"/>
                </a:lnTo>
                <a:lnTo>
                  <a:pt x="12" y="2350"/>
                </a:lnTo>
                <a:lnTo>
                  <a:pt x="11" y="2352"/>
                </a:lnTo>
                <a:lnTo>
                  <a:pt x="9" y="2353"/>
                </a:lnTo>
                <a:lnTo>
                  <a:pt x="8" y="2354"/>
                </a:lnTo>
                <a:lnTo>
                  <a:pt x="7" y="2354"/>
                </a:lnTo>
                <a:lnTo>
                  <a:pt x="4" y="2354"/>
                </a:lnTo>
                <a:lnTo>
                  <a:pt x="3" y="2353"/>
                </a:lnTo>
                <a:lnTo>
                  <a:pt x="1" y="2352"/>
                </a:lnTo>
                <a:lnTo>
                  <a:pt x="0" y="2350"/>
                </a:lnTo>
                <a:lnTo>
                  <a:pt x="0" y="2349"/>
                </a:lnTo>
                <a:lnTo>
                  <a:pt x="0" y="2348"/>
                </a:lnTo>
                <a:lnTo>
                  <a:pt x="0" y="2348"/>
                </a:lnTo>
                <a:close/>
                <a:moveTo>
                  <a:pt x="0" y="2255"/>
                </a:moveTo>
                <a:lnTo>
                  <a:pt x="0" y="2216"/>
                </a:lnTo>
                <a:lnTo>
                  <a:pt x="0" y="2214"/>
                </a:lnTo>
                <a:lnTo>
                  <a:pt x="0" y="2213"/>
                </a:lnTo>
                <a:lnTo>
                  <a:pt x="1" y="2211"/>
                </a:lnTo>
                <a:lnTo>
                  <a:pt x="3" y="2210"/>
                </a:lnTo>
                <a:lnTo>
                  <a:pt x="4" y="2210"/>
                </a:lnTo>
                <a:lnTo>
                  <a:pt x="7" y="2210"/>
                </a:lnTo>
                <a:lnTo>
                  <a:pt x="8" y="2210"/>
                </a:lnTo>
                <a:lnTo>
                  <a:pt x="9" y="2210"/>
                </a:lnTo>
                <a:lnTo>
                  <a:pt x="11" y="2211"/>
                </a:lnTo>
                <a:lnTo>
                  <a:pt x="12" y="2213"/>
                </a:lnTo>
                <a:lnTo>
                  <a:pt x="13" y="2214"/>
                </a:lnTo>
                <a:lnTo>
                  <a:pt x="13" y="2216"/>
                </a:lnTo>
                <a:lnTo>
                  <a:pt x="13" y="2255"/>
                </a:lnTo>
                <a:lnTo>
                  <a:pt x="13" y="2256"/>
                </a:lnTo>
                <a:lnTo>
                  <a:pt x="12" y="2258"/>
                </a:lnTo>
                <a:lnTo>
                  <a:pt x="11" y="2260"/>
                </a:lnTo>
                <a:lnTo>
                  <a:pt x="9" y="2261"/>
                </a:lnTo>
                <a:lnTo>
                  <a:pt x="8" y="2261"/>
                </a:lnTo>
                <a:lnTo>
                  <a:pt x="7" y="2262"/>
                </a:lnTo>
                <a:lnTo>
                  <a:pt x="4" y="2261"/>
                </a:lnTo>
                <a:lnTo>
                  <a:pt x="3" y="2261"/>
                </a:lnTo>
                <a:lnTo>
                  <a:pt x="1" y="2260"/>
                </a:lnTo>
                <a:lnTo>
                  <a:pt x="0" y="2258"/>
                </a:lnTo>
                <a:lnTo>
                  <a:pt x="0" y="2256"/>
                </a:lnTo>
                <a:lnTo>
                  <a:pt x="0" y="2255"/>
                </a:lnTo>
                <a:lnTo>
                  <a:pt x="0" y="2255"/>
                </a:lnTo>
                <a:close/>
                <a:moveTo>
                  <a:pt x="0" y="2163"/>
                </a:moveTo>
                <a:lnTo>
                  <a:pt x="0" y="2124"/>
                </a:lnTo>
                <a:lnTo>
                  <a:pt x="0" y="2122"/>
                </a:lnTo>
                <a:lnTo>
                  <a:pt x="0" y="2121"/>
                </a:lnTo>
                <a:lnTo>
                  <a:pt x="1" y="2119"/>
                </a:lnTo>
                <a:lnTo>
                  <a:pt x="3" y="2118"/>
                </a:lnTo>
                <a:lnTo>
                  <a:pt x="4" y="2117"/>
                </a:lnTo>
                <a:lnTo>
                  <a:pt x="7" y="2117"/>
                </a:lnTo>
                <a:lnTo>
                  <a:pt x="8" y="2117"/>
                </a:lnTo>
                <a:lnTo>
                  <a:pt x="9" y="2118"/>
                </a:lnTo>
                <a:lnTo>
                  <a:pt x="11" y="2119"/>
                </a:lnTo>
                <a:lnTo>
                  <a:pt x="12" y="2121"/>
                </a:lnTo>
                <a:lnTo>
                  <a:pt x="13" y="2122"/>
                </a:lnTo>
                <a:lnTo>
                  <a:pt x="13" y="2124"/>
                </a:lnTo>
                <a:lnTo>
                  <a:pt x="13" y="2163"/>
                </a:lnTo>
                <a:lnTo>
                  <a:pt x="13" y="2165"/>
                </a:lnTo>
                <a:lnTo>
                  <a:pt x="12" y="2166"/>
                </a:lnTo>
                <a:lnTo>
                  <a:pt x="11" y="2168"/>
                </a:lnTo>
                <a:lnTo>
                  <a:pt x="9" y="2169"/>
                </a:lnTo>
                <a:lnTo>
                  <a:pt x="8" y="2170"/>
                </a:lnTo>
                <a:lnTo>
                  <a:pt x="7" y="2170"/>
                </a:lnTo>
                <a:lnTo>
                  <a:pt x="4" y="2170"/>
                </a:lnTo>
                <a:lnTo>
                  <a:pt x="3" y="2169"/>
                </a:lnTo>
                <a:lnTo>
                  <a:pt x="1" y="2168"/>
                </a:lnTo>
                <a:lnTo>
                  <a:pt x="0" y="2166"/>
                </a:lnTo>
                <a:lnTo>
                  <a:pt x="0" y="2165"/>
                </a:lnTo>
                <a:lnTo>
                  <a:pt x="0" y="2163"/>
                </a:lnTo>
                <a:lnTo>
                  <a:pt x="0" y="2163"/>
                </a:lnTo>
                <a:close/>
                <a:moveTo>
                  <a:pt x="0" y="2071"/>
                </a:moveTo>
                <a:lnTo>
                  <a:pt x="0" y="2032"/>
                </a:lnTo>
                <a:lnTo>
                  <a:pt x="0" y="2030"/>
                </a:lnTo>
                <a:lnTo>
                  <a:pt x="0" y="2029"/>
                </a:lnTo>
                <a:lnTo>
                  <a:pt x="1" y="2027"/>
                </a:lnTo>
                <a:lnTo>
                  <a:pt x="3" y="2026"/>
                </a:lnTo>
                <a:lnTo>
                  <a:pt x="4" y="2026"/>
                </a:lnTo>
                <a:lnTo>
                  <a:pt x="7" y="2026"/>
                </a:lnTo>
                <a:lnTo>
                  <a:pt x="8" y="2026"/>
                </a:lnTo>
                <a:lnTo>
                  <a:pt x="9" y="2026"/>
                </a:lnTo>
                <a:lnTo>
                  <a:pt x="11" y="2027"/>
                </a:lnTo>
                <a:lnTo>
                  <a:pt x="12" y="2029"/>
                </a:lnTo>
                <a:lnTo>
                  <a:pt x="13" y="2030"/>
                </a:lnTo>
                <a:lnTo>
                  <a:pt x="13" y="2032"/>
                </a:lnTo>
                <a:lnTo>
                  <a:pt x="13" y="2071"/>
                </a:lnTo>
                <a:lnTo>
                  <a:pt x="13" y="2072"/>
                </a:lnTo>
                <a:lnTo>
                  <a:pt x="12" y="2074"/>
                </a:lnTo>
                <a:lnTo>
                  <a:pt x="11" y="2076"/>
                </a:lnTo>
                <a:lnTo>
                  <a:pt x="9" y="2077"/>
                </a:lnTo>
                <a:lnTo>
                  <a:pt x="8" y="2077"/>
                </a:lnTo>
                <a:lnTo>
                  <a:pt x="7" y="2078"/>
                </a:lnTo>
                <a:lnTo>
                  <a:pt x="4" y="2077"/>
                </a:lnTo>
                <a:lnTo>
                  <a:pt x="3" y="2077"/>
                </a:lnTo>
                <a:lnTo>
                  <a:pt x="1" y="2076"/>
                </a:lnTo>
                <a:lnTo>
                  <a:pt x="0" y="2074"/>
                </a:lnTo>
                <a:lnTo>
                  <a:pt x="0" y="2072"/>
                </a:lnTo>
                <a:lnTo>
                  <a:pt x="0" y="2071"/>
                </a:lnTo>
                <a:lnTo>
                  <a:pt x="0" y="2071"/>
                </a:lnTo>
                <a:close/>
                <a:moveTo>
                  <a:pt x="0" y="1979"/>
                </a:moveTo>
                <a:lnTo>
                  <a:pt x="0" y="1939"/>
                </a:lnTo>
                <a:lnTo>
                  <a:pt x="0" y="1938"/>
                </a:lnTo>
                <a:lnTo>
                  <a:pt x="0" y="1937"/>
                </a:lnTo>
                <a:lnTo>
                  <a:pt x="1" y="1935"/>
                </a:lnTo>
                <a:lnTo>
                  <a:pt x="3" y="1934"/>
                </a:lnTo>
                <a:lnTo>
                  <a:pt x="4" y="1933"/>
                </a:lnTo>
                <a:lnTo>
                  <a:pt x="7" y="1933"/>
                </a:lnTo>
                <a:lnTo>
                  <a:pt x="8" y="1933"/>
                </a:lnTo>
                <a:lnTo>
                  <a:pt x="9" y="1934"/>
                </a:lnTo>
                <a:lnTo>
                  <a:pt x="11" y="1935"/>
                </a:lnTo>
                <a:lnTo>
                  <a:pt x="12" y="1937"/>
                </a:lnTo>
                <a:lnTo>
                  <a:pt x="13" y="1938"/>
                </a:lnTo>
                <a:lnTo>
                  <a:pt x="13" y="1939"/>
                </a:lnTo>
                <a:lnTo>
                  <a:pt x="13" y="1979"/>
                </a:lnTo>
                <a:lnTo>
                  <a:pt x="13" y="1980"/>
                </a:lnTo>
                <a:lnTo>
                  <a:pt x="12" y="1981"/>
                </a:lnTo>
                <a:lnTo>
                  <a:pt x="11" y="1984"/>
                </a:lnTo>
                <a:lnTo>
                  <a:pt x="9" y="1985"/>
                </a:lnTo>
                <a:lnTo>
                  <a:pt x="8" y="1986"/>
                </a:lnTo>
                <a:lnTo>
                  <a:pt x="7" y="1986"/>
                </a:lnTo>
                <a:lnTo>
                  <a:pt x="4" y="1986"/>
                </a:lnTo>
                <a:lnTo>
                  <a:pt x="3" y="1985"/>
                </a:lnTo>
                <a:lnTo>
                  <a:pt x="1" y="1984"/>
                </a:lnTo>
                <a:lnTo>
                  <a:pt x="0" y="1981"/>
                </a:lnTo>
                <a:lnTo>
                  <a:pt x="0" y="1980"/>
                </a:lnTo>
                <a:lnTo>
                  <a:pt x="0" y="1979"/>
                </a:lnTo>
                <a:lnTo>
                  <a:pt x="0" y="1979"/>
                </a:lnTo>
                <a:close/>
                <a:moveTo>
                  <a:pt x="0" y="1887"/>
                </a:moveTo>
                <a:lnTo>
                  <a:pt x="0" y="1848"/>
                </a:lnTo>
                <a:lnTo>
                  <a:pt x="0" y="1846"/>
                </a:lnTo>
                <a:lnTo>
                  <a:pt x="0" y="1845"/>
                </a:lnTo>
                <a:lnTo>
                  <a:pt x="1" y="1843"/>
                </a:lnTo>
                <a:lnTo>
                  <a:pt x="3" y="1842"/>
                </a:lnTo>
                <a:lnTo>
                  <a:pt x="4" y="1842"/>
                </a:lnTo>
                <a:lnTo>
                  <a:pt x="7" y="1842"/>
                </a:lnTo>
                <a:lnTo>
                  <a:pt x="8" y="1842"/>
                </a:lnTo>
                <a:lnTo>
                  <a:pt x="9" y="1842"/>
                </a:lnTo>
                <a:lnTo>
                  <a:pt x="11" y="1843"/>
                </a:lnTo>
                <a:lnTo>
                  <a:pt x="12" y="1845"/>
                </a:lnTo>
                <a:lnTo>
                  <a:pt x="13" y="1846"/>
                </a:lnTo>
                <a:lnTo>
                  <a:pt x="13" y="1848"/>
                </a:lnTo>
                <a:lnTo>
                  <a:pt x="13" y="1887"/>
                </a:lnTo>
                <a:lnTo>
                  <a:pt x="13" y="1888"/>
                </a:lnTo>
                <a:lnTo>
                  <a:pt x="12" y="1890"/>
                </a:lnTo>
                <a:lnTo>
                  <a:pt x="11" y="1892"/>
                </a:lnTo>
                <a:lnTo>
                  <a:pt x="9" y="1893"/>
                </a:lnTo>
                <a:lnTo>
                  <a:pt x="8" y="1893"/>
                </a:lnTo>
                <a:lnTo>
                  <a:pt x="7" y="1894"/>
                </a:lnTo>
                <a:lnTo>
                  <a:pt x="4" y="1893"/>
                </a:lnTo>
                <a:lnTo>
                  <a:pt x="3" y="1893"/>
                </a:lnTo>
                <a:lnTo>
                  <a:pt x="1" y="1892"/>
                </a:lnTo>
                <a:lnTo>
                  <a:pt x="0" y="1890"/>
                </a:lnTo>
                <a:lnTo>
                  <a:pt x="0" y="1888"/>
                </a:lnTo>
                <a:lnTo>
                  <a:pt x="0" y="1887"/>
                </a:lnTo>
                <a:lnTo>
                  <a:pt x="0" y="1887"/>
                </a:lnTo>
                <a:close/>
                <a:moveTo>
                  <a:pt x="0" y="1795"/>
                </a:moveTo>
                <a:lnTo>
                  <a:pt x="0" y="1755"/>
                </a:lnTo>
                <a:lnTo>
                  <a:pt x="0" y="1754"/>
                </a:lnTo>
                <a:lnTo>
                  <a:pt x="0" y="1753"/>
                </a:lnTo>
                <a:lnTo>
                  <a:pt x="1" y="1751"/>
                </a:lnTo>
                <a:lnTo>
                  <a:pt x="3" y="1750"/>
                </a:lnTo>
                <a:lnTo>
                  <a:pt x="4" y="1749"/>
                </a:lnTo>
                <a:lnTo>
                  <a:pt x="7" y="1749"/>
                </a:lnTo>
                <a:lnTo>
                  <a:pt x="8" y="1749"/>
                </a:lnTo>
                <a:lnTo>
                  <a:pt x="9" y="1750"/>
                </a:lnTo>
                <a:lnTo>
                  <a:pt x="11" y="1751"/>
                </a:lnTo>
                <a:lnTo>
                  <a:pt x="12" y="1753"/>
                </a:lnTo>
                <a:lnTo>
                  <a:pt x="13" y="1754"/>
                </a:lnTo>
                <a:lnTo>
                  <a:pt x="13" y="1755"/>
                </a:lnTo>
                <a:lnTo>
                  <a:pt x="13" y="1795"/>
                </a:lnTo>
                <a:lnTo>
                  <a:pt x="13" y="1796"/>
                </a:lnTo>
                <a:lnTo>
                  <a:pt x="12" y="1797"/>
                </a:lnTo>
                <a:lnTo>
                  <a:pt x="11" y="1799"/>
                </a:lnTo>
                <a:lnTo>
                  <a:pt x="9" y="1800"/>
                </a:lnTo>
                <a:lnTo>
                  <a:pt x="8" y="1802"/>
                </a:lnTo>
                <a:lnTo>
                  <a:pt x="7" y="1802"/>
                </a:lnTo>
                <a:lnTo>
                  <a:pt x="4" y="1802"/>
                </a:lnTo>
                <a:lnTo>
                  <a:pt x="3" y="1800"/>
                </a:lnTo>
                <a:lnTo>
                  <a:pt x="1" y="1799"/>
                </a:lnTo>
                <a:lnTo>
                  <a:pt x="0" y="1797"/>
                </a:lnTo>
                <a:lnTo>
                  <a:pt x="0" y="1796"/>
                </a:lnTo>
                <a:lnTo>
                  <a:pt x="0" y="1795"/>
                </a:lnTo>
                <a:lnTo>
                  <a:pt x="0" y="1795"/>
                </a:lnTo>
                <a:close/>
                <a:moveTo>
                  <a:pt x="0" y="1703"/>
                </a:moveTo>
                <a:lnTo>
                  <a:pt x="0" y="1664"/>
                </a:lnTo>
                <a:lnTo>
                  <a:pt x="0" y="1662"/>
                </a:lnTo>
                <a:lnTo>
                  <a:pt x="0" y="1661"/>
                </a:lnTo>
                <a:lnTo>
                  <a:pt x="1" y="1658"/>
                </a:lnTo>
                <a:lnTo>
                  <a:pt x="3" y="1657"/>
                </a:lnTo>
                <a:lnTo>
                  <a:pt x="4" y="1657"/>
                </a:lnTo>
                <a:lnTo>
                  <a:pt x="7" y="1657"/>
                </a:lnTo>
                <a:lnTo>
                  <a:pt x="8" y="1657"/>
                </a:lnTo>
                <a:lnTo>
                  <a:pt x="9" y="1657"/>
                </a:lnTo>
                <a:lnTo>
                  <a:pt x="11" y="1658"/>
                </a:lnTo>
                <a:lnTo>
                  <a:pt x="12" y="1661"/>
                </a:lnTo>
                <a:lnTo>
                  <a:pt x="13" y="1662"/>
                </a:lnTo>
                <a:lnTo>
                  <a:pt x="13" y="1664"/>
                </a:lnTo>
                <a:lnTo>
                  <a:pt x="13" y="1703"/>
                </a:lnTo>
                <a:lnTo>
                  <a:pt x="13" y="1704"/>
                </a:lnTo>
                <a:lnTo>
                  <a:pt x="12" y="1706"/>
                </a:lnTo>
                <a:lnTo>
                  <a:pt x="11" y="1708"/>
                </a:lnTo>
                <a:lnTo>
                  <a:pt x="9" y="1709"/>
                </a:lnTo>
                <a:lnTo>
                  <a:pt x="8" y="1709"/>
                </a:lnTo>
                <a:lnTo>
                  <a:pt x="7" y="1710"/>
                </a:lnTo>
                <a:lnTo>
                  <a:pt x="4" y="1709"/>
                </a:lnTo>
                <a:lnTo>
                  <a:pt x="3" y="1709"/>
                </a:lnTo>
                <a:lnTo>
                  <a:pt x="1" y="1708"/>
                </a:lnTo>
                <a:lnTo>
                  <a:pt x="0" y="1706"/>
                </a:lnTo>
                <a:lnTo>
                  <a:pt x="0" y="1704"/>
                </a:lnTo>
                <a:lnTo>
                  <a:pt x="0" y="1703"/>
                </a:lnTo>
                <a:lnTo>
                  <a:pt x="0" y="1703"/>
                </a:lnTo>
                <a:close/>
                <a:moveTo>
                  <a:pt x="0" y="1611"/>
                </a:moveTo>
                <a:lnTo>
                  <a:pt x="0" y="1571"/>
                </a:lnTo>
                <a:lnTo>
                  <a:pt x="0" y="1570"/>
                </a:lnTo>
                <a:lnTo>
                  <a:pt x="0" y="1569"/>
                </a:lnTo>
                <a:lnTo>
                  <a:pt x="1" y="1567"/>
                </a:lnTo>
                <a:lnTo>
                  <a:pt x="3" y="1566"/>
                </a:lnTo>
                <a:lnTo>
                  <a:pt x="4" y="1565"/>
                </a:lnTo>
                <a:lnTo>
                  <a:pt x="7" y="1565"/>
                </a:lnTo>
                <a:lnTo>
                  <a:pt x="8" y="1565"/>
                </a:lnTo>
                <a:lnTo>
                  <a:pt x="9" y="1566"/>
                </a:lnTo>
                <a:lnTo>
                  <a:pt x="11" y="1567"/>
                </a:lnTo>
                <a:lnTo>
                  <a:pt x="12" y="1569"/>
                </a:lnTo>
                <a:lnTo>
                  <a:pt x="13" y="1570"/>
                </a:lnTo>
                <a:lnTo>
                  <a:pt x="13" y="1571"/>
                </a:lnTo>
                <a:lnTo>
                  <a:pt x="13" y="1611"/>
                </a:lnTo>
                <a:lnTo>
                  <a:pt x="13" y="1612"/>
                </a:lnTo>
                <a:lnTo>
                  <a:pt x="12" y="1613"/>
                </a:lnTo>
                <a:lnTo>
                  <a:pt x="11" y="1615"/>
                </a:lnTo>
                <a:lnTo>
                  <a:pt x="9" y="1616"/>
                </a:lnTo>
                <a:lnTo>
                  <a:pt x="8" y="1617"/>
                </a:lnTo>
                <a:lnTo>
                  <a:pt x="7" y="1617"/>
                </a:lnTo>
                <a:lnTo>
                  <a:pt x="4" y="1617"/>
                </a:lnTo>
                <a:lnTo>
                  <a:pt x="3" y="1616"/>
                </a:lnTo>
                <a:lnTo>
                  <a:pt x="1" y="1615"/>
                </a:lnTo>
                <a:lnTo>
                  <a:pt x="0" y="1613"/>
                </a:lnTo>
                <a:lnTo>
                  <a:pt x="0" y="1612"/>
                </a:lnTo>
                <a:lnTo>
                  <a:pt x="0" y="1611"/>
                </a:lnTo>
                <a:lnTo>
                  <a:pt x="0" y="1611"/>
                </a:lnTo>
                <a:close/>
                <a:moveTo>
                  <a:pt x="0" y="1519"/>
                </a:moveTo>
                <a:lnTo>
                  <a:pt x="0" y="1480"/>
                </a:lnTo>
                <a:lnTo>
                  <a:pt x="0" y="1477"/>
                </a:lnTo>
                <a:lnTo>
                  <a:pt x="0" y="1476"/>
                </a:lnTo>
                <a:lnTo>
                  <a:pt x="1" y="1474"/>
                </a:lnTo>
                <a:lnTo>
                  <a:pt x="3" y="1473"/>
                </a:lnTo>
                <a:lnTo>
                  <a:pt x="4" y="1473"/>
                </a:lnTo>
                <a:lnTo>
                  <a:pt x="7" y="1473"/>
                </a:lnTo>
                <a:lnTo>
                  <a:pt x="8" y="1473"/>
                </a:lnTo>
                <a:lnTo>
                  <a:pt x="9" y="1473"/>
                </a:lnTo>
                <a:lnTo>
                  <a:pt x="11" y="1474"/>
                </a:lnTo>
                <a:lnTo>
                  <a:pt x="12" y="1476"/>
                </a:lnTo>
                <a:lnTo>
                  <a:pt x="13" y="1477"/>
                </a:lnTo>
                <a:lnTo>
                  <a:pt x="13" y="1480"/>
                </a:lnTo>
                <a:lnTo>
                  <a:pt x="13" y="1519"/>
                </a:lnTo>
                <a:lnTo>
                  <a:pt x="13" y="1520"/>
                </a:lnTo>
                <a:lnTo>
                  <a:pt x="12" y="1522"/>
                </a:lnTo>
                <a:lnTo>
                  <a:pt x="11" y="1524"/>
                </a:lnTo>
                <a:lnTo>
                  <a:pt x="9" y="1525"/>
                </a:lnTo>
                <a:lnTo>
                  <a:pt x="8" y="1525"/>
                </a:lnTo>
                <a:lnTo>
                  <a:pt x="7" y="1526"/>
                </a:lnTo>
                <a:lnTo>
                  <a:pt x="4" y="1525"/>
                </a:lnTo>
                <a:lnTo>
                  <a:pt x="3" y="1525"/>
                </a:lnTo>
                <a:lnTo>
                  <a:pt x="1" y="1524"/>
                </a:lnTo>
                <a:lnTo>
                  <a:pt x="0" y="1522"/>
                </a:lnTo>
                <a:lnTo>
                  <a:pt x="0" y="1520"/>
                </a:lnTo>
                <a:lnTo>
                  <a:pt x="0" y="1519"/>
                </a:lnTo>
                <a:lnTo>
                  <a:pt x="0" y="1519"/>
                </a:lnTo>
                <a:close/>
                <a:moveTo>
                  <a:pt x="0" y="1427"/>
                </a:moveTo>
                <a:lnTo>
                  <a:pt x="0" y="1387"/>
                </a:lnTo>
                <a:lnTo>
                  <a:pt x="0" y="1386"/>
                </a:lnTo>
                <a:lnTo>
                  <a:pt x="0" y="1385"/>
                </a:lnTo>
                <a:lnTo>
                  <a:pt x="1" y="1383"/>
                </a:lnTo>
                <a:lnTo>
                  <a:pt x="3" y="1382"/>
                </a:lnTo>
                <a:lnTo>
                  <a:pt x="4" y="1381"/>
                </a:lnTo>
                <a:lnTo>
                  <a:pt x="7" y="1381"/>
                </a:lnTo>
                <a:lnTo>
                  <a:pt x="8" y="1381"/>
                </a:lnTo>
                <a:lnTo>
                  <a:pt x="9" y="1382"/>
                </a:lnTo>
                <a:lnTo>
                  <a:pt x="11" y="1383"/>
                </a:lnTo>
                <a:lnTo>
                  <a:pt x="12" y="1385"/>
                </a:lnTo>
                <a:lnTo>
                  <a:pt x="13" y="1386"/>
                </a:lnTo>
                <a:lnTo>
                  <a:pt x="13" y="1387"/>
                </a:lnTo>
                <a:lnTo>
                  <a:pt x="13" y="1427"/>
                </a:lnTo>
                <a:lnTo>
                  <a:pt x="13" y="1428"/>
                </a:lnTo>
                <a:lnTo>
                  <a:pt x="12" y="1429"/>
                </a:lnTo>
                <a:lnTo>
                  <a:pt x="11" y="1431"/>
                </a:lnTo>
                <a:lnTo>
                  <a:pt x="9" y="1432"/>
                </a:lnTo>
                <a:lnTo>
                  <a:pt x="8" y="1433"/>
                </a:lnTo>
                <a:lnTo>
                  <a:pt x="7" y="1433"/>
                </a:lnTo>
                <a:lnTo>
                  <a:pt x="4" y="1433"/>
                </a:lnTo>
                <a:lnTo>
                  <a:pt x="3" y="1432"/>
                </a:lnTo>
                <a:lnTo>
                  <a:pt x="1" y="1431"/>
                </a:lnTo>
                <a:lnTo>
                  <a:pt x="0" y="1429"/>
                </a:lnTo>
                <a:lnTo>
                  <a:pt x="0" y="1428"/>
                </a:lnTo>
                <a:lnTo>
                  <a:pt x="0" y="1427"/>
                </a:lnTo>
                <a:lnTo>
                  <a:pt x="0" y="1427"/>
                </a:lnTo>
                <a:close/>
                <a:moveTo>
                  <a:pt x="0" y="1334"/>
                </a:moveTo>
                <a:lnTo>
                  <a:pt x="0" y="1295"/>
                </a:lnTo>
                <a:lnTo>
                  <a:pt x="0" y="1293"/>
                </a:lnTo>
                <a:lnTo>
                  <a:pt x="0" y="1292"/>
                </a:lnTo>
                <a:lnTo>
                  <a:pt x="1" y="1290"/>
                </a:lnTo>
                <a:lnTo>
                  <a:pt x="3" y="1289"/>
                </a:lnTo>
                <a:lnTo>
                  <a:pt x="4" y="1289"/>
                </a:lnTo>
                <a:lnTo>
                  <a:pt x="7" y="1289"/>
                </a:lnTo>
                <a:lnTo>
                  <a:pt x="8" y="1289"/>
                </a:lnTo>
                <a:lnTo>
                  <a:pt x="9" y="1289"/>
                </a:lnTo>
                <a:lnTo>
                  <a:pt x="11" y="1290"/>
                </a:lnTo>
                <a:lnTo>
                  <a:pt x="12" y="1292"/>
                </a:lnTo>
                <a:lnTo>
                  <a:pt x="13" y="1293"/>
                </a:lnTo>
                <a:lnTo>
                  <a:pt x="13" y="1295"/>
                </a:lnTo>
                <a:lnTo>
                  <a:pt x="13" y="1334"/>
                </a:lnTo>
                <a:lnTo>
                  <a:pt x="13" y="1335"/>
                </a:lnTo>
                <a:lnTo>
                  <a:pt x="12" y="1338"/>
                </a:lnTo>
                <a:lnTo>
                  <a:pt x="11" y="1340"/>
                </a:lnTo>
                <a:lnTo>
                  <a:pt x="9" y="1341"/>
                </a:lnTo>
                <a:lnTo>
                  <a:pt x="8" y="1341"/>
                </a:lnTo>
                <a:lnTo>
                  <a:pt x="7" y="1342"/>
                </a:lnTo>
                <a:lnTo>
                  <a:pt x="4" y="1341"/>
                </a:lnTo>
                <a:lnTo>
                  <a:pt x="3" y="1341"/>
                </a:lnTo>
                <a:lnTo>
                  <a:pt x="1" y="1340"/>
                </a:lnTo>
                <a:lnTo>
                  <a:pt x="0" y="1338"/>
                </a:lnTo>
                <a:lnTo>
                  <a:pt x="0" y="1335"/>
                </a:lnTo>
                <a:lnTo>
                  <a:pt x="0" y="1334"/>
                </a:lnTo>
                <a:lnTo>
                  <a:pt x="0" y="1334"/>
                </a:lnTo>
                <a:close/>
                <a:moveTo>
                  <a:pt x="0" y="1243"/>
                </a:moveTo>
                <a:lnTo>
                  <a:pt x="0" y="1203"/>
                </a:lnTo>
                <a:lnTo>
                  <a:pt x="0" y="1202"/>
                </a:lnTo>
                <a:lnTo>
                  <a:pt x="0" y="1201"/>
                </a:lnTo>
                <a:lnTo>
                  <a:pt x="1" y="1199"/>
                </a:lnTo>
                <a:lnTo>
                  <a:pt x="3" y="1198"/>
                </a:lnTo>
                <a:lnTo>
                  <a:pt x="4" y="1197"/>
                </a:lnTo>
                <a:lnTo>
                  <a:pt x="7" y="1197"/>
                </a:lnTo>
                <a:lnTo>
                  <a:pt x="8" y="1197"/>
                </a:lnTo>
                <a:lnTo>
                  <a:pt x="9" y="1198"/>
                </a:lnTo>
                <a:lnTo>
                  <a:pt x="11" y="1199"/>
                </a:lnTo>
                <a:lnTo>
                  <a:pt x="12" y="1201"/>
                </a:lnTo>
                <a:lnTo>
                  <a:pt x="13" y="1202"/>
                </a:lnTo>
                <a:lnTo>
                  <a:pt x="13" y="1203"/>
                </a:lnTo>
                <a:lnTo>
                  <a:pt x="13" y="1243"/>
                </a:lnTo>
                <a:lnTo>
                  <a:pt x="13" y="1244"/>
                </a:lnTo>
                <a:lnTo>
                  <a:pt x="12" y="1245"/>
                </a:lnTo>
                <a:lnTo>
                  <a:pt x="11" y="1247"/>
                </a:lnTo>
                <a:lnTo>
                  <a:pt x="9" y="1248"/>
                </a:lnTo>
                <a:lnTo>
                  <a:pt x="8" y="1249"/>
                </a:lnTo>
                <a:lnTo>
                  <a:pt x="7" y="1249"/>
                </a:lnTo>
                <a:lnTo>
                  <a:pt x="4" y="1249"/>
                </a:lnTo>
                <a:lnTo>
                  <a:pt x="3" y="1248"/>
                </a:lnTo>
                <a:lnTo>
                  <a:pt x="1" y="1247"/>
                </a:lnTo>
                <a:lnTo>
                  <a:pt x="0" y="1245"/>
                </a:lnTo>
                <a:lnTo>
                  <a:pt x="0" y="1244"/>
                </a:lnTo>
                <a:lnTo>
                  <a:pt x="0" y="1243"/>
                </a:lnTo>
                <a:lnTo>
                  <a:pt x="0" y="1243"/>
                </a:lnTo>
                <a:close/>
                <a:moveTo>
                  <a:pt x="0" y="1150"/>
                </a:moveTo>
                <a:lnTo>
                  <a:pt x="0" y="1111"/>
                </a:lnTo>
                <a:lnTo>
                  <a:pt x="0" y="1109"/>
                </a:lnTo>
                <a:lnTo>
                  <a:pt x="0" y="1108"/>
                </a:lnTo>
                <a:lnTo>
                  <a:pt x="1" y="1106"/>
                </a:lnTo>
                <a:lnTo>
                  <a:pt x="3" y="1105"/>
                </a:lnTo>
                <a:lnTo>
                  <a:pt x="4" y="1105"/>
                </a:lnTo>
                <a:lnTo>
                  <a:pt x="7" y="1105"/>
                </a:lnTo>
                <a:lnTo>
                  <a:pt x="8" y="1105"/>
                </a:lnTo>
                <a:lnTo>
                  <a:pt x="9" y="1105"/>
                </a:lnTo>
                <a:lnTo>
                  <a:pt x="11" y="1106"/>
                </a:lnTo>
                <a:lnTo>
                  <a:pt x="12" y="1108"/>
                </a:lnTo>
                <a:lnTo>
                  <a:pt x="13" y="1109"/>
                </a:lnTo>
                <a:lnTo>
                  <a:pt x="13" y="1111"/>
                </a:lnTo>
                <a:lnTo>
                  <a:pt x="13" y="1150"/>
                </a:lnTo>
                <a:lnTo>
                  <a:pt x="13" y="1151"/>
                </a:lnTo>
                <a:lnTo>
                  <a:pt x="12" y="1153"/>
                </a:lnTo>
                <a:lnTo>
                  <a:pt x="11" y="1156"/>
                </a:lnTo>
                <a:lnTo>
                  <a:pt x="9" y="1157"/>
                </a:lnTo>
                <a:lnTo>
                  <a:pt x="8" y="1157"/>
                </a:lnTo>
                <a:lnTo>
                  <a:pt x="7" y="1158"/>
                </a:lnTo>
                <a:lnTo>
                  <a:pt x="4" y="1157"/>
                </a:lnTo>
                <a:lnTo>
                  <a:pt x="3" y="1157"/>
                </a:lnTo>
                <a:lnTo>
                  <a:pt x="1" y="1156"/>
                </a:lnTo>
                <a:lnTo>
                  <a:pt x="0" y="1153"/>
                </a:lnTo>
                <a:lnTo>
                  <a:pt x="0" y="1151"/>
                </a:lnTo>
                <a:lnTo>
                  <a:pt x="0" y="1150"/>
                </a:lnTo>
                <a:lnTo>
                  <a:pt x="0" y="1150"/>
                </a:lnTo>
                <a:close/>
                <a:moveTo>
                  <a:pt x="0" y="1059"/>
                </a:moveTo>
                <a:lnTo>
                  <a:pt x="0" y="1019"/>
                </a:lnTo>
                <a:lnTo>
                  <a:pt x="0" y="1018"/>
                </a:lnTo>
                <a:lnTo>
                  <a:pt x="0" y="1017"/>
                </a:lnTo>
                <a:lnTo>
                  <a:pt x="1" y="1015"/>
                </a:lnTo>
                <a:lnTo>
                  <a:pt x="3" y="1013"/>
                </a:lnTo>
                <a:lnTo>
                  <a:pt x="4" y="1012"/>
                </a:lnTo>
                <a:lnTo>
                  <a:pt x="7" y="1012"/>
                </a:lnTo>
                <a:lnTo>
                  <a:pt x="8" y="1012"/>
                </a:lnTo>
                <a:lnTo>
                  <a:pt x="9" y="1013"/>
                </a:lnTo>
                <a:lnTo>
                  <a:pt x="11" y="1015"/>
                </a:lnTo>
                <a:lnTo>
                  <a:pt x="12" y="1017"/>
                </a:lnTo>
                <a:lnTo>
                  <a:pt x="13" y="1018"/>
                </a:lnTo>
                <a:lnTo>
                  <a:pt x="13" y="1019"/>
                </a:lnTo>
                <a:lnTo>
                  <a:pt x="13" y="1059"/>
                </a:lnTo>
                <a:lnTo>
                  <a:pt x="13" y="1060"/>
                </a:lnTo>
                <a:lnTo>
                  <a:pt x="12" y="1061"/>
                </a:lnTo>
                <a:lnTo>
                  <a:pt x="11" y="1063"/>
                </a:lnTo>
                <a:lnTo>
                  <a:pt x="9" y="1064"/>
                </a:lnTo>
                <a:lnTo>
                  <a:pt x="8" y="1065"/>
                </a:lnTo>
                <a:lnTo>
                  <a:pt x="7" y="1065"/>
                </a:lnTo>
                <a:lnTo>
                  <a:pt x="4" y="1065"/>
                </a:lnTo>
                <a:lnTo>
                  <a:pt x="3" y="1064"/>
                </a:lnTo>
                <a:lnTo>
                  <a:pt x="1" y="1063"/>
                </a:lnTo>
                <a:lnTo>
                  <a:pt x="0" y="1061"/>
                </a:lnTo>
                <a:lnTo>
                  <a:pt x="0" y="1060"/>
                </a:lnTo>
                <a:lnTo>
                  <a:pt x="0" y="1059"/>
                </a:lnTo>
                <a:lnTo>
                  <a:pt x="0" y="1059"/>
                </a:lnTo>
                <a:close/>
                <a:moveTo>
                  <a:pt x="0" y="966"/>
                </a:moveTo>
                <a:lnTo>
                  <a:pt x="0" y="927"/>
                </a:lnTo>
                <a:lnTo>
                  <a:pt x="0" y="925"/>
                </a:lnTo>
                <a:lnTo>
                  <a:pt x="0" y="924"/>
                </a:lnTo>
                <a:lnTo>
                  <a:pt x="1" y="922"/>
                </a:lnTo>
                <a:lnTo>
                  <a:pt x="3" y="921"/>
                </a:lnTo>
                <a:lnTo>
                  <a:pt x="4" y="921"/>
                </a:lnTo>
                <a:lnTo>
                  <a:pt x="7" y="921"/>
                </a:lnTo>
                <a:lnTo>
                  <a:pt x="8" y="921"/>
                </a:lnTo>
                <a:lnTo>
                  <a:pt x="9" y="921"/>
                </a:lnTo>
                <a:lnTo>
                  <a:pt x="11" y="922"/>
                </a:lnTo>
                <a:lnTo>
                  <a:pt x="12" y="924"/>
                </a:lnTo>
                <a:lnTo>
                  <a:pt x="13" y="925"/>
                </a:lnTo>
                <a:lnTo>
                  <a:pt x="13" y="927"/>
                </a:lnTo>
                <a:lnTo>
                  <a:pt x="13" y="966"/>
                </a:lnTo>
                <a:lnTo>
                  <a:pt x="13" y="967"/>
                </a:lnTo>
                <a:lnTo>
                  <a:pt x="12" y="969"/>
                </a:lnTo>
                <a:lnTo>
                  <a:pt x="11" y="971"/>
                </a:lnTo>
                <a:lnTo>
                  <a:pt x="9" y="972"/>
                </a:lnTo>
                <a:lnTo>
                  <a:pt x="8" y="972"/>
                </a:lnTo>
                <a:lnTo>
                  <a:pt x="7" y="973"/>
                </a:lnTo>
                <a:lnTo>
                  <a:pt x="4" y="972"/>
                </a:lnTo>
                <a:lnTo>
                  <a:pt x="3" y="972"/>
                </a:lnTo>
                <a:lnTo>
                  <a:pt x="1" y="971"/>
                </a:lnTo>
                <a:lnTo>
                  <a:pt x="0" y="969"/>
                </a:lnTo>
                <a:lnTo>
                  <a:pt x="0" y="967"/>
                </a:lnTo>
                <a:lnTo>
                  <a:pt x="0" y="966"/>
                </a:lnTo>
                <a:lnTo>
                  <a:pt x="0" y="966"/>
                </a:lnTo>
                <a:close/>
                <a:moveTo>
                  <a:pt x="0" y="875"/>
                </a:moveTo>
                <a:lnTo>
                  <a:pt x="0" y="835"/>
                </a:lnTo>
                <a:lnTo>
                  <a:pt x="0" y="834"/>
                </a:lnTo>
                <a:lnTo>
                  <a:pt x="0" y="832"/>
                </a:lnTo>
                <a:lnTo>
                  <a:pt x="1" y="830"/>
                </a:lnTo>
                <a:lnTo>
                  <a:pt x="3" y="829"/>
                </a:lnTo>
                <a:lnTo>
                  <a:pt x="4" y="828"/>
                </a:lnTo>
                <a:lnTo>
                  <a:pt x="7" y="828"/>
                </a:lnTo>
                <a:lnTo>
                  <a:pt x="8" y="828"/>
                </a:lnTo>
                <a:lnTo>
                  <a:pt x="9" y="829"/>
                </a:lnTo>
                <a:lnTo>
                  <a:pt x="11" y="830"/>
                </a:lnTo>
                <a:lnTo>
                  <a:pt x="12" y="832"/>
                </a:lnTo>
                <a:lnTo>
                  <a:pt x="13" y="834"/>
                </a:lnTo>
                <a:lnTo>
                  <a:pt x="13" y="835"/>
                </a:lnTo>
                <a:lnTo>
                  <a:pt x="13" y="875"/>
                </a:lnTo>
                <a:lnTo>
                  <a:pt x="13" y="876"/>
                </a:lnTo>
                <a:lnTo>
                  <a:pt x="12" y="877"/>
                </a:lnTo>
                <a:lnTo>
                  <a:pt x="11" y="879"/>
                </a:lnTo>
                <a:lnTo>
                  <a:pt x="9" y="880"/>
                </a:lnTo>
                <a:lnTo>
                  <a:pt x="8" y="881"/>
                </a:lnTo>
                <a:lnTo>
                  <a:pt x="7" y="881"/>
                </a:lnTo>
                <a:lnTo>
                  <a:pt x="4" y="881"/>
                </a:lnTo>
                <a:lnTo>
                  <a:pt x="3" y="880"/>
                </a:lnTo>
                <a:lnTo>
                  <a:pt x="1" y="879"/>
                </a:lnTo>
                <a:lnTo>
                  <a:pt x="0" y="877"/>
                </a:lnTo>
                <a:lnTo>
                  <a:pt x="0" y="876"/>
                </a:lnTo>
                <a:lnTo>
                  <a:pt x="0" y="875"/>
                </a:lnTo>
                <a:lnTo>
                  <a:pt x="0" y="875"/>
                </a:lnTo>
                <a:close/>
                <a:moveTo>
                  <a:pt x="0" y="782"/>
                </a:moveTo>
                <a:lnTo>
                  <a:pt x="0" y="743"/>
                </a:lnTo>
                <a:lnTo>
                  <a:pt x="0" y="741"/>
                </a:lnTo>
                <a:lnTo>
                  <a:pt x="0" y="740"/>
                </a:lnTo>
                <a:lnTo>
                  <a:pt x="1" y="738"/>
                </a:lnTo>
                <a:lnTo>
                  <a:pt x="3" y="737"/>
                </a:lnTo>
                <a:lnTo>
                  <a:pt x="4" y="737"/>
                </a:lnTo>
                <a:lnTo>
                  <a:pt x="7" y="737"/>
                </a:lnTo>
                <a:lnTo>
                  <a:pt x="8" y="737"/>
                </a:lnTo>
                <a:lnTo>
                  <a:pt x="9" y="737"/>
                </a:lnTo>
                <a:lnTo>
                  <a:pt x="11" y="738"/>
                </a:lnTo>
                <a:lnTo>
                  <a:pt x="12" y="740"/>
                </a:lnTo>
                <a:lnTo>
                  <a:pt x="13" y="741"/>
                </a:lnTo>
                <a:lnTo>
                  <a:pt x="13" y="743"/>
                </a:lnTo>
                <a:lnTo>
                  <a:pt x="13" y="782"/>
                </a:lnTo>
                <a:lnTo>
                  <a:pt x="13" y="783"/>
                </a:lnTo>
                <a:lnTo>
                  <a:pt x="12" y="785"/>
                </a:lnTo>
                <a:lnTo>
                  <a:pt x="11" y="787"/>
                </a:lnTo>
                <a:lnTo>
                  <a:pt x="9" y="788"/>
                </a:lnTo>
                <a:lnTo>
                  <a:pt x="8" y="788"/>
                </a:lnTo>
                <a:lnTo>
                  <a:pt x="7" y="789"/>
                </a:lnTo>
                <a:lnTo>
                  <a:pt x="4" y="788"/>
                </a:lnTo>
                <a:lnTo>
                  <a:pt x="3" y="788"/>
                </a:lnTo>
                <a:lnTo>
                  <a:pt x="1" y="787"/>
                </a:lnTo>
                <a:lnTo>
                  <a:pt x="0" y="785"/>
                </a:lnTo>
                <a:lnTo>
                  <a:pt x="0" y="783"/>
                </a:lnTo>
                <a:lnTo>
                  <a:pt x="0" y="782"/>
                </a:lnTo>
                <a:lnTo>
                  <a:pt x="0" y="782"/>
                </a:lnTo>
                <a:close/>
                <a:moveTo>
                  <a:pt x="0" y="690"/>
                </a:moveTo>
                <a:lnTo>
                  <a:pt x="0" y="650"/>
                </a:lnTo>
                <a:lnTo>
                  <a:pt x="0" y="649"/>
                </a:lnTo>
                <a:lnTo>
                  <a:pt x="0" y="648"/>
                </a:lnTo>
                <a:lnTo>
                  <a:pt x="1" y="646"/>
                </a:lnTo>
                <a:lnTo>
                  <a:pt x="3" y="645"/>
                </a:lnTo>
                <a:lnTo>
                  <a:pt x="4" y="644"/>
                </a:lnTo>
                <a:lnTo>
                  <a:pt x="7" y="644"/>
                </a:lnTo>
                <a:lnTo>
                  <a:pt x="8" y="644"/>
                </a:lnTo>
                <a:lnTo>
                  <a:pt x="9" y="645"/>
                </a:lnTo>
                <a:lnTo>
                  <a:pt x="11" y="646"/>
                </a:lnTo>
                <a:lnTo>
                  <a:pt x="12" y="648"/>
                </a:lnTo>
                <a:lnTo>
                  <a:pt x="13" y="649"/>
                </a:lnTo>
                <a:lnTo>
                  <a:pt x="13" y="650"/>
                </a:lnTo>
                <a:lnTo>
                  <a:pt x="13" y="690"/>
                </a:lnTo>
                <a:lnTo>
                  <a:pt x="13" y="692"/>
                </a:lnTo>
                <a:lnTo>
                  <a:pt x="12" y="693"/>
                </a:lnTo>
                <a:lnTo>
                  <a:pt x="11" y="695"/>
                </a:lnTo>
                <a:lnTo>
                  <a:pt x="9" y="696"/>
                </a:lnTo>
                <a:lnTo>
                  <a:pt x="8" y="697"/>
                </a:lnTo>
                <a:lnTo>
                  <a:pt x="7" y="697"/>
                </a:lnTo>
                <a:lnTo>
                  <a:pt x="4" y="697"/>
                </a:lnTo>
                <a:lnTo>
                  <a:pt x="3" y="696"/>
                </a:lnTo>
                <a:lnTo>
                  <a:pt x="1" y="695"/>
                </a:lnTo>
                <a:lnTo>
                  <a:pt x="0" y="693"/>
                </a:lnTo>
                <a:lnTo>
                  <a:pt x="0" y="692"/>
                </a:lnTo>
                <a:lnTo>
                  <a:pt x="0" y="690"/>
                </a:lnTo>
                <a:lnTo>
                  <a:pt x="0" y="690"/>
                </a:lnTo>
                <a:close/>
                <a:moveTo>
                  <a:pt x="0" y="598"/>
                </a:moveTo>
                <a:lnTo>
                  <a:pt x="0" y="559"/>
                </a:lnTo>
                <a:lnTo>
                  <a:pt x="0" y="557"/>
                </a:lnTo>
                <a:lnTo>
                  <a:pt x="0" y="556"/>
                </a:lnTo>
                <a:lnTo>
                  <a:pt x="1" y="554"/>
                </a:lnTo>
                <a:lnTo>
                  <a:pt x="3" y="553"/>
                </a:lnTo>
                <a:lnTo>
                  <a:pt x="4" y="553"/>
                </a:lnTo>
                <a:lnTo>
                  <a:pt x="7" y="553"/>
                </a:lnTo>
                <a:lnTo>
                  <a:pt x="8" y="553"/>
                </a:lnTo>
                <a:lnTo>
                  <a:pt x="9" y="553"/>
                </a:lnTo>
                <a:lnTo>
                  <a:pt x="11" y="554"/>
                </a:lnTo>
                <a:lnTo>
                  <a:pt x="12" y="556"/>
                </a:lnTo>
                <a:lnTo>
                  <a:pt x="13" y="557"/>
                </a:lnTo>
                <a:lnTo>
                  <a:pt x="13" y="559"/>
                </a:lnTo>
                <a:lnTo>
                  <a:pt x="13" y="598"/>
                </a:lnTo>
                <a:lnTo>
                  <a:pt x="13" y="599"/>
                </a:lnTo>
                <a:lnTo>
                  <a:pt x="12" y="601"/>
                </a:lnTo>
                <a:lnTo>
                  <a:pt x="11" y="603"/>
                </a:lnTo>
                <a:lnTo>
                  <a:pt x="9" y="604"/>
                </a:lnTo>
                <a:lnTo>
                  <a:pt x="8" y="604"/>
                </a:lnTo>
                <a:lnTo>
                  <a:pt x="7" y="605"/>
                </a:lnTo>
                <a:lnTo>
                  <a:pt x="4" y="604"/>
                </a:lnTo>
                <a:lnTo>
                  <a:pt x="3" y="604"/>
                </a:lnTo>
                <a:lnTo>
                  <a:pt x="1" y="603"/>
                </a:lnTo>
                <a:lnTo>
                  <a:pt x="0" y="601"/>
                </a:lnTo>
                <a:lnTo>
                  <a:pt x="0" y="599"/>
                </a:lnTo>
                <a:lnTo>
                  <a:pt x="0" y="598"/>
                </a:lnTo>
                <a:lnTo>
                  <a:pt x="0" y="598"/>
                </a:lnTo>
                <a:close/>
                <a:moveTo>
                  <a:pt x="0" y="506"/>
                </a:moveTo>
                <a:lnTo>
                  <a:pt x="0" y="466"/>
                </a:lnTo>
                <a:lnTo>
                  <a:pt x="0" y="465"/>
                </a:lnTo>
                <a:lnTo>
                  <a:pt x="0" y="464"/>
                </a:lnTo>
                <a:lnTo>
                  <a:pt x="1" y="462"/>
                </a:lnTo>
                <a:lnTo>
                  <a:pt x="3" y="461"/>
                </a:lnTo>
                <a:lnTo>
                  <a:pt x="4" y="460"/>
                </a:lnTo>
                <a:lnTo>
                  <a:pt x="7" y="460"/>
                </a:lnTo>
                <a:lnTo>
                  <a:pt x="8" y="460"/>
                </a:lnTo>
                <a:lnTo>
                  <a:pt x="9" y="461"/>
                </a:lnTo>
                <a:lnTo>
                  <a:pt x="11" y="462"/>
                </a:lnTo>
                <a:lnTo>
                  <a:pt x="12" y="464"/>
                </a:lnTo>
                <a:lnTo>
                  <a:pt x="13" y="465"/>
                </a:lnTo>
                <a:lnTo>
                  <a:pt x="13" y="466"/>
                </a:lnTo>
                <a:lnTo>
                  <a:pt x="13" y="506"/>
                </a:lnTo>
                <a:lnTo>
                  <a:pt x="13" y="507"/>
                </a:lnTo>
                <a:lnTo>
                  <a:pt x="12" y="508"/>
                </a:lnTo>
                <a:lnTo>
                  <a:pt x="11" y="511"/>
                </a:lnTo>
                <a:lnTo>
                  <a:pt x="9" y="512"/>
                </a:lnTo>
                <a:lnTo>
                  <a:pt x="8" y="513"/>
                </a:lnTo>
                <a:lnTo>
                  <a:pt x="7" y="513"/>
                </a:lnTo>
                <a:lnTo>
                  <a:pt x="4" y="513"/>
                </a:lnTo>
                <a:lnTo>
                  <a:pt x="3" y="512"/>
                </a:lnTo>
                <a:lnTo>
                  <a:pt x="1" y="511"/>
                </a:lnTo>
                <a:lnTo>
                  <a:pt x="0" y="508"/>
                </a:lnTo>
                <a:lnTo>
                  <a:pt x="0" y="507"/>
                </a:lnTo>
                <a:lnTo>
                  <a:pt x="0" y="506"/>
                </a:lnTo>
                <a:lnTo>
                  <a:pt x="0" y="506"/>
                </a:lnTo>
                <a:close/>
                <a:moveTo>
                  <a:pt x="0" y="414"/>
                </a:moveTo>
                <a:lnTo>
                  <a:pt x="0" y="375"/>
                </a:lnTo>
                <a:lnTo>
                  <a:pt x="0" y="373"/>
                </a:lnTo>
                <a:lnTo>
                  <a:pt x="0" y="372"/>
                </a:lnTo>
                <a:lnTo>
                  <a:pt x="1" y="370"/>
                </a:lnTo>
                <a:lnTo>
                  <a:pt x="3" y="368"/>
                </a:lnTo>
                <a:lnTo>
                  <a:pt x="4" y="368"/>
                </a:lnTo>
                <a:lnTo>
                  <a:pt x="7" y="368"/>
                </a:lnTo>
                <a:lnTo>
                  <a:pt x="8" y="368"/>
                </a:lnTo>
                <a:lnTo>
                  <a:pt x="9" y="368"/>
                </a:lnTo>
                <a:lnTo>
                  <a:pt x="11" y="370"/>
                </a:lnTo>
                <a:lnTo>
                  <a:pt x="12" y="372"/>
                </a:lnTo>
                <a:lnTo>
                  <a:pt x="13" y="373"/>
                </a:lnTo>
                <a:lnTo>
                  <a:pt x="13" y="375"/>
                </a:lnTo>
                <a:lnTo>
                  <a:pt x="13" y="414"/>
                </a:lnTo>
                <a:lnTo>
                  <a:pt x="13" y="415"/>
                </a:lnTo>
                <a:lnTo>
                  <a:pt x="12" y="417"/>
                </a:lnTo>
                <a:lnTo>
                  <a:pt x="11" y="419"/>
                </a:lnTo>
                <a:lnTo>
                  <a:pt x="9" y="420"/>
                </a:lnTo>
                <a:lnTo>
                  <a:pt x="8" y="420"/>
                </a:lnTo>
                <a:lnTo>
                  <a:pt x="7" y="421"/>
                </a:lnTo>
                <a:lnTo>
                  <a:pt x="4" y="420"/>
                </a:lnTo>
                <a:lnTo>
                  <a:pt x="3" y="420"/>
                </a:lnTo>
                <a:lnTo>
                  <a:pt x="1" y="419"/>
                </a:lnTo>
                <a:lnTo>
                  <a:pt x="0" y="417"/>
                </a:lnTo>
                <a:lnTo>
                  <a:pt x="0" y="415"/>
                </a:lnTo>
                <a:lnTo>
                  <a:pt x="0" y="414"/>
                </a:lnTo>
                <a:lnTo>
                  <a:pt x="0" y="414"/>
                </a:lnTo>
                <a:close/>
                <a:moveTo>
                  <a:pt x="0" y="322"/>
                </a:moveTo>
                <a:lnTo>
                  <a:pt x="0" y="282"/>
                </a:lnTo>
                <a:lnTo>
                  <a:pt x="0" y="281"/>
                </a:lnTo>
                <a:lnTo>
                  <a:pt x="0" y="280"/>
                </a:lnTo>
                <a:lnTo>
                  <a:pt x="1" y="278"/>
                </a:lnTo>
                <a:lnTo>
                  <a:pt x="3" y="277"/>
                </a:lnTo>
                <a:lnTo>
                  <a:pt x="4" y="276"/>
                </a:lnTo>
                <a:lnTo>
                  <a:pt x="7" y="276"/>
                </a:lnTo>
                <a:lnTo>
                  <a:pt x="8" y="276"/>
                </a:lnTo>
                <a:lnTo>
                  <a:pt x="9" y="277"/>
                </a:lnTo>
                <a:lnTo>
                  <a:pt x="11" y="278"/>
                </a:lnTo>
                <a:lnTo>
                  <a:pt x="12" y="280"/>
                </a:lnTo>
                <a:lnTo>
                  <a:pt x="13" y="281"/>
                </a:lnTo>
                <a:lnTo>
                  <a:pt x="13" y="282"/>
                </a:lnTo>
                <a:lnTo>
                  <a:pt x="13" y="322"/>
                </a:lnTo>
                <a:lnTo>
                  <a:pt x="13" y="323"/>
                </a:lnTo>
                <a:lnTo>
                  <a:pt x="12" y="324"/>
                </a:lnTo>
                <a:lnTo>
                  <a:pt x="11" y="326"/>
                </a:lnTo>
                <a:lnTo>
                  <a:pt x="9" y="327"/>
                </a:lnTo>
                <a:lnTo>
                  <a:pt x="8" y="329"/>
                </a:lnTo>
                <a:lnTo>
                  <a:pt x="7" y="329"/>
                </a:lnTo>
                <a:lnTo>
                  <a:pt x="4" y="329"/>
                </a:lnTo>
                <a:lnTo>
                  <a:pt x="3" y="327"/>
                </a:lnTo>
                <a:lnTo>
                  <a:pt x="1" y="326"/>
                </a:lnTo>
                <a:lnTo>
                  <a:pt x="0" y="324"/>
                </a:lnTo>
                <a:lnTo>
                  <a:pt x="0" y="323"/>
                </a:lnTo>
                <a:lnTo>
                  <a:pt x="0" y="322"/>
                </a:lnTo>
                <a:lnTo>
                  <a:pt x="0" y="322"/>
                </a:lnTo>
                <a:close/>
                <a:moveTo>
                  <a:pt x="0" y="230"/>
                </a:moveTo>
                <a:lnTo>
                  <a:pt x="0" y="191"/>
                </a:lnTo>
                <a:lnTo>
                  <a:pt x="0" y="189"/>
                </a:lnTo>
                <a:lnTo>
                  <a:pt x="0" y="188"/>
                </a:lnTo>
                <a:lnTo>
                  <a:pt x="1" y="185"/>
                </a:lnTo>
                <a:lnTo>
                  <a:pt x="3" y="184"/>
                </a:lnTo>
                <a:lnTo>
                  <a:pt x="4" y="184"/>
                </a:lnTo>
                <a:lnTo>
                  <a:pt x="7" y="184"/>
                </a:lnTo>
                <a:lnTo>
                  <a:pt x="8" y="184"/>
                </a:lnTo>
                <a:lnTo>
                  <a:pt x="9" y="184"/>
                </a:lnTo>
                <a:lnTo>
                  <a:pt x="11" y="185"/>
                </a:lnTo>
                <a:lnTo>
                  <a:pt x="12" y="188"/>
                </a:lnTo>
                <a:lnTo>
                  <a:pt x="13" y="189"/>
                </a:lnTo>
                <a:lnTo>
                  <a:pt x="13" y="191"/>
                </a:lnTo>
                <a:lnTo>
                  <a:pt x="13" y="230"/>
                </a:lnTo>
                <a:lnTo>
                  <a:pt x="13" y="231"/>
                </a:lnTo>
                <a:lnTo>
                  <a:pt x="12" y="233"/>
                </a:lnTo>
                <a:lnTo>
                  <a:pt x="11" y="235"/>
                </a:lnTo>
                <a:lnTo>
                  <a:pt x="9" y="236"/>
                </a:lnTo>
                <a:lnTo>
                  <a:pt x="8" y="236"/>
                </a:lnTo>
                <a:lnTo>
                  <a:pt x="7" y="237"/>
                </a:lnTo>
                <a:lnTo>
                  <a:pt x="4" y="236"/>
                </a:lnTo>
                <a:lnTo>
                  <a:pt x="3" y="236"/>
                </a:lnTo>
                <a:lnTo>
                  <a:pt x="1" y="235"/>
                </a:lnTo>
                <a:lnTo>
                  <a:pt x="0" y="233"/>
                </a:lnTo>
                <a:lnTo>
                  <a:pt x="0" y="231"/>
                </a:lnTo>
                <a:lnTo>
                  <a:pt x="0" y="230"/>
                </a:lnTo>
                <a:lnTo>
                  <a:pt x="0" y="230"/>
                </a:lnTo>
                <a:close/>
                <a:moveTo>
                  <a:pt x="0" y="138"/>
                </a:moveTo>
                <a:lnTo>
                  <a:pt x="0" y="98"/>
                </a:lnTo>
                <a:lnTo>
                  <a:pt x="0" y="97"/>
                </a:lnTo>
                <a:lnTo>
                  <a:pt x="0" y="96"/>
                </a:lnTo>
                <a:lnTo>
                  <a:pt x="1" y="94"/>
                </a:lnTo>
                <a:lnTo>
                  <a:pt x="3" y="93"/>
                </a:lnTo>
                <a:lnTo>
                  <a:pt x="4" y="92"/>
                </a:lnTo>
                <a:lnTo>
                  <a:pt x="7" y="92"/>
                </a:lnTo>
                <a:lnTo>
                  <a:pt x="8" y="92"/>
                </a:lnTo>
                <a:lnTo>
                  <a:pt x="9" y="93"/>
                </a:lnTo>
                <a:lnTo>
                  <a:pt x="11" y="94"/>
                </a:lnTo>
                <a:lnTo>
                  <a:pt x="12" y="96"/>
                </a:lnTo>
                <a:lnTo>
                  <a:pt x="13" y="97"/>
                </a:lnTo>
                <a:lnTo>
                  <a:pt x="13" y="98"/>
                </a:lnTo>
                <a:lnTo>
                  <a:pt x="13" y="138"/>
                </a:lnTo>
                <a:lnTo>
                  <a:pt x="13" y="139"/>
                </a:lnTo>
                <a:lnTo>
                  <a:pt x="12" y="140"/>
                </a:lnTo>
                <a:lnTo>
                  <a:pt x="11" y="142"/>
                </a:lnTo>
                <a:lnTo>
                  <a:pt x="9" y="143"/>
                </a:lnTo>
                <a:lnTo>
                  <a:pt x="8" y="144"/>
                </a:lnTo>
                <a:lnTo>
                  <a:pt x="7" y="144"/>
                </a:lnTo>
                <a:lnTo>
                  <a:pt x="4" y="144"/>
                </a:lnTo>
                <a:lnTo>
                  <a:pt x="3" y="143"/>
                </a:lnTo>
                <a:lnTo>
                  <a:pt x="1" y="142"/>
                </a:lnTo>
                <a:lnTo>
                  <a:pt x="0" y="140"/>
                </a:lnTo>
                <a:lnTo>
                  <a:pt x="0" y="139"/>
                </a:lnTo>
                <a:lnTo>
                  <a:pt x="0" y="138"/>
                </a:lnTo>
                <a:lnTo>
                  <a:pt x="0" y="138"/>
                </a:lnTo>
                <a:close/>
                <a:moveTo>
                  <a:pt x="0" y="45"/>
                </a:moveTo>
                <a:lnTo>
                  <a:pt x="0" y="7"/>
                </a:lnTo>
                <a:lnTo>
                  <a:pt x="0" y="4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3" y="45"/>
                </a:lnTo>
                <a:lnTo>
                  <a:pt x="13" y="47"/>
                </a:lnTo>
                <a:lnTo>
                  <a:pt x="12" y="49"/>
                </a:lnTo>
                <a:lnTo>
                  <a:pt x="11" y="51"/>
                </a:lnTo>
                <a:lnTo>
                  <a:pt x="9" y="52"/>
                </a:lnTo>
                <a:lnTo>
                  <a:pt x="8" y="52"/>
                </a:lnTo>
                <a:lnTo>
                  <a:pt x="7" y="53"/>
                </a:lnTo>
                <a:lnTo>
                  <a:pt x="4" y="52"/>
                </a:lnTo>
                <a:lnTo>
                  <a:pt x="3" y="52"/>
                </a:lnTo>
                <a:lnTo>
                  <a:pt x="1" y="51"/>
                </a:lnTo>
                <a:lnTo>
                  <a:pt x="0" y="49"/>
                </a:lnTo>
                <a:lnTo>
                  <a:pt x="0" y="47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969696"/>
          </a:solidFill>
          <a:ln w="1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3837240" y="2320560"/>
            <a:ext cx="171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mergence of modern min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4062240" y="2319840"/>
            <a:ext cx="159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omechanics. Founding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4852080" y="2337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6141240" y="1819800"/>
            <a:ext cx="75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6298560" y="1837800"/>
            <a:ext cx="76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aving Stu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4744800" y="1997640"/>
            <a:ext cx="98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mperial Colleg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5025240" y="1999080"/>
            <a:ext cx="75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ndergrou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5017680" y="2016720"/>
            <a:ext cx="1091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cavations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429800" y="5319720"/>
            <a:ext cx="65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741720" y="3730680"/>
            <a:ext cx="60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310800" y="4564080"/>
            <a:ext cx="50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lv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247160" y="63086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Brown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6-15T18:01:17Z</dcterms:modified>
  <cp:revision>183</cp:revision>
  <dc:subject/>
  <dc:title>Diseño de Minas Subterráneas</dc:title>
</cp:coreProperties>
</file>