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08520"/>
            <a:ext cx="264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520" y="27432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0852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08520"/>
            <a:ext cx="8229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32720" y="6400800"/>
            <a:ext cx="285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Cátedra Codelco de Tecnología Min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MI 58B: Diseño de Minas Subterrá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78440" y="6507000"/>
            <a:ext cx="187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08080"/>
                </a:solidFill>
                <a:latin typeface="Arial"/>
              </a:rPr>
              <a:t>Instructor: Enrique Ru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2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sos del Material de Re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l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terial de sopor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utiliza para vaciar estéri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Rellenos de Roca Cementada (CRF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incorporan rocas estériles a los rellenos hidráulicos de modo de disminuir las cantidades de cemento y arena a utiliz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eneralmente presentan una mayor resistencia dada sus características construc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RF varian en su cantidad de cemento en peso de 4-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lación empírica para el cálculo de resistencia a la compresión (1-11 MPa) está dada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52920" y="3352680"/>
            <a:ext cx="4591080" cy="482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990720" y="5486400"/>
                <a:ext cx="2514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C</m:t>
                        </m:r>
                      </m:e>
                      <m:sub>
                        <m:r>
                          <m:t xml:space="preserve">v</m:t>
                        </m:r>
                      </m:sub>
                      <m:sup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 MP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mportamiento de Relleno de Rocas con Ce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34723" t="35396" r="5556" b="2388"/>
          <a:stretch/>
        </p:blipFill>
        <p:spPr>
          <a:xfrm>
            <a:off x="2438280" y="1828800"/>
            <a:ext cx="3276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egregación en Rellenos de Roca Cemen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19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gregación de los compo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generan áreas de alta porosidad que tienden a tener un bajo contenido de ce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30559" t="3372" r="18055" b="67981"/>
          <a:stretch/>
        </p:blipFill>
        <p:spPr>
          <a:xfrm>
            <a:off x="4952880" y="2057400"/>
            <a:ext cx="388620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fecto de la Rigidez del Relleno en el Comportamiento del Pi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rcRect l="1710" t="0" r="0" b="0"/>
          <a:stretch/>
        </p:blipFill>
        <p:spPr>
          <a:xfrm>
            <a:off x="990720" y="1752480"/>
            <a:ext cx="7010280" cy="3535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344960" y="5410080"/>
            <a:ext cx="691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a rigidez del relleno cambia las propiedad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stitutivas del pilar minero pasando de plástico a frágil plá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Un relleno rigido genera un esfuerzo lateral mayor y aumenta la resitencia post fall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 de Fallas de Mitchell 19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lla por tracción o cor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Peso neto de la cuña a fallar (La cohesión de las paredes induce una resistencia al cor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Factor de seguridad a la formación de una cuña en el piso del relle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rcRect l="12503" t="0" r="10715" b="50480"/>
          <a:stretch/>
        </p:blipFill>
        <p:spPr>
          <a:xfrm>
            <a:off x="5181480" y="1981080"/>
            <a:ext cx="3276720" cy="29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828800" y="1981080"/>
                <a:ext cx="11430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ϕ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1600200" y="3886200"/>
                <a:ext cx="1219320" cy="2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γ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5410080"/>
                <a:ext cx="1765440" cy="4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φ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L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γL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 de Fallas de Mitchell 19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895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UCS crítico del material de relleno para su sostenimien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066680" y="3657600"/>
                <a:ext cx="1981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γH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/</m:t>
                        </m:r>
                        <m:r>
                          <m:t xml:space="preserve">L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7" name="" descr=""/>
          <p:cNvPicPr/>
          <p:nvPr/>
        </p:nvPicPr>
        <p:blipFill>
          <a:blip r:embed="rId1"/>
          <a:srcRect l="12503" t="0" r="10715" b="50480"/>
          <a:stretch/>
        </p:blipFill>
        <p:spPr>
          <a:xfrm>
            <a:off x="4952880" y="2057400"/>
            <a:ext cx="3276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stabilidad de Rellenos a Caving y Cizal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791320" cy="3616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733920" y="5333400"/>
            <a:ext cx="1981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tchell, RJ &amp; Roett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989) Analysis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lling of sill pillars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novations in Mining Backfi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chnology, Hassani et 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ds.) Balkema, Rotterd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Usos del Rell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e utiliza como techo, piso y pared en los diferentes métodos de cut and f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ipos de Relle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lenos de roca (rock f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lenos hidráulicos (slurry fi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lleno tipo pasta (paste fi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aracterística de los Materiales de Rel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14400" y="1828800"/>
          <a:ext cx="7696080" cy="4471920"/>
        </p:xfrm>
        <a:graphic>
          <a:graphicData uri="http://schemas.openxmlformats.org/drawingml/2006/table">
            <a:tbl>
              <a:tblPr/>
              <a:tblGrid>
                <a:gridCol w="1944720"/>
                <a:gridCol w="1917720"/>
                <a:gridCol w="1915920"/>
                <a:gridCol w="1917720"/>
              </a:tblGrid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i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leno de Roc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leno Hidrául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lleno tipo Pas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ta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-73% só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-85% sólid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stema de transpor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imenea, equipo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ndajes, cañerías a través de grav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ndajes, cañerías a través de graved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 y 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 y 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zón agua cemen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j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ja a alta dependiendo de las especificacion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ocidad de deposit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400 tons/h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0-200 tons/h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-200 tons/h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gre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la pila se produce reduciendo su resistencia y rigide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produce segregación lo cual induce baja resisten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existe segrega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igidez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ta si se instala adecuadam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ja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ja a alta dependiendo de la composición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acto con las pare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fíci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se pue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ácil para ajustar a pared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ellenos Hidrául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on los más usado actualmente en minería de Cut and F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diseño consiste en encontrar una curva granulométrica de arena o material de relave que junto a una cantidad de agua se comporte como una pulpa de fácil manejo a través de cañerías y ductos de vac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os parámetros a considerar en él diseño de la curva granulométrica a ser utilizada en la pulpa debe considerar lo siguie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tamaño máximo y su volumen de material grueso que puede ser transportado sobre la velocidad crítica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tamaño mínimo y su volumen que permitirá un drenaje adecu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urva Granulométrica para Relleno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artículas de mayor tamaño son difíciles de mantener en suspensión aún cuando se transporte a velocidades sobre la crí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También las partículas de mayor tamaño aumentan el desgaste de los ductos de transporte exponencial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fracción de material fino influirá en la velocidad a la cual se puede drenar la pulpa para vaciar el exceso de agu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velocidad de drenaje del exceso de agua debería ser no menor a 2.5 cm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a cantidad máxima de finos para evitar liquefacción producto de potenciales cargas dinpamicas es de 8% en peso de material bajo 20 micrones u 800 mall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8334" t="9272" r="47226" b="25875"/>
          <a:stretch/>
        </p:blipFill>
        <p:spPr>
          <a:xfrm>
            <a:off x="4495680" y="2362320"/>
            <a:ext cx="464832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Utilización de Rellenos Hidraú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utiliza en cut and fill convencional u overhang cut and f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algunos casos se utiliza equipos de drenaje especial para acelerar el proceso de percolación el cuál resulta ser la etapa crítica del proces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 debe cuidar el evitar la remoción de la porción fina del material producto del drenaje rápido de agu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velocidad de transporte de la pulpa debería estar en el rango 1.3-1.7 m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52779" t="5400" r="4169" b="10428"/>
          <a:stretch/>
        </p:blipFill>
        <p:spPr>
          <a:xfrm>
            <a:off x="4572000" y="2057400"/>
            <a:ext cx="4267080" cy="37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Resistencia de Relleno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ángulo de fricción aparente depende de la angularidad de los fragmentos de arena y su compact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índice de huecos de rellenos hidráulicos es del orden de 70%. Lo cual implica una densidad de 1.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ángulo de fricción de falla es de 37 gr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o se considera cohesión ya que es arena suelta. Sin embargo en realidad como la arena está húmeda se cohesión aparente debido a la succión producida en los poros y capil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 estas condiciones la altura máxima de relleno que se puede mantener estable es de 3-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520" y="274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Parámetros de Resistencia de Rellenos Hidráulicos Cement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ara aumentar la cohesión del relleno se incorpora cemento en la pulpa de modo de mejorar sus condiciones de resis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resistencia de un relleno con cemento está dada como función del contenido de cemento y el tiempo de curado por la siguiente re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4648320" y="2971800"/>
            <a:ext cx="4495680" cy="2081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1295280" y="5181480"/>
                <a:ext cx="1752840" cy="107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  KPa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5:41:55Z</dcterms:created>
  <dc:creator>Enrique Rubio</dc:creator>
  <dc:description/>
  <dc:language>en-US</dc:language>
  <cp:lastModifiedBy>Enrique Rubio</cp:lastModifiedBy>
  <dcterms:modified xsi:type="dcterms:W3CDTF">2006-05-09T22:11:23Z</dcterms:modified>
  <cp:revision>130</cp:revision>
  <dc:subject/>
  <dc:title>Diseño de Minas Subterráneas</dc:title>
</cp:coreProperties>
</file>