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0852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085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085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085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085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520" y="2743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085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32720" y="6400800"/>
            <a:ext cx="2850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Cátedra Codelco de Tecnología Min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MI 58B: Diseño de Minas Subterrán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778440" y="6507000"/>
            <a:ext cx="18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Instructor: Enrique Rub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52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ividad de Caserones Subterr</a:t>
            </a: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áne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Horizonte de Tiempo en Producción Es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48002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l tamaño de caserón es inversamente proporcional al horizonte de tiempo en que se puede mantener una producción es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l factor multiplicador de productividad como función del tamaño del caserón aumenta proporcionalmente con el número de caserones disponi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o anterior se explica por que los ciclos productivos disminuyen también con el tamaño de los caser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6250" t="19791" r="6250" b="14584"/>
          <a:stretch/>
        </p:blipFill>
        <p:spPr>
          <a:xfrm>
            <a:off x="1828800" y="1600200"/>
            <a:ext cx="556272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fecto de Esterilización de Caser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5028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 menor tamaño de caserones menor es la influencia de caserones activos con respecto a los circund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 anterior influye en la utilización del cuerpo mineralizado y por lo tanto en el rendimiento económico del yac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rcRect l="7811" t="30211" r="26564" b="11458"/>
          <a:stretch/>
        </p:blipFill>
        <p:spPr>
          <a:xfrm>
            <a:off x="2590920" y="1676520"/>
            <a:ext cx="4800600" cy="32004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76200" y="3809880"/>
            <a:ext cx="203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aserones disponibl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ara produc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86000" y="3580920"/>
            <a:ext cx="9144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ndimiento de un Sistema Mine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42667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n tamaño menor de caserón permitiría aumentar la disponibilidad del cuerpo mineralizado para realizar aumentos de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bl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 menor tamaño de caserón existirá un ramp up más l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 menor tamaño de caserón el costo unitario de producción por caserón aumen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32" t="57297" r="7811" b="14584"/>
          <a:stretch/>
        </p:blipFill>
        <p:spPr>
          <a:xfrm>
            <a:off x="304920" y="1905120"/>
            <a:ext cx="83055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Preparaciones para Diferentes Tamaños de Caser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rcRect l="11721" t="25004" r="10938" b="52084"/>
          <a:stretch/>
        </p:blipFill>
        <p:spPr>
          <a:xfrm>
            <a:off x="0" y="2286000"/>
            <a:ext cx="8610480" cy="19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Programas de Producción Para Caserones Individu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11721" t="19791" r="11721" b="31250"/>
          <a:stretch/>
        </p:blipFill>
        <p:spPr>
          <a:xfrm>
            <a:off x="380880" y="1752480"/>
            <a:ext cx="815364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oductividad y Tiempo de Ciclo de Preparación y el Tamaño de Caser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47239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Un mayor tiempo de ciclo de preparación implica que el cuerpo mineralizado está teniendo una baja dispon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10938" t="18753" r="10938" b="33337"/>
          <a:stretch/>
        </p:blipFill>
        <p:spPr>
          <a:xfrm>
            <a:off x="1828800" y="1523880"/>
            <a:ext cx="632448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oductividad de Sistema Minero como Función del Diseño de Caser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8594" t="14584" r="7032" b="21878"/>
          <a:stretch/>
        </p:blipFill>
        <p:spPr>
          <a:xfrm>
            <a:off x="380880" y="1523880"/>
            <a:ext cx="8229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tervalos entre Sub nive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a decisión fundamental en el dise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ño y costeo de una determinada solución min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actores que afectan la decis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Geolog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étodo de explotación/selectiv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yout min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stricciones de ca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Intervalos entre Sub Nive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tendencia actual es a tener menor cantidad de niveles espaciados una gran cantidad de me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ípicamente el espaciamiento entre estos es del orden de 30 -90 m en el pasado hoy día la tendencia es de 90 a 24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257800" y="495288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5257800" y="2590560"/>
            <a:ext cx="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860440" y="5029200"/>
            <a:ext cx="23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Intervalo entre Sub Nive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20080" y="2743200"/>
            <a:ext cx="646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s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10080" y="3505320"/>
            <a:ext cx="2667240" cy="1295280"/>
          </a:xfrm>
          <a:custGeom>
            <a:avLst/>
            <a:gdLst/>
            <a:ahLst/>
            <a:rect l="l" t="t" r="r" b="b"/>
            <a:pathLst>
              <a:path w="1680" h="816">
                <a:moveTo>
                  <a:pt x="0" y="816"/>
                </a:moveTo>
                <a:cubicBezTo>
                  <a:pt x="412" y="764"/>
                  <a:pt x="824" y="712"/>
                  <a:pt x="1104" y="576"/>
                </a:cubicBezTo>
                <a:cubicBezTo>
                  <a:pt x="1384" y="440"/>
                  <a:pt x="1584" y="96"/>
                  <a:pt x="168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562720" y="2971800"/>
            <a:ext cx="2590560" cy="1714680"/>
          </a:xfrm>
          <a:custGeom>
            <a:avLst/>
            <a:gdLst/>
            <a:ahLst/>
            <a:rect l="l" t="t" r="r" b="b"/>
            <a:pathLst>
              <a:path w="1632" h="1080">
                <a:moveTo>
                  <a:pt x="0" y="0"/>
                </a:moveTo>
                <a:cubicBezTo>
                  <a:pt x="32" y="188"/>
                  <a:pt x="64" y="376"/>
                  <a:pt x="192" y="528"/>
                </a:cubicBezTo>
                <a:cubicBezTo>
                  <a:pt x="320" y="680"/>
                  <a:pt x="560" y="824"/>
                  <a:pt x="768" y="912"/>
                </a:cubicBezTo>
                <a:cubicBezTo>
                  <a:pt x="976" y="1000"/>
                  <a:pt x="1296" y="1032"/>
                  <a:pt x="1440" y="1056"/>
                </a:cubicBezTo>
                <a:cubicBezTo>
                  <a:pt x="1584" y="1080"/>
                  <a:pt x="1608" y="1068"/>
                  <a:pt x="1632" y="10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15000" y="2768760"/>
            <a:ext cx="2362320" cy="1346040"/>
          </a:xfrm>
          <a:custGeom>
            <a:avLst/>
            <a:gdLst/>
            <a:ahLst/>
            <a:rect l="l" t="t" r="r" b="b"/>
            <a:pathLst>
              <a:path w="1488" h="848">
                <a:moveTo>
                  <a:pt x="0" y="96"/>
                </a:moveTo>
                <a:cubicBezTo>
                  <a:pt x="44" y="252"/>
                  <a:pt x="88" y="408"/>
                  <a:pt x="192" y="528"/>
                </a:cubicBezTo>
                <a:cubicBezTo>
                  <a:pt x="296" y="648"/>
                  <a:pt x="480" y="784"/>
                  <a:pt x="624" y="816"/>
                </a:cubicBezTo>
                <a:cubicBezTo>
                  <a:pt x="768" y="848"/>
                  <a:pt x="928" y="792"/>
                  <a:pt x="1056" y="720"/>
                </a:cubicBezTo>
                <a:cubicBezTo>
                  <a:pt x="1184" y="648"/>
                  <a:pt x="1320" y="504"/>
                  <a:pt x="1392" y="384"/>
                </a:cubicBezTo>
                <a:cubicBezTo>
                  <a:pt x="1464" y="264"/>
                  <a:pt x="1476" y="132"/>
                  <a:pt x="1488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42720" y="3886200"/>
            <a:ext cx="110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sto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xplot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90920" y="3809880"/>
            <a:ext cx="992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sto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esarr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301080" y="3429000"/>
            <a:ext cx="109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sto To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0" y="411480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8153640" cy="3075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066680" y="5334120"/>
            <a:ext cx="75438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861048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sider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 rendimiento de la excavación de preparación es inversamente proporcional a la sección de estas excav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 diámetro de perforación influye la productivida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 mayor diámetro menor rend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 mayor diámetro menor cantidad de metros a perforar (mayor burb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sider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rendimiento del proceso de relleno depende directamente del diseño de e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s características de la pulpa a utilizar como relleno definirá el rendimiento del proceso de rell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rendimiento de la operación de carguío depende 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irectamente proporcional al tamaño del equipo de carguí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versamente proporcional a la distancia de vaci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rendimiento de la operación de transporte es generalmente independien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Tamaño del Caserón vs Productivid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concepción tradicional es que la productividad de un caserón es directamente proporcional al tamaño de es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costo de producción por lo tanto es inversamente proporcional al tamaño del caser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o anterior no es necesariamente cierto para un complejo compuesto de un número considerable de casero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Productividad de un sistema Mine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4800600"/>
            <a:ext cx="7924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s posible demostrar que la productividad de un sistema minero es proporcional al número de caserones disponibles en el comple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sto se debe a que un mayor número de caserones permite una mayor flexibilidad entre las operaciones unitarias de perforación, tronadura, carguío, relle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10155" t="30211" r="10938" b="16666"/>
          <a:stretch/>
        </p:blipFill>
        <p:spPr>
          <a:xfrm>
            <a:off x="1219320" y="1523880"/>
            <a:ext cx="647676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15:41:55Z</dcterms:created>
  <dc:creator>Enrique Rubio</dc:creator>
  <dc:description/>
  <dc:language>en-US</dc:language>
  <cp:lastModifiedBy>Enrique Rubio</cp:lastModifiedBy>
  <dcterms:modified xsi:type="dcterms:W3CDTF">2006-10-03T05:32:28Z</dcterms:modified>
  <cp:revision>132</cp:revision>
  <dc:subject/>
  <dc:title>Diseño de Minas Subterráneas</dc:title>
</cp:coreProperties>
</file>