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2795E233-00AC-4670-906F-5AE5E3416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81120"/>
            <a:ext cx="4540320" cy="3405240"/>
          </a:xfrm>
          <a:prstGeom prst="rect">
            <a:avLst/>
          </a:prstGeom>
          <a:ln w="0">
            <a:noFill/>
          </a:ln>
        </p:spPr>
      </p:sp>
      <p:sp>
        <p:nvSpPr>
          <p:cNvPr id="22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caserones transversales poseen acceso en la veta y generalmente el desarrollo se realiza en minera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Ubica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370m de profundida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8136 tp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Skips de 10.9 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roduc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12 5 yd3 y 2 10 yd3 LHDs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tos de extracción espaciados a 15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ique de 1.1x1.2 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hancador</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distancias de acarreo varían de 90 a 250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conexión entre niveles de producción se realiza a través de ramp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caserones se encuentran a intervalos de 20m de piso a pis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l nivel de perforación posee dimensiones de 4.2x8.2m los cuales se perforan desde la rampa de conexión entre nivel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Se necesitan 67 tiros de una longitud de 3.6 m cada uno para lograr un avance de 3 m. La productividad es de 2.6 m por turn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HDs se utiliza para realizar marina de preparació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caserones son de 30m de ancho limitados por pilares de 9m de anch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n los 30m de caserón se dejan pilares transitorios de 2.7 m para mantener la estabilidad del nivel de perforació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da caserón posee una chimenea piloto de 1.8x1.8m perforada con diámetro de 76m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tronadura de producción se realiza con un diagrama de espaciamiento 2.7 m y burden de 2.4 m. la productividad es de 30 m/turn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l factor de carga es de 0.23 Kg/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retardos son diseñados de modo de obtener 480kg por retardo y una cantidad máxima de explosivo de 5000 a 6000 Kg por dispar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ventilación se realiza con chimeneas de 4.5m de diámetro y caudales de 165 m3/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8840" y="681120"/>
            <a:ext cx="4540320" cy="3405240"/>
          </a:xfrm>
          <a:prstGeom prst="rect">
            <a:avLst/>
          </a:prstGeom>
          <a:ln w="0">
            <a:noFill/>
          </a:ln>
        </p:spPr>
      </p:sp>
      <p:sp>
        <p:nvSpPr>
          <p:cNvPr id="22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Producción de 10.000 tpda través de un pique de 750 m de profund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Se utilizan skips de 17.2 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producción se realiza con LHDs de 6.5 Yd3 de capacidad los cuales presentan una productividad de 180- 220 t/turno para una distancia de 31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producción se realiza a través de ptos de extracción que se conectan a piques que vacían a un chancador central. Luego el mineral es transportado por una correa de 1.1 m de ancho por 530 m de largo hasta buzones de carguío que se encuentran cercanos al pique de acceso princip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niveles de transporte se encuentran afuera del cuerpo mineralizado a intervalos de 46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caserones se encuentran transversalmente orientados con respecto al cuerpo mineralizado. El ancho de los caserones es de 18.2 m con un largo que alcanza los 140m. Los caserones son espaciados por pilares de 18.2x21m dependiendo de las condiciones de estabilida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galería de zanja se prepara desde el nivel de transporte principal hasta la base del  caserón de modo de generar el corte basal de 3.6x3.6. El acceso desde el nivel de transporte a la zanja se realiza a través de ptos de extrac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 nivel de perforación consiste en 4 galerías de 3x3,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zanja se perfora con tiros radiales de espaciamiento 2.5m y burden de 1.2m. La altura máxima de perforación es de 18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tiros de producción se realizan en un diagrama de 1 m de espaciamiento y 2,4m de burden. La productividad del método es de 160 -180 t/turno de perforación de producció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8840" y="681120"/>
            <a:ext cx="4540320" cy="3405240"/>
          </a:xfrm>
          <a:prstGeom prst="rect">
            <a:avLst/>
          </a:prstGeom>
          <a:ln w="0">
            <a:noFill/>
          </a:ln>
        </p:spPr>
      </p:sp>
      <p:sp>
        <p:nvSpPr>
          <p:cNvPr id="22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ípicamente el acceso es a través de piques o rampas que se construyen en la pared pendiente alejados al menos 50m del cuerpo mineraliz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stancia entre niveles de producción varía entre 40-120 m dependiendo de la extensión vertical del cuerpo mineralizado y de la cantidad de puntos de extracción necesarios para sostener una producción determi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niveles de producción se conectan a través de piques hasta el nivel de transporte principal donde se produce un chancado o simplemente un almacenamiento de mineral a ser transportado a superfi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t>
            </a:r>
            <a:r>
              <a:rPr b="0" lang="es-CL" sz="4400" spc="-1" strike="noStrike">
                <a:solidFill>
                  <a:srgbClr val="000000"/>
                </a:solidFill>
                <a:latin typeface="Arial"/>
              </a:rPr>
              <a:t>ño del Método Sublevel Stop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posición de Caserones </a:t>
            </a:r>
            <a:endParaRPr b="0" lang="en-US" sz="4400" spc="-1" strike="noStrike">
              <a:solidFill>
                <a:srgbClr val="000000"/>
              </a:solidFill>
              <a:latin typeface="Arial"/>
            </a:endParaRPr>
          </a:p>
        </p:txBody>
      </p:sp>
      <p:sp>
        <p:nvSpPr>
          <p:cNvPr id="70" name=""/>
          <p:cNvSpPr/>
          <p:nvPr/>
        </p:nvSpPr>
        <p:spPr>
          <a:xfrm>
            <a:off x="914400" y="1981080"/>
            <a:ext cx="2133720" cy="4267440"/>
          </a:xfrm>
          <a:prstGeom prst="cube">
            <a:avLst>
              <a:gd name="adj" fmla="val 699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447920" y="2971800"/>
            <a:ext cx="60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57400" y="2971800"/>
            <a:ext cx="7632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905120" y="2438280"/>
            <a:ext cx="60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514600" y="2438280"/>
            <a:ext cx="7632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060920" y="1447920"/>
            <a:ext cx="22154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 Transversales</a:t>
            </a:r>
            <a:endParaRPr b="0" lang="en-US" sz="1400" spc="-1" strike="noStrike">
              <a:solidFill>
                <a:srgbClr val="000000"/>
              </a:solidFill>
              <a:latin typeface="Arial"/>
            </a:endParaRPr>
          </a:p>
        </p:txBody>
      </p:sp>
      <p:sp>
        <p:nvSpPr>
          <p:cNvPr id="76" name=""/>
          <p:cNvSpPr/>
          <p:nvPr/>
        </p:nvSpPr>
        <p:spPr>
          <a:xfrm>
            <a:off x="4876920" y="1828800"/>
            <a:ext cx="2133360" cy="4267080"/>
          </a:xfrm>
          <a:prstGeom prst="cube">
            <a:avLst>
              <a:gd name="adj" fmla="val 699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5181480" y="1828440"/>
            <a:ext cx="1447920" cy="15238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81480" y="3352680"/>
            <a:ext cx="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709600" y="1371600"/>
            <a:ext cx="224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 Longitudi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plicación de </a:t>
            </a:r>
            <a:r>
              <a:rPr b="0" lang="es-CL" sz="4000" spc="-1" strike="noStrike">
                <a:solidFill>
                  <a:srgbClr val="000000"/>
                </a:solidFill>
                <a:latin typeface="Arial"/>
              </a:rPr>
              <a:t>LongHole Open Stoping</a:t>
            </a:r>
            <a:endParaRPr b="0" lang="en-US" sz="4000" spc="-1" strike="noStrike">
              <a:solidFill>
                <a:srgbClr val="000000"/>
              </a:solidFill>
              <a:latin typeface="Arial"/>
            </a:endParaRPr>
          </a:p>
        </p:txBody>
      </p:sp>
      <p:sp>
        <p:nvSpPr>
          <p:cNvPr id="8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baja potencia menor a 6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altura del caserón no supera los 25 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foración y tronadura se realiza por el nivel de produc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arguío se realiza con equipo LHD telecomanda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 name=""/>
          <p:cNvGrpSpPr/>
          <p:nvPr/>
        </p:nvGrpSpPr>
        <p:grpSpPr>
          <a:xfrm>
            <a:off x="6552720" y="1752480"/>
            <a:ext cx="1081440" cy="2259000"/>
            <a:chOff x="6552720" y="1752480"/>
            <a:chExt cx="1081440" cy="2259000"/>
          </a:xfrm>
        </p:grpSpPr>
        <p:sp>
          <p:nvSpPr>
            <p:cNvPr id="83" name=""/>
            <p:cNvSpPr/>
            <p:nvPr/>
          </p:nvSpPr>
          <p:spPr>
            <a:xfrm>
              <a:off x="6553080" y="3171240"/>
              <a:ext cx="762120" cy="479880"/>
            </a:xfrm>
            <a:custGeom>
              <a:avLst/>
              <a:gdLst>
                <a:gd name="textAreaLeft" fmla="*/ 167400 w 762120"/>
                <a:gd name="textAreaRight" fmla="*/ 594720 w 762120"/>
                <a:gd name="textAreaTop" fmla="*/ 105480 h 479880"/>
                <a:gd name="textAreaBottom" fmla="*/ 374400 h 47988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740640" y="3651480"/>
              <a:ext cx="380880" cy="36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566040" y="1752480"/>
              <a:ext cx="169560" cy="1422360"/>
            </a:xfrm>
            <a:custGeom>
              <a:avLst/>
              <a:gdLst/>
              <a:ahLst/>
              <a:rect l="l" t="t" r="r" b="b"/>
              <a:pathLst>
                <a:path w="107" h="1138">
                  <a:moveTo>
                    <a:pt x="107" y="0"/>
                  </a:moveTo>
                  <a:cubicBezTo>
                    <a:pt x="106" y="30"/>
                    <a:pt x="93" y="481"/>
                    <a:pt x="80" y="576"/>
                  </a:cubicBezTo>
                  <a:cubicBezTo>
                    <a:pt x="74" y="618"/>
                    <a:pt x="53" y="656"/>
                    <a:pt x="40" y="696"/>
                  </a:cubicBezTo>
                  <a:cubicBezTo>
                    <a:pt x="36" y="709"/>
                    <a:pt x="27" y="736"/>
                    <a:pt x="27" y="736"/>
                  </a:cubicBezTo>
                  <a:cubicBezTo>
                    <a:pt x="18" y="876"/>
                    <a:pt x="0" y="1000"/>
                    <a:pt x="0" y="1138"/>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 name=""/>
            <p:cNvSpPr/>
            <p:nvPr/>
          </p:nvSpPr>
          <p:spPr>
            <a:xfrm>
              <a:off x="7248600" y="1768320"/>
              <a:ext cx="385560" cy="1406520"/>
            </a:xfrm>
            <a:custGeom>
              <a:avLst/>
              <a:gdLst/>
              <a:ahLst/>
              <a:rect l="l" t="t" r="r" b="b"/>
              <a:pathLst>
                <a:path w="243" h="1125">
                  <a:moveTo>
                    <a:pt x="39" y="1125"/>
                  </a:moveTo>
                  <a:cubicBezTo>
                    <a:pt x="48" y="1098"/>
                    <a:pt x="56" y="1072"/>
                    <a:pt x="65" y="1045"/>
                  </a:cubicBezTo>
                  <a:cubicBezTo>
                    <a:pt x="69" y="1032"/>
                    <a:pt x="79" y="1005"/>
                    <a:pt x="79" y="1005"/>
                  </a:cubicBezTo>
                  <a:cubicBezTo>
                    <a:pt x="83" y="793"/>
                    <a:pt x="0" y="436"/>
                    <a:pt x="146" y="214"/>
                  </a:cubicBezTo>
                  <a:cubicBezTo>
                    <a:pt x="174" y="130"/>
                    <a:pt x="161" y="111"/>
                    <a:pt x="226" y="67"/>
                  </a:cubicBezTo>
                  <a:cubicBezTo>
                    <a:pt x="243" y="19"/>
                    <a:pt x="240" y="41"/>
                    <a:pt x="240" y="0"/>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 name=""/>
            <p:cNvSpPr/>
            <p:nvPr/>
          </p:nvSpPr>
          <p:spPr>
            <a:xfrm flipH="1" flipV="1">
              <a:off x="6629040" y="2751120"/>
              <a:ext cx="228600" cy="9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6552720" y="311112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6705360" y="2391120"/>
              <a:ext cx="228600" cy="12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7010280" y="1970640"/>
              <a:ext cx="0" cy="168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7086600" y="2450880"/>
              <a:ext cx="228600" cy="11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7086600" y="311112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a:off x="5715000" y="45720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15000" y="5943600"/>
            <a:ext cx="2666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95880" y="4572000"/>
            <a:ext cx="2057400" cy="1143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715000" y="45720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740560" y="5791320"/>
            <a:ext cx="20304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98" name=""/>
          <p:cNvSpPr/>
          <p:nvPr/>
        </p:nvSpPr>
        <p:spPr>
          <a:xfrm>
            <a:off x="5867280" y="5638680"/>
            <a:ext cx="203400" cy="9072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99" name=""/>
          <p:cNvSpPr/>
          <p:nvPr/>
        </p:nvSpPr>
        <p:spPr>
          <a:xfrm>
            <a:off x="5867280" y="5791320"/>
            <a:ext cx="20340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00" name=""/>
          <p:cNvSpPr/>
          <p:nvPr/>
        </p:nvSpPr>
        <p:spPr>
          <a:xfrm>
            <a:off x="6095880" y="5715000"/>
            <a:ext cx="20340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01" name=""/>
          <p:cNvSpPr/>
          <p:nvPr/>
        </p:nvSpPr>
        <p:spPr>
          <a:xfrm>
            <a:off x="6066000" y="5832360"/>
            <a:ext cx="203040" cy="9072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level Stoping</a:t>
            </a: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sección transversal irregul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istancia entre subniveles de perforación es de 10-20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una zanja recolectora la cual se conecta a un nivel de producción a través de puntos de extra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burden varia entre 0.7-2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4" name=""/>
          <p:cNvGrpSpPr/>
          <p:nvPr/>
        </p:nvGrpSpPr>
        <p:grpSpPr>
          <a:xfrm>
            <a:off x="4801320" y="1828800"/>
            <a:ext cx="3815280" cy="3873240"/>
            <a:chOff x="4801320" y="1828800"/>
            <a:chExt cx="3815280" cy="3873240"/>
          </a:xfrm>
        </p:grpSpPr>
        <p:sp>
          <p:nvSpPr>
            <p:cNvPr id="105" name=""/>
            <p:cNvSpPr/>
            <p:nvPr/>
          </p:nvSpPr>
          <p:spPr>
            <a:xfrm>
              <a:off x="5659560" y="4113360"/>
              <a:ext cx="761760" cy="479520"/>
            </a:xfrm>
            <a:custGeom>
              <a:avLst/>
              <a:gdLst>
                <a:gd name="textAreaLeft" fmla="*/ 167400 w 761760"/>
                <a:gd name="textAreaRight" fmla="*/ 594360 w 761760"/>
                <a:gd name="textAreaTop" fmla="*/ 105480 h 479520"/>
                <a:gd name="textAreaBottom" fmla="*/ 374040 h 47952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846760" y="4592880"/>
              <a:ext cx="3808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672160" y="1828800"/>
              <a:ext cx="216000" cy="2287800"/>
            </a:xfrm>
            <a:custGeom>
              <a:avLst/>
              <a:gdLst/>
              <a:ahLst/>
              <a:rect l="l" t="t" r="r" b="b"/>
              <a:pathLst>
                <a:path w="107" h="1138">
                  <a:moveTo>
                    <a:pt x="107" y="0"/>
                  </a:moveTo>
                  <a:cubicBezTo>
                    <a:pt x="106" y="30"/>
                    <a:pt x="93" y="481"/>
                    <a:pt x="80" y="576"/>
                  </a:cubicBezTo>
                  <a:cubicBezTo>
                    <a:pt x="74" y="618"/>
                    <a:pt x="53" y="656"/>
                    <a:pt x="40" y="696"/>
                  </a:cubicBezTo>
                  <a:cubicBezTo>
                    <a:pt x="36" y="709"/>
                    <a:pt x="27" y="736"/>
                    <a:pt x="27" y="736"/>
                  </a:cubicBezTo>
                  <a:cubicBezTo>
                    <a:pt x="18" y="876"/>
                    <a:pt x="0" y="1000"/>
                    <a:pt x="0" y="1138"/>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 name=""/>
            <p:cNvSpPr/>
            <p:nvPr/>
          </p:nvSpPr>
          <p:spPr>
            <a:xfrm>
              <a:off x="6269040" y="1905120"/>
              <a:ext cx="752400" cy="2211480"/>
            </a:xfrm>
            <a:custGeom>
              <a:avLst/>
              <a:gdLst/>
              <a:ahLst/>
              <a:rect l="l" t="t" r="r" b="b"/>
              <a:pathLst>
                <a:path w="243" h="1125">
                  <a:moveTo>
                    <a:pt x="39" y="1125"/>
                  </a:moveTo>
                  <a:cubicBezTo>
                    <a:pt x="48" y="1098"/>
                    <a:pt x="56" y="1072"/>
                    <a:pt x="65" y="1045"/>
                  </a:cubicBezTo>
                  <a:cubicBezTo>
                    <a:pt x="69" y="1032"/>
                    <a:pt x="79" y="1005"/>
                    <a:pt x="79" y="1005"/>
                  </a:cubicBezTo>
                  <a:cubicBezTo>
                    <a:pt x="83" y="793"/>
                    <a:pt x="0" y="436"/>
                    <a:pt x="146" y="214"/>
                  </a:cubicBezTo>
                  <a:cubicBezTo>
                    <a:pt x="174" y="130"/>
                    <a:pt x="161" y="111"/>
                    <a:pt x="226" y="67"/>
                  </a:cubicBezTo>
                  <a:cubicBezTo>
                    <a:pt x="243" y="19"/>
                    <a:pt x="240" y="41"/>
                    <a:pt x="240" y="0"/>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9" name=""/>
            <p:cNvSpPr/>
            <p:nvPr/>
          </p:nvSpPr>
          <p:spPr>
            <a:xfrm flipH="1" flipV="1">
              <a:off x="5659200" y="405288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6192720" y="405288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888160" y="3227400"/>
              <a:ext cx="2286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345360" y="2057400"/>
              <a:ext cx="304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5888160" y="213372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5888160" y="2286000"/>
              <a:ext cx="4572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5887800" y="2286000"/>
              <a:ext cx="609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6192360" y="2286000"/>
              <a:ext cx="3049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6421320" y="2286000"/>
              <a:ext cx="76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116760" y="327672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116760" y="34290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040440" y="35053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5659200" y="35053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5735160" y="35053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964120" y="3505320"/>
              <a:ext cx="1526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867280" y="4572000"/>
              <a:ext cx="1143000" cy="3812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10280" y="4572000"/>
              <a:ext cx="533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801320" y="396252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27" name=""/>
            <p:cNvSpPr/>
            <p:nvPr/>
          </p:nvSpPr>
          <p:spPr>
            <a:xfrm>
              <a:off x="5334120" y="434340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094440" y="5181840"/>
              <a:ext cx="10159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to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129" name=""/>
            <p:cNvSpPr/>
            <p:nvPr/>
          </p:nvSpPr>
          <p:spPr>
            <a:xfrm flipV="1">
              <a:off x="6400800" y="480060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42720" y="3581640"/>
              <a:ext cx="1073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131" name=""/>
            <p:cNvSpPr/>
            <p:nvPr/>
          </p:nvSpPr>
          <p:spPr>
            <a:xfrm flipH="1">
              <a:off x="7391160" y="40388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71000" y="2210040"/>
              <a:ext cx="10936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foración</a:t>
              </a:r>
              <a:endParaRPr b="0" lang="en-US" sz="1400" spc="-1" strike="noStrike">
                <a:solidFill>
                  <a:srgbClr val="000000"/>
                </a:solidFill>
                <a:latin typeface="Arial"/>
              </a:endParaRPr>
            </a:p>
          </p:txBody>
        </p:sp>
        <p:sp>
          <p:nvSpPr>
            <p:cNvPr id="133" name=""/>
            <p:cNvSpPr/>
            <p:nvPr/>
          </p:nvSpPr>
          <p:spPr>
            <a:xfrm flipH="1" flipV="1">
              <a:off x="6629400" y="228564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6172200" y="266724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
          <p:cNvSpPr/>
          <p:nvPr/>
        </p:nvSpPr>
        <p:spPr>
          <a:xfrm rot="20966400">
            <a:off x="7619760" y="4876920"/>
            <a:ext cx="2286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770960" y="4876920"/>
            <a:ext cx="10540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ique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level Stoping</a:t>
            </a:r>
            <a:endParaRPr b="0" lang="en-US" sz="4400" spc="-1" strike="noStrike">
              <a:solidFill>
                <a:srgbClr val="000000"/>
              </a:solidFill>
              <a:latin typeface="Arial"/>
            </a:endParaRPr>
          </a:p>
        </p:txBody>
      </p:sp>
      <p:sp>
        <p:nvSpPr>
          <p:cNvPr id="138" name=""/>
          <p:cNvSpPr/>
          <p:nvPr/>
        </p:nvSpPr>
        <p:spPr>
          <a:xfrm rot="622200">
            <a:off x="1142640" y="2500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622200">
            <a:off x="1142640" y="29718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rot="622200">
            <a:off x="1142640" y="34290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622200">
            <a:off x="1142640" y="3886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622200">
            <a:off x="1142640" y="43434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rot="622200">
            <a:off x="1142640" y="4786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600200" y="2209680"/>
            <a:ext cx="38088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24040" y="2209680"/>
            <a:ext cx="38088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81600" y="175248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47" name=""/>
          <p:cNvSpPr/>
          <p:nvPr/>
        </p:nvSpPr>
        <p:spPr>
          <a:xfrm>
            <a:off x="303120" y="5410080"/>
            <a:ext cx="1035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untos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148" name=""/>
          <p:cNvSpPr/>
          <p:nvPr/>
        </p:nvSpPr>
        <p:spPr>
          <a:xfrm flipV="1">
            <a:off x="1219320" y="51055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599120" y="5410080"/>
            <a:ext cx="1073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150" name=""/>
          <p:cNvSpPr/>
          <p:nvPr/>
        </p:nvSpPr>
        <p:spPr>
          <a:xfrm flipH="1" flipV="1">
            <a:off x="1981080" y="518112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057400" y="335268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81800" y="2971800"/>
            <a:ext cx="636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ique</a:t>
            </a:r>
            <a:endParaRPr b="0" lang="en-US" sz="1400" spc="-1" strike="noStrike">
              <a:solidFill>
                <a:srgbClr val="000000"/>
              </a:solidFill>
              <a:latin typeface="Arial"/>
            </a:endParaRPr>
          </a:p>
        </p:txBody>
      </p:sp>
      <p:sp>
        <p:nvSpPr>
          <p:cNvPr id="153" name=""/>
          <p:cNvSpPr/>
          <p:nvPr/>
        </p:nvSpPr>
        <p:spPr>
          <a:xfrm>
            <a:off x="4495680" y="2057400"/>
            <a:ext cx="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95680" y="46483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410080" y="2286000"/>
            <a:ext cx="22100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876920" y="3276720"/>
            <a:ext cx="28191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495680" y="205740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334840" y="426708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59" name=""/>
          <p:cNvSpPr/>
          <p:nvPr/>
        </p:nvSpPr>
        <p:spPr>
          <a:xfrm>
            <a:off x="5178240" y="3013200"/>
            <a:ext cx="1610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v de Perforación</a:t>
            </a:r>
            <a:endParaRPr b="0" lang="en-US" sz="1400" spc="-1" strike="noStrike">
              <a:solidFill>
                <a:srgbClr val="000000"/>
              </a:solidFill>
              <a:latin typeface="Arial"/>
            </a:endParaRPr>
          </a:p>
        </p:txBody>
      </p:sp>
      <p:sp>
        <p:nvSpPr>
          <p:cNvPr id="160" name=""/>
          <p:cNvSpPr/>
          <p:nvPr/>
        </p:nvSpPr>
        <p:spPr>
          <a:xfrm>
            <a:off x="5406840" y="2016000"/>
            <a:ext cx="1610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v de Perforación</a:t>
            </a:r>
            <a:endParaRPr b="0" lang="en-US" sz="1400" spc="-1" strike="noStrike">
              <a:solidFill>
                <a:srgbClr val="000000"/>
              </a:solidFill>
              <a:latin typeface="Arial"/>
            </a:endParaRPr>
          </a:p>
        </p:txBody>
      </p:sp>
      <p:sp>
        <p:nvSpPr>
          <p:cNvPr id="161" name=""/>
          <p:cNvSpPr/>
          <p:nvPr/>
        </p:nvSpPr>
        <p:spPr>
          <a:xfrm>
            <a:off x="1067040" y="1523880"/>
            <a:ext cx="686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lanta</a:t>
            </a:r>
            <a:endParaRPr b="0" lang="en-US" sz="1400" spc="-1" strike="noStrike">
              <a:solidFill>
                <a:srgbClr val="000000"/>
              </a:solidFill>
              <a:latin typeface="Arial"/>
            </a:endParaRPr>
          </a:p>
        </p:txBody>
      </p:sp>
      <p:sp>
        <p:nvSpPr>
          <p:cNvPr id="162" name=""/>
          <p:cNvSpPr/>
          <p:nvPr/>
        </p:nvSpPr>
        <p:spPr>
          <a:xfrm>
            <a:off x="4874040" y="144792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fil Longitudinal</a:t>
            </a:r>
            <a:endParaRPr b="0" lang="en-US" sz="1400" spc="-1" strike="noStrike">
              <a:solidFill>
                <a:srgbClr val="000000"/>
              </a:solidFill>
              <a:latin typeface="Arial"/>
            </a:endParaRPr>
          </a:p>
        </p:txBody>
      </p:sp>
      <p:sp>
        <p:nvSpPr>
          <p:cNvPr id="163" name=""/>
          <p:cNvSpPr/>
          <p:nvPr/>
        </p:nvSpPr>
        <p:spPr>
          <a:xfrm>
            <a:off x="3426480" y="4876920"/>
            <a:ext cx="18738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himenea Cara Libre</a:t>
            </a:r>
            <a:endParaRPr b="0" lang="en-US" sz="1400" spc="-1" strike="noStrike">
              <a:solidFill>
                <a:srgbClr val="000000"/>
              </a:solidFill>
              <a:latin typeface="Arial"/>
            </a:endParaRPr>
          </a:p>
        </p:txBody>
      </p:sp>
      <p:sp>
        <p:nvSpPr>
          <p:cNvPr id="164" name=""/>
          <p:cNvSpPr/>
          <p:nvPr/>
        </p:nvSpPr>
        <p:spPr>
          <a:xfrm flipV="1">
            <a:off x="4038480" y="403812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495680" y="2057400"/>
            <a:ext cx="381240" cy="2209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BH Open Stoping</a:t>
            </a:r>
            <a:endParaRPr b="0" lang="en-US" sz="4400" spc="-1" strike="noStrike">
              <a:solidFill>
                <a:srgbClr val="000000"/>
              </a:solidFill>
              <a:latin typeface="Arial"/>
            </a:endParaRPr>
          </a:p>
        </p:txBody>
      </p:sp>
      <p:sp>
        <p:nvSpPr>
          <p:cNvPr id="167" name="PlaceHolder 2"/>
          <p:cNvSpPr>
            <a:spLocks noGrp="1"/>
          </p:cNvSpPr>
          <p:nvPr>
            <p:ph/>
          </p:nvPr>
        </p:nvSpPr>
        <p:spPr>
          <a:xfrm>
            <a:off x="456840" y="1599840"/>
            <a:ext cx="518148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alta potencia y regula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perforación LBH de alto diámetro para alcanzar largos de perforación de hasta 80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zanja se perfora en retroceso desde la galería de zanj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xtremo del caserón se crea una chimenea cara libre para generar el corte inic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burden en este método varia en el rango 1.5-3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8" name=""/>
          <p:cNvGrpSpPr/>
          <p:nvPr/>
        </p:nvGrpSpPr>
        <p:grpSpPr>
          <a:xfrm>
            <a:off x="6705720" y="1752480"/>
            <a:ext cx="1143000" cy="3352680"/>
            <a:chOff x="6705720" y="1752480"/>
            <a:chExt cx="1143000" cy="3352680"/>
          </a:xfrm>
        </p:grpSpPr>
        <p:sp>
          <p:nvSpPr>
            <p:cNvPr id="169" name=""/>
            <p:cNvSpPr/>
            <p:nvPr/>
          </p:nvSpPr>
          <p:spPr>
            <a:xfrm>
              <a:off x="6705720" y="1752480"/>
              <a:ext cx="60984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529760" y="4724280"/>
              <a:ext cx="3189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05720" y="4267080"/>
              <a:ext cx="609840" cy="457200"/>
            </a:xfrm>
            <a:custGeom>
              <a:avLst/>
              <a:gdLst>
                <a:gd name="textAreaLeft" fmla="*/ 133920 w 609840"/>
                <a:gd name="textAreaRight" fmla="*/ 475920 w 60984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705720" y="1752480"/>
              <a:ext cx="609840" cy="3049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858360" y="4724280"/>
              <a:ext cx="30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78204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3432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8696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23924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flipV="1">
              <a:off x="6858000" y="426708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708696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7086960" y="426708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858360" y="4724280"/>
              <a:ext cx="990360" cy="3808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Productivas de los métodos anteriores</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iclo de producción varía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función del número de puntos de extracción en 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método de perforación y producción VCR se inventa en Canadá para aumentar la productividad del método, independizándose del número de ptos de extracción en produ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VCR</a:t>
            </a:r>
            <a:endParaRPr b="0" lang="en-US" sz="4400" spc="-1" strike="noStrike">
              <a:solidFill>
                <a:srgbClr val="000000"/>
              </a:solidFill>
              <a:latin typeface="Arial"/>
            </a:endParaRPr>
          </a:p>
        </p:txBody>
      </p:sp>
      <p:sp>
        <p:nvSpPr>
          <p:cNvPr id="185" name="PlaceHolder 2"/>
          <p:cNvSpPr>
            <a:spLocks noGrp="1"/>
          </p:cNvSpPr>
          <p:nvPr>
            <p:ph/>
          </p:nvPr>
        </p:nvSpPr>
        <p:spPr>
          <a:xfrm>
            <a:off x="457200" y="1599840"/>
            <a:ext cx="41911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ección transversal es igual al método de LB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posee cara lib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tronadura se hace contra la zanj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os ptos de extracción pueden estar en producción a la vez.</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los caserones pueden ser de hasta 40m de alto para evitar daño por vibraciones y desviaciones excesiva de los tir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
          <p:cNvSpPr/>
          <p:nvPr/>
        </p:nvSpPr>
        <p:spPr>
          <a:xfrm>
            <a:off x="5257800" y="19810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257800" y="36576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257800" y="2209680"/>
            <a:ext cx="2438280" cy="990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257800" y="19810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412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71500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09588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47712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85800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3341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864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6386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7913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436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0958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485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4008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530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7057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8580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0102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1629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3152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88080" y="14479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Longitudi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1Fierro</a:t>
            </a:r>
            <a:endParaRPr b="0" lang="en-US" sz="4400" spc="-1" strike="noStrike">
              <a:solidFill>
                <a:srgbClr val="000000"/>
              </a:solidFill>
              <a:latin typeface="Arial"/>
            </a:endParaRPr>
          </a:p>
        </p:txBody>
      </p:sp>
      <p:sp>
        <p:nvSpPr>
          <p:cNvPr id="21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2" name="" descr=""/>
          <p:cNvPicPr/>
          <p:nvPr/>
        </p:nvPicPr>
        <p:blipFill>
          <a:blip r:embed="rId1"/>
          <a:stretch/>
        </p:blipFill>
        <p:spPr>
          <a:xfrm>
            <a:off x="990720" y="1371600"/>
            <a:ext cx="6705360" cy="479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2</a:t>
            </a:r>
            <a:endParaRPr b="0" lang="en-US" sz="4400" spc="-1" strike="noStrike">
              <a:solidFill>
                <a:srgbClr val="000000"/>
              </a:solidFill>
              <a:latin typeface="Arial"/>
            </a:endParaRPr>
          </a:p>
        </p:txBody>
      </p:sp>
      <p:pic>
        <p:nvPicPr>
          <p:cNvPr id="214" name="" descr=""/>
          <p:cNvPicPr/>
          <p:nvPr/>
        </p:nvPicPr>
        <p:blipFill>
          <a:blip r:embed="rId1"/>
          <a:stretch/>
        </p:blipFill>
        <p:spPr>
          <a:xfrm>
            <a:off x="0" y="1905120"/>
            <a:ext cx="4495680" cy="3984480"/>
          </a:xfrm>
          <a:prstGeom prst="rect">
            <a:avLst/>
          </a:prstGeom>
          <a:ln w="0">
            <a:noFill/>
          </a:ln>
        </p:spPr>
      </p:pic>
      <p:pic>
        <p:nvPicPr>
          <p:cNvPr id="215" name="" descr=""/>
          <p:cNvPicPr/>
          <p:nvPr/>
        </p:nvPicPr>
        <p:blipFill>
          <a:blip r:embed="rId2"/>
          <a:srcRect l="27256" t="53996" r="0" b="0"/>
          <a:stretch/>
        </p:blipFill>
        <p:spPr>
          <a:xfrm>
            <a:off x="4800600" y="2057400"/>
            <a:ext cx="3679920" cy="3809880"/>
          </a:xfrm>
          <a:prstGeom prst="rect">
            <a:avLst/>
          </a:prstGeom>
          <a:ln w="0">
            <a:noFill/>
          </a:ln>
        </p:spPr>
      </p:pic>
      <p:sp>
        <p:nvSpPr>
          <p:cNvPr id="216" name=""/>
          <p:cNvSpPr/>
          <p:nvPr/>
        </p:nvSpPr>
        <p:spPr>
          <a:xfrm>
            <a:off x="987120" y="1447920"/>
            <a:ext cx="1631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lanta Nv de Perf.</a:t>
            </a:r>
            <a:endParaRPr b="0" lang="en-US" sz="1400" spc="-1" strike="noStrike">
              <a:solidFill>
                <a:srgbClr val="000000"/>
              </a:solidFill>
              <a:latin typeface="Arial"/>
            </a:endParaRPr>
          </a:p>
        </p:txBody>
      </p:sp>
      <p:sp>
        <p:nvSpPr>
          <p:cNvPr id="217" name=""/>
          <p:cNvSpPr/>
          <p:nvPr/>
        </p:nvSpPr>
        <p:spPr>
          <a:xfrm>
            <a:off x="6193440" y="1600200"/>
            <a:ext cx="1224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cc Trans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os</a:t>
            </a:r>
            <a:endParaRPr b="0" lang="en-US" sz="4400" spc="-1" strike="noStrike">
              <a:solidFill>
                <a:srgbClr val="000000"/>
              </a:solidFill>
              <a:latin typeface="Arial"/>
            </a:endParaRPr>
          </a:p>
        </p:txBody>
      </p:sp>
      <p:pic>
        <p:nvPicPr>
          <p:cNvPr id="219" name="" descr=""/>
          <p:cNvPicPr/>
          <p:nvPr/>
        </p:nvPicPr>
        <p:blipFill>
          <a:blip r:embed="rId1"/>
          <a:stretch/>
        </p:blipFill>
        <p:spPr>
          <a:xfrm>
            <a:off x="304920" y="2590920"/>
            <a:ext cx="830556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umen</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de caser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r Esfuerz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blecer luz máxima de techo y pared colgan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eño de losas con métodos de Pakaln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alizar orientación de caserones longitudinales o transversa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y Dilución</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ponga que un cuerpo mineralizado posee 1.4Mt con una ley de 1.3%C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recuperación minera es de 7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es del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reservas mineras ento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nelaje1.4*0.7*1.05 Mt=1.03 M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y 1.4*0.7*1.3/1.03Mt=1.24%Cu</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Tipos de Dilución</a:t>
            </a:r>
            <a:endParaRPr b="0" lang="en-US" sz="4000" spc="-1" strike="noStrike">
              <a:solidFill>
                <a:srgbClr val="000000"/>
              </a:solidFill>
              <a:latin typeface="Arial"/>
            </a:endParaRPr>
          </a:p>
        </p:txBody>
      </p:sp>
      <p:sp>
        <p:nvSpPr>
          <p:cNvPr id="5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lum contrast="10000"/>
          </a:blip>
          <a:stretch/>
        </p:blipFill>
        <p:spPr>
          <a:xfrm>
            <a:off x="457200" y="1523880"/>
            <a:ext cx="3743280" cy="4038840"/>
          </a:xfrm>
          <a:prstGeom prst="rect">
            <a:avLst/>
          </a:prstGeom>
          <a:ln w="0">
            <a:noFill/>
          </a:ln>
        </p:spPr>
      </p:pic>
      <p:sp>
        <p:nvSpPr>
          <p:cNvPr id="56" name=""/>
          <p:cNvSpPr/>
          <p:nvPr/>
        </p:nvSpPr>
        <p:spPr>
          <a:xfrm>
            <a:off x="4495680" y="1676520"/>
            <a:ext cx="4267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lución Planificada es aquella que se estima como porciones de la pared que colapsaran producto de la minería. La dilución no planificadas es aquella que proviene de la operación de la mina. La dilución no planificada es producto de sobre perforación, diseño pobre de la tronadura o simplemente una mala estimación de la dilu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odelos numéricos no lineales se utilizan para estimar la di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Stoping</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erpos mineralizados con orientación semi vertic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oca mineral y de caja competen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perforación se realiza con martillos que varían desde 50 mm a 200mm dependiendo del largo de perfor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peración 50-80% principalmente debido a los muros y los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varía entre 3-10% de material diluyente de la pared colgante y tech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ros y losas pueden ser recuperados a través de tronadura masiva la cual debe ser diseñada y planificada como parte del método de explot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quiere un alto nivel de preparaciones mineras las cuales se realizan en miner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productividad del método es del orden de 500-1800 tpd por caserón en p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sarrollo</a:t>
            </a:r>
            <a:endParaRPr b="0" lang="en-US" sz="4400" spc="-1" strike="noStrike">
              <a:solidFill>
                <a:srgbClr val="000000"/>
              </a:solidFill>
              <a:latin typeface="Arial"/>
            </a:endParaRPr>
          </a:p>
        </p:txBody>
      </p:sp>
      <p:sp>
        <p:nvSpPr>
          <p:cNvPr id="60" name="PlaceHolder 2"/>
          <p:cNvSpPr>
            <a:spLocks noGrp="1"/>
          </p:cNvSpPr>
          <p:nvPr>
            <p:ph/>
          </p:nvPr>
        </p:nvSpPr>
        <p:spPr>
          <a:xfrm>
            <a:off x="380520" y="1599840"/>
            <a:ext cx="40388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762120" y="1600200"/>
            <a:ext cx="7315200" cy="408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l Método de SLS</a:t>
            </a:r>
            <a:endParaRPr b="0" lang="en-US" sz="4000" spc="-1" strike="noStrike">
              <a:solidFill>
                <a:srgbClr val="000000"/>
              </a:solidFill>
              <a:latin typeface="Arial"/>
            </a:endParaRPr>
          </a:p>
        </p:txBody>
      </p:sp>
      <p:sp>
        <p:nvSpPr>
          <p:cNvPr id="6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457200" y="1676520"/>
            <a:ext cx="8153280" cy="341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pos</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foración, Zimba con martillos convencionales y D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rguío con scraper, LHD y cargadores front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ransporte con camiones, correas y skip en el caso de tener chancadores subterráne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mensionamiento de los caserones</a:t>
            </a:r>
            <a:endParaRPr b="0" lang="en-US" sz="4000" spc="-1" strike="noStrike">
              <a:solidFill>
                <a:srgbClr val="000000"/>
              </a:solidFill>
              <a:latin typeface="Arial"/>
            </a:endParaRPr>
          </a:p>
        </p:txBody>
      </p:sp>
      <p:sp>
        <p:nvSpPr>
          <p:cNvPr id="6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pende básicamente de las características del macizo rocoso y el entorno de esfuerz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iseña para minimizar dilución y maximizar recuperació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largo y el ancho del caserón están determinados por la cantidad de dilución a incluir en el método los cuales son función del macizo rocoso (número de estabilidad) y el área a abrir (radio hidráulic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alto del caserón está también definido por el largo máximo a perforar (típicamente max 80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6-04-17T15:35:35Z</dcterms:modified>
  <cp:revision>90</cp:revision>
  <dc:subject/>
  <dc:title>Diseño de Minas Subterráneas</dc:title>
</cp:coreProperties>
</file>