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64F636C-4A5D-4B66-A053-98E754B62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17T15:35:35Z</dcterms:modified>
  <cp:revision>90</cp:revision>
  <dc:subject/>
  <dc:title>Diseño de Minas Subterráneas</dc:title>
</cp:coreProperties>
</file>