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3A543F8-115A-4FF3-92C3-A955CA4B4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50E811B-E90F-4784-9CF6-918BFAA50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04T17:10:04Z</dcterms:modified>
  <cp:revision>75</cp:revision>
  <dc:subject/>
  <dc:title>Diseño de Minas Subterráneas</dc:title>
</cp:coreProperties>
</file>