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4F1AFD2-3068-464C-B60E-3889ABC4C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23F0DD9-4B5E-4C38-B35D-F1CACD9DE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04T17:10:04Z</dcterms:modified>
  <cp:revision>75</cp:revision>
  <dc:subject/>
  <dc:title>Diseño de Minas Subterráneas</dc:title>
</cp:coreProperties>
</file>