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 Mineros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rga Vertical Sobre 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a litoest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imación del esfuerzo indu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rea Tribu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entración de Esfuerzos como Función de la Recupe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Área Tributaria para Muros y Pilares Rectangu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457200" y="1600200"/>
            <a:ext cx="563868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racción Sobre el Techo del Caser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z máxima para un estrato de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Pilare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rdy and Agapito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ert and Duvall (196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lamon and Munro (1967), Holland (19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19320" y="2133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s Utilizadas Para El Diseño de Pila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justando el Valor de Resistencia d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calamiento del espéc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istencia del pilar Obert and Duv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mplemente utilizar el criterio de Hoek and Br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066680" y="26668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510552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Importancia de W/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sbeltez del pilar define el grado de confinamiento de 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Ábacos Empí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os gráficos se utilizan en roca competente y se refieren a casos estudiados en Norte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 el hecho que los pilares mineros poseen algún grado de confinamiento el cual se estima con modelos numé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tivación: Necesario para el Diseñ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como función del Confinamiento d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fine el confinamiento medio del pi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914400" y="2590920"/>
                <a:ext cx="2438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Pilares Para Roca Compet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kalnis Y Lunde (1997) proponen una relación para estimar la resistencia del pilar considerando el confinamiento medio de los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s de Diseño Minas de Carbón US y Canad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jemplos de Diseño de R&amp;P en Yacimientos No Metal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lternativas de Diseño De Room and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54813" b="59460"/>
          <a:stretch/>
        </p:blipFill>
        <p:spPr>
          <a:xfrm>
            <a:off x="1143000" y="1600200"/>
            <a:ext cx="2178000" cy="3809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57327" r="52542" b="973"/>
          <a:stretch/>
        </p:blipFill>
        <p:spPr>
          <a:xfrm>
            <a:off x="5638680" y="1752480"/>
            <a:ext cx="2133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ión de la Diluci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l metalurg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% Dil= Estéril /(Estéril + Miner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Min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%Dil= Estéril /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métodos anteriores no consideran que el estéril podría tener algun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%Dil=(Ley recursos-Ley diluida)/Ley d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 100 t de mineral de una ley de 10% diluida con 10t de material con ley de 4%. Lo cual produce una cantidad de material de 110t con una ley de 9.12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) : 10 x 100 / 110 = 9.1% di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 : 10 x 100 / 100 = 10% di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) : (10 - 9.127) x 100 / 10 = 8.7% di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ceptos de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Variables críticas en la estimación de dilución en minería subterrán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método minero y el tamaño de los equ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variabilidad de la ley en los limites del cuerpo miner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geometría y continuidad de la mi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ritmos de extr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mensionamiento de los caserones como radio hidráulico, RQD y dimensiones de pi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0099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lución de Acuerdo al Método de Explo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dilución nunca es menor a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ut and fill tipicamente la dilución es del orden de 5-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aserones la dilución es de 10-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étodos de caving 20-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cuperación Min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orcentaje del tonelaje al interior de la envolvente económica que se envía a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orcentaje del metal contenido al interior de la envolvente económica que se envía a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orcentaje del tonelaje de las reservas mineras que se envía a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ípicamente varía entre 70% a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uz Máxima y Di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5486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l Pilar Uni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SI (Geologic Strength index), índice geológico de resis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GSI=RMR(7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riterio de Hoek and Brown (1980, 19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stante mi para Distintos Tipos de Roca Intac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Escalamiento de Resistencia de Macizo Roc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eño de Pi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ga Sobre el Pi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6-08-24T17:25:37Z</dcterms:modified>
  <cp:revision>66</cp:revision>
  <dc:subject/>
  <dc:title>Diseño de Minas Subterráneas</dc:title>
</cp:coreProperties>
</file>