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128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546960" y="6400800"/>
            <a:ext cx="245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</a:t>
            </a: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Sebastián Tronc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808080"/>
                </a:solidFill>
                <a:latin typeface="Arial"/>
              </a:rPr>
              <a:t>Patricio Pri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lase Auxiliar d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uz Máxima y Di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3160" y="1403280"/>
            <a:ext cx="2765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1 Estimación de Luz máxi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07360" y="193032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82960" y="205416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88800" y="1952640"/>
            <a:ext cx="648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(MP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9720" y="2238480"/>
            <a:ext cx="122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66400" y="2262240"/>
            <a:ext cx="86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(KN/m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4320" y="2535120"/>
            <a:ext cx="44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 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1000" y="2535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2880" y="2801880"/>
            <a:ext cx="50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 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59200" y="28018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64520" y="3336840"/>
            <a:ext cx="233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2 Estimación de dilu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6040" y="38718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2880" y="4140360"/>
            <a:ext cx="503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 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3240" y="4406760"/>
            <a:ext cx="540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H 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3600" y="467532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n(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59200" y="4675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3520" y="494172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%di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61000" y="4941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86400" y="1673280"/>
                <a:ext cx="17524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62720" y="3732120"/>
                <a:ext cx="18288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1"/>
          <a:srcRect l="45000" t="28126" r="4375" b="38281"/>
          <a:stretch/>
        </p:blipFill>
        <p:spPr>
          <a:xfrm>
            <a:off x="3429000" y="5219640"/>
            <a:ext cx="3086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l Pilar Uni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4880" y="1523880"/>
            <a:ext cx="439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3 Resistencia del pilar (criterio Hoek and Brow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120" y="198108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1760" y="2133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7000" y="1981080"/>
            <a:ext cx="57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MP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06960" y="1981080"/>
            <a:ext cx="65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= 0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pilares no confinados artificialmente, peor caso estimación conservad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514600"/>
            <a:ext cx="97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UCS (MP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4920" y="2971800"/>
            <a:ext cx="223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5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86400" y="2971800"/>
            <a:ext cx="140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de la tabla roc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7720" y="5791320"/>
            <a:ext cx="11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5240" y="5791320"/>
            <a:ext cx="68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MPa)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62120" y="3733920"/>
                <a:ext cx="16002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124080" y="3809880"/>
                <a:ext cx="1143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09480" y="34290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2640" y="342900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62120" y="4648320"/>
                <a:ext cx="2819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114800" y="5257800"/>
                <a:ext cx="33526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839520" y="586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stante mi para Distintos Tipos de Roca Intacta (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867280" cy="5246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1120" y="5181120"/>
            <a:ext cx="76176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c1a02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8600" y="1371600"/>
          <a:ext cx="876312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fuerzos Pres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un Ambiente tectónico se 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fuerzo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fuerz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2577960"/>
            <a:ext cx="4038840" cy="495360"/>
          </a:xfrm>
          <a:custGeom>
            <a:avLst/>
            <a:gdLst/>
            <a:ahLst/>
            <a:rect l="l" t="t" r="r" b="b"/>
            <a:pathLst>
              <a:path w="2544" h="312">
                <a:moveTo>
                  <a:pt x="0" y="152"/>
                </a:moveTo>
                <a:cubicBezTo>
                  <a:pt x="124" y="128"/>
                  <a:pt x="248" y="104"/>
                  <a:pt x="384" y="104"/>
                </a:cubicBezTo>
                <a:cubicBezTo>
                  <a:pt x="520" y="104"/>
                  <a:pt x="680" y="120"/>
                  <a:pt x="816" y="152"/>
                </a:cubicBezTo>
                <a:cubicBezTo>
                  <a:pt x="952" y="184"/>
                  <a:pt x="1080" y="280"/>
                  <a:pt x="1200" y="296"/>
                </a:cubicBezTo>
                <a:cubicBezTo>
                  <a:pt x="1320" y="312"/>
                  <a:pt x="1432" y="256"/>
                  <a:pt x="1536" y="248"/>
                </a:cubicBezTo>
                <a:cubicBezTo>
                  <a:pt x="1640" y="240"/>
                  <a:pt x="1720" y="280"/>
                  <a:pt x="1824" y="248"/>
                </a:cubicBezTo>
                <a:cubicBezTo>
                  <a:pt x="1928" y="216"/>
                  <a:pt x="2064" y="96"/>
                  <a:pt x="2160" y="56"/>
                </a:cubicBezTo>
                <a:cubicBezTo>
                  <a:pt x="2256" y="16"/>
                  <a:pt x="2336" y="16"/>
                  <a:pt x="2400" y="8"/>
                </a:cubicBezTo>
                <a:cubicBezTo>
                  <a:pt x="2464" y="0"/>
                  <a:pt x="2520" y="8"/>
                  <a:pt x="254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43880" y="51055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5" idx="0"/>
            <a:endCxn id="46" idx="0"/>
          </p:cNvCxnSpPr>
          <p:nvPr/>
        </p:nvCxnSpPr>
        <p:spPr>
          <a:xfrm>
            <a:off x="6857640" y="3047760"/>
            <a:ext cx="10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8077320" y="54100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endCxn id="48" idx="0"/>
          </p:cNvCxnSpPr>
          <p:nvPr/>
        </p:nvCxnSpPr>
        <p:spPr>
          <a:xfrm>
            <a:off x="8343720" y="5105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endCxn id="48" idx="1"/>
          </p:cNvCxnSpPr>
          <p:nvPr/>
        </p:nvCxnSpPr>
        <p:spPr>
          <a:xfrm>
            <a:off x="7810200" y="56383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endCxn id="48" idx="2"/>
          </p:cNvCxnSpPr>
          <p:nvPr/>
        </p:nvCxnSpPr>
        <p:spPr>
          <a:xfrm flipV="1">
            <a:off x="8343720" y="5866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endCxn id="48" idx="3"/>
          </p:cNvCxnSpPr>
          <p:nvPr/>
        </p:nvCxnSpPr>
        <p:spPr>
          <a:xfrm flipH="1">
            <a:off x="8610120" y="5638320"/>
            <a:ext cx="19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8149680" y="482436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35800" y="54831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8680" y="3733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4640" y="3124080"/>
            <a:ext cx="4475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v = (Densidad Roca x H) / 100 [Mp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47080" y="4419720"/>
            <a:ext cx="1474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h = k x S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1960" y="5105520"/>
            <a:ext cx="19058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tectoni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hile = 2,5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nada = 2 –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stralia = 1,5 – 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donesia =  0,5 – 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pos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1828800" y="1447920"/>
            <a:ext cx="60958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li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etir ejerc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vez de usar GSI estimar el  RMR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uerpo mineralizado posee 8  de potencia, 100m de ancho y 150 m de largo, su profundidad varia entre 200 a 300 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tilizar el método de Hoek and Brown para estimar la resistencia de un pilar u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tilizar una formula de resistencia de pilar de Obert and Duv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eñar pilares rectangulares y m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alizar el diseño de la mina pensar en cuanto pilares se pueden introducir en el ancho del cuerpo mineralizado y en la cor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terminar RMR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sayo de compresion uniaxial valores de 230 MPa y un RQD promedio de 8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continuidades están espaciadas a 50 cm. Altamente rugosas  y sin sepa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nticipa la presencia de agua durante la construcción del tú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orientación del rumbo y manteo son favo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ca clasificada por geología como Granodio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MR: Rock Mass Rating (Bieniawski, 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077320" cy="4156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81280" y="2895480"/>
            <a:ext cx="121932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733920"/>
            <a:ext cx="121932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3314880"/>
            <a:ext cx="121932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4724280"/>
            <a:ext cx="121896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5715000"/>
            <a:ext cx="121932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MR: Rock Mass Rating (Bieniawski, 197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1258" r="0" b="38748"/>
          <a:stretch/>
        </p:blipFill>
        <p:spPr>
          <a:xfrm>
            <a:off x="457200" y="1600200"/>
            <a:ext cx="8370720" cy="301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3733920" y="1981080"/>
            <a:ext cx="1218960" cy="228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1a02"/>
                </a:solidFill>
                <a:latin typeface="Arial"/>
              </a:rPr>
              <a:t>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371600" y="1523880"/>
          <a:ext cx="6870600" cy="4222800"/>
        </p:xfrm>
        <a:graphic>
          <a:graphicData uri="http://schemas.openxmlformats.org/drawingml/2006/table">
            <a:tbl>
              <a:tblPr/>
              <a:tblGrid>
                <a:gridCol w="1619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S 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odior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G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oom and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29280" y="3429000"/>
            <a:ext cx="4190760" cy="482760"/>
          </a:xfrm>
          <a:custGeom>
            <a:avLst/>
            <a:gdLst/>
            <a:ahLst/>
            <a:rect l="l" t="t" r="r" b="b"/>
            <a:pathLst>
              <a:path w="2640" h="304">
                <a:moveTo>
                  <a:pt x="0" y="48"/>
                </a:moveTo>
                <a:cubicBezTo>
                  <a:pt x="240" y="64"/>
                  <a:pt x="480" y="80"/>
                  <a:pt x="624" y="96"/>
                </a:cubicBezTo>
                <a:cubicBezTo>
                  <a:pt x="768" y="112"/>
                  <a:pt x="808" y="112"/>
                  <a:pt x="864" y="144"/>
                </a:cubicBezTo>
                <a:cubicBezTo>
                  <a:pt x="920" y="176"/>
                  <a:pt x="920" y="272"/>
                  <a:pt x="960" y="288"/>
                </a:cubicBezTo>
                <a:cubicBezTo>
                  <a:pt x="1000" y="304"/>
                  <a:pt x="1032" y="248"/>
                  <a:pt x="1104" y="240"/>
                </a:cubicBezTo>
                <a:cubicBezTo>
                  <a:pt x="1176" y="232"/>
                  <a:pt x="1280" y="256"/>
                  <a:pt x="1392" y="240"/>
                </a:cubicBezTo>
                <a:cubicBezTo>
                  <a:pt x="1504" y="224"/>
                  <a:pt x="1696" y="168"/>
                  <a:pt x="1776" y="144"/>
                </a:cubicBezTo>
                <a:cubicBezTo>
                  <a:pt x="1856" y="120"/>
                  <a:pt x="1784" y="104"/>
                  <a:pt x="1872" y="96"/>
                </a:cubicBezTo>
                <a:cubicBezTo>
                  <a:pt x="1960" y="88"/>
                  <a:pt x="2192" y="112"/>
                  <a:pt x="2304" y="96"/>
                </a:cubicBezTo>
                <a:cubicBezTo>
                  <a:pt x="2416" y="80"/>
                  <a:pt x="2488" y="0"/>
                  <a:pt x="2544" y="0"/>
                </a:cubicBezTo>
                <a:cubicBezTo>
                  <a:pt x="2600" y="0"/>
                  <a:pt x="2616" y="72"/>
                  <a:pt x="264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790200">
            <a:off x="4529160" y="5257800"/>
            <a:ext cx="379080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5776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5776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840" y="449568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27440" y="380988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89800" y="46483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0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5105520"/>
            <a:ext cx="36576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7120" y="53341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5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534520" y="5715000"/>
            <a:ext cx="152280" cy="152280"/>
            <a:chOff x="8534520" y="5715000"/>
            <a:chExt cx="152280" cy="152280"/>
          </a:xfrm>
        </p:grpSpPr>
        <p:sp>
          <p:nvSpPr>
            <p:cNvPr id="92" name=""/>
            <p:cNvSpPr/>
            <p:nvPr/>
          </p:nvSpPr>
          <p:spPr>
            <a:xfrm>
              <a:off x="8534520" y="571500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2" idx="1"/>
              <a:endCxn id="92" idx="5"/>
            </p:cNvCxnSpPr>
            <p:nvPr/>
          </p:nvCxnSpPr>
          <p:spPr>
            <a:xfrm>
              <a:off x="8556120" y="5737320"/>
              <a:ext cx="10836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2" idx="3"/>
              <a:endCxn id="92" idx="7"/>
            </p:cNvCxnSpPr>
            <p:nvPr/>
          </p:nvCxnSpPr>
          <p:spPr>
            <a:xfrm flipV="1">
              <a:off x="8556120" y="5736960"/>
              <a:ext cx="10836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5" name=""/>
          <p:cNvSpPr/>
          <p:nvPr/>
        </p:nvSpPr>
        <p:spPr>
          <a:xfrm>
            <a:off x="8306640" y="58672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0040" y="1371600"/>
            <a:ext cx="43419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Homero Prieto</cp:lastModifiedBy>
  <dcterms:modified xsi:type="dcterms:W3CDTF">2006-08-29T03:48:28Z</dcterms:modified>
  <cp:revision>68</cp:revision>
  <dc:subject/>
  <dc:title>Diseño de Minas Subterráneas</dc:title>
</cp:coreProperties>
</file>