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ificación de macizo roc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ortificación Función de RMR (Bieniawski, 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mienda el sopor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t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rcos de ac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inámica de excavación se condiciona a la clasificación geomecánica de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itud sin fortificar hacia la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MR: Modified Rock Mass Rating (Laubsher, 1977, 198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justa el RMR(1976) para consider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uerzos in situ e indu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ectos de tron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eración por exposición de la roca fresca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ificaciones fueron hechas inicialmente para condiciones en minas de Block C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RMR Laubscher Lakubec (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7343" t="14584" r="13282" b="30211"/>
          <a:stretch/>
        </p:blipFill>
        <p:spPr>
          <a:xfrm>
            <a:off x="1143000" y="152388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stimación de Caracterización de Macizo Rocoso en Perfiles Promed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7343" t="26042" r="9376" b="19791"/>
          <a:stretch/>
        </p:blipFill>
        <p:spPr>
          <a:xfrm>
            <a:off x="1752480" y="1752480"/>
            <a:ext cx="54104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cala en la Medición de MRM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5782" t="29168" r="7811" b="32293"/>
          <a:stretch/>
        </p:blipFill>
        <p:spPr>
          <a:xfrm>
            <a:off x="304920" y="2057400"/>
            <a:ext cx="84582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Q, Barton (19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une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tilizado para estimar la fortificación de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ee escala logarítmica (0.001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105520" y="1981080"/>
                <a:ext cx="24382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724280" y="3505320"/>
                <a:ext cx="641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Q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559840" y="350532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ignación de calidad de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876920" y="3962520"/>
                <a:ext cx="34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88080" y="4392720"/>
                <a:ext cx="326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876920" y="4838760"/>
                <a:ext cx="34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865760" y="5295960"/>
                <a:ext cx="37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451480" y="3962520"/>
            <a:ext cx="16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ts 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3600" y="441972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ugosidad de estruc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5680" y="48769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t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2080" y="533412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luencia del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70360" y="5761080"/>
                <a:ext cx="603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5475960" y="571500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actor de reducción de esfuerz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Q, Barton (19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57400" y="1676520"/>
                <a:ext cx="419112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H="1">
            <a:off x="2361960" y="30481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27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0880" y="40384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mañ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 de R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87692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istencia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rte o Ciz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0" y="39625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fuerzo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434340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gua reduce la resistencia al c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zonas de cizalle generan stress Lose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132" t="2858" r="2132" b="60827"/>
          <a:stretch/>
        </p:blipFill>
        <p:spPr>
          <a:xfrm>
            <a:off x="1295280" y="1447920"/>
            <a:ext cx="738504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132" t="39218" r="4109" b="0"/>
          <a:stretch/>
        </p:blipFill>
        <p:spPr>
          <a:xfrm>
            <a:off x="1905120" y="304920"/>
            <a:ext cx="6854760" cy="591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15" t="3392" r="2115" b="57435"/>
          <a:stretch/>
        </p:blipFill>
        <p:spPr>
          <a:xfrm>
            <a:off x="1371600" y="380880"/>
            <a:ext cx="7238880" cy="368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eomecánica – Clasificación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mportamiento de probetas en laboratorio es muy distinto al comportamiento del macizo rocoso, producto de las discontinuidades y planos de de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necesario estimar el comportamiento del macizo rocoso a partir de mediciones de laboratorio y observaciones de la r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s de clasificación de macizos roc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115" t="41802" r="2115" b="2910"/>
          <a:stretch/>
        </p:blipFill>
        <p:spPr>
          <a:xfrm>
            <a:off x="1297080" y="758880"/>
            <a:ext cx="7388280" cy="530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2692" t="11503" r="20348" b="10376"/>
          <a:stretch/>
        </p:blipFill>
        <p:spPr>
          <a:xfrm>
            <a:off x="1600200" y="304920"/>
            <a:ext cx="5925960" cy="609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Q para Dise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cilita el diseño de fortificación para diferentes calidades de macizo roc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91120" y="3263760"/>
            <a:ext cx="4724280" cy="359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533840" cy="165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7200" y="5105520"/>
                <a:ext cx="21337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a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ESR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8880" y="4191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xima tamañ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avación sin fort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unas Relacione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unas Relacione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47920" y="2819520"/>
                <a:ext cx="58672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M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n de chan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000m profund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te tectónica k=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QD 85%-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sets 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acturas onduladas, rugosas y sin mete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CS 17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presencia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e la fortificación para anchos de es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cturas Recomend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port of Underground Excavations in Hard Rock”, Rock Mass Classification, Capítulo 4, Hoek, Kaiser and Bawden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bscher, D. H., 1990. A Geomechanics Classification System for the Rating of Rock Mass in Mine Design. Journal of the South African Institute of Mining Metallurgy, Vol 90, No 10, pp 257-2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ceso de 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49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7" idx="1"/>
            <a:endCxn id="46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8" name=""/>
          <p:cNvCxnSpPr>
            <a:stCxn id="46" idx="3"/>
            <a:endCxn id="49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" name=""/>
          <p:cNvCxnSpPr>
            <a:stCxn id="51" idx="0"/>
            <a:endCxn id="54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0" name=""/>
          <p:cNvCxnSpPr>
            <a:stCxn id="54" idx="0"/>
            <a:endCxn id="53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Primer Intento Terzaghi (194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Int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posee estructuras ni f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Estratific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iene una estructura con baja resistencia al corte y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deradamente fract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estructuras se encuentran cerradas y no se aprecia desprendimiento entre los bl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fragmentos se encuentran abiertos y no existe resistenci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talmente fract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4511" b="2767"/>
          <a:stretch/>
        </p:blipFill>
        <p:spPr>
          <a:xfrm>
            <a:off x="5105520" y="1905120"/>
            <a:ext cx="3962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QD: Rock Quality Designation Index (Deere et al., 1967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352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QD: % del testigo intacto de más de dos veces el diámetro del test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testigos de sondajes de al menos 54.7 mm de diáme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QD es un parámetro direc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acturas por manejo deben ser ignorad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64000" y="1846440"/>
            <a:ext cx="5580000" cy="501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7200" y="5181480"/>
                <a:ext cx="1981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Q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520" y="5715000"/>
                <a:ext cx="296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990720" y="5562720"/>
            <a:ext cx="269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enta de fracturas volumétricas. Número de fracturas por metro sumando todos los sets estructur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sistencia a la compresión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sayo de carga puntual en 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spaciamiento de discontinuidades (se mide en testig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utiliza el sistema más relev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39800" y="2057040"/>
            <a:ext cx="4118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ondición de discontinu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ripción de “aspereza” de la superf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 de rell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lujo de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ujo de agua en excavación subterránea (si está dispon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ión de agua en discontinu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mide en lab tambié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Orientación de discontinu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pende de a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s fácil de deter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peo de excav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peo de p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9520" y="1600200"/>
            <a:ext cx="4906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bina 6 factores asignándoles puntaj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0773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1258" r="0" b="38748"/>
          <a:stretch/>
        </p:blipFill>
        <p:spPr>
          <a:xfrm>
            <a:off x="1219320" y="2286000"/>
            <a:ext cx="6694200" cy="2414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973600" y="4876920"/>
            <a:ext cx="29743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lases de Macizo Roc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uy B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uy 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35280" y="1599840"/>
            <a:ext cx="595152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únel en granito levemente meteorizado con un set de discontinuidad principal con inclinación 60º contra la dirección del tú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sayo de carga puntual entrega valores de 8 MPa y un RQD promedio de 70%. Discontinuidades son levemente ásperas y levemente alteradas con una separación de menos de 1 mm. Están espaciadas cada 300 mm. Se anticipa la presencia de agua durante la construcción del tú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2390760" cy="35625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895480" y="4952880"/>
            <a:ext cx="5791320" cy="1905120"/>
            <a:chOff x="2895480" y="4952880"/>
            <a:chExt cx="5791320" cy="190512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95480" y="4952880"/>
              <a:ext cx="5791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95480" y="4959360"/>
              <a:ext cx="196200" cy="17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8-08T05:37:38Z</dcterms:modified>
  <cp:revision>48</cp:revision>
  <dc:subject/>
  <dc:title>Diseño de Minas Subterráneas</dc:title>
</cp:coreProperties>
</file>