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BF1-B4DF-465D-B289-60E059A3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4F03-FE6E-431A-A3E4-D781BF07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548-4BB5-40CC-9CA5-9017759B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BFD-84F5-4CE1-98B3-10CB041B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D2B-B6A8-46DF-A2CC-D76D55A2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FBC-67D4-41A5-9436-B318AC8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676-9C99-43F1-8282-A9987808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0237-2D96-44A4-9B06-114BB08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675-A507-4B7D-B060-F7A1868D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8D1C-7DE4-45D5-8D0C-BD40A1BC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8BCE-9B16-462B-920E-E1FD0F8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725-EDAB-4D96-BF0C-E230C1A5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D903-F39E-4645-A060-89642F9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215-5598-4ED0-ACC1-D2C4036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7B07-5514-4EFA-9C06-BF6162EB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F237-0A44-4E88-B3E2-A28D9E04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41AF-8E67-492E-827F-7046DE6C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4BB-C50A-40A5-94A5-22479E3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FB1-3A78-4EDE-8879-3FE70AB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CB5-3A70-442F-BF0A-60FB5AD4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5F5-5996-4601-982E-387EB16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9BA-E7B2-44B7-92F4-5A2902FE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0AA-7963-4A52-AF4F-75FBF1E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198-3251-40E2-8A3B-B543FBEE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8C3B-9A48-4CA7-BAE8-8DCC10AA83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5F04-E151-4FBD-828B-F647EA4A15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1219320"/>
            <a:ext cx="67820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Ni+2, Cd+2, Cu+2 de concentracion 1 molar cada ion y pH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DESEA PRECIPITAR SELECTIVAMENTE al Cu, Ni, Cd, como metales utilizando hidrogeno gaseoso a 1atm. Determinar los cambios de pH que se deben efectuar para cumplir esto y las concentraciones finales de los iones que se obtienen en la solu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2-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x f(x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 viene definido por la pendiente de la recta de ajus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47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14.153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12 um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 = 721,9 h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24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81080" y="1447920"/>
                <a:ext cx="6019920" cy="47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15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a) 47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2209680"/>
                <a:ext cx="7391520" cy="425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3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600200"/>
            <a:ext cx="2674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4-. b) 12 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1600" y="2209680"/>
                <a:ext cx="67057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</m:t>
                            </m:r>
                          </m:sub>
                        </m:sSub>
                        <m:r>
                          <m:t xml:space="preserve">·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t xml:space="preserve">·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1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]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[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  <m:r>
                                  <m:t xml:space="preserve">]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1</m:t>
                            </m:r>
                          </m:num>
                          <m:den>
                            <m:r>
                              <m:t xml:space="preserve">0,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r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229440" cy="532296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158" name=""/>
          <p:cNvSpPr/>
          <p:nvPr/>
        </p:nvSpPr>
        <p:spPr>
          <a:xfrm flipH="1" flipV="1">
            <a:off x="2285640" y="2133360"/>
            <a:ext cx="4824360" cy="73080"/>
          </a:xfrm>
          <a:prstGeom prst="line">
            <a:avLst/>
          </a:prstGeom>
          <a:ln w="158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971800" y="3200040"/>
            <a:ext cx="0" cy="2590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286000" y="3200400"/>
            <a:ext cx="5562720" cy="7632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2209680"/>
            <a:ext cx="761760" cy="10670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89000"/>
            <a:ext cx="42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u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uº Eº = 0.34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Cd2+ + 2e 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 Cdº Eº = -0.403 V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Ni2+ + 2e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Niº Eº = -0.25 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47760" y="1700280"/>
            <a:ext cx="1116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924680" y="1600200"/>
            <a:ext cx="0" cy="16574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115920"/>
            <a:ext cx="424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Precipitación reductiva con H</a:t>
            </a:r>
            <a:r>
              <a:rPr b="0" lang="es-ES" sz="28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</a:rPr>
              <a:t>Diferencia de poten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676520"/>
            <a:ext cx="0" cy="2057400"/>
          </a:xfrm>
          <a:prstGeom prst="line">
            <a:avLst/>
          </a:prstGeom>
          <a:ln w="93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733920"/>
            <a:ext cx="6324840" cy="15228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8098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8672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724280" y="4038120"/>
            <a:ext cx="0" cy="175284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038480"/>
            <a:ext cx="5486400" cy="0"/>
          </a:xfrm>
          <a:prstGeom prst="line">
            <a:avLst/>
          </a:prstGeom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29400" y="1828800"/>
            <a:ext cx="0" cy="2209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1752480"/>
            <a:ext cx="0" cy="243864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5486400" cy="15228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58672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4723920"/>
            <a:ext cx="0" cy="114300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828440" y="4647960"/>
            <a:ext cx="7010280" cy="75960"/>
          </a:xfrm>
          <a:prstGeom prst="line">
            <a:avLst/>
          </a:prstGeom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4419720"/>
            <a:ext cx="274320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5998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90720" y="914400"/>
            <a:ext cx="67053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blem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 tiene una solucion de lixiviacion que contiene Fe+3 con una concentracion 1M a pH=2 en presencia de Fe(OH)3.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termine que ocurre bajo tales cond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e ocurre si ahora se tiene una concentracion de Fe+3 = 0,001M y pH=1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769080" cy="456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24000" y="206064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3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1989000"/>
            <a:ext cx="14472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916000" y="2133720"/>
            <a:ext cx="215640" cy="2156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060280"/>
            <a:ext cx="0" cy="2663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005360"/>
            <a:ext cx="1584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0360" y="3933720"/>
            <a:ext cx="14436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71640" y="3499920"/>
            <a:ext cx="287640" cy="5050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260280"/>
            <a:ext cx="57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ecipitación de hidróxidos metá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ha lixiviado un mxx de cp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con sulfato ferrico con la siguiente estiquimetri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uFeS2 + 4Fe(+3) -&gt; Cu(+2) 5Fe(+2) + 2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la tabla adjunta se presenta la fracción reaccionada (x) v/s el tiempo para monotamaños de ccp de 12 y 47 [um], cuando reaccionan en 0,5 [mol/L] de ion Ferrico (cte) a 90 °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 Pide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1-. Concluya cual es la etapa controlante, difusión o reac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-. Determin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3-. Explique las diferencias encontradas en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, y valide sus resulta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4-. Determine el valor de </a:t>
            </a:r>
            <a:r>
              <a:rPr b="0" lang="el-GR" sz="1800" spc="-1" strike="noStrike">
                <a:solidFill>
                  <a:srgbClr val="ffffff"/>
                </a:solidFill>
                <a:latin typeface="Verdana"/>
              </a:rPr>
              <a:t>ζ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 para cada monotamaño si la concentración de ion ferrico sube a 1 molar y si disminuye a 0,1 mo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648320" y="25189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-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ficar los modelos de reacción química en función del ti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55640" y="2565360"/>
          <a:ext cx="7715160" cy="181944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1708200"/>
                <a:gridCol w="2730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47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(1-x)^1/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-3(1-x)^2/3+2(1-x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40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11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2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90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5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89E-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197000"/>
          <a:ext cx="6084720" cy="35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6084720" cy="35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780000" y="3573360"/>
          <a:ext cx="5364000" cy="301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573360"/>
                    <a:ext cx="53640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7930440" cy="2260080"/>
        </p:xfrm>
        <a:graphic>
          <a:graphicData uri="http://schemas.openxmlformats.org/drawingml/2006/table">
            <a:tbl>
              <a:tblPr/>
              <a:tblGrid>
                <a:gridCol w="1982880"/>
                <a:gridCol w="1981800"/>
                <a:gridCol w="1982880"/>
                <a:gridCol w="1982880"/>
              </a:tblGrid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Fe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c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0E+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08E-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02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4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96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78E-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os de rea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9280" y="1268280"/>
          <a:ext cx="5040360" cy="317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50403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564000" y="3500280"/>
          <a:ext cx="5580000" cy="313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500280"/>
                    <a:ext cx="55800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2:36:43Z</dcterms:created>
  <dc:creator>Fernando</dc:creator>
  <dc:description/>
  <dc:language>en-US</dc:language>
  <cp:lastModifiedBy>Homero Prieto</cp:lastModifiedBy>
  <dcterms:modified xsi:type="dcterms:W3CDTF">2006-04-20T06:34:56Z</dcterms:modified>
  <cp:revision>13</cp:revision>
  <dc:subject/>
  <dc:title>Diapositiva 1</dc:title>
</cp:coreProperties>
</file>