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760-4DDD-4790-950B-6B893922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C3A-68F5-4160-9808-337793AC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406-F3DF-4C33-B555-54CBF3A8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E99-2747-45BE-A9DD-3A9FFAB4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DE65-D6AC-4261-8C9A-E5BCE4EE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36DD-7FA6-4F32-AE01-2DD8F82B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6350-D368-4DF2-85EA-6E23834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8F0-9C22-488D-A9EE-426525A8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682-2E41-4688-BB63-FAB236C0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E94E-0CA1-4DD6-983E-C21D5118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2503-5950-4DA5-9083-AB14495A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DBF-8BB0-4EBB-87D4-EF1A3BE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2B1-9EDA-4B4B-B541-93883C32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75B2-5FF8-49AE-AADA-6076BCBC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4FAA-5EB1-409E-BBA2-80D04403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E90-F51E-45C8-98F1-2D4FF4F8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983A-C1B9-4DDA-A050-8A6C07B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FEA-BBB5-4C58-A062-A62595E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BDE-DF30-4FDB-910C-A92F59C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28E-0B0E-443B-B209-61887087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6F6-8C16-40C9-8084-CDB601B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0CA-FEAB-454F-8D2F-955BA370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5E5-68AC-42C0-94FD-6AD277B6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43C-A88A-4629-B028-A95CB8A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A299-907D-4A90-9DEB-43DFFBC360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275D-7A70-4BE8-B6F1-613B47903A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219320"/>
            <a:ext cx="6782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Ni+2, Cd+2, Cu+2 de concentracion 1 molar cada ion y pH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DESEA PRECIPITAR SELECTIVAMENTE al Cu, Ni, Cd, como metales utilizando hidrogeno gaseoso a 1atm. Determinar los cambios de pH que se deben efectuar para cumplir esto y las concentraciones finales de los iones que se obtienen en la solu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2-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x f(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 viene definido por la pendiente de la recta de ajus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47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14.153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12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721,9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1447920"/>
                <a:ext cx="6019920" cy="47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15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a) 47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2209680"/>
                <a:ext cx="7391520" cy="425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b) 12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1600" y="2209680"/>
                <a:ext cx="67057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229440" cy="53229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 flipV="1">
            <a:off x="2285640" y="2133360"/>
            <a:ext cx="4824360" cy="73080"/>
          </a:xfrm>
          <a:prstGeom prst="line">
            <a:avLst/>
          </a:prstGeom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1800" y="3200040"/>
            <a:ext cx="0" cy="2590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86000" y="3200400"/>
            <a:ext cx="5562720" cy="763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209680"/>
            <a:ext cx="761760" cy="10670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9000"/>
            <a:ext cx="42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u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uº Eº = 0.34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d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dº Eº = -0.403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Ni2+ + 2e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Niº Eº = -0.25 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47760" y="1700280"/>
            <a:ext cx="111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24680" y="1600200"/>
            <a:ext cx="0" cy="16574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11592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Precipitación reductiva con H</a:t>
            </a:r>
            <a:r>
              <a:rPr b="0" lang="es-E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ferencia de pot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676520"/>
            <a:ext cx="0" cy="20574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733920"/>
            <a:ext cx="6324840" cy="15228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8098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867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4038120"/>
            <a:ext cx="0" cy="17528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548640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29400" y="1828800"/>
            <a:ext cx="0" cy="2209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752480"/>
            <a:ext cx="0" cy="2438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5486400" cy="152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58672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4723920"/>
            <a:ext cx="0" cy="114300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28440" y="4647960"/>
            <a:ext cx="7010280" cy="7596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419720"/>
            <a:ext cx="274320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5998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914400"/>
            <a:ext cx="6705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lixiviacion que contiene Fe+3 con una concentracion 1M a pH=2 en presencia de Fe(OH)3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termine que ocurre bajo tales cond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e ocurre si ahora se tiene una concentracion de Fe+3 = 0,001M y pH=1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456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206064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89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16000" y="2133720"/>
            <a:ext cx="215640" cy="2156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00536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933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71640" y="3499920"/>
            <a:ext cx="287640" cy="5050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260280"/>
            <a:ext cx="57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ecipitación de hidróxidos metá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ha lixiviado un mxx de cp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con sulfato ferrico con la siguiente estiquimetr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uFeS2 + 4Fe(+3) -&gt; Cu(+2) 5Fe(+2) + 2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la tabla adjunta se presenta la fracción reaccionada (x) v/s el tiempo para monotamaños de ccp de 12 y 47 [um], cuando reaccionan en 0,5 [mol/L] de ion Ferrico (cte) a 90 °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Pi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1-. Concluya cual es la etapa controlante, difusión o reac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-. Determin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3-. Explique las diferencias encontradas en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, y valide sus resulta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4-. Determine el valor d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 si la concentración de ion ferrico sube a 1 molar y si disminuye a 0,1 mo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5189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-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ficar los modelos de reacción química en función del ti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2565360"/>
          <a:ext cx="7715160" cy="181944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1708200"/>
                <a:gridCol w="2730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47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(1-x)^1/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3(1-x)^2/3+2(1-x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1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89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97000"/>
          <a:ext cx="6084720" cy="35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84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80000" y="3573360"/>
          <a:ext cx="5364000" cy="301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73360"/>
                    <a:ext cx="53640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7930440" cy="2260080"/>
        </p:xfrm>
        <a:graphic>
          <a:graphicData uri="http://schemas.openxmlformats.org/drawingml/2006/table">
            <a:tbl>
              <a:tblPr/>
              <a:tblGrid>
                <a:gridCol w="1982880"/>
                <a:gridCol w="1981800"/>
                <a:gridCol w="1982880"/>
                <a:gridCol w="1982880"/>
              </a:tblGrid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08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4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96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268280"/>
          <a:ext cx="5040360" cy="31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50403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64000" y="3500280"/>
          <a:ext cx="558000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00280"/>
                    <a:ext cx="5580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2:36:43Z</dcterms:created>
  <dc:creator>Fernando</dc:creator>
  <dc:description/>
  <dc:language>en-US</dc:language>
  <cp:lastModifiedBy>Homero Prieto</cp:lastModifiedBy>
  <dcterms:modified xsi:type="dcterms:W3CDTF">2006-04-20T06:34:56Z</dcterms:modified>
  <cp:revision>13</cp:revision>
  <dc:subject/>
  <dc:title>Diapositiva 1</dc:title>
</cp:coreProperties>
</file>