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3AF-AF9A-4078-8186-BBE232AD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ADB-BE27-4433-9672-36BA1B55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C62-80E4-4A19-95DB-6E520F22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CE0-EDDF-494D-8CD1-15F6DCF6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0D07-A2A7-4593-8BDB-55E66530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769F-37D5-4AFE-9B47-3164FD7B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61C2-6EF4-445B-9CC0-16CC4A7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69E6-2152-4FBC-8BC0-F87B1C50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5F3C-783F-4A96-8451-E85946B8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27D7-40B1-4B46-AAD8-E420B12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EAC8-C79C-4B88-B3E1-8879708D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CFB-0CBA-42F9-A3C8-A56346A0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380-CF58-4940-9CC4-63FAD9E8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9CB9-A28D-4810-81E4-3589DDC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AD6E-EFAB-4D55-AC13-5513FEBE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D7B2-E946-4AEE-A9B8-5267A41D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6E0B-2B65-4226-A6FB-E16CE62A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B65-C19C-4013-AEC3-97C9929D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E9B-D380-478E-AB33-A900437A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0E3-C357-495A-97B5-BE20EFC2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528-321A-4F2C-B902-CD7C40E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F50-69E4-4770-AC56-83013E39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050-075E-4800-8186-106A5896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8E1-8872-46E0-98ED-D3C8C6D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2CC2-69F7-4438-BCDD-51B9FE4B48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936F-3586-4637-A4B5-C08C780E56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1219320"/>
            <a:ext cx="67820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blem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tiene una solucion de Ni+2, Cd+2, Cu+2 de concentracion 1 molar cada ion y pH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DESEA PRECIPITAR SELECTIVAMENTE al Cu, Ni, Cd, como metales utilizando hidrogeno gaseoso a 1atm. Determinar los cambios de pH que se deben efectuar para cumplir esto y las concentraciones finales de los iones que se obtienen en la soluc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2-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x f(x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 viene definido por la pendiente de la recta de ajus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47 um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= 14.153 h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12 um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= 721,9 h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43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81080" y="1447920"/>
                <a:ext cx="6019920" cy="47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15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267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4-. a) 47 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14400" y="2209680"/>
                <a:ext cx="7391520" cy="425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·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t xml:space="preserve">·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,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00200"/>
            <a:ext cx="267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4-. b) 12 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1600" y="2209680"/>
                <a:ext cx="6705720" cy="43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·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1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·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1</m:t>
                            </m:r>
                          </m:num>
                          <m:den>
                            <m:r>
                              <m:t xml:space="preserve">0,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229440" cy="53229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 flipV="1">
            <a:off x="2285640" y="2133360"/>
            <a:ext cx="4824360" cy="73080"/>
          </a:xfrm>
          <a:prstGeom prst="line">
            <a:avLst/>
          </a:prstGeom>
          <a:ln w="158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971800" y="3200040"/>
            <a:ext cx="0" cy="25909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286000" y="3200400"/>
            <a:ext cx="5562720" cy="763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209680"/>
            <a:ext cx="761760" cy="10670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89000"/>
            <a:ext cx="42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u2+ + 2e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Cuº Eº = 0.34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d2+ + 2e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Cdº Eº = -0.403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Ni2+ + 2e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Niº Eº = -0.25 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47760" y="1700280"/>
            <a:ext cx="111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924680" y="1600200"/>
            <a:ext cx="0" cy="16574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115920"/>
            <a:ext cx="42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Precipitación reductiva con H</a:t>
            </a:r>
            <a:r>
              <a:rPr b="0" lang="es-E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ferencia de poten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676520"/>
            <a:ext cx="0" cy="205740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733920"/>
            <a:ext cx="6324840" cy="15228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380988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8672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4038120"/>
            <a:ext cx="0" cy="17528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038480"/>
            <a:ext cx="548640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29400" y="1828800"/>
            <a:ext cx="0" cy="2209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752480"/>
            <a:ext cx="0" cy="24386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5486400" cy="15228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58672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5880" y="4723920"/>
            <a:ext cx="0" cy="114300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28440" y="4647960"/>
            <a:ext cx="7010280" cy="7596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419720"/>
            <a:ext cx="274320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59984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90720" y="914400"/>
            <a:ext cx="67053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blem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tiene una solucion de lixiviacion que contiene Fe+3 con una concentracion 1M a pH=2 en presencia de Fe(OH)3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termine que ocurre bajo tales cond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¿Que ocurre si ahora se tiene una concentracion de Fe+3 = 0,001M y pH=1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69080" cy="4567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24000" y="206064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03640" y="2060280"/>
            <a:ext cx="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98900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16000" y="2133720"/>
            <a:ext cx="215640" cy="2156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71640" y="2060280"/>
            <a:ext cx="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400536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393372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71640" y="3499920"/>
            <a:ext cx="287640" cy="5050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260280"/>
            <a:ext cx="57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ecipitación de hidróxidos metá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 ha lixiviado un mxx de cp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con sulfato ferrico con la siguiente estiquimetr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uFeS2 + 4Fe(+3) -&gt; Cu(+2) 5Fe(+2) + 2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n la tabla adjunta se presenta la fracción reaccionada (x) v/s el tiempo para monotamaños de ccp de 12 y 47 [um], cuando reaccionan en 0,5 [mol/L] de ion Ferrico (cte) a 90 °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 Pi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1-. Concluya cual es la etapa controlante, difusión o reacció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-. Determine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para cada monotamañ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3-. Explique las diferencias encontradas en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, y valide sus resultad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4-. Determine el valor de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para cada monotamaño si la concentración de ion ferrico sube a 1 molar y si disminuye a 0,1 mo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5189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-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ficar los modelos de reacción química en función del tiemp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2565360"/>
          <a:ext cx="7715160" cy="181944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1708200"/>
                <a:gridCol w="2730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Fe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47 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(1-x)^1/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3(1-x)^2/3+2(1-x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40E-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11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8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89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97000"/>
          <a:ext cx="6084720" cy="35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08472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780000" y="3573360"/>
          <a:ext cx="5364000" cy="301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573360"/>
                    <a:ext cx="53640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7930440" cy="2260080"/>
        </p:xfrm>
        <a:graphic>
          <a:graphicData uri="http://schemas.openxmlformats.org/drawingml/2006/table">
            <a:tbl>
              <a:tblPr/>
              <a:tblGrid>
                <a:gridCol w="1982880"/>
                <a:gridCol w="1981800"/>
                <a:gridCol w="1982880"/>
                <a:gridCol w="1982880"/>
              </a:tblGrid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Fe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08E-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2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4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96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8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1268280"/>
          <a:ext cx="5040360" cy="31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504036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564000" y="3500280"/>
          <a:ext cx="5580000" cy="313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00280"/>
                    <a:ext cx="5580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2:36:43Z</dcterms:created>
  <dc:creator>Fernando</dc:creator>
  <dc:description/>
  <dc:language>en-US</dc:language>
  <cp:lastModifiedBy>Homero Prieto</cp:lastModifiedBy>
  <dcterms:modified xsi:type="dcterms:W3CDTF">2006-04-20T06:34:56Z</dcterms:modified>
  <cp:revision>13</cp:revision>
  <dc:subject/>
  <dc:title>Diapositiva 1</dc:title>
</cp:coreProperties>
</file>