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55B4-C0AF-4A5A-9821-74BC28F4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B356-14B9-4DD5-B0DB-825F5C93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9815-A213-4471-9381-D380B626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C6C8-85F5-455E-BFA5-6B17B495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861C-D514-427E-BD96-A268F00E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18BC-41F4-4420-A6AF-6FEC0FF1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0A88-2970-4817-8208-9100F8B8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609F-5851-4621-A411-67533A10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3D58-B307-47AC-B8F2-07967D9B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4A67-7511-471A-926E-42CB0CCF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77DE-A6E4-46B0-8A76-E893FE84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66B9-7BE8-4DFB-97DC-035D3B96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2123-7072-49CE-8FC5-5AA5CC32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9221-91BE-424A-ADC5-16280A16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F520-9496-4C8B-B17D-888E7CFA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A033-6A76-42FB-AE01-270808B52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0D80-CEFE-4300-95C1-CA72DC71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E2C1-83B2-4E37-9BFE-5A6BE737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18CE-07A7-4ABA-84F1-96EAD184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7CB3-417C-4573-A4BA-D2003B3B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9D60-03CF-416F-B119-9905F654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181B-FB2B-443F-9BDA-092C2A80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9D29-EA99-4B34-8C76-3CA8A87C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C1C9-61CF-428F-980D-8C119251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C779-0C51-4D0F-8AE2-36D71B92963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4C45-C8D1-4CD8-A2BF-B6D8E96BB6A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66680" y="1219320"/>
            <a:ext cx="678204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roblema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Se tiene una solucion de Ni+2, Cd+2, Cu+2 de concentracion 1 molar cada ion y pH 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SE DESEA PRECIPITAR SELECTIVAMENTE al Cu, Ni, Cd, como metales utilizando hidrogeno gaseoso a 1atm. Determinar los cambios de pH que se deben efectuar para cumplir esto y las concentraciones finales de los iones que se obtienen en la soluc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os de rea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2-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t = 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ζ</a:t>
            </a: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 x f(x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ζ</a:t>
            </a: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  viene definido por la pendiente de la recta de ajus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47 um 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ζ</a:t>
            </a: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 = 14.153 h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12 um 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ζ</a:t>
            </a: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 = 721,9 h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os de rea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2431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-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981080" y="1447920"/>
                <a:ext cx="6019920" cy="47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i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u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f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if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153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7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if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72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0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os de rea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2674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4-. a) 47 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914400" y="2209680"/>
                <a:ext cx="7391520" cy="425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i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u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f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x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if</m:t>
                            </m:r>
                          </m:sub>
                        </m:sSub>
                        <m:r>
                          <m:t xml:space="preserve">·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3</m:t>
                        </m:r>
                        <m:r>
                          <m:t xml:space="preserve">·</m:t>
                        </m:r>
                        <m:r>
                          <m:t xml:space="preserve">0,5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6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]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i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[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  <m:r>
                                  <m:t xml:space="preserve">]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76</m:t>
                            </m:r>
                            <m:r>
                              <m:t xml:space="preserve">,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6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]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i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[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  <m:r>
                                  <m:t xml:space="preserve">]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76</m:t>
                            </m:r>
                            <m:r>
                              <m:t xml:space="preserve">,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0,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5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os de rea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1600200"/>
            <a:ext cx="2674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4-. b) 12 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371600" y="2209680"/>
                <a:ext cx="6705720" cy="431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i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u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f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x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if</m:t>
                            </m:r>
                          </m:sub>
                        </m:sSub>
                        <m:r>
                          <m:t xml:space="preserve">·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1</m:t>
                        </m:r>
                        <m:r>
                          <m:t xml:space="preserve">,</m:t>
                        </m:r>
                        <m:r>
                          <m:t xml:space="preserve">9</m:t>
                        </m:r>
                        <m:r>
                          <m:t xml:space="preserve">·</m:t>
                        </m:r>
                        <m:r>
                          <m:t xml:space="preserve">0,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1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]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i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[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  <m:r>
                                  <m:t xml:space="preserve">]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1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1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]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i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[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  <m:r>
                                  <m:t xml:space="preserve">]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1</m:t>
                            </m:r>
                          </m:num>
                          <m:den>
                            <m:r>
                              <m:t xml:space="preserve">0,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0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229440" cy="532296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158" name=""/>
          <p:cNvSpPr/>
          <p:nvPr/>
        </p:nvSpPr>
        <p:spPr>
          <a:xfrm flipH="1" flipV="1">
            <a:off x="2285640" y="2133360"/>
            <a:ext cx="4824360" cy="73080"/>
          </a:xfrm>
          <a:prstGeom prst="line">
            <a:avLst/>
          </a:prstGeom>
          <a:ln w="158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971800" y="3200040"/>
            <a:ext cx="0" cy="259092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2286000" y="3200400"/>
            <a:ext cx="5562720" cy="763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2209680"/>
            <a:ext cx="761760" cy="106704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189000"/>
            <a:ext cx="424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Cu2+ + 2e </a:t>
            </a: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 Cuº Eº = 0.34 V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Cd2+ + 2e </a:t>
            </a: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 Cdº Eº = -0.403 V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Ni2+ + 2e 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 Niº Eº = -0.25 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047760" y="1700280"/>
            <a:ext cx="11160" cy="43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924680" y="1600200"/>
            <a:ext cx="0" cy="165744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27640" y="115920"/>
            <a:ext cx="424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ecff"/>
                </a:solidFill>
                <a:latin typeface="Arial"/>
              </a:rPr>
              <a:t>Precipitación reductiva con H</a:t>
            </a:r>
            <a:r>
              <a:rPr b="0" lang="es-ES" sz="2800" spc="-1" strike="noStrike" baseline="-25000">
                <a:solidFill>
                  <a:srgbClr val="ccec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2209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2860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Diferencia de potenc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1676520"/>
            <a:ext cx="0" cy="2057400"/>
          </a:xfrm>
          <a:prstGeom prst="line">
            <a:avLst/>
          </a:prstGeom>
          <a:ln w="93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3733920"/>
            <a:ext cx="6324840" cy="152280"/>
          </a:xfrm>
          <a:prstGeom prst="line">
            <a:avLst/>
          </a:prstGeom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91120" y="3809880"/>
            <a:ext cx="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91120" y="586728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724280" y="4038120"/>
            <a:ext cx="0" cy="175284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4038480"/>
            <a:ext cx="548640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629400" y="1828800"/>
            <a:ext cx="0" cy="22096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1752480"/>
            <a:ext cx="0" cy="2438640"/>
          </a:xfrm>
          <a:prstGeom prst="line">
            <a:avLst/>
          </a:prstGeom>
          <a:ln w="284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4191120"/>
            <a:ext cx="5486400" cy="15228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426708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58672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95880" y="4723920"/>
            <a:ext cx="0" cy="1143000"/>
          </a:xfrm>
          <a:prstGeom prst="line">
            <a:avLst/>
          </a:prstGeom>
          <a:ln w="284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828440" y="4647960"/>
            <a:ext cx="7010280" cy="7596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19920" y="4419720"/>
            <a:ext cx="274320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839080" y="159984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90720" y="914400"/>
            <a:ext cx="670536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roblema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Se tiene una solucion de lixiviacion que contiene Fe+3 con una concentracion 1M a pH=2 en presencia de Fe(OH)3.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Determine que ocurre bajo tales condi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¿Que ocurre si ahora se tiene una concentracion de Fe+3 = 0,001M y pH=1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769080" cy="4567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124000" y="2060640"/>
            <a:ext cx="15843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203640" y="2060280"/>
            <a:ext cx="0" cy="2663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32000" y="1989000"/>
            <a:ext cx="14472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916000" y="2133720"/>
            <a:ext cx="215640" cy="21564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771640" y="2060280"/>
            <a:ext cx="0" cy="2663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4005360"/>
            <a:ext cx="15843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00360" y="3933720"/>
            <a:ext cx="14436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771640" y="3499920"/>
            <a:ext cx="287640" cy="50508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08000" y="260280"/>
            <a:ext cx="5759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recipitación de hidróxidos metál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os de rea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Se ha lixiviado un mxx de cp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con sulfato ferrico con la siguiente estiquimetri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CuFeS2 + 4Fe(+3) -&gt; Cu(+2) 5Fe(+2) + 2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En la tabla adjunta se presenta la fracción reaccionada (x) v/s el tiempo para monotamaños de ccp de 12 y 47 [um], cuando reaccionan en 0,5 [mol/L] de ion Ferrico (cte) a 90 °C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Se Pid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1-. Concluya cual es la etapa controlante, difusión o reacció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2-. Determine </a:t>
            </a:r>
            <a:r>
              <a:rPr b="0" lang="el-GR" sz="1800" spc="-1" strike="noStrike">
                <a:solidFill>
                  <a:srgbClr val="ffffff"/>
                </a:solidFill>
                <a:latin typeface="Verdana"/>
              </a:rPr>
              <a:t>ζ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para cada monotamañ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3-. Explique las diferencias encontradas en </a:t>
            </a:r>
            <a:r>
              <a:rPr b="0" lang="el-GR" sz="1800" spc="-1" strike="noStrike">
                <a:solidFill>
                  <a:srgbClr val="ffffff"/>
                </a:solidFill>
                <a:latin typeface="Verdana"/>
              </a:rPr>
              <a:t>ζ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, y valide sus resultado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4-. Determine el valor de </a:t>
            </a:r>
            <a:r>
              <a:rPr b="0" lang="el-GR" sz="1800" spc="-1" strike="noStrike">
                <a:solidFill>
                  <a:srgbClr val="ffffff"/>
                </a:solidFill>
                <a:latin typeface="Verdana"/>
              </a:rPr>
              <a:t>ζ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para cada monotamaño si la concentración de ion ferrico sube a 1 molar y si disminuye a 0,1 molar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648320" y="251892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os de rea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76438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-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ficar los modelos de reacción química en función del tiemp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755640" y="2565360"/>
          <a:ext cx="7715160" cy="1819440"/>
        </p:xfrm>
        <a:graphic>
          <a:graphicData uri="http://schemas.openxmlformats.org/drawingml/2006/table">
            <a:tbl>
              <a:tblPr/>
              <a:tblGrid>
                <a:gridCol w="1638000"/>
                <a:gridCol w="1638360"/>
                <a:gridCol w="1708200"/>
                <a:gridCol w="273060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FeS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47 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c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us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-(1-x)^1/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-3(1-x)^2/3+2(1-x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0E+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0E+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40E-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11E-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28E-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90E-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52E-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89E-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os de rea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197000"/>
          <a:ext cx="6084720" cy="351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6084720" cy="35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3780000" y="3573360"/>
          <a:ext cx="5364000" cy="301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3573360"/>
                    <a:ext cx="5364000" cy="30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os de rea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1600200"/>
          <a:ext cx="7930440" cy="2260080"/>
        </p:xfrm>
        <a:graphic>
          <a:graphicData uri="http://schemas.openxmlformats.org/drawingml/2006/table">
            <a:tbl>
              <a:tblPr/>
              <a:tblGrid>
                <a:gridCol w="1982880"/>
                <a:gridCol w="1981800"/>
                <a:gridCol w="1982880"/>
                <a:gridCol w="1982880"/>
              </a:tblGrid>
              <a:tr h="376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FeS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</a:t>
                      </a: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c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us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6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0E+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0E+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17E-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08E-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2E-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04E-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96E-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78E-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os de rea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79280" y="1268280"/>
          <a:ext cx="5040360" cy="317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5040360" cy="31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3564000" y="3500280"/>
          <a:ext cx="5580000" cy="3133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3500280"/>
                    <a:ext cx="558000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8T02:36:43Z</dcterms:created>
  <dc:creator>Fernando</dc:creator>
  <dc:description/>
  <dc:language>en-US</dc:language>
  <cp:lastModifiedBy>Homero Prieto</cp:lastModifiedBy>
  <dcterms:modified xsi:type="dcterms:W3CDTF">2006-04-20T06:34:56Z</dcterms:modified>
  <cp:revision>13</cp:revision>
  <dc:subject/>
  <dc:title>Diapositiva 1</dc:title>
</cp:coreProperties>
</file>