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23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wmf" ContentType="image/x-wmf"/>
  <Override PartName="/ppt/media/image20.jpeg" ContentType="image/jpeg"/>
  <Override PartName="/ppt/media/image15.jpeg" ContentType="image/jpeg"/>
  <Override PartName="/ppt/media/image19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60280" y="678960"/>
            <a:ext cx="453996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A5E71DF-1FB5-4747-8247-0357CA9D7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20C3F-7DE9-4876-97E3-1A382A6848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028C4-89F0-4E5A-A394-9916A0ABEC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8E360-7549-43B6-B206-4937E5F3B0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9AA0C-719A-45FA-BEB7-CC93752875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34409-3D47-42C5-9701-E57F3A5356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A4BB9-A199-40BF-B673-AB66C680C5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ADD52-58E5-45DB-B821-454C484C5D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FC6BC-85A4-4437-9833-0B23EB2388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C394C-A69A-417D-AD4A-33BD22E0C3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9AFBF-0D07-4964-B689-22C846A3D2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AD333-7B60-4CB2-9124-09CA326585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584FF-297E-49AA-BDD5-B4B47041C1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73200" y="6680160"/>
            <a:ext cx="5572080" cy="1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900" spc="-1" strike="noStrike">
                <a:solidFill>
                  <a:srgbClr val="99cc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&lt;footer&gt;</a:t>
            </a: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GEOTECNIA MINERA – UNIVERSIDAD DE CH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1155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935920" y="3809880"/>
            <a:ext cx="208080" cy="3048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4880" y="65559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ágina </a:t>
            </a:r>
            <a:fld id="{FFA3BEA3-F88F-4A2D-A740-960DD54F031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eño de Pilares Mineros I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45212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nrique Rub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96960" y="3625920"/>
            <a:ext cx="5021280" cy="27748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6640" y="1984320"/>
            <a:ext cx="1751040" cy="7588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Carga Vertical Sobre el Pilar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396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arga litoestat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imación del esfuerzo induci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4114800" cy="3170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219320" y="2209680"/>
                <a:ext cx="129528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λ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2590920" y="23623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MP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914400" y="3733920"/>
                <a:ext cx="220032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990720" y="4876920"/>
                <a:ext cx="4856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914400" y="5410080"/>
                <a:ext cx="274320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Área Extraíd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Área Tot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1518840" y="5029200"/>
            <a:ext cx="209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arga litoestatica (MP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6640" y="5638680"/>
            <a:ext cx="187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Recuperación Mine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49F9E-B820-4FDB-A29C-3A2CD59410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03200" y="2805120"/>
            <a:ext cx="2619360" cy="14572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Área Tributare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4114800" cy="3170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85800" y="2895480"/>
                <a:ext cx="220968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61FDD-BE69-43EF-B806-F4AE7F7E4C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03360" y="2649600"/>
            <a:ext cx="960480" cy="11793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ffff"/>
                </a:solidFill>
                <a:latin typeface="Tahoma"/>
              </a:rPr>
              <a:t>Concentración de Esfuerzos como Función de la Recuperación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3162600" cy="4343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828800" y="2743200"/>
                <a:ext cx="5634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F4BBE-C767-4736-9339-9E21FE14E8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Área Tributaria para Muros y Pilares Rectangular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45686" r="0" b="0"/>
          <a:stretch/>
        </p:blipFill>
        <p:spPr>
          <a:xfrm>
            <a:off x="952560" y="1397160"/>
            <a:ext cx="6202440" cy="512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9EAEE-343C-4537-8A12-49A4B1792E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90400" y="2773440"/>
            <a:ext cx="1997280" cy="31161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Tracción Sobre el Techo del Caser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263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uz máxima para un estrato de ro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114800" y="1905120"/>
            <a:ext cx="5029200" cy="23540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flipH="1" flipV="1">
            <a:off x="5715000" y="2819160"/>
            <a:ext cx="533520" cy="152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6324480" y="2895480"/>
            <a:ext cx="685800" cy="76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6019920" y="3048120"/>
                <a:ext cx="4600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4952880" y="3886200"/>
            <a:ext cx="26672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83200" y="4049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86600" y="236232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7238880" y="2514600"/>
                <a:ext cx="298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838080" y="2743200"/>
                <a:ext cx="132408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γ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4495680" y="220968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65880" y="233532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762120" y="3809880"/>
                <a:ext cx="15811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λL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4255560" y="5562720"/>
            <a:ext cx="361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E: Módulo de elasticidad del macizo roco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838080" y="4876920"/>
                <a:ext cx="114300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γL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343400" y="5867280"/>
                <a:ext cx="2937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4640400" y="5867280"/>
            <a:ext cx="225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peso específico de la ro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33920" y="4648320"/>
            <a:ext cx="51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El fallamiento del techo del caserón va a generalmente ser debido al esfuerzo de tracción y no de cor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AAC13-F0DE-47FA-8CE0-8E2692B2EE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75040" y="4665600"/>
            <a:ext cx="1054080" cy="6652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1240" y="5297400"/>
            <a:ext cx="2076480" cy="8683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31840" y="3440160"/>
            <a:ext cx="2076480" cy="8683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4480" y="1936800"/>
            <a:ext cx="2711520" cy="8524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sistencia de Pilares Miner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574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Hardy and Agapito (197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bert and Duvall (1967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Salamon and Munro (1967), Holland (1964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7315200" y="2895480"/>
            <a:ext cx="620640" cy="1084320"/>
          </a:xfrm>
          <a:prstGeom prst="rect">
            <a:avLst/>
          </a:prstGeom>
          <a:solidFill>
            <a:srgbClr val="99cc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70720" y="2879640"/>
            <a:ext cx="213840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632640" y="3978360"/>
            <a:ext cx="209232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7467480" y="1752480"/>
                <a:ext cx="4017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 flipV="1">
            <a:off x="7467480" y="2286000"/>
            <a:ext cx="152640" cy="9144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079640" y="2025720"/>
                <a:ext cx="21333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</m:sup>
                    </m:sSup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3579480" y="2209680"/>
            <a:ext cx="126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S, especim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P, Pil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239840" y="3505320"/>
                <a:ext cx="178740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077840" y="5334120"/>
                <a:ext cx="157788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a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β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114800" y="4800600"/>
                <a:ext cx="7621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5021640" y="4952880"/>
            <a:ext cx="29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Medidos en pilares cúbicos W/H=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FA9EF-6D7C-45C3-9F29-AE9A152CCA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Constantes Utilizadas Para El Diseño de Pilar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96080" cy="389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B8FB4-A112-42AC-9524-8803017958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29080" y="3652920"/>
            <a:ext cx="3440160" cy="12412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17560" y="4800600"/>
            <a:ext cx="2727360" cy="838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00160" y="2386080"/>
            <a:ext cx="1844640" cy="900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Ajustando el Valor de Resistencia del Pilar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scalamiento del espéci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esistencia del pilar Obert and Duv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5105520" y="1600200"/>
            <a:ext cx="4038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implemente utilizar el criterio de Hoek and Br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76280" y="2465280"/>
                <a:ext cx="12956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762120" y="4780080"/>
                <a:ext cx="27748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410080" y="3733920"/>
                <a:ext cx="335304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C48BE-C669-4B97-9AA5-0D0A8E7C49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tros Ábacos Empíric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419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tos gráficos se utilizan en roca competente y se refieren a casos estudiados en Norteamér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nsidera el hecho que los pilares mineros poseen algún grado de confinamiento el cual se estima con modelos numéric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5181480" cy="33181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029200" y="5105520"/>
            <a:ext cx="320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Lunder y Pakalnis, 1997. Resistencia de pilar en función del esfuerzo normalizado vs la geometría del pilar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0E83D-D402-4DF9-A9F7-B84857D851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90560" y="2401920"/>
            <a:ext cx="2635200" cy="7905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Resistencia como función del Confinamiento del Pilar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497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Se define el confinamiento medio del pila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ta formula nace del análisis de múltiples geometrías modeladas numéricamente y estimación del confinamiento al interior del pil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3079" t="0" r="0" b="0"/>
          <a:stretch/>
        </p:blipFill>
        <p:spPr>
          <a:xfrm>
            <a:off x="3886200" y="1828800"/>
            <a:ext cx="5257800" cy="3494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852480" y="2496960"/>
                <a:ext cx="243828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W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5029200" y="5181480"/>
            <a:ext cx="320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Lunder y Pakalnis, 1997. Resistencia de pilar en función del esfuerzo normalizado vs el confinamiento medio normaliz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D5765-799D-40FB-BDAF-E0019147A1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991040" y="1255680"/>
            <a:ext cx="4152960" cy="528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37280" y="1363680"/>
            <a:ext cx="3906720" cy="52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Motivación: Necesario para el Diseñ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06280" y="1692360"/>
            <a:ext cx="4646880" cy="3097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H="1" flipV="1">
            <a:off x="2959200" y="3193920"/>
            <a:ext cx="2325600" cy="24624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21440" y="2890800"/>
            <a:ext cx="620640" cy="1084320"/>
          </a:xfrm>
          <a:prstGeom prst="rect">
            <a:avLst/>
          </a:prstGeom>
          <a:solidFill>
            <a:srgbClr val="99cc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76960" y="2874960"/>
            <a:ext cx="213840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438880" y="3973680"/>
            <a:ext cx="209232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7093080" y="12906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6416640" y="2502000"/>
            <a:ext cx="0" cy="341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384960" y="3990960"/>
            <a:ext cx="0" cy="372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183360" y="1893960"/>
                <a:ext cx="4604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211800" y="4356000"/>
                <a:ext cx="4618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7126200" y="3122640"/>
                <a:ext cx="4017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 flipV="1">
            <a:off x="6540480" y="3371760"/>
            <a:ext cx="511200" cy="1080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338800" y="48690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357880" y="5502240"/>
                <a:ext cx="4604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372280" y="6111720"/>
                <a:ext cx="4014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6354720" y="501156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presente en el macizo roco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54720" y="561348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actuando sobre 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54720" y="6276960"/>
            <a:ext cx="278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istencia d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4746A-6973-4A43-B6C4-462704CC5D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983040" y="3716280"/>
            <a:ext cx="5160960" cy="900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83040" y="2076480"/>
            <a:ext cx="5160960" cy="900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sistencia de Pilares Para Roca Competente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652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ahoma"/>
              </a:rPr>
              <a:t>Pakalnis Y Lunde (1997) proponen una relación para estimar la resistencia del pilar considerando el confinamiento medio de los pilar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4146480" y="2133720"/>
                <a:ext cx="499752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rPr>
                        <m:lit/>
                        <m:nor/>
                      </m:rPr>
                      <m:t xml:space="preserve">UC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4267080" y="3962520"/>
                <a:ext cx="48592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av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/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av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03ED4-A0C2-4744-A7DA-34A9AEE3AD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actor of Safet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263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100% de los pilares diseñados con un FS mayor 1.6 se ha mantenido est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a relación corresponde a la experiencia de 1 mina, cada operación debería tener sus propios estándar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11660" r="0" b="1189"/>
          <a:stretch/>
        </p:blipFill>
        <p:spPr>
          <a:xfrm>
            <a:off x="3657600" y="1981080"/>
            <a:ext cx="5486400" cy="32418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486400" y="52578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Retro-análisis de pilares de minas de carbón Sudafricanas, Salamon y Munro (1967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4CD7B-0DA6-4BDC-A468-485857789D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a Importancia de W/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a esbeltez del pilar define el grado de confinamiento de es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ara pilares con relaciones W/H menor a 4 se produce el fenómeno de relajación post falla (strain softenning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te ábaco es fundamental para entender el estallido de roca en minería profun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0" t="0" r="5086" b="1693"/>
          <a:stretch/>
        </p:blipFill>
        <p:spPr>
          <a:xfrm>
            <a:off x="4724280" y="1219320"/>
            <a:ext cx="3861000" cy="4419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876920" y="5791320"/>
            <a:ext cx="396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Das, 1986. Curvas de esfuerzo deformación completas para testigo de pilares de carbón. Modelamiento de relajación post fal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FA368-E062-4E12-834E-0F337E50A3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Ejemplos de Diseño Minas de Carbón US y Canadá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34430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57200" y="5334120"/>
            <a:ext cx="495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W Hustrulid y R Bullock, 2001, Underground Mining Methods Engineering Fundamentals and International Case Stud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3912D-D85C-4EB7-83B3-5DD5EF1B7C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ffff"/>
                </a:solidFill>
                <a:latin typeface="Tahoma"/>
              </a:rPr>
              <a:t>Ejemplos de Diseño de Minas de R&amp;P en Yacimientos Metálico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8686800" cy="18241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57200" y="5334120"/>
            <a:ext cx="495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W Hustrulid y R Bullock, 2001, Underground Mining Methods Engineering Fundamentals and International Case Stud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95391-F5E4-45FF-8BFB-F3ED88D7196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ffff"/>
                </a:solidFill>
                <a:latin typeface="Tahoma"/>
              </a:rPr>
              <a:t>Ejemplos de Diseño de R&amp;P en Yacimientos No Metalico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27716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57200" y="5334120"/>
            <a:ext cx="495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W Hustrulid y R Bullock, 2001, Underground Mining Methods Engineering Fundamentals and International Case Stud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532DF-B059-4FEF-9F51-5C77A1555FB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159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iseñar los caserones y pilares para un yacimiento mantiforme de 10m de potencia que se encuentra a una profundidad de 200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Las características de la roca de caja y mineral se presentan a continua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C6937-7381-4016-A67E-C383A3A7306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at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57200" y="1295280"/>
          <a:ext cx="8229600" cy="5156280"/>
        </p:xfrm>
        <a:graphic>
          <a:graphicData uri="http://schemas.openxmlformats.org/drawingml/2006/table">
            <a:tbl>
              <a:tblPr/>
              <a:tblGrid>
                <a:gridCol w="2978280"/>
                <a:gridCol w="250812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t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c Caj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c M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so (KN/m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C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P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P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P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ic angl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dimentaria altera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ab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structur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cturado en bloques, calidad de estructuras regul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cturado en bloques, calidad de estructuras bue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GP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17FF9-4585-4DE2-9604-D6ED9225C59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33440" y="1471680"/>
            <a:ext cx="5781600" cy="26668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Luz Máxima y Dilu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0" t="0" r="0" b="53520"/>
          <a:stretch/>
        </p:blipFill>
        <p:spPr>
          <a:xfrm>
            <a:off x="609480" y="1676520"/>
            <a:ext cx="5486400" cy="19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82D78-4E05-4723-83DA-941C53B0908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1874880"/>
            <a:ext cx="9144000" cy="40766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sistencia del Pilar Unitari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rcRect l="0" t="0" r="7142" b="0"/>
          <a:stretch/>
        </p:blipFill>
        <p:spPr>
          <a:xfrm>
            <a:off x="304920" y="1981080"/>
            <a:ext cx="8839080" cy="395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7A766-9F05-4169-8132-738BE55F7B2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5440" y="1441440"/>
            <a:ext cx="8385120" cy="51451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1378080"/>
            <a:ext cx="8385480" cy="52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92320" y="2905200"/>
            <a:ext cx="620640" cy="1084320"/>
          </a:xfrm>
          <a:prstGeom prst="rect">
            <a:avLst/>
          </a:prstGeom>
          <a:solidFill>
            <a:srgbClr val="99cc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7840" y="2889360"/>
            <a:ext cx="213804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09760" y="3987360"/>
            <a:ext cx="209232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163600" y="13050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487520" y="2516040"/>
            <a:ext cx="0" cy="341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455840" y="4005360"/>
            <a:ext cx="0" cy="372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254240" y="1908000"/>
                <a:ext cx="46044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282680" y="4370400"/>
                <a:ext cx="4618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197080" y="3137040"/>
                <a:ext cx="4017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 flipV="1">
            <a:off x="1611360" y="3386160"/>
            <a:ext cx="511200" cy="1080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09680" y="488304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28760" y="5516640"/>
                <a:ext cx="4600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42800" y="6126120"/>
                <a:ext cx="4017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1425600" y="502596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presente en el macizo roco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25600" y="562752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actuando sobre 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25600" y="6245280"/>
            <a:ext cx="278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istencia d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40320" y="1395360"/>
            <a:ext cx="31680" cy="52228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5345280" y="2046240"/>
                <a:ext cx="11538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4601520" y="142704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 de Seguridad del Dis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9360" y="3317760"/>
            <a:ext cx="35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 mayor a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tendencia actual es calcular la confiabilidad del dis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259240" y="4967280"/>
                <a:ext cx="21020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f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4975200" y="5595840"/>
            <a:ext cx="33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Aproximación probabilística al diseño de min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8EDF4-360B-4670-8604-81271C646E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1782720"/>
            <a:ext cx="8926560" cy="32544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eño de Pila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76320" y="1905120"/>
            <a:ext cx="8762760" cy="297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1A9AE-5E88-46E4-B873-71A2F36434D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xilia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epetir ejercic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n vez de usar GSI estimar el  RMR 7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profundidad del cuerpo mineralizado varia entre 1000 a 1100 metr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Utilizar el método de Hoek and Brown para estimar la resistencia de un pilar unita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Utilizar una formula de resistencia de pilar de Obert and Duva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iseñar pilares rectangulares y mu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ealizar el diseño de la mina pensar en cuanto pilares se pueden introducir en el ancho del cuerpo mineralizado y en la corri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A9BBE-6806-4CDC-8320-A5B468BD59D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171840" y="1294920"/>
            <a:ext cx="2971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ahoma"/>
              </a:rPr>
              <a:t>GSI (Geologic Strength index), índice geológico de resistenc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ahoma"/>
              </a:rPr>
              <a:t>GSI=RMR(76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19320" y="382680"/>
            <a:ext cx="4738680" cy="647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C9867-57F7-41C8-9E26-AC0E44F145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03200" y="2571840"/>
            <a:ext cx="3828960" cy="384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sistencia de Macizo Rocos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riterio de Hoek and Brown (1980, 199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838080" y="2590920"/>
                <a:ext cx="335304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06" name="" descr=""/>
          <p:cNvPicPr/>
          <p:nvPr/>
        </p:nvPicPr>
        <p:blipFill>
          <a:blip r:embed="rId1"/>
          <a:srcRect l="0" t="0" r="5452" b="3527"/>
          <a:stretch/>
        </p:blipFill>
        <p:spPr>
          <a:xfrm>
            <a:off x="5410080" y="1143000"/>
            <a:ext cx="3156120" cy="5257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838080" y="3809880"/>
                <a:ext cx="3603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066680" y="4392720"/>
                <a:ext cx="198144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80880" y="5486400"/>
                <a:ext cx="12574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GSI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514600" y="5575320"/>
                <a:ext cx="952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505800" y="510552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=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42840" y="510552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3809880"/>
            <a:ext cx="316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encia a la compresi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ón no confinada roca intac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51473-5CC9-4B57-BF6D-F35EBDFA52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Constante mi para Distintos Tipos de Roca Intact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5486400" cy="490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2109A-3DD2-472B-A2F5-3D8D0BF74B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Efecto de Escalamiento de Resistencia de Macizo Rocos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493880" y="1349280"/>
            <a:ext cx="4273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riterio de Hoek and Brown para granito de la mina Lac du Bonnet basado en resistencia de laboratorio, post falla y iniciación de fractura basado en monitoreo sísm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4195800" cy="4343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3520" y="5715000"/>
            <a:ext cx="3886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Martin, 1994 The progressive fracture of Lac DuBonnet Granite , Int. J. Rock Mech. Min. Sci. 31 643-5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844D2-6310-4C0A-8B10-9F280BBFC4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eño de Pila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041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objetivo es maximizar la recuperación de la unidad básica de explotación a través de un diseño seguro y vi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diseño de pilares debe obedecer a un análisis de las cargas o solicitaciones y la resistencia del macizo rocos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495680" y="1676520"/>
            <a:ext cx="4648320" cy="428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7E135-28FA-4C53-82DB-584AAF7010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Carga Sobre el Pila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3808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 produce re distribución de esfuerzos al realizar minería de la cámara de produc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os esfuerzos tienden a ser mayores en las esquinas produciendo fallas por exceso de cizal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419720" y="2362320"/>
            <a:ext cx="4724280" cy="241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20128-EDF2-487D-8148-C9AFCAD135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9:42:01Z</dcterms:created>
  <dc:creator>Julian Ortiz C.</dc:creator>
  <dc:description/>
  <dc:language>en-US</dc:language>
  <cp:lastModifiedBy>Enrique Rubio</cp:lastModifiedBy>
  <dcterms:modified xsi:type="dcterms:W3CDTF">2006-10-19T14:48:56Z</dcterms:modified>
  <cp:revision>242</cp:revision>
  <dc:subject/>
  <dc:title>Muestreo y Control de Calidad</dc:title>
</cp:coreProperties>
</file>