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23.wmf" ContentType="image/x-wmf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wmf" ContentType="image/x-wmf"/>
  <Override PartName="/ppt/media/image20.jpeg" ContentType="image/jpeg"/>
  <Override PartName="/ppt/media/image15.jpeg" ContentType="image/jpeg"/>
  <Override PartName="/ppt/media/image19.jpeg" ContentType="image/jpeg"/>
  <Override PartName="/ppt/media/image21.wmf" ContentType="image/x-wmf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60280" y="678960"/>
            <a:ext cx="4539960" cy="340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4"/>
          </p:nvPr>
        </p:nvSpPr>
        <p:spPr>
          <a:xfrm>
            <a:off x="-36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5"/>
          </p:nvPr>
        </p:nvSpPr>
        <p:spPr>
          <a:xfrm>
            <a:off x="3885840" y="8626320"/>
            <a:ext cx="2971800" cy="454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555574-99A2-4B64-B2A5-4D3C0B9B4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388584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EFC9C-91D1-4679-9026-7CB73C17BE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5B50A-0789-4DC7-AB95-CF458D0CA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81473F-3D93-48C6-89A5-EBD0CDF649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228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50160" y="134928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747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228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50160" y="4073040"/>
            <a:ext cx="270216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823C-5107-4BAE-8343-D638B97292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3A515-654D-4796-B529-717A203AE08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DB22F-2C7E-4BBC-95A5-BD27EE3B26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4B8E4-AE61-4E25-8908-39D35A1434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5CD2E-C928-4D03-8293-9A8050B78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28600" y="-3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12E88-C56B-4EEA-92CF-5218D0A5C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562B4-3AB0-47C3-9BCA-FB42809885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5680" y="407304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49649-07E0-42E6-8865-81EC8BE4F7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5680" y="1349280"/>
            <a:ext cx="409572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74760" y="4073040"/>
            <a:ext cx="8393040" cy="248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BA56D-2BE1-4AE0-B89A-7CD9813BC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73200" y="6680160"/>
            <a:ext cx="5572080" cy="1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CL" sz="900" spc="-1" strike="noStrike">
                <a:solidFill>
                  <a:srgbClr val="99cc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&lt;footer&gt;</a:t>
            </a:r>
            <a:r>
              <a:rPr b="1" lang="es-CL" sz="900" spc="-1" strike="noStrike">
                <a:solidFill>
                  <a:srgbClr val="99ccff"/>
                </a:solidFill>
                <a:latin typeface="Tahoma"/>
              </a:rPr>
              <a:t>GEOTECNIA MINERA – UNIVERSIDAD DE CH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228600" cy="1155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8570880" y="49320"/>
            <a:ext cx="484200" cy="9954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935920" y="3809880"/>
            <a:ext cx="208080" cy="30481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554880" y="655596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ágina </a:t>
            </a:r>
            <a:fld id="{055F9361-90BF-41E8-BF09-781C8C3B5FBD}" type="slidenum">
              <a:rPr b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 Mineros I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"/>
          <p:cNvSpPr/>
          <p:nvPr/>
        </p:nvSpPr>
        <p:spPr>
          <a:xfrm>
            <a:off x="1371600" y="45212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Enrique Rub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96960" y="3625920"/>
            <a:ext cx="5021280" cy="2774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6640" y="1984320"/>
            <a:ext cx="1751040" cy="758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arga Vertical Sobre 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9639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arga litoestat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imación del esfuerzo induc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1219320" y="2209680"/>
                <a:ext cx="1295280" cy="55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λz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2590920" y="2362320"/>
            <a:ext cx="83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P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914400" y="3733920"/>
                <a:ext cx="2200320" cy="106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ρ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990720" y="4876920"/>
                <a:ext cx="48564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914400" y="5410080"/>
                <a:ext cx="2743200" cy="81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ρ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Área Extraí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Área 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1518840" y="5029200"/>
            <a:ext cx="20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arga litoestatica (MPa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6640" y="5638680"/>
            <a:ext cx="187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cuperación Miner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50A6E-57BC-40A1-A31C-2E11C409DB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03200" y="2805120"/>
            <a:ext cx="2619360" cy="1457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Área Tributarea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0" y="1371600"/>
            <a:ext cx="4114800" cy="3170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685800" y="289548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z</m:t>
                        </m:r>
                      </m:sub>
                    </m:sSub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6FFCF-B84A-448D-8807-9D1A274928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503360" y="2649600"/>
            <a:ext cx="960480" cy="11793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ccffff"/>
                </a:solidFill>
                <a:latin typeface="Tahoma"/>
              </a:rPr>
              <a:t>Concentración de Esfuerzos como Función de la Recuperación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3162600" cy="43434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828800" y="2743200"/>
                <a:ext cx="5634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z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378BE-5382-4EF5-91D3-65C57CD18F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Área Tributaria para Muros y Pilares Rectangu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45686" r="0" b="0"/>
          <a:stretch/>
        </p:blipFill>
        <p:spPr>
          <a:xfrm>
            <a:off x="952560" y="1397160"/>
            <a:ext cx="6202440" cy="512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3B2D9-270F-4911-B8DA-AB72F627719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590400" y="2773440"/>
            <a:ext cx="1997280" cy="31161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Tracción Sobre el Techo del Caserón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uz máxima para un estrato de ro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4114800" y="1905120"/>
            <a:ext cx="5029200" cy="23540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 flipH="1" flipV="1">
            <a:off x="5715000" y="2819160"/>
            <a:ext cx="533520" cy="1522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6324480" y="2895480"/>
            <a:ext cx="685800" cy="76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6019920" y="3048120"/>
                <a:ext cx="4600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4952880" y="3886200"/>
            <a:ext cx="2667240" cy="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83200" y="404964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86600" y="2362320"/>
            <a:ext cx="0" cy="609480"/>
          </a:xfrm>
          <a:prstGeom prst="line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7238880" y="2514600"/>
                <a:ext cx="2984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838080" y="2743200"/>
                <a:ext cx="132408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γ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2" name=""/>
          <p:cNvSpPr/>
          <p:nvPr/>
        </p:nvSpPr>
        <p:spPr>
          <a:xfrm>
            <a:off x="4495680" y="2209680"/>
            <a:ext cx="0" cy="457200"/>
          </a:xfrm>
          <a:prstGeom prst="line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65880" y="2335320"/>
            <a:ext cx="23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"/>
              <p:cNvSpPr txBox="1"/>
              <p:nvPr/>
            </p:nvSpPr>
            <p:spPr>
              <a:xfrm>
                <a:off x="762120" y="3809880"/>
                <a:ext cx="158112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λL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5" name=""/>
          <p:cNvSpPr/>
          <p:nvPr/>
        </p:nvSpPr>
        <p:spPr>
          <a:xfrm>
            <a:off x="4255560" y="5562720"/>
            <a:ext cx="361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: Módulo de elasticidad del macizo rocos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838080" y="4876920"/>
                <a:ext cx="114300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r>
                          <m:t xml:space="preserve">γL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4343400" y="5867280"/>
                <a:ext cx="2937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4640400" y="5867280"/>
            <a:ext cx="2259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eso específico de la roc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4648320"/>
            <a:ext cx="51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El fallamiento del techo del caserón va a generalmente ser debido al esfuerzo de tracción y no de cort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EE1F3-CD43-4F4E-ACB1-EE785F1B6E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75040" y="4665600"/>
            <a:ext cx="1054080" cy="665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41240" y="529740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31840" y="3440160"/>
            <a:ext cx="2076480" cy="8683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4480" y="1936800"/>
            <a:ext cx="2711520" cy="8524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Minero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5748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Hardy and Agapito (1977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ert and Duvall (1967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alamon and Munro (1967), Holland (1964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7315200" y="289548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570720" y="287964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6632640" y="397836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467480" y="175248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80" name=""/>
          <p:cNvSpPr/>
          <p:nvPr/>
        </p:nvSpPr>
        <p:spPr>
          <a:xfrm flipV="1">
            <a:off x="7467480" y="2286000"/>
            <a:ext cx="152640" cy="9144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1079640" y="2025720"/>
                <a:ext cx="21333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18</m:t>
                        </m:r>
                      </m:sup>
                    </m:sSup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den>
                            </m:f>
                            <m:f>
                              <m:num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3579480" y="2209680"/>
            <a:ext cx="1262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S, especimen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P, Pila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1239840" y="3505320"/>
                <a:ext cx="1787400" cy="69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1077840" y="5334120"/>
                <a:ext cx="1577880" cy="86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>
                                <m:r>
                                  <m:t xml:space="preserve">a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H</m:t>
                                </m:r>
                              </m:e>
                              <m:sup>
                                <m:r>
                                  <m:t xml:space="preserve">β</m:t>
                                </m:r>
                              </m:sup>
                            </m:sSup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4114800" y="4800600"/>
                <a:ext cx="762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5021640" y="4952880"/>
            <a:ext cx="29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Medidos en pilares cúbicos W/H=1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A3693-A00E-4036-95A0-F92E2C8C5E7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s Utilizadas Para El Diseño de Pilares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696080" cy="389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45062-EA73-41DB-9C00-BB22ED85A91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329080" y="3652920"/>
            <a:ext cx="3440160" cy="12412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17560" y="4800600"/>
            <a:ext cx="2727360" cy="8380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00160" y="2386080"/>
            <a:ext cx="184464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Ajustando el Valor de Resistencia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Escalamiento del espécim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sistencia del pilar Obert and Duva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5105520" y="1600200"/>
            <a:ext cx="4038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Simplemente utilizar el criterio de Hoek and Brow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376280" y="24652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  <m:sup>
                            <m:r>
                              <m:t xml:space="preserve">'</m:t>
                            </m:r>
                          </m:sup>
                        </m:sSubSup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</m:sSub>
                              </m:num>
                              <m:den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s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762120" y="4780080"/>
                <a:ext cx="277488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s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8</m:t>
                        </m:r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  <m:f>
                          <m:num>
                            <m:r>
                              <m:t xml:space="preserve">W</m:t>
                            </m:r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5410080" y="3733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BBAC4-716A-43A2-9AEF-7FD49D2A98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Otros Ábacos Empíric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192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os gráficos se utilizan en roca competente y se refieren a casos estudiados en Norteamér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Considera el hecho que los pilares mineros poseen algún grado de confinamiento el cual se estima con modelos numéric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962520" y="1752480"/>
            <a:ext cx="5181480" cy="33181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029200" y="5105520"/>
            <a:ext cx="320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la geometría del pilar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FF11-FE66-4BF2-A180-69042F677A3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790560" y="2401920"/>
            <a:ext cx="2635200" cy="79056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Tahoma"/>
              </a:rPr>
              <a:t>Resistencia como función del Confinamiento del Pilar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497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Se define el confinamiento medio del pilar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a formula nace del análisis de múltiples geometrías modeladas numéricamente y estimación del confinamiento al interior del pil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3079" t="0" r="0" b="0"/>
          <a:stretch/>
        </p:blipFill>
        <p:spPr>
          <a:xfrm>
            <a:off x="3886200" y="1828800"/>
            <a:ext cx="5257800" cy="349416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852480" y="2496960"/>
                <a:ext cx="2438280" cy="636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pav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6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W</m:t>
                                </m:r>
                              </m:num>
                              <m:den>
                                <m:r>
                                  <m:t xml:space="preserve">H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8" name=""/>
          <p:cNvSpPr/>
          <p:nvPr/>
        </p:nvSpPr>
        <p:spPr>
          <a:xfrm>
            <a:off x="5029200" y="5181480"/>
            <a:ext cx="3200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Lunder y Pakalnis, 1997. Resistencia de pilar en función del esfuerzo normalizado vs el confinamiento medio normalizad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D4A3-EB10-4EA2-B97D-949519DDD6D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991040" y="1255680"/>
            <a:ext cx="4152960" cy="528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237280" y="1363680"/>
            <a:ext cx="3906720" cy="52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Motivación: Necesario para el Diseñ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06280" y="1692360"/>
            <a:ext cx="4646880" cy="3097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 flipH="1" flipV="1">
            <a:off x="2959200" y="3193920"/>
            <a:ext cx="2325600" cy="24624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121440" y="28908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76960" y="2874960"/>
            <a:ext cx="213840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5438880" y="3973680"/>
            <a:ext cx="209232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"/>
              <p:cNvSpPr txBox="1"/>
              <p:nvPr/>
            </p:nvSpPr>
            <p:spPr>
              <a:xfrm>
                <a:off x="7093080" y="12906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2" name=""/>
          <p:cNvSpPr/>
          <p:nvPr/>
        </p:nvSpPr>
        <p:spPr>
          <a:xfrm>
            <a:off x="6416640" y="2502000"/>
            <a:ext cx="0" cy="34128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6384960" y="39909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6183360" y="189396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6211800" y="4356000"/>
                <a:ext cx="4618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26200" y="31226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7" name=""/>
          <p:cNvSpPr/>
          <p:nvPr/>
        </p:nvSpPr>
        <p:spPr>
          <a:xfrm flipV="1">
            <a:off x="6540480" y="33717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"/>
              <p:cNvSpPr txBox="1"/>
              <p:nvPr/>
            </p:nvSpPr>
            <p:spPr>
              <a:xfrm>
                <a:off x="5338800" y="4869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5357880" y="5502240"/>
                <a:ext cx="46044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5372280" y="6111720"/>
                <a:ext cx="40140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"/>
          <p:cNvSpPr/>
          <p:nvPr/>
        </p:nvSpPr>
        <p:spPr>
          <a:xfrm>
            <a:off x="6354720" y="50115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354720" y="561348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354720" y="627696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E8E51-A4F7-4405-BE66-6D9E362B6E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3983040" y="37162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983040" y="2076480"/>
            <a:ext cx="5160960" cy="9000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Pilares Para Roca Competente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652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Pakalnis Y Lunde (1997) proponen una relación para estimar la resistencia del pilar considerando el confinamiento medio de los pilar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4146480" y="2133720"/>
                <a:ext cx="4997520" cy="6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4</m:t>
                    </m:r>
                    <m:r>
                      <m:rPr>
                        <m:lit/>
                        <m:nor/>
                      </m:rPr>
                      <m:t xml:space="preserve">UCS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8</m:t>
                    </m:r>
                    <m:r>
                      <m:t xml:space="preserve">+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"/>
              <p:cNvSpPr txBox="1"/>
              <p:nvPr/>
            </p:nvSpPr>
            <p:spPr>
              <a:xfrm>
                <a:off x="4267080" y="3962520"/>
                <a:ext cx="4859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  <m:r>
                              <m:t xml:space="preserve">/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1</m:t>
                                </m:r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pav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B5D7-0372-4B96-A054-DE28980D2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Factor of Safety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3263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100% de los pilares diseñados con un FS mayor 1.6 se ha mantenido est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sta relación corresponde a la experiencia de 1 mina, cada operación debería tener sus propios estándar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11660" r="0" b="1189"/>
          <a:stretch/>
        </p:blipFill>
        <p:spPr>
          <a:xfrm>
            <a:off x="3657600" y="1981080"/>
            <a:ext cx="5486400" cy="324180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486400" y="5257800"/>
            <a:ext cx="28195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Retro-análisis de pilares de minas de carbón Sudafricanas, Salamon y Munro (1967)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6597D-094D-41B3-BB1B-216B1B7A44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a Importancia de W/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La esbeltez del pilar define el grado de confinamiento de es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Para pilares con relaciones W/H menor a 4 se produce el fenómeno de relajación post falla (strain softenning)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Este ábaco es fundamental para entender el estallido de roca en minería profun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rcRect l="0" t="0" r="5086" b="1693"/>
          <a:stretch/>
        </p:blipFill>
        <p:spPr>
          <a:xfrm>
            <a:off x="4724280" y="1219320"/>
            <a:ext cx="3861000" cy="44193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4876920" y="5791320"/>
            <a:ext cx="3962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Das, 1986. Curvas de esfuerzo deformación completas para testigo de pilares de carbón. Modelamiento de relajación post fall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8F06C-394A-4E8A-BDEC-8A6B66E8EF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jemplos de Diseño Minas de Carbón US y Canadá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344304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F1079-5AE6-48DF-80B5-DE10A6D42D3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Minas de R&amp;P en Yacimientos Metá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04920" y="2666880"/>
            <a:ext cx="8686800" cy="18241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251AB-5364-46FB-815A-BE19C2BA446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ccffff"/>
                </a:solidFill>
                <a:latin typeface="Tahoma"/>
              </a:rPr>
              <a:t>Ejemplos de Diseño de R&amp;P en Yacimientos No Metalicos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27716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457200" y="5334120"/>
            <a:ext cx="4952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Arial"/>
              </a:rPr>
              <a:t>W Hustrulid y R Bullock, 2001, Underground Mining Methods Engineering Fundamentals and International Case Studi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37808-A00B-4013-BFA5-22D2A7F967F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Ejempl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1597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Diseñar los caserones y pilares para un yacimiento mantiforme de 10m de potencia que se encuentra a una profundidad de 200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Las características de la roca de caja y mineral se presentan a continuació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208A8-4AD0-4803-85F4-71B90D091EE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ato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7200" y="1295280"/>
          <a:ext cx="8229600" cy="5156280"/>
        </p:xfrm>
        <a:graphic>
          <a:graphicData uri="http://schemas.openxmlformats.org/drawingml/2006/table">
            <a:tbl>
              <a:tblPr/>
              <a:tblGrid>
                <a:gridCol w="2978280"/>
                <a:gridCol w="2508120"/>
                <a:gridCol w="27432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te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Caj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c Mx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5e5e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Peso (KN/m3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C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M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ic angl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7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c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edimentaria alterad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Gabr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structura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regula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racturado en bloques, calidad de estructuras buen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(GPa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132F-2115-46CD-A2FE-6F4C26BDD3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33440" y="1471680"/>
            <a:ext cx="5781600" cy="266688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Luz Máxima y Dilu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rcRect l="0" t="0" r="0" b="53520"/>
          <a:stretch/>
        </p:blipFill>
        <p:spPr>
          <a:xfrm>
            <a:off x="609480" y="1676520"/>
            <a:ext cx="548640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D2F1C-58EB-4334-B85B-3FED1ADFA86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1874880"/>
            <a:ext cx="9144000" cy="407664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l Pilar Unitari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rcRect l="0" t="0" r="7142" b="0"/>
          <a:stretch/>
        </p:blipFill>
        <p:spPr>
          <a:xfrm>
            <a:off x="304920" y="1981080"/>
            <a:ext cx="8839080" cy="395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3AD88E-FC11-44BF-A50B-F1436254884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325440" y="1441440"/>
            <a:ext cx="8385120" cy="514512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Motivació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6" name=""/>
          <p:cNvSpPr/>
          <p:nvPr/>
        </p:nvSpPr>
        <p:spPr>
          <a:xfrm>
            <a:off x="307800" y="1378080"/>
            <a:ext cx="8385480" cy="52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192320" y="2905200"/>
            <a:ext cx="620640" cy="1084320"/>
          </a:xfrm>
          <a:prstGeom prst="rect">
            <a:avLst/>
          </a:prstGeom>
          <a:solidFill>
            <a:srgbClr val="99cc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7840" y="2889360"/>
            <a:ext cx="2138040" cy="158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09760" y="3987360"/>
            <a:ext cx="2092320" cy="18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2163600" y="130500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1" name=""/>
          <p:cNvSpPr/>
          <p:nvPr/>
        </p:nvSpPr>
        <p:spPr>
          <a:xfrm>
            <a:off x="1487520" y="2516040"/>
            <a:ext cx="0" cy="34164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1455840" y="4005360"/>
            <a:ext cx="0" cy="37296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254240" y="1908000"/>
                <a:ext cx="4604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282680" y="4370400"/>
                <a:ext cx="46188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197080" y="3137040"/>
                <a:ext cx="401760" cy="50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 flipV="1">
            <a:off x="1611360" y="3386160"/>
            <a:ext cx="511200" cy="10800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409680" y="4883040"/>
                <a:ext cx="72072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oc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28760" y="5516640"/>
                <a:ext cx="460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42800" y="6126120"/>
                <a:ext cx="40176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1425600" y="502596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presente en el macizo rocos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25600" y="5627520"/>
            <a:ext cx="2789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Campo de esfuerzos actuando sobre 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25600" y="6245280"/>
            <a:ext cx="278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imes New Roman"/>
              </a:rPr>
              <a:t>Resistencia del pil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40320" y="1395360"/>
            <a:ext cx="31680" cy="5222880"/>
          </a:xfrm>
          <a:prstGeom prst="line">
            <a:avLst/>
          </a:prstGeom>
          <a:ln w="316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5345280" y="2046240"/>
                <a:ext cx="11538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s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p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01520" y="142704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de Segur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9360" y="3317760"/>
            <a:ext cx="3519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Factor mayor a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La tendencia actual es calcular la confiabilidad del diseñ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5259240" y="4967280"/>
                <a:ext cx="210204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fσ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4975200" y="5595840"/>
            <a:ext cx="338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Aproximación probabilística al diseño de min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6E8F4A-FC8F-427A-92A7-DDC952F1F0B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1782720"/>
            <a:ext cx="8926560" cy="32544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76320" y="1905120"/>
            <a:ext cx="8762760" cy="297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F7849-6B8A-4964-BF22-2D6DC648320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Auxili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petir ejercici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n vez de usar GSI estimar el  RMR 7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a profundidad del cuerpo mineralizado varia entre 1000 a 1100 metr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el método de Hoek and Brown para estimar la resistencia de un pilar uni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Utilizar una formula de resistencia de pilar de Obert and Duval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Diseñar pilares rectangulares y mur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Realizar el diseño de la mina pensar en cuanto pilares se pueden introducir en el ancho del cuerpo mineralizado y en la corrid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38F15-4690-44CF-B431-3271C320056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171840" y="1294920"/>
            <a:ext cx="29718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 (Geologic Strength index), índice geológico de resistenc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ffffff"/>
                </a:solidFill>
                <a:latin typeface="Tahoma"/>
              </a:rPr>
              <a:t>GSI=RMR(76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219320" y="382680"/>
            <a:ext cx="4738680" cy="6475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F8CE0-3748-428D-9D03-363E6CC3F8E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03200" y="2571840"/>
            <a:ext cx="3828960" cy="3844800"/>
          </a:xfrm>
          <a:prstGeom prst="rect">
            <a:avLst/>
          </a:prstGeom>
          <a:solidFill>
            <a:srgbClr val="ffffff"/>
          </a:solidFill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ahoma"/>
              </a:rPr>
              <a:t>Criterio de Hoek and Brown (1980, 199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7960" y="1349280"/>
            <a:ext cx="4119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838080" y="2590920"/>
                <a:ext cx="3353040" cy="105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'</m:t>
                        </m:r>
                      </m:sup>
                    </m:sSubSup>
                    <m:r>
                      <m:t xml:space="preserve">+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f>
                              <m:num>
                                <m:sSubSup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  <m:sup>
                                    <m:r>
                                      <m:t xml:space="preserve">'</m:t>
                                    </m:r>
                                  </m:sup>
                                </m:sSubSup>
                              </m:num>
                              <m:den>
                                <m:sSub>
                                  <m:e>
                                    <m:r>
                                      <m:t xml:space="preserve">σ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s</m:t>
                            </m:r>
                          </m:e>
                        </m:d>
                      </m:e>
                      <m:sup>
                        <m:r>
                          <m:t xml:space="preserve">a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106" name="" descr=""/>
          <p:cNvPicPr/>
          <p:nvPr/>
        </p:nvPicPr>
        <p:blipFill>
          <a:blip r:embed="rId1"/>
          <a:srcRect l="0" t="0" r="5452" b="3527"/>
          <a:stretch/>
        </p:blipFill>
        <p:spPr>
          <a:xfrm>
            <a:off x="5410080" y="1143000"/>
            <a:ext cx="3156120" cy="5257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838080" y="3809880"/>
                <a:ext cx="360360" cy="38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1066680" y="4392720"/>
                <a:ext cx="19814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exp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  <m:r>
                              <m:t xml:space="preserve">−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0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8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380880" y="5486400"/>
                <a:ext cx="125748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GSI</m:t>
                                </m:r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00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2514600" y="5575320"/>
                <a:ext cx="9525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5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GSI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200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505800" y="5105520"/>
            <a:ext cx="9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gt;=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742840" y="5105520"/>
            <a:ext cx="84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S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3809880"/>
            <a:ext cx="316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istencia a la compresi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ón no confinada roca intacta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CF590-4267-40B8-AEFC-59CF2F327CC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Constante mi para Distintos Tipos de Roca Intacta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74760" y="1349280"/>
            <a:ext cx="83930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209680" y="1447920"/>
            <a:ext cx="5486400" cy="4905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D2485-6667-4BA7-87BA-AD9736B0AFB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ccffff"/>
                </a:solidFill>
                <a:latin typeface="Tahoma"/>
              </a:rPr>
              <a:t>Efecto de Escalamiento de Resistencia de Macizo Rocoso</a:t>
            </a:r>
            <a:endParaRPr b="0" lang="en-US" sz="40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493880" y="1349280"/>
            <a:ext cx="427356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Criterio de Hoek and Brown para granito de la mina Lac du Bonnet basado en resistencia de laboratorio, post falla y iniciación de fractura basado en monitoreo sísm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419580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33520" y="571500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ffffff"/>
                </a:solidFill>
                <a:latin typeface="Arial"/>
              </a:rPr>
              <a:t>Martin, 1994 The progressive fracture of Lac DuBonnet Granite , Int. J. Rock Mech. Min. Sci. 31 643-5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59DF0-15D4-40DD-AEB1-30AE5A2AB02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Diseño de Pila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404172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objetivo es maximizar la recuperación de la unidad básica de explotación a través de un diseño seguro y vi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El diseño de pilares debe obedecer a un análisis de las cargas o solicitaciones y la resistencia del macizo rocos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495680" y="1676520"/>
            <a:ext cx="4648320" cy="4286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E0E5F-1F1D-48ED-BFAB-F955C1D939E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ccffff"/>
                </a:solidFill>
                <a:latin typeface="Tahoma"/>
              </a:rPr>
              <a:t>Carga Sobre el Pila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74400" y="1349280"/>
            <a:ext cx="380844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Se produce re distribución de esfuerzos al realizar minería de la cámara de p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ahoma"/>
              </a:rPr>
              <a:t>Los esfuerzos tienden a ser mayores en las esquinas produciendo fallas por exceso de cizal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419720" y="2362320"/>
            <a:ext cx="4724280" cy="2415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AD20A-CC33-435A-8E32-0F9A998550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8T19:42:01Z</dcterms:created>
  <dc:creator>Julian Ortiz C.</dc:creator>
  <dc:description/>
  <dc:language>en-US</dc:language>
  <cp:lastModifiedBy>Enrique Rubio</cp:lastModifiedBy>
  <dcterms:modified xsi:type="dcterms:W3CDTF">2006-10-19T14:48:56Z</dcterms:modified>
  <cp:revision>242</cp:revision>
  <dc:subject/>
  <dc:title>Muestreo y Control de Calidad</dc:title>
</cp:coreProperties>
</file>