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wmf" ContentType="image/x-wmf"/>
  <Override PartName="/ppt/media/image20.jpeg" ContentType="image/jpeg"/>
  <Override PartName="/ppt/media/image15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60280" y="678960"/>
            <a:ext cx="453996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0B5D6E-3561-48C8-B25A-36BB66386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A98FD-E135-4629-8323-5B3C19D9A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CF442-9E9D-47CA-8F88-427999CDA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B96F4-AA09-48FB-BC46-97F92A430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EB19E-FCFA-45D2-92BD-956E4E2FA7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C6E36-5B1C-4C70-87B7-F685BCF115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AE5ED-F7FF-4E0D-B8C0-0CED6026C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AB937-370A-4004-BF8E-1649FFC70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79290-896F-4A64-9B6A-3A8C72465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4CDD2-1412-4F12-BD92-451751ACB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B6D8C-2B9F-4D52-A219-5ACD5FE993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F69DC-541B-473E-878A-876929A79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1A13E-BF08-4A07-9F82-81B331588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80160"/>
            <a:ext cx="5572080" cy="1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&lt;footer&gt;</a:t>
            </a: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4880" y="6555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ágina </a:t>
            </a:r>
            <a:fld id="{DBAF6AD9-1081-4D0F-BFB9-5B52C964FCD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 Mineros I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45212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nrique Rub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96960" y="3625920"/>
            <a:ext cx="5021280" cy="2774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6640" y="1984320"/>
            <a:ext cx="1751040" cy="758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arga Vertical Sobre 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396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rga litoesta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imación del esfuerzo induci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114800" cy="317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219320" y="2209680"/>
                <a:ext cx="129528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λ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5909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MP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914400" y="3733920"/>
                <a:ext cx="22003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990720" y="4876920"/>
                <a:ext cx="4856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914400" y="5410080"/>
                <a:ext cx="27432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Área Extraí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Área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1518840" y="5029200"/>
            <a:ext cx="20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arga litoestatica (MP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6640" y="5638680"/>
            <a:ext cx="18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Recuperación Mine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E0522-2FDA-4C2A-8DBE-5AD21CA7C8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03200" y="2805120"/>
            <a:ext cx="2619360" cy="1457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Área Tributare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114800" cy="317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85800" y="2895480"/>
                <a:ext cx="22096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37FBD-9856-471E-8995-2349E79E78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03360" y="2649600"/>
            <a:ext cx="960480" cy="11793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ffff"/>
                </a:solidFill>
                <a:latin typeface="Tahoma"/>
              </a:rPr>
              <a:t>Concentración de Esfuerzos como Función de la Recuperación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3162600" cy="434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828800" y="2743200"/>
                <a:ext cx="563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1BB0C-3D00-4A3B-B28B-F4E4317C44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Área Tributaria para Muros y Pilares Rectangular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45686" r="0" b="0"/>
          <a:stretch/>
        </p:blipFill>
        <p:spPr>
          <a:xfrm>
            <a:off x="952560" y="1397160"/>
            <a:ext cx="6202440" cy="512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C0C64-2252-464F-B152-BF7E1CA011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90400" y="2773440"/>
            <a:ext cx="1997280" cy="31161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Tracción Sobre el Techo del Caser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263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uz máxima para un estrato de ro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5029200" cy="2354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H="1" flipV="1">
            <a:off x="5715000" y="2819160"/>
            <a:ext cx="533520" cy="152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324480" y="2895480"/>
            <a:ext cx="685800" cy="76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019920" y="3048120"/>
                <a:ext cx="4600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4952880" y="3886200"/>
            <a:ext cx="26672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83200" y="4049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86600" y="23623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7238880" y="2514600"/>
                <a:ext cx="298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838080" y="2743200"/>
                <a:ext cx="13240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γ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4495680" y="22096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65880" y="23353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762120" y="3809880"/>
                <a:ext cx="15811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λL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4255560" y="5562720"/>
            <a:ext cx="361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E: Módulo de elasticidad del macizo roco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838080" y="4876920"/>
                <a:ext cx="114300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γL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343400" y="5867280"/>
                <a:ext cx="293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4640400" y="5867280"/>
            <a:ext cx="22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peso específico de la ro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4648320"/>
            <a:ext cx="51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El fallamiento del techo del caserón va a generalmente ser debido al esfuerzo de tracción y no de cor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3B098-1AE3-47B3-BE2F-805AB3C4FA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75040" y="4665600"/>
            <a:ext cx="1054080" cy="665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1240" y="5297400"/>
            <a:ext cx="2076480" cy="8683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31840" y="3440160"/>
            <a:ext cx="2076480" cy="8683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4480" y="1936800"/>
            <a:ext cx="2711520" cy="8524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Pilares Miner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574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Hardy and Agapito (197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bert and Duvall (1967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alamon and Munro (1967), Holland (196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7315200" y="289548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70720" y="2879640"/>
            <a:ext cx="21384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632640" y="3978360"/>
            <a:ext cx="2092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467480" y="175248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 flipV="1">
            <a:off x="7467480" y="2286000"/>
            <a:ext cx="152640" cy="9144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079640" y="2025720"/>
                <a:ext cx="21333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3579480" y="2209680"/>
            <a:ext cx="126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S, especim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P, Pil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239840" y="3505320"/>
                <a:ext cx="17874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077840" y="5334120"/>
                <a:ext cx="157788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β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114800" y="4800600"/>
                <a:ext cx="762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5021640" y="4952880"/>
            <a:ext cx="29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Medidos en pilares cúbicos W/H=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17305-1BFF-4A14-B9EF-F59694FC01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onstantes Utilizadas Para El Diseño de Pilar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389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B6A07-D166-4D66-BCAF-B8DE983BF1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29080" y="3652920"/>
            <a:ext cx="3440160" cy="1241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7560" y="4800600"/>
            <a:ext cx="2727360" cy="838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00160" y="2386080"/>
            <a:ext cx="184464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Ajustando el Valor de Resistencia d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calamiento del espéc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sistencia del pilar Obert and Duv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1600200"/>
            <a:ext cx="4038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implemente utilizar el criterio de Hoek and Br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76280" y="2465280"/>
                <a:ext cx="1295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62120" y="4780080"/>
                <a:ext cx="27748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410080" y="3733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62612-1FE0-473E-B648-E09BDF7B5A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tros Ábacos Empír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419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os gráficos se utilizan en roca competente y se refieren a casos estudiados en Norteamér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nsidera el hecho que los pilares mineros poseen algún grado de confinamiento el cual se estima con modelos numér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3181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029200" y="510552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Lunder y Pakalnis, 1997. Resistencia de pilar en función del esfuerzo normalizado vs la geometría del pilar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D1025-4CC6-4AC2-BB45-AD27A20513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90560" y="2401920"/>
            <a:ext cx="2635200" cy="7905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Resistencia como función del Confinamiento d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497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e define el confinamiento medio del pila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a formula nace del análisis de múltiples geometrías modeladas numéricamente y estimación del confinamiento al interior del pil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3079" t="0" r="0" b="0"/>
          <a:stretch/>
        </p:blipFill>
        <p:spPr>
          <a:xfrm>
            <a:off x="3886200" y="1828800"/>
            <a:ext cx="5257800" cy="349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852480" y="2496960"/>
                <a:ext cx="243828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5029200" y="5181480"/>
            <a:ext cx="320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Lunder y Pakalnis, 1997. Resistencia de pilar en función del esfuerzo normalizado vs el confinamiento medio normaliz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1677B-CFBB-403B-BA2A-D2C2144910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991040" y="1255680"/>
            <a:ext cx="4152960" cy="528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37280" y="1363680"/>
            <a:ext cx="390672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Motivación: Necesario para el Diseñ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6280" y="1692360"/>
            <a:ext cx="4646880" cy="3097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 flipV="1">
            <a:off x="2959200" y="3193920"/>
            <a:ext cx="2325600" cy="24624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21440" y="28908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76960" y="2874960"/>
            <a:ext cx="21384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438880" y="3973680"/>
            <a:ext cx="2092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093080" y="12906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416640" y="2502000"/>
            <a:ext cx="0" cy="34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384960" y="39909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183360" y="1893960"/>
                <a:ext cx="4604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211800" y="4356000"/>
                <a:ext cx="4618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126200" y="31226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 flipV="1">
            <a:off x="6540480" y="33717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338800" y="4869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357880" y="5502240"/>
                <a:ext cx="4604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372280" y="6111720"/>
                <a:ext cx="4014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354720" y="50115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54720" y="561348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54720" y="627696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74037-1E23-4537-B48A-9EC1C1C08E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983040" y="3716280"/>
            <a:ext cx="516096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83040" y="2076480"/>
            <a:ext cx="516096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Pilares Para Roca Competent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652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Pakalnis Y Lunde (1997) proponen una relación para estimar la resistencia del pilar considerando el confinamiento medio de los pila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146480" y="2133720"/>
                <a:ext cx="49975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UC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267080" y="3962520"/>
                <a:ext cx="48592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v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/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v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BE0DA-BBDB-486D-93CD-A9AD5CAB34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 of Safe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263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100% de los pilares diseñados con un FS mayor 1.6 se ha mantenido est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a relación corresponde a la experiencia de 1 mina, cada operación debería tener sus propios estándar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11660" r="0" b="1189"/>
          <a:stretch/>
        </p:blipFill>
        <p:spPr>
          <a:xfrm>
            <a:off x="3657600" y="1981080"/>
            <a:ext cx="5486400" cy="3241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486400" y="52578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Retro-análisis de pilares de minas de carbón Sudafricanas, Salamon y Munro (1967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E574F-4740-49B7-A3DB-E1BF9BDD0B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a Importancia de W/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esbeltez del pilar define el grado de confinamiento de es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ara pilares con relaciones W/H menor a 4 se produce el fenómeno de relajación post falla (strain softenning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e ábaco es fundamental para entender el estallido de roca en minería profun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0" t="0" r="5086" b="1693"/>
          <a:stretch/>
        </p:blipFill>
        <p:spPr>
          <a:xfrm>
            <a:off x="4724280" y="1219320"/>
            <a:ext cx="3861000" cy="4419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876920" y="5791320"/>
            <a:ext cx="396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Das, 1986. Curvas de esfuerzo deformación completas para testigo de pilares de carbón. Modelamiento de relajación post fal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E636E-887B-4CD5-B08D-45BBC0776C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jemplos de Diseño Minas de Carbón US y Canadá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4430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DBA51-E475-4D63-9A3C-DD754CB85E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ffff"/>
                </a:solidFill>
                <a:latin typeface="Tahoma"/>
              </a:rPr>
              <a:t>Ejemplos de Diseño de Minas de R&amp;P en Yacimientos Metálico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686800" cy="1824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F2E5F-3226-4CFA-906F-23E0D595A4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ffff"/>
                </a:solidFill>
                <a:latin typeface="Tahoma"/>
              </a:rPr>
              <a:t>Ejemplos de Diseño de R&amp;P en Yacimientos No Metalico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771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3CAA8-A2E7-47A9-87F2-BE09D5AF79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159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iseñar los caserones y pilares para un yacimiento mantiforme de 10m de potencia que se encuentra a una profundidad de 200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s características de la roca de caja y mineral se presentan a continua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E5A18-34A5-421C-9E78-64136516B21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at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57200" y="1295280"/>
          <a:ext cx="8229600" cy="5156280"/>
        </p:xfrm>
        <a:graphic>
          <a:graphicData uri="http://schemas.openxmlformats.org/drawingml/2006/table">
            <a:tbl>
              <a:tblPr/>
              <a:tblGrid>
                <a:gridCol w="2978280"/>
                <a:gridCol w="250812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c Caj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c M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so (KN/m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ic angl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dimentaria alter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b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tructur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cturado en bloques, calidad de estructuras regu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cturado en bloques, calidad de estructuras bue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G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01E11-EC1C-45B5-AD63-3670915B7E0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33440" y="1471680"/>
            <a:ext cx="5781600" cy="2666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Luz Máxima y Dilu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0" t="0" r="0" b="53520"/>
          <a:stretch/>
        </p:blipFill>
        <p:spPr>
          <a:xfrm>
            <a:off x="609480" y="1676520"/>
            <a:ext cx="548640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45C98-A29C-47CC-9628-7ACB29E167E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1874880"/>
            <a:ext cx="9144000" cy="40766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l Pilar Unitari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0" t="0" r="7142" b="0"/>
          <a:stretch/>
        </p:blipFill>
        <p:spPr>
          <a:xfrm>
            <a:off x="304920" y="1981080"/>
            <a:ext cx="8839080" cy="395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D32E6-1097-4119-BF15-B20DF6E14F6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5440" y="1441440"/>
            <a:ext cx="8385120" cy="51451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1378080"/>
            <a:ext cx="8385480" cy="52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92320" y="29052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7840" y="2889360"/>
            <a:ext cx="213804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09760" y="3987360"/>
            <a:ext cx="209232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163600" y="1305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487520" y="2516040"/>
            <a:ext cx="0" cy="34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455840" y="40053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254240" y="1908000"/>
                <a:ext cx="4604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282680" y="4370400"/>
                <a:ext cx="4618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197080" y="31370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 flipV="1">
            <a:off x="1611360" y="33861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09680" y="488304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28760" y="5516640"/>
                <a:ext cx="4600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42800" y="612612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1425600" y="50259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25600" y="562752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25600" y="624528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40320" y="1395360"/>
            <a:ext cx="31680" cy="52228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345280" y="2046240"/>
                <a:ext cx="11538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4601520" y="142704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de Segur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9360" y="3317760"/>
            <a:ext cx="35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mayor 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tendencia actual es calcular la confiabil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259240" y="4967280"/>
                <a:ext cx="21020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4975200" y="5595840"/>
            <a:ext cx="33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Aproximación probabilística al diseño de min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E545E-98AA-49B6-BA65-D3986A1FA9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1782720"/>
            <a:ext cx="8926560" cy="32544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8762760" cy="297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234B7-8A93-4C9C-84FE-16CE850D0C7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xili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petir ejerci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 vez de usar GSI estimar el  RMR 7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profundidad del cuerpo mineralizado varia entre 1000 a 1100 met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tilizar el método de Hoek and Brown para estimar la resistencia de un pilar uni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tilizar una formula de resistencia de pilar de Obert and Duva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señar pilares rectangulares y mu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alizar el diseño de la mina pensar en cuanto pilares se pueden introducir en el ancho del cuerpo mineralizado y en la corri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BF36B-825E-4EE4-9ECC-889BE8918A6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71840" y="1294920"/>
            <a:ext cx="2971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GSI (Geologic Strength index), índice geológico de resistenc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GSI=RMR(76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19320" y="382680"/>
            <a:ext cx="4738680" cy="647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8890D-1124-4307-AC7C-0CC05158E9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03200" y="2571840"/>
            <a:ext cx="3828960" cy="384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Macizo Rocos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riterio de Hoek and Brown (1980, 199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38080" y="2590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06" name="" descr=""/>
          <p:cNvPicPr/>
          <p:nvPr/>
        </p:nvPicPr>
        <p:blipFill>
          <a:blip r:embed="rId1"/>
          <a:srcRect l="0" t="0" r="5452" b="3527"/>
          <a:stretch/>
        </p:blipFill>
        <p:spPr>
          <a:xfrm>
            <a:off x="5410080" y="1143000"/>
            <a:ext cx="3156120" cy="525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838080" y="3809880"/>
                <a:ext cx="360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066680" y="4392720"/>
                <a:ext cx="19814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80880" y="5486400"/>
                <a:ext cx="1257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S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14600" y="5575320"/>
                <a:ext cx="95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505800" y="510552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=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2840" y="510552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3809880"/>
            <a:ext cx="316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encia a la compresi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ón no confinada roca intac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7DE8D-19A7-4C49-9B65-872F8A3493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onstante mi para Distintos Tipos de Roca Intact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486400" cy="490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1F607-E21C-4E28-AD35-6BEE526ADD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fecto de Escalamiento de Resistencia de Macizo Rocos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493880" y="1349280"/>
            <a:ext cx="427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riterio de Hoek and Brown para granito de la mina Lac du Bonnet basado en resistencia de laboratorio, post falla y iniciación de fractura basado en monitoreo sísm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195800" cy="4343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520" y="5715000"/>
            <a:ext cx="388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Martin, 1994 The progressive fracture of Lac DuBonnet Granite , Int. J. Rock Mech. Min. Sci. 31 643-5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E3896-3F18-441F-B6B8-F01EEE0CC2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041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objetivo es maximizar la recuperación de la unidad básica de explotación a través de un diseño seguro y vi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diseño de pilares debe obedecer a un análisis de las cargas o solicitaciones y la resistencia del macizo roc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648320" cy="42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35D72-88B7-4A24-B454-990961B903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Carga Sobre el Pil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3808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produce re distribución de esfuerzos al realizar minería de la cámara de produ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os esfuerzos tienden a ser mayores en las esquinas produciendo fallas por exceso de cizal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4724280" cy="24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E82D5-0CB2-4561-9847-35BB9D65FD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Enrique Rubio</cp:lastModifiedBy>
  <dcterms:modified xsi:type="dcterms:W3CDTF">2006-10-19T14:48:56Z</dcterms:modified>
  <cp:revision>242</cp:revision>
  <dc:subject/>
  <dc:title>Muestreo y Control de Calidad</dc:title>
</cp:coreProperties>
</file>