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CA6541-5DB2-4126-94D2-59214981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F212-F9AB-445D-8F3A-589B23C06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3015-17A4-4D4B-AD9A-30C6342B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69B3-82C2-4708-9358-9C1B9E6B6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984B-FD2D-4B78-87ED-B6D5BE8C2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6E65-67BE-4FED-A1B2-21A2EF022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AE88-26AC-4B0F-99D1-4F4303F30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BFF7-F69A-4D93-BC0E-263E5D28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BC79-B84C-4C07-A502-8F23DDA20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2493-BA64-4495-8D95-466E12D40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DBB1-8CC9-4E3F-AD5E-D62CEDD43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9E1F-8613-4DF3-B237-479052170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A767-3ECF-4615-B7BD-848780FA3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9C46230A-45CE-48A3-8540-1D8D1C475E9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4A28-50E2-48A6-BA61-E388CDC36A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2125-9856-4D6F-A192-DB50A3E143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B13D-DF6F-4241-A716-6A3C656FFA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13D3-9C06-4F1E-A2B6-8DE612EDD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6E19-4177-4B12-AA60-30E57DACE9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4978-D5B6-49C5-9306-BD92FC6140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86DF-3507-464C-B396-88774A84D2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0FDB-834E-419A-A28B-B7AC8781AE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2668-80F3-4958-B726-88250599F7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A557-6411-4CC9-BC06-8C1E57E4B6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16D9-D222-4D41-9D30-A66795EE9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30C5-4865-41DE-810C-4F72CF061D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84A8-7D04-42EE-8DB8-C4971085E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BD29-4943-442F-A470-5B6AFBBBD8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B038-5C22-4C36-B85F-2CF044CCFD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984E-79C5-4D1E-9809-9033B86FB5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081B-EFE5-4080-8944-8EC94616EA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330D-FF0A-4924-A270-41CCC711ED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32B1-A170-4164-B3AE-EAF576B6D4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2DBB-7DD0-4260-A4EB-413699BE1E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049F-0F58-4192-9BC9-8CE72789B6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357B-98DC-4598-85FA-CF7CF88F3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A233-6E52-4021-A59D-5A8968D5B3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AAB6-48CE-4E80-8496-6DB6A490E8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A489-538F-4CB0-9B3F-0469B596E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0B57-C45C-482B-9F5F-CA1FC095A1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C900-AD58-4F2F-88C6-35F6F4779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DD6F-A346-43E2-A096-6F4CE49DF6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8850-F6B0-475A-B539-76114EF25D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3EC6-7C95-4999-BFFA-F2FF30DA6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10-19T14:48:56Z</dcterms:modified>
  <cp:revision>242</cp:revision>
  <dc:subject/>
  <dc:title>Muestreo y Control de Calidad</dc:title>
</cp:coreProperties>
</file>