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8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5.wmf" ContentType="image/x-wmf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wmf" ContentType="image/x-wmf"/>
  <Override PartName="/ppt/media/image10.jpeg" ContentType="image/jpeg"/>
  <Override PartName="/ppt/media/image14.png" ContentType="image/png"/>
  <Override PartName="/ppt/media/image13.png" ContentType="image/png"/>
  <Override PartName="/ppt/media/image36.wmf" ContentType="image/x-wmf"/>
  <Override PartName="/ppt/media/image16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9.jpeg" ContentType="image/jpeg"/>
  <Override PartName="/ppt/media/image3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E41753-A88B-4144-BD5B-3E0B2853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1565-EBE2-434B-A9B8-74C9A6A4C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F541-4D32-4F98-9C18-0CFFF4729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D829-3553-4D5B-B708-DCFA5E076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FD27-C9DA-4FA6-9B52-3E1269CC2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73F3-29A1-4B57-B53D-E401C1938A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E6FD-1100-4943-B8A6-49D8FCD2A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38B51-AB4C-491F-B0AC-25A76A3BE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F246-B76B-44C0-9C9D-13B1BEAC4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645B-FB8C-4C70-BAA4-CE9BC143C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B19C-FC2A-4B6D-BA3D-04E6D0D90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99C4-F752-48CC-AE3A-65C1951B0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40DF-8AB8-436B-8951-7C9B5ED02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4AB86C6F-348E-4B7B-A3AE-E0A1CEEC3D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4520" y="2587320"/>
            <a:ext cx="746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: Métodos de Explotación Subterráne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ngulo de Fracturamiento y Esfuerzo Princip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lación entre la magnitud del esfuerzo principal y el ángulo de fractur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a relación permite entender el modo de fa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plano de mayor debilidad se produce 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86480" y="1230480"/>
            <a:ext cx="2024280" cy="500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51120" y="5931000"/>
                <a:ext cx="11383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286240" y="3984480"/>
            <a:ext cx="766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alla en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040" y="4308480"/>
            <a:ext cx="804960" cy="169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7B84-4DE0-43E3-A363-BA98EF1551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lanos de fracturamiento vs Esfuerzo Deviator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esfuerzo deviatorico como factor causal de la falla para diferentes niveles de confi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onath, 197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cLamore and Gray, 19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2800" y="1365120"/>
            <a:ext cx="3286080" cy="4581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4E81-4AAF-4FD7-83C0-76F0B8FFD6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riterios de diseño subterráne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143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fuer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uantificar el daño y diseñar so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62480" y="1690560"/>
            <a:ext cx="568152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7BF1-BAC8-41CA-8CFC-0284E25C7D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ución de Kirs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4400" y="2171520"/>
            <a:ext cx="41194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8840" y="1522440"/>
            <a:ext cx="3620880" cy="344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512400" y="229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90120" y="295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31760" y="4408560"/>
                <a:ext cx="13510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039680" y="2905200"/>
                <a:ext cx="14288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EC20-AB37-4A09-AC10-6625180E57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jemplo de Kirsc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2279520"/>
            <a:ext cx="41194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la condición de resistencia 16 MPa a la compresión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-26, 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impone condición de resistencia a la tracción to=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=79, 10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84760" y="1905120"/>
            <a:ext cx="3695760" cy="3600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0880" y="1641600"/>
                <a:ext cx="2955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θ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FF6F-F0A4-41CF-BA30-F857E1DBD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ño y sismic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utiliza un modelo numérico para estimar contorno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grafica el esfuerzo deviator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compara con una envolvente de falla del sistema minero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ahoma"/>
              </a:rPr>
              <a:t>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o último se obtiene con microsism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89520" y="3875040"/>
            <a:ext cx="2909880" cy="26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102360" y="1120680"/>
            <a:ext cx="2500200" cy="25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0A80-ADB0-40C0-B7A1-CF5CB6A7A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FE20-A231-4238-9D55-563DA9CE69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777E-06B4-4B15-A910-1274BD1092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1F04-E924-4E3C-9A98-17F2191A24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xcavaciones Subterráne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87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20A2-A3E3-4C23-98DB-8AB9CCD8D0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1BEF-29C4-4D7D-9F75-24CDFB9535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F82D-F8A1-4E17-90EC-1DB1FE7A3C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4FC1-4BA4-4628-A1EA-67F3F87B8F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350A-8796-4360-ADC2-BDE481E795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56D1-5916-402B-865B-BEB334E642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31FD-EEB6-4EC0-96C0-08B46F3EC1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441A-4128-4C7B-8B66-189B58A11B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59AA0-2DB3-4A8D-B52D-C1A891C4CC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4F70-E6FE-49FF-BC24-F552D82D65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roceso de Escal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2133720" cy="134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flipH="1" rot="16200000">
            <a:off x="468360" y="1626480"/>
            <a:ext cx="2128680" cy="22287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505320" y="4343400"/>
            <a:ext cx="1014840" cy="1600200"/>
            <a:chOff x="3505320" y="4343400"/>
            <a:chExt cx="1014840" cy="1600200"/>
          </a:xfrm>
        </p:grpSpPr>
        <p:sp>
          <p:nvSpPr>
            <p:cNvPr id="58" name=""/>
            <p:cNvSpPr/>
            <p:nvPr/>
          </p:nvSpPr>
          <p:spPr>
            <a:xfrm>
              <a:off x="3505320" y="4800600"/>
              <a:ext cx="228600" cy="6858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19440" y="4343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638520" y="5486400"/>
              <a:ext cx="0" cy="4572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64680" y="49528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UC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15040" y="1676520"/>
            <a:ext cx="3163680" cy="237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69200" y="5029200"/>
            <a:ext cx="2652480" cy="7642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aracterización d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Macizo Rocos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9080" y="16765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istencia 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cizo Rocos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905120"/>
            <a:ext cx="1524240" cy="83808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6" idx="1"/>
            <a:endCxn id="55" idx="0"/>
          </p:cNvCxnSpPr>
          <p:nvPr/>
        </p:nvCxnSpPr>
        <p:spPr>
          <a:xfrm rot="5400000">
            <a:off x="1182600" y="4145400"/>
            <a:ext cx="691200" cy="10440"/>
          </a:xfrm>
          <a:prstGeom prst="bentConnector3">
            <a:avLst>
              <a:gd name="adj1" fmla="val 4986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7" name=""/>
          <p:cNvCxnSpPr>
            <a:stCxn id="55" idx="3"/>
            <a:endCxn id="58" idx="1"/>
          </p:cNvCxnSpPr>
          <p:nvPr/>
        </p:nvCxnSpPr>
        <p:spPr>
          <a:xfrm flipV="1">
            <a:off x="2590920" y="5143320"/>
            <a:ext cx="915120" cy="24480"/>
          </a:xfrm>
          <a:prstGeom prst="straightConnector1">
            <a:avLst/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8" name=""/>
          <p:cNvCxnSpPr>
            <a:stCxn id="60" idx="0"/>
            <a:endCxn id="63" idx="2"/>
          </p:cNvCxnSpPr>
          <p:nvPr/>
        </p:nvCxnSpPr>
        <p:spPr>
          <a:xfrm flipH="1" flipV="1" rot="5400000">
            <a:off x="5194800" y="4242600"/>
            <a:ext cx="143640" cy="3258360"/>
          </a:xfrm>
          <a:prstGeom prst="bentConnector3">
            <a:avLst>
              <a:gd name="adj1" fmla="val -59798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cxnSp>
        <p:nvCxnSpPr>
          <p:cNvPr id="69" name=""/>
          <p:cNvCxnSpPr>
            <a:stCxn id="63" idx="0"/>
            <a:endCxn id="62" idx="2"/>
          </p:cNvCxnSpPr>
          <p:nvPr/>
        </p:nvCxnSpPr>
        <p:spPr>
          <a:xfrm flipH="1" flipV="1" rot="5400000">
            <a:off x="6406920" y="4538160"/>
            <a:ext cx="980280" cy="2160"/>
          </a:xfrm>
          <a:prstGeom prst="bentConnector3">
            <a:avLst>
              <a:gd name="adj1" fmla="val 49889"/>
            </a:avLst>
          </a:prstGeom>
          <a:ln w="9360">
            <a:solidFill>
              <a:srgbClr val="ccffff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07E3-0646-4F54-B6AA-21952BCB0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AA79-5B2F-486B-9EB6-8AC708DA53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18A9-A91E-4B98-92B6-886E1764CB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7E85-F982-494F-B0C0-FDF6E6C3CD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AB18-FF33-4321-AA3F-FAAC1D19DD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EBA4-74B5-4EE0-A92B-A1CB470597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267E-6282-436C-BED3-6D5A2A8A3E9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46D4-9401-47EE-99AA-019E105989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0CB2-5736-45CA-B127-B460BFE6FB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61C8-E5AF-4A36-BBE1-265B536B92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9FFA-A8A0-430E-B237-3CB7A0E5A0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acizo Rocoso (Hoek and Brown, 1980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65360" y="1419120"/>
            <a:ext cx="6354720" cy="43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80BC-6C5A-41B2-A613-B1F5C35717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C0CF-863F-4180-9347-5DD52BDBE8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A7B4-FC10-449A-B9A1-4DA9608AB5C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818F-9733-449B-A566-1EC5472F409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0C21-1E0B-4504-9E8A-8BC9758E0E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3611-2335-4592-A91C-7BEFB17D8D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09CC-2ED1-47FB-AD55-89DAA34ABF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BF06-13FB-4845-91C0-AC0A1CBF59C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Modelos Constitutivos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mayor confin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máxima aum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 frágil a dúctil, comportamiento plá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residual aumenta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4632480" cy="3173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18160" y="5603760"/>
            <a:ext cx="261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Ensayos triaxiales en Marble Tenesse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Wawersik and Fairhurst, 19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AC7A-50CF-406E-B69B-DCC0937D6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0D8C-F783-4360-B636-E81FDF88AF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4162-75E6-4BE7-B576-2F3E069BE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quivalencia Hoek and Brown Mohr Coulom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Hoek and Brown envolvente pa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C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100 M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=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SI=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envolvente de falla de H-B es no lineal, por lo tanto se debe resolver para cada ca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6520" y="1349280"/>
            <a:ext cx="4121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7018" t="0" r="0" b="0"/>
          <a:stretch/>
        </p:blipFill>
        <p:spPr>
          <a:xfrm>
            <a:off x="4937040" y="1422360"/>
            <a:ext cx="3702240" cy="446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010120" y="2805120"/>
                <a:ext cx="2620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011320" y="5487840"/>
                <a:ext cx="749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5564-6D88-46C9-B971-893E0D62F1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Algunas Relaciones de Interé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1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ahoma"/>
              </a:rPr>
              <a:t>Módulo de elasticidad del macizo rocoso en función de los índice de calidad de macizo roco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5400720" cy="38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CDF7-E6A6-4750-8501-7C7920D005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06-13T14:27:04Z</dcterms:modified>
  <cp:revision>238</cp:revision>
  <dc:subject/>
  <dc:title>Muestreo y Control de Calidad</dc:title>
</cp:coreProperties>
</file>