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8.jpeg" ContentType="image/jpeg"/>
  <Override PartName="/ppt/media/image5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5.wmf" ContentType="image/x-wmf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06A86A-BE41-4A7B-844D-A3A49C654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20F1-EA29-46A2-BDFB-F0F14F9C4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1B3B-6C1B-4C72-8D97-E70673E73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3FB1-45C0-4319-8FC5-724FB96E7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0F04-742D-423D-977F-12A0AA8F1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8BFB-B9D4-4DF1-8E6E-DC65B814E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0F0B-9B00-45C6-8783-6B1D5889A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DCC2-A233-4929-A42D-A16C83BAB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996A-DD97-4BFC-BD55-207289292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FADC-0347-438D-9F9B-C9F08085D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46A2-F1FA-4B0D-AA56-B567C65B9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5757-6153-4CF6-94D2-189D41B30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FE07-4EFD-40F0-B5CB-61D3D58F1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7118212E-F763-474C-8470-A2804647C2B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4520" y="2587320"/>
            <a:ext cx="74674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: Métodos de Explotación Subterráne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ngulo de Fracturamiento y Esfuerzo Princip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lación entre la magnitud del esfuerzo principal y el ángulo de fractur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a relación permite entender el modo de fa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plano de mayor debilidad se produc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86480" y="1230480"/>
            <a:ext cx="2024280" cy="500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51120" y="5931000"/>
                <a:ext cx="11383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286240" y="3984480"/>
            <a:ext cx="766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alla en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040" y="4308480"/>
            <a:ext cx="804960" cy="16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5F28-511D-4050-B4CA-791389FC1F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lanos de fracturamiento vs Esfuerzo Deviator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fuerzo deviatorico como factor causal de la falla para diferentes niveles de confi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nath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cLamore and Gray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2800" y="1365120"/>
            <a:ext cx="3286080" cy="4581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D594-2DA1-42D4-8AA7-058C12D481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riterios de diseño subterráne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143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fuer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antificar el daño y diseñar so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62480" y="1690560"/>
            <a:ext cx="568152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0A49-9120-4DBC-A1C9-C5CAB59BE8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ción de Kirs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4400" y="2171520"/>
            <a:ext cx="4119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8840" y="1522440"/>
            <a:ext cx="3620880" cy="344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512400" y="229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90120" y="295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31760" y="4408560"/>
                <a:ext cx="1351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39680" y="2905200"/>
                <a:ext cx="142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355A-D850-49AC-89CE-42BB902183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de Kirs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2279520"/>
            <a:ext cx="41194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la condición de resistencia 16 MPa a la compresión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-26,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condición de resistencia a la tracción to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79,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84760" y="1905120"/>
            <a:ext cx="36957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836C-ABA0-4BE6-A876-8015287101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ño y sismic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utiliza un modelo numérico para estimar contorno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grafica el esfuerzo deviato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compara con una envolvente de falla del sistema minero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 último se obtiene con microsis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89520" y="3875040"/>
            <a:ext cx="29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02360" y="1120680"/>
            <a:ext cx="250020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F909-50D1-43F0-9A01-E657DE0C47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2DD5-B615-456C-B827-6D816E3B2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71F0-96C3-4122-9EAF-4982839122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8CC2-D170-4053-A5D5-9AD0710F11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xcavaciones Subterráne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9DC0-2074-4B3C-A15D-9438864714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C146-CDFE-4914-8641-3FD0BBFC4C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610B-1841-496B-AF10-8B6CB6CD84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92BC-3DE5-47EC-AE1F-EC31992695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D5B7-721C-4FE1-A0D0-C3E6A5D149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174B-2AFC-41B0-B318-F0B755E64A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678B-0C95-4842-BA48-7B3DA3BFC9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F9D4-5B8E-48E8-8723-DD9A14B7C1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CC85-CB75-4D71-853E-C120B5D165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90400" y="2773440"/>
            <a:ext cx="199728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70DD-5865-4DD6-BB91-653834D874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roceso de Escal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58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6" idx="1"/>
            <a:endCxn id="55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7" name=""/>
          <p:cNvCxnSpPr>
            <a:stCxn id="55" idx="3"/>
            <a:endCxn id="58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8" name=""/>
          <p:cNvCxnSpPr>
            <a:stCxn id="60" idx="0"/>
            <a:endCxn id="63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9" name=""/>
          <p:cNvCxnSpPr>
            <a:stCxn id="63" idx="0"/>
            <a:endCxn id="62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0B84-3E0F-43DE-BD30-C7A5065C6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79640" y="2025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F6AE-B0C6-4B97-9E1A-ACA1CF5B4C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43F4-847E-49F9-AEE1-7510396CF3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562D-ABF7-4A94-BDC2-18F47D0D9F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58C7-E6AC-4EBB-8FDA-459AA06FD1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FE2C-5979-46FC-B033-D145DAD134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99AA-6D0D-4EB5-9BD3-9816394F27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974E-DA55-40C4-A644-82B85AF386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012C-280F-42C2-B70A-8354A5942B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88D1-60F0-4EC2-BCE0-EF7D388E7D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DF17-50FC-4AB2-9FE3-97B4131EF8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acizo Rocoso (Hoek and Brown, 1980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65360" y="1419120"/>
            <a:ext cx="6354720" cy="43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BD7A-CB39-4B7D-B25B-61D4A3869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152A-82A4-45CC-AF24-2184A2AB41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3B43-FC69-4DA8-B953-6FA6A7DD31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E5C1-7583-4497-8887-6317C8E776D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0" t="0" r="0" b="53520"/>
          <a:stretch/>
        </p:blipFill>
        <p:spPr>
          <a:xfrm>
            <a:off x="609480" y="1676520"/>
            <a:ext cx="5486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7C04-8FF6-413B-A25D-3A06AA4EBF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F5EF-0E39-48EF-A7F7-C976D529E1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782720"/>
            <a:ext cx="892656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58F0-DB18-40CE-A1C8-B388D1683E8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B2FA-99BD-4E77-82EA-BDAE6A27E21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Modelos Constitutivos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mayor confin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máxima aum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frágil a dúctil, comportamiento plá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residual aumenta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4632480" cy="3173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18160" y="560376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Ensayos triaxiales en Marble Tenesse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Wawersik and Fairhurst, 19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705E-B9F2-4825-95AF-EF8AD9FB3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B4B8-EA28-4489-8060-D03895261F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22BB-6905-41FA-863E-31D0D7C369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quivalencia Hoek and Brown Mohr Coulom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oek and Brown envolvente pa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100 M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=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SI=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envolvente de falla de H-B es no lineal, por lo tanto se debe resolver para cada ca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7018" t="0" r="0" b="0"/>
          <a:stretch/>
        </p:blipFill>
        <p:spPr>
          <a:xfrm>
            <a:off x="4937040" y="1422360"/>
            <a:ext cx="3702240" cy="44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010120" y="2805120"/>
                <a:ext cx="262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011320" y="5487840"/>
                <a:ext cx="749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00BA-4339-4666-9A79-05F8AF51FA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Algunas Relaciones de Interé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1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ahoma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F4C0-D85B-4EA5-BFBA-DE56CE716C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Enrique Rubio</cp:lastModifiedBy>
  <dcterms:modified xsi:type="dcterms:W3CDTF">2006-06-13T14:27:04Z</dcterms:modified>
  <cp:revision>238</cp:revision>
  <dc:subject/>
  <dc:title>Muestreo y Control de Calidad</dc:title>
</cp:coreProperties>
</file>