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8.jpeg" ContentType="image/jpeg"/>
  <Override PartName="/ppt/media/image5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35.wmf" ContentType="image/x-wmf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wmf" ContentType="image/x-wmf"/>
  <Override PartName="/ppt/media/image10.jpeg" ContentType="image/jpeg"/>
  <Override PartName="/ppt/media/image14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29.jpeg" ContentType="image/jpeg"/>
  <Override PartName="/ppt/media/image3.wmf" ContentType="image/x-wmf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4C4BCD-CE39-4AE5-A87F-0781DE2E3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3466-5FF3-47E9-8C06-2AAD1F413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46CE-3A3B-4C17-9CFD-16AFB5C55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EB161-A8F7-4FDC-8D1C-2F1CAC2A9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105E-04CB-43DC-8DEC-23D483B311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F603-7E6B-4AB9-9B0E-8A6D6AFB15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19938-F522-4A3A-8CDF-E48F26776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4076-3CE9-4B0A-BBA5-23D6F7F8E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88D8-63CD-4EC6-8427-E95660E49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FA7A-2A17-43BF-9BF3-634941ABD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27AD-FDF0-468F-A535-6977C5B25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4F2E5-9021-4401-ADDD-060156144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E58C-BCFE-4B87-B90D-36FD0407E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F48ADFEF-6FD2-4DD8-924D-BEF3CB72502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4520" y="2587320"/>
            <a:ext cx="7467480" cy="15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Introducción: Métodos de Explotación Subterráne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521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nrique Rub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ngulo de Fracturamiento y Esfuerzo Principal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lación entre la magnitud del esfuerzo principal y el ángulo de fractur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a relación permite entender el modo de fa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cizo roc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ruc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plano de mayor debilidad se produce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86480" y="1230480"/>
            <a:ext cx="2024280" cy="5002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851120" y="5931000"/>
                <a:ext cx="11383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286240" y="3984480"/>
            <a:ext cx="7668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alla en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040" y="4308480"/>
            <a:ext cx="804960" cy="169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24BC-E4CA-4EF0-9D06-324AC354B2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Planos de fracturamiento vs Esfuerzo Deviator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esfuerzo deviatorico como factor causal de la falla para diferentes niveles de confin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onath, 197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cLamore and Gray, 19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6520" y="1349280"/>
            <a:ext cx="4121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2800" y="1365120"/>
            <a:ext cx="3286080" cy="4581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1CD1-104D-4682-B6F9-D66B153EEA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riterios de diseño subterráne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143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fuerz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ruct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uantificar el daño y diseñar so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62480" y="1690560"/>
            <a:ext cx="568152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54B07-73CD-4F49-8869-D0C4630C17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lución de Kirsc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4400" y="2171520"/>
            <a:ext cx="4119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6520" y="1349280"/>
            <a:ext cx="4121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38840" y="1522440"/>
            <a:ext cx="3620880" cy="3444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512400" y="229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90120" y="295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50880" y="1641600"/>
                <a:ext cx="2955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θ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31760" y="4408560"/>
                <a:ext cx="1351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039680" y="2905200"/>
                <a:ext cx="14288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27D6-D87B-4B3B-BA4D-54D49AEAA6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 de Kirsc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400" y="2279520"/>
            <a:ext cx="411948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impone la condición de resistencia 16 MPa a la compresión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ci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=-26, 2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impone condición de resistencia a la tracción to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=79, 1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84760" y="1905120"/>
            <a:ext cx="3695760" cy="36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0880" y="1641600"/>
                <a:ext cx="2955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θ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7206-767D-47FB-8DA6-C9BA8478E3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</a:t>
            </a: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ño y sismic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utiliza un modelo numérico para estimar contornos de esfuer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grafica el esfuerzo deviator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compara con una envolvente de falla del sistema minero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o último se obtiene con microsism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89520" y="3875040"/>
            <a:ext cx="2909880" cy="26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102360" y="1120680"/>
            <a:ext cx="2500200" cy="25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2EB1-3CE4-4FAC-92F2-2178C5842C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 Mineros 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991040" y="1255680"/>
            <a:ext cx="4152960" cy="528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otivación: Necesario para el Diseñ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183360" y="189396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211800" y="4356000"/>
                <a:ext cx="461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357880" y="550224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61A9-CAC9-49BC-962C-F38F554DF7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5440" y="1441440"/>
            <a:ext cx="8385120" cy="5145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54240" y="1908000"/>
                <a:ext cx="460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282680" y="4370400"/>
                <a:ext cx="461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28760" y="5516640"/>
                <a:ext cx="46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A274-9AC1-4924-A2F5-7DD4F7F5A3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171840" y="12949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 (Geologic Strength index), índice geológico de resiste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=RMR(76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219320" y="382680"/>
            <a:ext cx="4738680" cy="64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774A4-9B0F-445D-8BF8-D2F3331CF2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xcavaciones Subterráne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nrique Rub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03200" y="2571840"/>
            <a:ext cx="3828960" cy="384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87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13DCE-C25C-4991-B277-635E37F3E0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 mi para Distintos Tipos de Roca Intact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486400" cy="49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F24E5-20D8-4B72-A80A-1922814C9C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D643-675F-401F-AA67-6C3254E35D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041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maximizar la recuperación de la unidad básica de explotación a través de un diseño seguro y v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diseño de pilares debe obedecer a un análisis de las cargas o solicitaciones y la resistencia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72FB-BA9C-4EE6-B717-D32E4DFAD7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80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roduce re distribución de esfuerzos al realizar minería de la cámara de 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esfuerzos tienden a ser mayores en las esquinas produciendo fallas por exceso de ciza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724280" cy="24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C136-01DA-45B8-80EC-F19D8CCEF5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96960" y="3625920"/>
            <a:ext cx="5021280" cy="2774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6640" y="1984320"/>
            <a:ext cx="1751040" cy="758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arga Vertical Sobre 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96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ga litoesta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imación del esfuerzo induc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19320" y="2209680"/>
                <a:ext cx="12952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25909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P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914400" y="3733920"/>
                <a:ext cx="2200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990720" y="4876920"/>
                <a:ext cx="48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914400" y="5410080"/>
                <a:ext cx="2743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Área Extraí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Área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518840" y="502920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rga litoestatica (MP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6640" y="563868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cuperación Mine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E68B-5CDD-471F-AEEF-4C3C166B12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03200" y="2805120"/>
            <a:ext cx="2619360" cy="1457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Área Tributare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85800" y="2895480"/>
                <a:ext cx="2209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13171-5A8C-4B25-B7DF-1CD4D18598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03360" y="2649600"/>
            <a:ext cx="960480" cy="11793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Concentración de Esfuerzos como Función de la Recuperació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1626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828800" y="2743200"/>
                <a:ext cx="56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6CB42-0666-4235-B909-12D3EF1D8D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rea Tributaria para Muros y Pilares Rectangu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952560" y="1397160"/>
            <a:ext cx="6202440" cy="51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14422-0231-44FC-B31C-8E423B4F58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90400" y="2773440"/>
            <a:ext cx="1997280" cy="3116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Tracción Sobre el Techo del Caser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uz máxima para un estrato de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2354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H="1" flipV="1">
            <a:off x="5715000" y="2819160"/>
            <a:ext cx="53352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324480" y="2895480"/>
            <a:ext cx="68580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019920" y="3048120"/>
                <a:ext cx="4600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952880" y="3886200"/>
            <a:ext cx="26672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83200" y="4049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23623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238880" y="251460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838080" y="2743200"/>
                <a:ext cx="13240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γ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65880" y="23353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62120" y="3809880"/>
                <a:ext cx="15811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L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4255560" y="556272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: Módulo de elasticidad del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38080" y="4876920"/>
                <a:ext cx="1143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γL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343400" y="5867280"/>
                <a:ext cx="2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640400" y="5867280"/>
            <a:ext cx="22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eso específico de la ro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648320"/>
            <a:ext cx="51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l fallamiento del techo del caserón va a generalmente ser debido al esfuerzo de tracción y no de co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2F41B-BA2C-4C6A-B410-B36C1F441C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roceso de Escalamient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2133720" cy="1343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flipH="1" rot="16200000">
            <a:off x="468360" y="1626480"/>
            <a:ext cx="2128680" cy="22287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505320" y="4343400"/>
            <a:ext cx="1014840" cy="1600200"/>
            <a:chOff x="3505320" y="4343400"/>
            <a:chExt cx="1014840" cy="1600200"/>
          </a:xfrm>
        </p:grpSpPr>
        <p:sp>
          <p:nvSpPr>
            <p:cNvPr id="58" name=""/>
            <p:cNvSpPr/>
            <p:nvPr/>
          </p:nvSpPr>
          <p:spPr>
            <a:xfrm>
              <a:off x="3505320" y="4800600"/>
              <a:ext cx="228600" cy="6858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19440" y="4343400"/>
              <a:ext cx="0" cy="4572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638520" y="5486400"/>
              <a:ext cx="0" cy="4572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64680" y="495288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UC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a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15040" y="1676520"/>
            <a:ext cx="3163680" cy="2373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69200" y="5029200"/>
            <a:ext cx="2652480" cy="7642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aracterización del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Macizo Roco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9080" y="167652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sistencia 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cizo Rocoso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905120"/>
            <a:ext cx="1524240" cy="83808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6" idx="1"/>
            <a:endCxn id="55" idx="0"/>
          </p:cNvCxnSpPr>
          <p:nvPr/>
        </p:nvCxnSpPr>
        <p:spPr>
          <a:xfrm rot="5400000">
            <a:off x="1182600" y="4145400"/>
            <a:ext cx="691200" cy="10440"/>
          </a:xfrm>
          <a:prstGeom prst="bentConnector3">
            <a:avLst>
              <a:gd name="adj1" fmla="val 49869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67" name=""/>
          <p:cNvCxnSpPr>
            <a:stCxn id="55" idx="3"/>
            <a:endCxn id="58" idx="1"/>
          </p:cNvCxnSpPr>
          <p:nvPr/>
        </p:nvCxnSpPr>
        <p:spPr>
          <a:xfrm flipV="1">
            <a:off x="2590920" y="5143320"/>
            <a:ext cx="915120" cy="24480"/>
          </a:xfrm>
          <a:prstGeom prst="straightConnector1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68" name=""/>
          <p:cNvCxnSpPr>
            <a:stCxn id="60" idx="0"/>
            <a:endCxn id="63" idx="2"/>
          </p:cNvCxnSpPr>
          <p:nvPr/>
        </p:nvCxnSpPr>
        <p:spPr>
          <a:xfrm flipH="1" flipV="1" rot="5400000">
            <a:off x="5194800" y="4242600"/>
            <a:ext cx="143640" cy="3258360"/>
          </a:xfrm>
          <a:prstGeom prst="bentConnector3">
            <a:avLst>
              <a:gd name="adj1" fmla="val -59798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69" name=""/>
          <p:cNvCxnSpPr>
            <a:stCxn id="63" idx="0"/>
            <a:endCxn id="62" idx="2"/>
          </p:cNvCxnSpPr>
          <p:nvPr/>
        </p:nvCxnSpPr>
        <p:spPr>
          <a:xfrm flipH="1" flipV="1" rot="5400000">
            <a:off x="6406920" y="4538160"/>
            <a:ext cx="980280" cy="2160"/>
          </a:xfrm>
          <a:prstGeom prst="bentConnector3">
            <a:avLst>
              <a:gd name="adj1" fmla="val 49889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57DF0-1873-4E1D-B176-430599FF8C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75040" y="4665600"/>
            <a:ext cx="1054080" cy="665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1240" y="529740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31840" y="344016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4480" y="1936800"/>
            <a:ext cx="2711520" cy="8524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Miner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574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rdy and Agapito (197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bert and Duvall (1967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alamon and Munro (1967), Holland (196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289548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70720" y="287964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632640" y="397836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467480" y="175248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 flipV="1">
            <a:off x="7467480" y="2286000"/>
            <a:ext cx="152640" cy="9144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79640" y="2025720"/>
                <a:ext cx="2133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3579480" y="220968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S, especim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, Pil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239840" y="3505320"/>
                <a:ext cx="17874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077840" y="5334120"/>
                <a:ext cx="15778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114800" y="4800600"/>
                <a:ext cx="762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5021640" y="495288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edidos en pilares cúbicos W/H=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5758B-362E-4B8F-A99C-9E6B9053369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s Utilizadas Para El Diseño de Pi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8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29AE3-A25B-4670-BBED-80ADA56B44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329080" y="3652920"/>
            <a:ext cx="3440160" cy="1241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7560" y="4800600"/>
            <a:ext cx="2727360" cy="838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00160" y="2386080"/>
            <a:ext cx="184464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Ajustando el Valor de Resistencia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calamiento del espéc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sistencia del pilar Obert and Duv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510552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mplemente utilizar el criterio de Hoek and B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376280" y="2465280"/>
                <a:ext cx="129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762120" y="4780080"/>
                <a:ext cx="2774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410080" y="3733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47C5-445E-4A0D-9D81-BBB38D2161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ros Ábacos Empír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19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os gráficos se utilizan en roca competente y se refieren a casos estudiados en Norteamé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sidera el hecho que los pilares mineros poseen algún grado de confinamiento el cual se estima con modelos numér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318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029200" y="51055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la geometría del pila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5E28-3151-4AF6-A3E7-72832FE65C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90560" y="2401920"/>
            <a:ext cx="2635200" cy="79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Resistencia como función del Confinamiento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97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define el confinamiento medio del pila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a formula nace del análisis de múltiples geometrías modeladas numéricamente y estimación del confinamiento al interior del pi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rcRect l="3079" t="0" r="0" b="0"/>
          <a:stretch/>
        </p:blipFill>
        <p:spPr>
          <a:xfrm>
            <a:off x="3886200" y="1828800"/>
            <a:ext cx="5257800" cy="349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852480" y="2496960"/>
                <a:ext cx="24382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5029200" y="518148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el confinamiento medio normaliz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835E-6F1E-4B19-8D5F-820C59A8CE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83040" y="37162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83040" y="20764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Para Roca Competen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652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Pakalnis Y Lunde (1997) proponen una relación para estimar la resistencia del pilar considerando el confinamiento medio de los pila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146480" y="2133720"/>
                <a:ext cx="49975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UC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267080" y="3962520"/>
                <a:ext cx="4859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25AF7-83EB-499B-B24B-D03D6938F93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 of Safe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100% de los pilares diseñados con un FS mayor 1.6 se ha mantenido es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 relación corresponde a la experiencia de 1 mina, cada operación debería tener sus propios estánd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0" t="11660" r="0" b="1189"/>
          <a:stretch/>
        </p:blipFill>
        <p:spPr>
          <a:xfrm>
            <a:off x="3657600" y="1981080"/>
            <a:ext cx="5486400" cy="3241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486400" y="52578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tro-análisis de pilares de minas de carbón Sudafricanas, Salamon y Munro (1967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52331-0D80-4024-995C-F5E527B85F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a Importancia de W/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esbeltez del pilar define el grado de confinamiento de es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a pilares con relaciones W/H menor a 4 se produce el fenómeno de relajación post falla (strain softenning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e ábaco es fundamental para entender el estallido de roca en minería profun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rcRect l="0" t="0" r="5086" b="1693"/>
          <a:stretch/>
        </p:blipFill>
        <p:spPr>
          <a:xfrm>
            <a:off x="4724280" y="1219320"/>
            <a:ext cx="3861000" cy="4419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876920" y="5791320"/>
            <a:ext cx="39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Das, 1986. Curvas de esfuerzo deformación completas para testigo de pilares de carbón. Modelamiento de relajación post fal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8C529-88E7-4E4B-B63A-5F78E82D23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jemplos de Diseño Minas de Carbón US y Canadá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4430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EF37-590E-4FEC-A7D2-FF8144D76E2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Minas de R&amp;P en Yacimientos Metá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86800" cy="18241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D5EE-0024-44D5-9C80-DBB5A4D316C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acizo Rocoso (Hoek and Brown, 1980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65360" y="1419120"/>
            <a:ext cx="6354720" cy="432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0C3A-48F0-4EAE-9395-ECFE2B4B78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R&amp;P en Yacimientos No Meta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771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DFBC-BB71-46F7-95D0-DFE6E7A9D63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15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iseñar los caserones y pilares para un yacimiento mantiforme de 10m de potencia que se encuentra a una profundidad de 200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s características de la roca de caja y mineral se presentan a continu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42F98-D09F-4549-9B79-8AE606EF220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2978280"/>
                <a:gridCol w="25081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Ca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M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o (KN/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c ang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dimentaria alte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b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ruc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bu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F18C2-5C28-4377-BE04-732334969F6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33440" y="1471680"/>
            <a:ext cx="5781600" cy="2666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Luz Máxima y Dilu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rcRect l="0" t="0" r="0" b="53520"/>
          <a:stretch/>
        </p:blipFill>
        <p:spPr>
          <a:xfrm>
            <a:off x="609480" y="1676520"/>
            <a:ext cx="548640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5DC9-66F6-4787-A856-6785A2E9E59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1874880"/>
            <a:ext cx="9144000" cy="4076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l Pilar Unitari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rcRect l="0" t="0" r="7142" b="0"/>
          <a:stretch/>
        </p:blipFill>
        <p:spPr>
          <a:xfrm>
            <a:off x="304920" y="1981080"/>
            <a:ext cx="883908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374CC-7C31-4B60-BCE0-BD43BBD73DB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1782720"/>
            <a:ext cx="8926560" cy="32544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762760" cy="297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2BCB1-280A-44B3-8031-1A155CA1D24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xili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petir 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vez de usar GSI estimar el  RMR 7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profundidad del cuerpo mineralizado varia entre 1000 a 1100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el método de Hoek and Brown para estimar la resistencia de un pilar uni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una formula de resistencia de pilar de Obert and Duv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eñar pilares rectangulares y mu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alizar el diseño de la mina pensar en cuanto pilares se pueden introducir en el ancho del cuerpo mineralizado y en la corr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413F-E98F-428F-8E9F-4EDB4836320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Modelos Constitutivos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 mayor confinami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máxima aum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 frágil a dúctil, comportamiento plást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residual aumenta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11520" y="1981080"/>
            <a:ext cx="4632480" cy="3173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618160" y="5603760"/>
            <a:ext cx="26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Ensayos triaxiales en Marble Tenesse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Wawersik and Fairhurst, 19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77D8-7FF4-4E7B-8235-238CACDB10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1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BFEC-F22E-4166-B9D0-EF2AA1851D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52081-C46D-488B-A81A-78D9924AE4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quivalencia Hoek and Brown Mohr Coulomb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Hoek and Brown envolvente par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C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100 M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=2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SI=6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envolvente de falla de H-B es no lineal, por lo tanto se debe resolver para cada ca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6520" y="1349280"/>
            <a:ext cx="4121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7018" t="0" r="0" b="0"/>
          <a:stretch/>
        </p:blipFill>
        <p:spPr>
          <a:xfrm>
            <a:off x="4937040" y="1422360"/>
            <a:ext cx="3702240" cy="446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010120" y="2805120"/>
                <a:ext cx="2620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011320" y="5487840"/>
                <a:ext cx="749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BE020-2F41-44FB-ABFA-F8A39E4A30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Algunas Relaciones de Interé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10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ahoma"/>
              </a:rPr>
              <a:t>Módulo de elasticidad del macizo rocoso en función de los índice de calidad de macizo rocos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5400720" cy="38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4A4D-0A9B-4DBC-8F3C-114547040D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Enrique Rubio</cp:lastModifiedBy>
  <dcterms:modified xsi:type="dcterms:W3CDTF">2006-06-13T14:27:04Z</dcterms:modified>
  <cp:revision>238</cp:revision>
  <dc:subject/>
  <dc:title>Muestreo y Control de Calidad</dc:title>
</cp:coreProperties>
</file>