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63D-94E0-443A-AB41-BBAA7076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5B7-D4EC-4B9D-B794-13591899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7C7-9F8E-474A-B8D6-B1F911FF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0C5-F025-4790-8BD1-4C86086F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150F-53B4-458B-858B-CD1F34CD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8F4A-5478-48CB-8A04-FC29132F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A321-8F74-4A99-85BB-4B16C3C0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3FB4-7ADB-4211-A7D2-ECC38BB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D486-87D3-4DAA-A35F-47AC8F68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C3BE-1A0B-463F-81D6-F633909F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1F77-62D4-4FF7-A89C-A3E3F01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E3D-636C-44E0-BBE8-D8C4AF6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F2D8-117F-4C41-90AC-AB44329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BCE-BE7B-40A5-B9F7-AA26D860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3BBF-DC42-4D10-8753-B324B0DE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43CD-64E8-41EC-817C-64505705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66C0-6997-4CEE-A41D-82856524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543-2F5B-44BA-AE8C-A2F3726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ED6-48BB-4957-99B9-20794CD3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D06-2515-4C97-BFD5-E7F4AE0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8ED-4B90-44D9-88C9-1321ECB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816-2727-4368-B31B-83B61D0C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2B7-4762-4015-99B3-24C256A0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15B-0F05-41CC-B024-D49DFF1D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FE83-4F65-4A90-9BB5-F02B0E4909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D78C-ADE4-4068-A2A5-A4A10CB554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imientos y estándares de homolo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-Octubre-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gasol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77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aración normas para vehículos dies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gún PPD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s de Homolo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ándares de Em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80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cedimientos de Homologación Mund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867564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62840" y="3141720"/>
            <a:ext cx="2981160" cy="371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6227640" cy="3833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actuales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 “Futuro” EEUU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365120"/>
            <a:ext cx="91440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cedimiento Japón y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38600" cy="530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51976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1384200"/>
            <a:ext cx="8353440" cy="5453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stándares Europ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9:18Z</dcterms:created>
  <dc:creator>Sebastián Tolvett Caro</dc:creator>
  <dc:description/>
  <dc:language>en-US</dc:language>
  <cp:lastModifiedBy>Sebastian Tolvett C.</cp:lastModifiedBy>
  <dcterms:modified xsi:type="dcterms:W3CDTF">2006-11-22T22:26:09Z</dcterms:modified>
  <cp:revision>8</cp:revision>
  <dc:subject/>
  <dc:title>Procedimientos y estándares de homologación</dc:title>
</cp:coreProperties>
</file>