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CD7-879F-4EBF-910A-BEC645B2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BBE-1485-45DB-9552-86EF6A9D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719-CD18-4127-8DE5-F982C0CB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37F-32FE-4CED-ABB6-D5725698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6A21-FD83-4139-9F07-186720EB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A49-C0CD-415B-9B22-A0407EC1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014-D500-4972-917C-E644C987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16A7-E889-473C-8B3C-AF38D4E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F3EB-F530-4AC4-A025-D88351C5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3D3-354D-4EAD-9C26-F356AF41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CA24-AC33-4477-B279-911135E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AEF-C018-4660-88EC-F48A0255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4406-6C7E-46C2-953E-7A8B972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A1F9-FE4B-43C2-B212-B65241BD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2392-9F42-4CB8-BCE2-3C1D09A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6B4-DCC0-44AD-A0FB-AC5B8645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A2D-C7AD-45D7-A7B1-7D9498C3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E97-0825-4D7D-8422-3E8CE1ED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920-3A59-4430-8DBA-0A7D17A4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9DA-10CF-4B0B-8532-54D69908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E5B-E976-4F9B-9813-C5814E95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CC5-9D7A-4465-B576-00837FE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E90-E7E7-487E-9DF8-CD84D9F7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B46-AD8D-491D-BB71-F2D8B87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5786-BF30-4331-A3E4-382CD14B45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D31B-968E-4507-80D1-2409890DC5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imientos y estándares de homolo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Octubre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gasol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7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dies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PP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s de Homolo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ándares de E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80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cedimientos de Homologación Mund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67564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62840" y="3141720"/>
            <a:ext cx="2981160" cy="371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6227640" cy="3833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actuales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 “Futuro”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Japón y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38600" cy="530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51976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384200"/>
            <a:ext cx="8353440" cy="5453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9:18Z</dcterms:created>
  <dc:creator>Sebastián Tolvett Caro</dc:creator>
  <dc:description/>
  <dc:language>en-US</dc:language>
  <cp:lastModifiedBy>Sebastian Tolvett C.</cp:lastModifiedBy>
  <dcterms:modified xsi:type="dcterms:W3CDTF">2006-11-22T22:26:09Z</dcterms:modified>
  <cp:revision>8</cp:revision>
  <dc:subject/>
  <dc:title>Procedimientos y estándares de homologación</dc:title>
</cp:coreProperties>
</file>