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0.wmf" ContentType="image/x-wmf"/>
  <Override PartName="/ppt/media/image8.jpeg" ContentType="image/jpeg"/>
  <Override PartName="/ppt/media/image9.jpeg" ContentType="image/jpeg"/>
  <Override PartName="/ppt/media/image1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A0FC9-2740-49B9-BE7E-40CA4843E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B5F2C-B91D-44E4-9B02-919EACB90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BCFDD-4865-4FA8-A959-C9FD9CF3F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66851-FDE1-4E9D-8967-2FE0E0962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D3DF5-F0C6-4EC0-8DFC-82EAA4BFE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54138-CA54-4272-B5A1-E0D226C56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17A16-7FCA-46CF-8841-FEC8127C4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12C33-559A-429E-9C2B-16F4C550A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F4DBD-4C98-407E-BDFD-1C68D5E10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02910-D9D3-4185-9172-795DE7DD4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21BEC-4830-4623-8CA7-D80F4F0AE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CE0A2-A415-4D88-A652-EFAFD10F4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01BA5-BB36-4000-8C76-BC2D5AE98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CB447-BCBA-48F5-A2E3-FB02F662D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3B91F-FA86-4EFA-9EC5-CC6D970AB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33F53-0265-4D61-B04F-D4889C06F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4C767-4ED2-4E54-BA50-872D05BE1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A4B2C-20C6-4F62-A5F9-1BD167F68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C77E1-3D81-4744-8262-F47FE4AFF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22F07-6577-4060-9649-5D1A39FC7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1EB7C-B004-4839-8535-3E311F03B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F5AD9-8BC0-4986-B11A-640D163DE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E04AE-6F2E-4B89-8623-E23D05EDE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0B825-5972-4447-ABB7-82561079D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3EC99-D387-429E-88BE-8D87227F202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8CD8C-931A-4C87-9EC2-04ECAC1E924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cedimientos y estándares de homolog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0574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8-Octubre-200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omparación normas para vehículos gasolina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684360" y="1484280"/>
            <a:ext cx="777708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omparación normas para vehículos dies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971640" y="1484280"/>
            <a:ext cx="7488000" cy="5173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HIL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egún PPDA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Introducció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cedimientos de Homolog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ándares de Emis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1773360"/>
            <a:ext cx="9144000" cy="480852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Procedimientos de Homologación Mundiale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2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Procedimiento EEUU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907920"/>
            <a:ext cx="8675640" cy="593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6162840" y="3141720"/>
            <a:ext cx="2981160" cy="37162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0" y="1773360"/>
            <a:ext cx="6227640" cy="383364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Estándares actuales EEUU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Estándar “Futuro” EEUU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1365120"/>
            <a:ext cx="9144000" cy="549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Procedimiento Japón y Europ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79280" y="1557360"/>
            <a:ext cx="2838600" cy="53006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635280" y="1413000"/>
            <a:ext cx="519768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395280" y="1384200"/>
            <a:ext cx="8353440" cy="545328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Estándares Europ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8T14:49:18Z</dcterms:created>
  <dc:creator>Sebastián Tolvett Caro</dc:creator>
  <dc:description/>
  <dc:language>en-US</dc:language>
  <cp:lastModifiedBy>Sebastian Tolvett C.</cp:lastModifiedBy>
  <dcterms:modified xsi:type="dcterms:W3CDTF">2006-11-22T22:26:09Z</dcterms:modified>
  <cp:revision>8</cp:revision>
  <dc:subject/>
  <dc:title>Procedimientos y estándares de homologación</dc:title>
</cp:coreProperties>
</file>