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EC0-121D-4ED2-A3F5-FB2E76A9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893-EE95-479D-80AC-DD6C1498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0E5-2567-4B72-A630-F4D061C6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2869-0360-4EAA-9E5C-FB13FE38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5E96-04C5-4400-B746-909C6201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F16C-07C9-40E1-B14F-31943D09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C239-478D-48B9-97B1-2F2E3125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FFF7-2BC6-4B4E-818E-A0413805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8937-3AF5-4799-A653-296C3E54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9CB4-DE32-4996-A929-F0739492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8C84-6169-4E46-9D55-1F984312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631-E5A4-4AD4-9016-4B6A8A04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3EA9-2188-4135-83BE-EFB331D4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2B42-A909-4E63-B4DE-1A578FE6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E1AA-E911-497B-885D-24EACADD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D777-3318-4A20-8892-6C0BECC8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F327-7EB3-485C-8F72-BD516DC9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6D9-F8E4-42BA-BDA9-197E9EAF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1A67-8B88-457A-9F3E-E1447AF5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9E9-55D3-4490-9BAE-8DAE0313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74AD-3700-4D0C-824F-61403090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A5A-8DF9-4AA6-92D8-3B8F1848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A66-60F1-48DB-803E-50B7EF6A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E03F-57F1-492D-92AB-CA046CA1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9077-07FF-457D-84EA-1AF1535FDD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972C-243A-40A0-B26E-7CE6034D84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imientos y estándares de homolo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-Octubre-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aración normas para vehículos gasol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777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aración normas para vehículos dies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17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gún PPD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imientos de Homolo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ándares de Em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808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cedimientos de Homologación Mundia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cedimiento EEU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675640" cy="59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62840" y="3141720"/>
            <a:ext cx="2981160" cy="3716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6227640" cy="3833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ándares actuales EEU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ándar “Futuro” EEU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365120"/>
            <a:ext cx="914400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cedimiento Japón y Europ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838600" cy="5300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635280" y="1413000"/>
            <a:ext cx="51976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1384200"/>
            <a:ext cx="8353440" cy="5453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ándares Europ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4:49:18Z</dcterms:created>
  <dc:creator>Sebastián Tolvett Caro</dc:creator>
  <dc:description/>
  <dc:language>en-US</dc:language>
  <cp:lastModifiedBy>Sebastian Tolvett C.</cp:lastModifiedBy>
  <dcterms:modified xsi:type="dcterms:W3CDTF">2006-11-22T22:26:09Z</dcterms:modified>
  <cp:revision>8</cp:revision>
  <dc:subject/>
  <dc:title>Procedimientos y estándares de homologación</dc:title>
</cp:coreProperties>
</file>