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327F-043A-41E6-97EB-83405E57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51CC-C56A-491E-8D8F-5D50B37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2CCB-B86B-4284-8F96-2DBBB4CC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ED81-EC1E-4E35-8F85-6900B199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32B-023E-4E80-9F63-28E4A912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518-1B22-40C1-84D4-E60ED2B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9B6E-5E66-4A5C-9E5F-7FEB3A42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B69-1ED2-4685-8498-42B6FB2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8A03-2567-47A2-BF9D-6A62D9D0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EF90-0DD6-469D-A93A-73F7112B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906F-AD34-4B10-A14E-EBF580E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F7FB-A84E-45DA-9930-2325379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6FF-23BC-4A82-810D-9BD507B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1345-708D-4C47-9DBB-684D08E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252-5153-404C-ACCE-FB4B655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9881-E412-46FB-BD65-FFAF00B3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999F-DD56-4277-8284-6C355BE0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D6AD-BFDC-4448-ADA2-B24BCDCE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9C15-61FF-4C08-B446-DC3FFCE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CC17-A7E1-46B4-908F-A31782CF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B6D3-CCCE-45B5-B07A-6E8E2F3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9721-6D1B-4A1F-8ED7-BA508B8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17ED-D36F-4752-894F-1EA0315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D5D5-74D8-405B-BE2F-49B8020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AD44-69C6-4D6F-9E3B-5FEF30D1661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937-3379-49AF-BFAB-60FC5440973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6201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ntrol de emisiones mediante sistemas de inyección y de ad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misiones Vehicul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3-Septiembre-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990720" y="311040"/>
            <a:ext cx="718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admisión de a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96080" y="1066680"/>
            <a:ext cx="256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thods of air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13640" y="2057400"/>
            <a:ext cx="1701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ve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97560" y="2057400"/>
            <a:ext cx="16498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59680" y="2057400"/>
            <a:ext cx="16621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167652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9552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67480" y="16765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0344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85360" y="2743200"/>
            <a:ext cx="234792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Superchargers dr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9400" y="3733920"/>
            <a:ext cx="147168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Hydraul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68200" y="3733920"/>
            <a:ext cx="127044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Electr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22680" y="3733920"/>
            <a:ext cx="14976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Mecha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1120" y="33526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7644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476600" y="31240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48400" y="33526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928800" y="88920"/>
            <a:ext cx="728496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85840" y="39600"/>
            <a:ext cx="85708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60600" y="4724280"/>
            <a:ext cx="2158920" cy="36828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Turbocharger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1236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40480" y="5749920"/>
            <a:ext cx="134820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aste-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86480" y="5715000"/>
            <a:ext cx="11318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62040" y="5334120"/>
            <a:ext cx="58676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5736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29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94280" y="5749920"/>
            <a:ext cx="119736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With AG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5334120"/>
            <a:ext cx="0" cy="30456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04920" y="168120"/>
            <a:ext cx="836604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79600" y="349200"/>
            <a:ext cx="79848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Gasoli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yección 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s pre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mit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3962520" y="1752480"/>
            <a:ext cx="5181480" cy="4940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1981080" y="4495680"/>
            <a:ext cx="162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264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963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90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0080" y="1708200"/>
            <a:ext cx="52297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functions of the Diesel Fuel Injecti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9520" y="2438280"/>
            <a:ext cx="177804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Ti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46240" y="2514600"/>
            <a:ext cx="194400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8840" y="3352680"/>
            <a:ext cx="1563120" cy="91692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o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Pene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9040" y="4800600"/>
            <a:ext cx="223344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itional 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36600" y="5791320"/>
            <a:ext cx="15508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9560" y="5791320"/>
            <a:ext cx="156132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 Sha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9680" y="5791320"/>
            <a:ext cx="153720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lot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2590920"/>
            <a:ext cx="2209680" cy="304560"/>
          </a:xfrm>
          <a:prstGeom prst="leftRightArrow">
            <a:avLst>
              <a:gd name="adj1" fmla="val 50000"/>
              <a:gd name="adj2" fmla="val 14443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22096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5410080"/>
            <a:ext cx="5867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288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5181480"/>
            <a:ext cx="0" cy="5335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5410080"/>
            <a:ext cx="0" cy="3049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94280" y="1676520"/>
            <a:ext cx="411408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s of Diesel Fuel Injection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68560" y="2666880"/>
            <a:ext cx="286740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-Line-Nozzle (P-L-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Pump (U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18240" y="5257800"/>
            <a:ext cx="2932920" cy="581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Rail System (C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DV &amp; MDV: CR in the near fu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88120" y="4038480"/>
            <a:ext cx="1843560" cy="36828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Injector (U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657080" cy="111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1249560" cy="1500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324480" y="4800600"/>
            <a:ext cx="2462400" cy="129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867280" y="2971800"/>
            <a:ext cx="83844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4191120"/>
            <a:ext cx="12952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5410080"/>
            <a:ext cx="30456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s de Inyección Dies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2667240" cy="26510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5943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78240" y="1371600"/>
            <a:ext cx="4603320" cy="6426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 for using electronically-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ection Systems in diesel eng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25840" y="2209680"/>
            <a:ext cx="4413240" cy="4298400"/>
          </a:xfrm>
          <a:prstGeom prst="rect">
            <a:avLst/>
          </a:prstGeom>
          <a:solidFill>
            <a:srgbClr val="9999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ons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engine 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 fuel economy while complying with emission reg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ed engines for variou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add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cost to cumbersome mechanical add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-authority parameter control and flexible implementation of control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ion ti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lexible injected quantity met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shot-to-shot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duced cylinder-to-cylinder var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moke control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809880" cy="2017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09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stema de Inye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7200" y="1957320"/>
            <a:ext cx="4038480" cy="14763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4648320" y="1935000"/>
            <a:ext cx="4038480" cy="1521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57200" y="4268880"/>
            <a:ext cx="4038480" cy="15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4278240"/>
            <a:ext cx="4038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193840" y="1600200"/>
            <a:ext cx="4889520" cy="46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289080" y="2514600"/>
            <a:ext cx="189540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1447920" y="838080"/>
            <a:ext cx="188568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3962520" y="276120"/>
            <a:ext cx="189540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477120" y="838080"/>
            <a:ext cx="1895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7086600" y="2533680"/>
            <a:ext cx="188604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6:39:20Z</dcterms:created>
  <dc:creator> </dc:creator>
  <dc:description/>
  <dc:language>en-US</dc:language>
  <cp:lastModifiedBy>Sebastian Tolvett C.</cp:lastModifiedBy>
  <dcterms:modified xsi:type="dcterms:W3CDTF">2006-11-22T22:21:53Z</dcterms:modified>
  <cp:revision>37</cp:revision>
  <dc:subject/>
  <dc:title>Seminario de Tecnología Diesel</dc:title>
</cp:coreProperties>
</file>