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4B76-D0FF-4ED6-95A0-6E7953E2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D886-57ED-4F25-B0A6-AC5F8E40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8FE1-3B89-43FE-81E5-F828E61F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9124-05BE-44DC-BD49-58ACBD29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6C93-3CD6-4696-A955-A29A8437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DF96-9490-4168-B71D-1B05568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1F99-0A5B-4A53-A2BC-D92C66B2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60FB-439A-4AD8-8A79-3755A29A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BFE0-75D6-459E-A688-F7B270E3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C715-2CFB-47D1-A86B-A905B032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CFA9-303D-4A99-B04E-CF2BF008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622C-99FB-4BCD-9FC3-6DC3DA6D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9D5E-2A49-40B7-8C9E-E29532E6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D44-B2D5-4352-81C5-DDEDE71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DCD9-EC51-45CC-AF7E-DD48E076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67A5-3DBE-4125-959E-BD89ECA1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584-7DF2-41DD-8EEE-6397C4F1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9DA2-0F29-454C-BFF6-F1D7D73D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9EA2-573E-49BB-9B88-C81AB6AC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D277-57A4-4846-BB90-475FEF7C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B273-F52B-4265-9D6A-E29F05B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5937-E793-443B-974F-071308BE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5C9A-A7C8-47A8-8877-09FE5627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03E8-78FB-4EB0-B3B6-5BD4A1E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EEC7-D7D9-4331-AD79-5FD0AF9506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681C-C1A6-415F-A8D4-CDB13C2F054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620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ntrol de emisiones mediante sistemas de inyección y de adm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misiones Vehicul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3-Septiembre-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990720" y="311040"/>
            <a:ext cx="71816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admisión de a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60600" y="4724280"/>
            <a:ext cx="2158920" cy="36828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er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1236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40480" y="5749920"/>
            <a:ext cx="134820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ste-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648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562040" y="5334120"/>
            <a:ext cx="58676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5736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29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85360" y="2743200"/>
            <a:ext cx="234792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ers dr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09400" y="3733920"/>
            <a:ext cx="14716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Hydraul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68200" y="3733920"/>
            <a:ext cx="127044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Electr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22680" y="3733920"/>
            <a:ext cx="14976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cha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81120" y="33526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7644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76600" y="31240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44840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96080" y="1066680"/>
            <a:ext cx="2564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thods of air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713640" y="2057400"/>
            <a:ext cx="1701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ve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97560" y="2057400"/>
            <a:ext cx="16498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9680" y="2057400"/>
            <a:ext cx="1662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00200" y="167652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95520" y="16765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95680" y="1447920"/>
            <a:ext cx="0" cy="5331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67480" y="16765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94280" y="5749920"/>
            <a:ext cx="119736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ith A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0344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285360" y="2743200"/>
            <a:ext cx="234792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ers dr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09400" y="3733920"/>
            <a:ext cx="14716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Hydraul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68200" y="3733920"/>
            <a:ext cx="127044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Electr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22680" y="3733920"/>
            <a:ext cx="14976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cha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81120" y="33526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7644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476600" y="31240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4840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928800" y="88920"/>
            <a:ext cx="728496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85840" y="39600"/>
            <a:ext cx="857088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360600" y="4724280"/>
            <a:ext cx="2158920" cy="36828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er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1236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40480" y="5749920"/>
            <a:ext cx="134820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ste-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8648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62040" y="5334120"/>
            <a:ext cx="58676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5736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29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94280" y="5749920"/>
            <a:ext cx="119736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ith A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04920" y="168120"/>
            <a:ext cx="836604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79600" y="349200"/>
            <a:ext cx="79848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Gasoli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yección 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s 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yección In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s 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rmit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3962520" y="1752480"/>
            <a:ext cx="5181480" cy="4940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1981080" y="4495680"/>
            <a:ext cx="1621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2644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963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900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Dies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0080" y="1708200"/>
            <a:ext cx="522972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functions of the Diesel Fuel Injection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79520" y="2438280"/>
            <a:ext cx="177804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Ti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46240" y="2514600"/>
            <a:ext cx="194400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Qua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8840" y="3352680"/>
            <a:ext cx="1563120" cy="91692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o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Pene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9040" y="4800600"/>
            <a:ext cx="223344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ition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36600" y="5791320"/>
            <a:ext cx="155088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89560" y="5791320"/>
            <a:ext cx="156132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 Sha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9680" y="5791320"/>
            <a:ext cx="153720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lot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2590920"/>
            <a:ext cx="2209680" cy="304560"/>
          </a:xfrm>
          <a:prstGeom prst="leftRightArrow">
            <a:avLst>
              <a:gd name="adj1" fmla="val 50000"/>
              <a:gd name="adj2" fmla="val 144434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22096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54100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2880" y="54100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51814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54100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94280" y="1676520"/>
            <a:ext cx="411408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s of Diesel Fuel Injection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68560" y="2666880"/>
            <a:ext cx="2867400" cy="581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mp-Line-Nozzle (P-L-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t Pump (U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18240" y="5257800"/>
            <a:ext cx="2932920" cy="581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Rail System (C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DV &amp; MDV: CR in the near fu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88120" y="4038480"/>
            <a:ext cx="184356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Injector (U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1657080" cy="111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1249560" cy="15001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6324480" y="4800600"/>
            <a:ext cx="2462400" cy="129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867280" y="2971800"/>
            <a:ext cx="8384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4191120"/>
            <a:ext cx="1295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5410080"/>
            <a:ext cx="30456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Dies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2667240" cy="26510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59436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78240" y="1371600"/>
            <a:ext cx="460332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ation for using electronically-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Systems in diesel eng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25840" y="2209680"/>
            <a:ext cx="4413240" cy="4298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ons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engine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 fuel economy while complying with emission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ized engines for various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added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 cost to cumbersome mechanical add-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-authority parameter control and flexible implementation of control strate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lexible injection ti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lexible injected quantity met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uced shot-to-shot var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uced cylinder-to-cylinder var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moke control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3809880" cy="20178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57200" y="1957320"/>
            <a:ext cx="4038480" cy="1476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648320" y="1935000"/>
            <a:ext cx="4038480" cy="1521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57200" y="4268880"/>
            <a:ext cx="4038480" cy="1539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4648320" y="4278240"/>
            <a:ext cx="4038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193840" y="1600200"/>
            <a:ext cx="4889520" cy="469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289080" y="2514600"/>
            <a:ext cx="189540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1447920" y="838080"/>
            <a:ext cx="188568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3962520" y="276120"/>
            <a:ext cx="1895400" cy="13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6477120" y="838080"/>
            <a:ext cx="1895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7086600" y="2533680"/>
            <a:ext cx="188604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6:39:20Z</dcterms:created>
  <dc:creator> </dc:creator>
  <dc:description/>
  <dc:language>en-US</dc:language>
  <cp:lastModifiedBy>Sebastian Tolvett C.</cp:lastModifiedBy>
  <dcterms:modified xsi:type="dcterms:W3CDTF">2006-11-22T22:21:53Z</dcterms:modified>
  <cp:revision>37</cp:revision>
  <dc:subject/>
  <dc:title>Seminario de Tecnología Diesel</dc:title>
</cp:coreProperties>
</file>