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30723-5CB1-4CBD-94E9-0F0E6ABCF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98E14-D9D5-4012-82EF-30C09B48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0F32A-62E0-4FB9-A561-AF0D2F2F9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90B7F-AD5B-47E6-B373-92D7A1D2A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CDF7-C40C-4DFE-A580-337A3D2E9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0A28-6DEE-4058-8C91-32885114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CC3C-837C-404D-9E5C-ECB3765E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ECDD-A493-4381-827A-07BA6318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45AA0-EEC0-460C-B6D3-3F04AEC2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0218-93D9-48F4-BB3D-2D3A4408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847B-CF50-479D-9C16-39335F01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50855-E6ED-4CE7-8C4A-9E33F244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D75A-D34D-488F-9CB6-63BCCD01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7B647-7E96-4B2B-9388-87E68B8F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DF4C-1C1B-4A01-BA46-255CEAB1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E552-95A3-4B12-AF42-3FF1B1EDE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F104-7C08-4E6E-B997-ACAAD23AA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F3ED8-6DC1-4276-A3B0-A8409AEF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A69D5-A562-46D2-AB89-FDB5A86F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AE91C-2DCB-4450-9CB0-94BAF4B2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754FD-CC5E-45D9-B513-CF49717C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086AC-A712-4085-9754-78AF498F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78E78-CDC8-4EBC-B1CB-2C5DCACE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DEA5E-244C-4E4C-BEBA-7E3302E3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BF8D-B370-4A37-B3C3-A3C2C1CCD5B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F3DC-754B-45DE-B2EF-9595C3F77FFD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6201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Control de emisiones mediante sistemas de inyección y de admisió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219320" y="49525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misiones Vehicula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23-Septiembre-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990720" y="311040"/>
            <a:ext cx="7181640" cy="654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istema de admisión de air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360600" y="4724280"/>
            <a:ext cx="2158920" cy="368280"/>
          </a:xfrm>
          <a:prstGeom prst="rect">
            <a:avLst/>
          </a:prstGeom>
          <a:solidFill>
            <a:srgbClr val="ff99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Turbocharger typ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112360" y="5715000"/>
            <a:ext cx="1131840" cy="642600"/>
          </a:xfrm>
          <a:prstGeom prst="rect">
            <a:avLst/>
          </a:prstGeom>
          <a:solidFill>
            <a:srgbClr val="ff99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geom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940480" y="5749920"/>
            <a:ext cx="1348200" cy="642600"/>
          </a:xfrm>
          <a:prstGeom prst="rect">
            <a:avLst/>
          </a:prstGeom>
          <a:solidFill>
            <a:srgbClr val="ff99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Fixed wi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Waste-g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086480" y="5715000"/>
            <a:ext cx="1131840" cy="642600"/>
          </a:xfrm>
          <a:prstGeom prst="rect">
            <a:avLst/>
          </a:prstGeom>
          <a:solidFill>
            <a:srgbClr val="ff99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Fix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geom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562040" y="5334120"/>
            <a:ext cx="5867640" cy="0"/>
          </a:xfrm>
          <a:prstGeom prst="line">
            <a:avLst/>
          </a:prstGeom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557360" y="5334120"/>
            <a:ext cx="0" cy="30456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429680" y="5334120"/>
            <a:ext cx="0" cy="30456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285360" y="2743200"/>
            <a:ext cx="2347920" cy="368280"/>
          </a:xfrm>
          <a:prstGeom prst="rect">
            <a:avLst/>
          </a:prstGeom>
          <a:solidFill>
            <a:srgbClr val="ffcc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Superchargers dr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809400" y="3733920"/>
            <a:ext cx="1471680" cy="642600"/>
          </a:xfrm>
          <a:prstGeom prst="rect">
            <a:avLst/>
          </a:prstGeom>
          <a:solidFill>
            <a:srgbClr val="ffcc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Hydraulic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dri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68200" y="3733920"/>
            <a:ext cx="1270440" cy="642600"/>
          </a:xfrm>
          <a:prstGeom prst="rect">
            <a:avLst/>
          </a:prstGeom>
          <a:solidFill>
            <a:srgbClr val="ffcc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Electric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dri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922680" y="3733920"/>
            <a:ext cx="1497600" cy="642600"/>
          </a:xfrm>
          <a:prstGeom prst="rect">
            <a:avLst/>
          </a:prstGeom>
          <a:solidFill>
            <a:srgbClr val="ffcc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Mechanic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dri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581120" y="3352680"/>
            <a:ext cx="5867280" cy="0"/>
          </a:xfrm>
          <a:prstGeom prst="line">
            <a:avLst/>
          </a:prstGeom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576440" y="3352680"/>
            <a:ext cx="0" cy="30492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476600" y="3124080"/>
            <a:ext cx="0" cy="53352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448400" y="3352680"/>
            <a:ext cx="0" cy="30492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196080" y="1066680"/>
            <a:ext cx="256428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Methods of air char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713640" y="2057400"/>
            <a:ext cx="170172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Wave char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697560" y="2057400"/>
            <a:ext cx="164988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Turbochar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859680" y="2057400"/>
            <a:ext cx="166212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Superchar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600200" y="1676520"/>
            <a:ext cx="5867280" cy="0"/>
          </a:xfrm>
          <a:prstGeom prst="line">
            <a:avLst/>
          </a:prstGeom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595520" y="1676520"/>
            <a:ext cx="0" cy="30456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495680" y="1447920"/>
            <a:ext cx="0" cy="53316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467480" y="1676520"/>
            <a:ext cx="0" cy="30456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794280" y="5749920"/>
            <a:ext cx="1197360" cy="642600"/>
          </a:xfrm>
          <a:prstGeom prst="rect">
            <a:avLst/>
          </a:prstGeom>
          <a:solidFill>
            <a:srgbClr val="ff99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Fix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With AG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638680" y="5334120"/>
            <a:ext cx="0" cy="30456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495680" y="5105520"/>
            <a:ext cx="0" cy="22860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703440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3285360" y="2743200"/>
            <a:ext cx="2347920" cy="368280"/>
          </a:xfrm>
          <a:prstGeom prst="rect">
            <a:avLst/>
          </a:prstGeom>
          <a:solidFill>
            <a:srgbClr val="ffcc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Superchargers dr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809400" y="3733920"/>
            <a:ext cx="1471680" cy="642600"/>
          </a:xfrm>
          <a:prstGeom prst="rect">
            <a:avLst/>
          </a:prstGeom>
          <a:solidFill>
            <a:srgbClr val="ffcc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Hydraulic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dri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868200" y="3733920"/>
            <a:ext cx="1270440" cy="642600"/>
          </a:xfrm>
          <a:prstGeom prst="rect">
            <a:avLst/>
          </a:prstGeom>
          <a:solidFill>
            <a:srgbClr val="ffcc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Electric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dri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922680" y="3733920"/>
            <a:ext cx="1497600" cy="642600"/>
          </a:xfrm>
          <a:prstGeom prst="rect">
            <a:avLst/>
          </a:prstGeom>
          <a:solidFill>
            <a:srgbClr val="ffcc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Mechanic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dri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581120" y="3352680"/>
            <a:ext cx="5867280" cy="0"/>
          </a:xfrm>
          <a:prstGeom prst="line">
            <a:avLst/>
          </a:prstGeom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576440" y="3352680"/>
            <a:ext cx="0" cy="30492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476600" y="3124080"/>
            <a:ext cx="0" cy="53352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7448400" y="3352680"/>
            <a:ext cx="0" cy="30492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928800" y="88920"/>
            <a:ext cx="7284960" cy="66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7772400" cy="69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85840" y="39600"/>
            <a:ext cx="8570880" cy="677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3360600" y="4724280"/>
            <a:ext cx="2158920" cy="368280"/>
          </a:xfrm>
          <a:prstGeom prst="rect">
            <a:avLst/>
          </a:prstGeom>
          <a:solidFill>
            <a:srgbClr val="ff99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Turbocharger typ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112360" y="5715000"/>
            <a:ext cx="1131840" cy="642600"/>
          </a:xfrm>
          <a:prstGeom prst="rect">
            <a:avLst/>
          </a:prstGeom>
          <a:solidFill>
            <a:srgbClr val="ff99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geom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940480" y="5749920"/>
            <a:ext cx="1348200" cy="642600"/>
          </a:xfrm>
          <a:prstGeom prst="rect">
            <a:avLst/>
          </a:prstGeom>
          <a:solidFill>
            <a:srgbClr val="ff99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Fixed wi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Waste-g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086480" y="5715000"/>
            <a:ext cx="1131840" cy="642600"/>
          </a:xfrm>
          <a:prstGeom prst="rect">
            <a:avLst/>
          </a:prstGeom>
          <a:solidFill>
            <a:srgbClr val="ff99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Fix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geom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562040" y="5334120"/>
            <a:ext cx="5867640" cy="0"/>
          </a:xfrm>
          <a:prstGeom prst="line">
            <a:avLst/>
          </a:prstGeom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557360" y="5334120"/>
            <a:ext cx="0" cy="30456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429680" y="5334120"/>
            <a:ext cx="0" cy="30456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794280" y="5749920"/>
            <a:ext cx="1197360" cy="642600"/>
          </a:xfrm>
          <a:prstGeom prst="rect">
            <a:avLst/>
          </a:prstGeom>
          <a:solidFill>
            <a:srgbClr val="ff99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Fix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With AG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638680" y="5334120"/>
            <a:ext cx="0" cy="30456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495680" y="5105520"/>
            <a:ext cx="0" cy="22860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304920" y="168120"/>
            <a:ext cx="8366040" cy="668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579600" y="349200"/>
            <a:ext cx="7984800" cy="61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istemas de Inyección Gasolin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yección Direc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ltas pre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yección Indirec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Bajas pre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tinu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termit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3"/>
          <a:stretch/>
        </p:blipFill>
        <p:spPr>
          <a:xfrm>
            <a:off x="3962520" y="1752480"/>
            <a:ext cx="5181480" cy="494028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4"/>
          <a:stretch/>
        </p:blipFill>
        <p:spPr>
          <a:xfrm>
            <a:off x="1981080" y="4495680"/>
            <a:ext cx="16210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8360" cy="60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388360" cy="60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26440" cy="66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59636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90080" cy="63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52280" y="16761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istemas de Inyección Diese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istema de Inyecció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00080" y="1708200"/>
            <a:ext cx="5229720" cy="368280"/>
          </a:xfrm>
          <a:prstGeom prst="rect">
            <a:avLst/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in functions of the Diesel Fuel Injection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379520" y="2438280"/>
            <a:ext cx="1778040" cy="642600"/>
          </a:xfrm>
          <a:prstGeom prst="rect">
            <a:avLst/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jection Tim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646240" y="2514600"/>
            <a:ext cx="1944000" cy="642600"/>
          </a:xfrm>
          <a:prstGeom prst="rect">
            <a:avLst/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jection Quant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588840" y="3352680"/>
            <a:ext cx="1563120" cy="916920"/>
          </a:xfrm>
          <a:prstGeom prst="rect">
            <a:avLst/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p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om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amp; Penet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209040" y="4800600"/>
            <a:ext cx="2233440" cy="368280"/>
          </a:xfrm>
          <a:prstGeom prst="rect">
            <a:avLst/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itional Fun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636600" y="5791320"/>
            <a:ext cx="1550880" cy="368280"/>
          </a:xfrm>
          <a:prstGeom prst="rect">
            <a:avLst/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 Inj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589560" y="5791320"/>
            <a:ext cx="1561320" cy="368280"/>
          </a:xfrm>
          <a:prstGeom prst="rect">
            <a:avLst/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te Shap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69680" y="5791320"/>
            <a:ext cx="1537200" cy="368280"/>
          </a:xfrm>
          <a:prstGeom prst="rect">
            <a:avLst/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lot Inj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276720" y="2590920"/>
            <a:ext cx="2209680" cy="304560"/>
          </a:xfrm>
          <a:prstGeom prst="leftRightArrow">
            <a:avLst>
              <a:gd name="adj1" fmla="val 50000"/>
              <a:gd name="adj2" fmla="val 144434"/>
            </a:avLst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191120" y="2209680"/>
            <a:ext cx="304560" cy="990720"/>
          </a:xfrm>
          <a:prstGeom prst="downArrow">
            <a:avLst>
              <a:gd name="adj1" fmla="val 50000"/>
              <a:gd name="adj2" fmla="val 81324"/>
            </a:avLst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447920" y="5410080"/>
            <a:ext cx="5867280" cy="0"/>
          </a:xfrm>
          <a:prstGeom prst="line">
            <a:avLst/>
          </a:prstGeom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442880" y="5410080"/>
            <a:ext cx="0" cy="30492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5181480"/>
            <a:ext cx="0" cy="53352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315200" y="5410080"/>
            <a:ext cx="0" cy="30492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istema de Inyecció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294280" y="1676520"/>
            <a:ext cx="4114080" cy="368280"/>
          </a:xfrm>
          <a:prstGeom prst="rect">
            <a:avLst/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ypes of Diesel Fuel Injection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968560" y="2666880"/>
            <a:ext cx="2867400" cy="581400"/>
          </a:xfrm>
          <a:prstGeom prst="rect">
            <a:avLst/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mp-Line-Nozzle (P-L-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nit Pump (U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018240" y="5257800"/>
            <a:ext cx="2932920" cy="581400"/>
          </a:xfrm>
          <a:prstGeom prst="rect">
            <a:avLst/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on Rail System (C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DV &amp; MDV: CR in the near fut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588120" y="4038480"/>
            <a:ext cx="1843560" cy="368280"/>
          </a:xfrm>
          <a:prstGeom prst="rect">
            <a:avLst/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Injector (U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6705720" y="2286000"/>
            <a:ext cx="1657080" cy="111456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1066680" y="3505320"/>
            <a:ext cx="1249560" cy="150012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3"/>
          <a:stretch/>
        </p:blipFill>
        <p:spPr>
          <a:xfrm>
            <a:off x="6324480" y="4800600"/>
            <a:ext cx="2462400" cy="129708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5867280" y="2971800"/>
            <a:ext cx="838440" cy="0"/>
          </a:xfrm>
          <a:prstGeom prst="line">
            <a:avLst/>
          </a:prstGeom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286000" y="4191120"/>
            <a:ext cx="1295280" cy="0"/>
          </a:xfrm>
          <a:prstGeom prst="line">
            <a:avLst/>
          </a:prstGeom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019920" y="5410080"/>
            <a:ext cx="304560" cy="0"/>
          </a:xfrm>
          <a:prstGeom prst="line">
            <a:avLst/>
          </a:prstGeom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istemas de Inyección Diese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2667240" cy="265104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2895480" y="2666880"/>
            <a:ext cx="594360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istema de Inyecció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278240" y="1371600"/>
            <a:ext cx="4603320" cy="642600"/>
          </a:xfrm>
          <a:prstGeom prst="rect">
            <a:avLst/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tivation for using electronically-controll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jection Systems in diesel eng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425840" y="2209680"/>
            <a:ext cx="4413240" cy="4298400"/>
          </a:xfrm>
          <a:prstGeom prst="rect">
            <a:avLst/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issions regul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roved engine respo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rove fuel economy while complying with emission regul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stomized engines for various appl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lue added feat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er cost to cumbersome mechanical add-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ll-authority parameter control and flexible implementation of control strateg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lexible injection tim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lexible injected quantity mete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educed shot-to-shot variabi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educed cylinder-to-cylinder variabi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moke control strateg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228600" y="4572000"/>
            <a:ext cx="3809880" cy="201780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38098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istema de Inyecció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457200" y="1957320"/>
            <a:ext cx="4038480" cy="147636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4648320" y="1935000"/>
            <a:ext cx="4038480" cy="152100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3"/>
          <a:stretch/>
        </p:blipFill>
        <p:spPr>
          <a:xfrm>
            <a:off x="457200" y="4268880"/>
            <a:ext cx="4038480" cy="153972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4"/>
          <a:stretch/>
        </p:blipFill>
        <p:spPr>
          <a:xfrm>
            <a:off x="4648320" y="4278240"/>
            <a:ext cx="403848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2193840" y="1600200"/>
            <a:ext cx="4889520" cy="4691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1" name="" descr=""/>
          <p:cNvPicPr/>
          <p:nvPr/>
        </p:nvPicPr>
        <p:blipFill>
          <a:blip r:embed="rId2"/>
          <a:stretch/>
        </p:blipFill>
        <p:spPr>
          <a:xfrm>
            <a:off x="289080" y="2514600"/>
            <a:ext cx="1895400" cy="12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2" name="" descr=""/>
          <p:cNvPicPr/>
          <p:nvPr/>
        </p:nvPicPr>
        <p:blipFill>
          <a:blip r:embed="rId3"/>
          <a:stretch/>
        </p:blipFill>
        <p:spPr>
          <a:xfrm>
            <a:off x="1447920" y="838080"/>
            <a:ext cx="1885680" cy="12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3" name="" descr=""/>
          <p:cNvPicPr/>
          <p:nvPr/>
        </p:nvPicPr>
        <p:blipFill>
          <a:blip r:embed="rId4"/>
          <a:stretch/>
        </p:blipFill>
        <p:spPr>
          <a:xfrm>
            <a:off x="3962520" y="276120"/>
            <a:ext cx="1895400" cy="130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4" name="" descr=""/>
          <p:cNvPicPr/>
          <p:nvPr/>
        </p:nvPicPr>
        <p:blipFill>
          <a:blip r:embed="rId5"/>
          <a:stretch/>
        </p:blipFill>
        <p:spPr>
          <a:xfrm>
            <a:off x="6477120" y="838080"/>
            <a:ext cx="1895400" cy="12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5" name="" descr=""/>
          <p:cNvPicPr/>
          <p:nvPr/>
        </p:nvPicPr>
        <p:blipFill>
          <a:blip r:embed="rId6"/>
          <a:stretch/>
        </p:blipFill>
        <p:spPr>
          <a:xfrm>
            <a:off x="7086600" y="2533680"/>
            <a:ext cx="1886040" cy="12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16:39:20Z</dcterms:created>
  <dc:creator> </dc:creator>
  <dc:description/>
  <dc:language>en-US</dc:language>
  <cp:lastModifiedBy>Sebastian Tolvett C.</cp:lastModifiedBy>
  <dcterms:modified xsi:type="dcterms:W3CDTF">2006-11-22T22:21:53Z</dcterms:modified>
  <cp:revision>37</cp:revision>
  <dc:subject/>
  <dc:title>Seminario de Tecnología Diesel</dc:title>
</cp:coreProperties>
</file>