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0.png" ContentType="image/png"/>
  <Override PartName="/ppt/media/image5.wmf" ContentType="image/x-wmf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623E5-5713-414E-BF9D-7F1D7182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360B7-3B1D-4167-902E-22ADD501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63C57-BB73-47EE-BD97-A6292A59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48F15-2258-4DE9-ACE7-FF89B4D6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60D63-75FE-4841-886F-4FC34070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13E9D-274B-4BCA-BE48-00C9DCAD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5A24F-0E6F-40D4-937F-6256F330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0098C-9B89-4FA8-8BDA-4021485F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7E680-484D-46EC-A8B0-E5F82620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878C7-966C-4E00-AF11-B1C7E897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75805-EE01-4B32-B40E-B4A44458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144EE-2455-446F-B323-CC98EE2D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4591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20-24 Octubre 2003, Santiago, Ch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4932360" y="6453000"/>
            <a:ext cx="374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XI Congreso Chileno de Ingeniería de Transpo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45B8-2B4D-4B71-9BC7-C31A39BFF701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9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cc"/>
                </a:solidFill>
                <a:latin typeface="Arial"/>
              </a:rPr>
              <a:t>Determinación experimental de ciclos de conducción de vehículos livianos para la ciudad de Santiag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5734080"/>
            <a:ext cx="89647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XI Congreso Chileno de Ingeniería de Transpor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20 al 24 Octubre 2003, Santiago, Chi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8880" y="3429000"/>
            <a:ext cx="4059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Expone:</a:t>
            </a:r>
            <a:br>
              <a:rPr sz="1800"/>
            </a:b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Mauricio Osse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maosses@ing.uchile.cl)</a:t>
            </a:r>
            <a:br>
              <a:rPr sz="1800"/>
            </a:b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Departamento de Ingeniería Mecánica</a:t>
            </a:r>
            <a:br>
              <a:rPr sz="1800"/>
            </a:b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Co-autor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Diego Rojas, CONASET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Determinación y caracterización de microcicl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003560" y="63360"/>
            <a:ext cx="5077080" cy="422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24800" y="260280"/>
            <a:ext cx="216000" cy="2160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692360" y="2997360"/>
            <a:ext cx="5871960" cy="3330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640" y="1413000"/>
            <a:ext cx="815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Se define como microciclo a una traza de la curva de operación que se encuentra entre dos intersecciones consecutivas de la velocidad promedio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Cada microciclo tiene una matriz de frecuencia asociada, utilizando los mismos parámetros de la curva de operación principa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Obtención de trazas representativ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003560" y="63360"/>
            <a:ext cx="5077080" cy="422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624800" y="260280"/>
            <a:ext cx="216000" cy="2160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273640" y="1125360"/>
            <a:ext cx="3497400" cy="532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8360" y="1413000"/>
            <a:ext cx="4556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El procedimiento se inicia calculando la matriz de frecuencia M’ de cada curva de operación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De todos los microciclos disponibles, se escoge en primer lugar aquel cuya matriz de frecuencia tenga el mejor coeficiente de correlación con M’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osteriormente, se agregan otros microciclos de manera tal que la matriz de frecuencia conjunta ofrezca un coeficiente de correlación optimizado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Finalmente, se agregan periodos de velocidad nula hasta completar ciclos de 240 segundos de duración (Ciclo de Automóviles de Santiago, CASxx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51640" y="2124000"/>
            <a:ext cx="28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61000" y="3860640"/>
            <a:ext cx="2881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cc"/>
                </a:solidFill>
                <a:latin typeface="Arial"/>
              </a:rPr>
              <a:t>Ciclos de conducción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003560" y="63360"/>
            <a:ext cx="5077080" cy="422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094600" y="260280"/>
            <a:ext cx="216000" cy="2160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619280" y="3213000"/>
            <a:ext cx="5511600" cy="3225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68360" y="1413000"/>
            <a:ext cx="844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Se obtuvieron 10 ciclos de conducción para vehículos livianos de pasajeros, cada uno asociado a un rango de velocidad medi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os ciclos obtenidos presentan correlaciones por sobre 99% al ser comparados con las curvas experimentales originales, garantizando que se mantienen las características de dinámica de conducción observadas en los circuitos reale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ffffcc"/>
                </a:solidFill>
                <a:latin typeface="Arial"/>
              </a:rPr>
              <a:t>Ciclos de conducción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600200"/>
          <a:ext cx="4691160" cy="4530600"/>
        </p:xfrm>
        <a:graphic>
          <a:graphicData uri="http://schemas.openxmlformats.org/drawingml/2006/table">
            <a:tbl>
              <a:tblPr/>
              <a:tblGrid>
                <a:gridCol w="2144880"/>
                <a:gridCol w="1306440"/>
                <a:gridCol w="1239840"/>
              </a:tblGrid>
              <a:tr h="59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arámetros de comparació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urva de trabajo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iclo CAS4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# Paradas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% Tiempo detenido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% Tiempo operació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% Tiempo acelerando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% Tiempo frenando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% Tiempo crucero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.1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1.87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6.6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5.31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9.91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.5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2.5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6.67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4.17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1.67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elocidad promedio (km/h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elocidad máxima (km/h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4.8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9.6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3.31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0.79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eleración promedio (m/s</a:t>
                      </a:r>
                      <a:r>
                        <a:rPr b="0" lang="es-CL" sz="1200" spc="-1" strike="noStrike" baseline="30000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renada promedio (m/s</a:t>
                      </a:r>
                      <a:r>
                        <a:rPr b="0" lang="es-CL" sz="1200" spc="-1" strike="noStrike" baseline="30000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9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-0.9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91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-0.9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istancia recorrida (m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898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22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% Correlació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2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# Intervalos velocidades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# Intervalos aceleraciones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# Intervalos frenadas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003560" y="63360"/>
            <a:ext cx="5077080" cy="422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8094600" y="260280"/>
            <a:ext cx="216000" cy="2160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64000" y="1700280"/>
          <a:ext cx="3524400" cy="4368600"/>
        </p:xfrm>
        <a:graphic>
          <a:graphicData uri="http://schemas.openxmlformats.org/drawingml/2006/table">
            <a:tbl>
              <a:tblPr/>
              <a:tblGrid>
                <a:gridCol w="1465560"/>
                <a:gridCol w="1039680"/>
                <a:gridCol w="1019160"/>
              </a:tblGrid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ango de velocidad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km/h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uración total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m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Índice de correlación (%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-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76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8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-1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61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7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-1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15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9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-2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35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9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-3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34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79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0-4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98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2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0-5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429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6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0-6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2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7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0-7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9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0-8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77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6.67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 flipV="1">
            <a:off x="4788000" y="4436640"/>
            <a:ext cx="93636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038840" cy="300492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5724360" y="5084640"/>
            <a:ext cx="1460520" cy="1154160"/>
            <a:chOff x="5724360" y="5084640"/>
            <a:chExt cx="1460520" cy="1154160"/>
          </a:xfrm>
        </p:grpSpPr>
        <p:grpSp>
          <p:nvGrpSpPr>
            <p:cNvPr id="163" name=""/>
            <p:cNvGrpSpPr/>
            <p:nvPr/>
          </p:nvGrpSpPr>
          <p:grpSpPr>
            <a:xfrm>
              <a:off x="5724360" y="5950080"/>
              <a:ext cx="739800" cy="288720"/>
              <a:chOff x="5724360" y="5950080"/>
              <a:chExt cx="739800" cy="288720"/>
            </a:xfrm>
          </p:grpSpPr>
          <p:sp>
            <p:nvSpPr>
              <p:cNvPr id="164" name=""/>
              <p:cNvSpPr/>
              <p:nvPr/>
            </p:nvSpPr>
            <p:spPr>
              <a:xfrm>
                <a:off x="5724360" y="5950080"/>
                <a:ext cx="739800" cy="28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cc"/>
                    </a:solidFill>
                    <a:latin typeface="Franklin Gothic Medium"/>
                  </a:rPr>
                  <a:t>NO</a:t>
                </a:r>
                <a:endParaRPr b="0" lang="en-US" sz="12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103800" y="6013440"/>
                <a:ext cx="288720" cy="144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6445080" y="5950080"/>
              <a:ext cx="739800" cy="288720"/>
              <a:chOff x="6445080" y="5950080"/>
              <a:chExt cx="739800" cy="288720"/>
            </a:xfrm>
          </p:grpSpPr>
          <p:sp>
            <p:nvSpPr>
              <p:cNvPr id="167" name=""/>
              <p:cNvSpPr/>
              <p:nvPr/>
            </p:nvSpPr>
            <p:spPr>
              <a:xfrm>
                <a:off x="6445080" y="5950080"/>
                <a:ext cx="739800" cy="28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cc"/>
                    </a:solidFill>
                    <a:latin typeface="Franklin Gothic Medium"/>
                  </a:rPr>
                  <a:t>N2O</a:t>
                </a:r>
                <a:endParaRPr b="0" lang="en-US" sz="12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24520" y="6013440"/>
                <a:ext cx="288720" cy="144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5724360" y="5661000"/>
              <a:ext cx="739800" cy="288720"/>
              <a:chOff x="5724360" y="5661000"/>
              <a:chExt cx="739800" cy="288720"/>
            </a:xfrm>
          </p:grpSpPr>
          <p:sp>
            <p:nvSpPr>
              <p:cNvPr id="170" name=""/>
              <p:cNvSpPr/>
              <p:nvPr/>
            </p:nvSpPr>
            <p:spPr>
              <a:xfrm>
                <a:off x="5724360" y="5661000"/>
                <a:ext cx="739800" cy="28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cc"/>
                    </a:solidFill>
                    <a:latin typeface="Franklin Gothic Medium"/>
                  </a:rPr>
                  <a:t>CO</a:t>
                </a:r>
                <a:endParaRPr b="0" lang="en-US" sz="12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03800" y="5724360"/>
                <a:ext cx="288720" cy="144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6445080" y="5661000"/>
              <a:ext cx="739800" cy="288720"/>
              <a:chOff x="6445080" y="5661000"/>
              <a:chExt cx="739800" cy="288720"/>
            </a:xfrm>
          </p:grpSpPr>
          <p:sp>
            <p:nvSpPr>
              <p:cNvPr id="173" name=""/>
              <p:cNvSpPr/>
              <p:nvPr/>
            </p:nvSpPr>
            <p:spPr>
              <a:xfrm>
                <a:off x="6445080" y="5661000"/>
                <a:ext cx="739800" cy="28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cc"/>
                    </a:solidFill>
                    <a:latin typeface="Franklin Gothic Medium"/>
                  </a:rPr>
                  <a:t>NH3</a:t>
                </a:r>
                <a:endParaRPr b="0" lang="en-US" sz="12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24520" y="5724360"/>
                <a:ext cx="288720" cy="144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5724360" y="5373720"/>
              <a:ext cx="739800" cy="288720"/>
              <a:chOff x="5724360" y="5373720"/>
              <a:chExt cx="739800" cy="288720"/>
            </a:xfrm>
          </p:grpSpPr>
          <p:sp>
            <p:nvSpPr>
              <p:cNvPr id="176" name=""/>
              <p:cNvSpPr/>
              <p:nvPr/>
            </p:nvSpPr>
            <p:spPr>
              <a:xfrm>
                <a:off x="5724360" y="5373720"/>
                <a:ext cx="739800" cy="28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cc"/>
                    </a:solidFill>
                    <a:latin typeface="Franklin Gothic Medium"/>
                  </a:rPr>
                  <a:t>HC</a:t>
                </a:r>
                <a:endParaRPr b="0" lang="en-US" sz="12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03800" y="5437080"/>
                <a:ext cx="288720" cy="144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6445080" y="5373720"/>
              <a:ext cx="739800" cy="288720"/>
              <a:chOff x="6445080" y="5373720"/>
              <a:chExt cx="739800" cy="288720"/>
            </a:xfrm>
          </p:grpSpPr>
          <p:sp>
            <p:nvSpPr>
              <p:cNvPr id="179" name=""/>
              <p:cNvSpPr/>
              <p:nvPr/>
            </p:nvSpPr>
            <p:spPr>
              <a:xfrm>
                <a:off x="6445080" y="5373720"/>
                <a:ext cx="739800" cy="28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cc"/>
                    </a:solidFill>
                    <a:latin typeface="Franklin Gothic Medium"/>
                  </a:rPr>
                  <a:t>CH4</a:t>
                </a:r>
                <a:endParaRPr b="0" lang="en-US" sz="12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824520" y="5437080"/>
                <a:ext cx="288720" cy="144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5724360" y="5084640"/>
              <a:ext cx="739800" cy="288720"/>
              <a:chOff x="5724360" y="5084640"/>
              <a:chExt cx="739800" cy="288720"/>
            </a:xfrm>
          </p:grpSpPr>
          <p:sp>
            <p:nvSpPr>
              <p:cNvPr id="182" name=""/>
              <p:cNvSpPr/>
              <p:nvPr/>
            </p:nvSpPr>
            <p:spPr>
              <a:xfrm>
                <a:off x="5724360" y="5084640"/>
                <a:ext cx="739800" cy="28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cc"/>
                    </a:solidFill>
                    <a:latin typeface="Franklin Gothic Medium"/>
                  </a:rPr>
                  <a:t>PM</a:t>
                </a:r>
                <a:endParaRPr b="0" lang="en-US" sz="12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03800" y="5148000"/>
                <a:ext cx="288720" cy="144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445080" y="5084640"/>
              <a:ext cx="739800" cy="288720"/>
              <a:chOff x="6445080" y="5084640"/>
              <a:chExt cx="739800" cy="288720"/>
            </a:xfrm>
          </p:grpSpPr>
          <p:sp>
            <p:nvSpPr>
              <p:cNvPr id="185" name=""/>
              <p:cNvSpPr/>
              <p:nvPr/>
            </p:nvSpPr>
            <p:spPr>
              <a:xfrm>
                <a:off x="6445080" y="5084640"/>
                <a:ext cx="739800" cy="28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cc"/>
                    </a:solidFill>
                    <a:latin typeface="Franklin Gothic Medium"/>
                  </a:rPr>
                  <a:t>CO2</a:t>
                </a:r>
                <a:endParaRPr b="0" lang="en-US" sz="12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24520" y="5148000"/>
                <a:ext cx="288720" cy="144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 flipH="1">
            <a:off x="3924360" y="5589720"/>
            <a:ext cx="1727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58920" y="4508640"/>
            <a:ext cx="2592360" cy="1858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rot="5400000">
            <a:off x="7632360" y="4689360"/>
            <a:ext cx="1008000" cy="36036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68360" y="1700280"/>
            <a:ext cx="4038480" cy="2763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H="1">
            <a:off x="6516720" y="2421000"/>
            <a:ext cx="719280" cy="259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3068640"/>
            <a:ext cx="187308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ffffcc"/>
                </a:solidFill>
                <a:latin typeface="Arial"/>
              </a:rPr>
              <a:t>Utilización de los ciclos de conducción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1440" y="2971800"/>
            <a:ext cx="645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Mayores antecedentes contactarse con Mauricio Oss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maosses@ing.uchile.c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cc"/>
                </a:solidFill>
                <a:latin typeface="Arial"/>
              </a:rPr>
              <a:t>Resumen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Objetivo: determinar experimentalmente ciclos de conducción dependientes de la velocidad media del recorrido, para vehículos livianos de pasajer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La metodología consta de 3 etapa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2300" spc="-1" strike="noStrike">
                <a:solidFill>
                  <a:srgbClr val="ffffcc"/>
                </a:solidFill>
                <a:latin typeface="Arial"/>
              </a:rPr>
              <a:t>Selección de arcos viales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2300" spc="-1" strike="noStrike">
                <a:solidFill>
                  <a:srgbClr val="ffffcc"/>
                </a:solidFill>
                <a:latin typeface="Arial"/>
              </a:rPr>
              <a:t>Medición de trazas velocidad-tiempo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2300" spc="-1" strike="noStrike">
                <a:solidFill>
                  <a:srgbClr val="ffffcc"/>
                </a:solidFill>
                <a:latin typeface="Arial"/>
              </a:rPr>
              <a:t>Procesamiento (agrupación de microciclos)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Obtención de 10 ciclos para Santiag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romedio de velocidad 26.69 km/hr, aceleración 1.00 m/s</a:t>
            </a:r>
            <a:r>
              <a:rPr b="0" lang="es-MX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, tiempo detenido 22.14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1640" y="5877000"/>
            <a:ext cx="6753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cc"/>
                </a:solidFill>
                <a:latin typeface="Arial"/>
              </a:rPr>
              <a:t>Introducción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Un ciclo de conducción se define como una secuencia tiempo-velocidad obtenida a partir de información estadísticamente representativa de un área determinad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Los ciclos de conducción se utilizan para obtener factores experimentales de emisión de contaminantes atmosféricos generados por vehículos motorizad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El ciclo de conducción debe reflejar la dinámica de conducción observada en operación re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La metodología propuesta considera específicamente las variables de aceleración instantánea para distintos niveles de velocidad y se asegura semejanza mediante un algoritmo de optimización basado en comparación de matrices aceleración-velocida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cc"/>
                </a:solidFill>
                <a:latin typeface="Arial"/>
              </a:rPr>
              <a:t>Selección de recorrido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003560" y="63360"/>
            <a:ext cx="5077080" cy="422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4594320" cy="5208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292720" y="1341360"/>
            <a:ext cx="3851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La selección de recorridos se efectuó a partir de la Red Vial ESTRAUS 1997 de Santiago (7567 arcos, 12 categorías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Los criterios de selección son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Velocidad medi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lujo tota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Tipo de arco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Distribución geográfic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Vías prioritarias de TP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Porcentaje de taxi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Arcos saturados en P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Se encontraron 23 combinaciones no vacías y 186 arcos, generando 12 circuitos finale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8240" y="260280"/>
            <a:ext cx="215640" cy="2160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43480" y="3665520"/>
            <a:ext cx="3621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Se utilizó un vehículo instrumentado conducido por distintas personas en diferentes horario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Se recorrieron los circuitos definidos previamente, registrando datos de tiempo y velocidad, de acuerdo al método del vehículo flotante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cc"/>
                </a:solidFill>
                <a:latin typeface="Arial"/>
              </a:rPr>
              <a:t>Toma de dato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003560" y="63360"/>
            <a:ext cx="5077080" cy="422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4594320" cy="5208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148360" y="3645000"/>
            <a:ext cx="3833640" cy="2789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700360" y="2565360"/>
            <a:ext cx="649440" cy="64944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1197000"/>
            <a:ext cx="5332320" cy="2266920"/>
            <a:chOff x="3348000" y="1197000"/>
            <a:chExt cx="5332320" cy="2266920"/>
          </a:xfrm>
        </p:grpSpPr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5508720" y="1197000"/>
              <a:ext cx="317160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flipV="1">
              <a:off x="3348000" y="2276640"/>
              <a:ext cx="2160720" cy="5047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012000" y="260280"/>
            <a:ext cx="215640" cy="2160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cc"/>
                </a:solidFill>
                <a:latin typeface="Arial"/>
              </a:rPr>
              <a:t>Toma de dato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52000" cy="4578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003560" y="63360"/>
            <a:ext cx="5077080" cy="422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12000" y="260280"/>
            <a:ext cx="215640" cy="2160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8200" y="1792440"/>
            <a:ext cx="77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00"/>
                </a:solidFill>
                <a:latin typeface="Arial"/>
              </a:rPr>
              <a:t>Se recolectaron 10 horas (36,000 segundos) de observaciones velocidad-tiempo (curva de trabajo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cc"/>
                </a:solidFill>
                <a:latin typeface="Arial"/>
              </a:rPr>
              <a:t>Procesamiento de información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Agrupación de arcos viales por velocidad medi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Caracterización de variables relevan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Determinación y caracterización de microcicl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Obtención de trazas representativ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003560" y="63360"/>
            <a:ext cx="5077080" cy="422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624800" y="260280"/>
            <a:ext cx="216000" cy="2160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Agrupación de arcos por velocidad medi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266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La información total se subdivide por arcos viales de la red ESTRAU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Los datos se clasifican según su velocidad media en 10 grupos (curva de trabajo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003560" y="63360"/>
            <a:ext cx="5077080" cy="422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624800" y="260280"/>
            <a:ext cx="216000" cy="2160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59280" y="1628640"/>
            <a:ext cx="5795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Caracterización de variables relevan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003560" y="63360"/>
            <a:ext cx="5077080" cy="422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24800" y="260280"/>
            <a:ext cx="216000" cy="2160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675640" cy="824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851280" y="2565360"/>
            <a:ext cx="5076720" cy="3808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8920" y="2349360"/>
            <a:ext cx="379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Se eliminan los periodos con velocidad nula y se asegura continuidad (curva de operación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La dinámica de conducción se define por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Tiempo detenido (%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Tiempo en operación (%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Velocidad media (km/h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Aceleración media (m/s</a:t>
            </a:r>
            <a:r>
              <a:rPr b="0" lang="es-MX" sz="1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Desaceleración media (m/s</a:t>
            </a:r>
            <a:r>
              <a:rPr b="0" lang="es-MX" sz="1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Se construye una matriz de frecuencia velocidad-aceleración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21:52:48Z</dcterms:created>
  <dc:creator> </dc:creator>
  <dc:description/>
  <dc:language>en-US</dc:language>
  <cp:lastModifiedBy> </cp:lastModifiedBy>
  <dcterms:modified xsi:type="dcterms:W3CDTF">2003-10-22T14:00:01Z</dcterms:modified>
  <cp:revision>8</cp:revision>
  <dc:subject/>
  <dc:title>Determinación experimental de ciclos de conducción de vehículos livianos para la ciudad de Santiago </dc:title>
</cp:coreProperties>
</file>