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DF33-ED33-469E-B3A5-EE8198D2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A536-CEDD-4EC2-84D3-B13F017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E09C-5F5E-4490-A80E-E3B02075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369D-979F-4FD7-B31B-69C0F1B7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9082-D924-4381-8978-9D93ACE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759A-625C-443F-9074-4BEECAE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05F0-544A-4F15-96BA-0D4D886E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226-4FC7-4A07-98D8-C2C9FAD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C18-B33F-490F-834C-3174C03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00E-AC39-4A50-804D-09A58DB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E6C3-6CBF-49C2-83AD-139592C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982E-0F96-4F60-B2F2-4471BA1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70E2-E03B-46B8-B00C-9261F26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A39-45E7-4A4E-B696-3A0F25F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FD6C-A983-4F45-B3A2-D64A32A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E915-2691-4FE8-9512-A97897B3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A75-F558-4F9D-A5BE-79093818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0A91-5C2D-444D-9E6C-169640DB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7C25-C20B-4037-B65D-1512BC9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673E-6253-4E19-8818-25E9112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017E-F08E-4F17-89A1-565D0EF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C1C1-D33D-4283-868B-DC3DF89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0C15-35F2-4E90-B8CF-3A29BE4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D987-2244-4A2A-9785-456F620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982-5993-48B4-B4B2-C0EDFC4E75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757-4273-4B62-8DDA-8858A94C28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xiliar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SIMULACIÓN DE PROCES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BRICACIÓN CON AREN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57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Mantención de Maqu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baldo Retamal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1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trata de simular el proceso de fabricación de un producto que está compuesto por 3 elementos: 2 tapas (la superior y la inferior), y el interi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apas llegan a la línea de fabricación según un proceso de Poisson de media 5 tapas/h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50% son tapas superiores y el otro 50% inferi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vez recibidas, es necesario pintarlas, para lo que pasan de una en una; por un proceso de pintura cuya duración es independiente de la clase de tapa que se trate; se ha comprobado que se distribuye según una triangular de tiempo mínimo 6, medio 9 y máximo 12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y un control de calidad del proceso de pintura que separa las tapas correctamente pintadas (el 95%) de las defectuosas, las cuales vuelven al proceso de pintura de nue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otra parte, el elemento interior del producto final, llega a la línea de fabricación empaquetado en cajas de 3 unidades, siguiendo una distribución exponencial de media 64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ceso de desempaquetado lo realiza una máquina que tarda en realizar el trabajo un tiempo que se distribuye según una uniforme entre 30 y 5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más, esta misma máquina separa las unidades defectuosas (el 10%) y las envía a chatar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iormente, se tiene una máquina que hace el ensamblaje de una tapa superior, una inferior y un elemento interior para constituir 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de ensamblado se distribuye según una normal de media 15 minutos y varianza 10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trata de simular el proceso para calcular cuantas unidades del producto final es posible fabricar en 1 mes (30 días) con jornadas de 8 ho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4:13:41Z</dcterms:created>
  <dc:creator>Nibaldo Retamal</dc:creator>
  <dc:description/>
  <dc:language>en-US</dc:language>
  <cp:lastModifiedBy>Nibaldo Retamal</cp:lastModifiedBy>
  <dcterms:modified xsi:type="dcterms:W3CDTF">2006-08-11T04:28:34Z</dcterms:modified>
  <cp:revision>2</cp:revision>
  <dc:subject/>
  <dc:title>Auxiliar 2:  “SIMULACIÓN DE PROCESOS DE FABRICACIÓN CON ARENA”</dc:title>
</cp:coreProperties>
</file>