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5C3D-29F6-4B81-98D3-0184E467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FF62-8224-4790-942E-096F6328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B27B1-E8C6-445F-B492-4FE9399A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A2F3-03EA-4868-8770-572839BE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DFE8-359A-48EB-8CB0-71C302BF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B583-EE2A-43C6-AE86-43083410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3F96-2C87-40B5-B2E5-758E1649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DBB5-9270-4A78-850F-6BBE6836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429A-5F8C-45D3-8DD1-5FCE6BF6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ABF4-20D2-482D-9111-3F09756B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7E26-319E-485A-9BC0-753F49DE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6CA0-D56B-4E6F-B337-C21FE594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BBE2-BA5A-4E05-BD93-5A5C7F40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6B81-9146-46CE-A8F3-560E103F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C7B6-2A2A-4CED-BAC7-E94DC2FB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31B6-70C9-45E4-B1FC-4C7156F3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536E-2ABB-457C-A03D-7994D648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D58E8-CC76-41CE-AD98-C49F273B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6B74D-686B-457B-9DE1-1887F566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AAB64-6090-40B5-93EE-8B9E6D5A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2DD8E-AD7F-402A-82A4-6804B41D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87879-569A-4B3B-AFF0-A816FA59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B2131-89F7-44FF-AB28-DA5F7362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A2F48-140C-4693-A2C9-FDCF7988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4CC2-5128-42C8-B6AD-77DD8808CB1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1343-D629-44A4-A5C3-221EA89DD8D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3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uxiliar 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“SIMULACIÓN DE PROCESOS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BRICACIÓN CON ARENA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57A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Mantención de Maquin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ibaldo Retamal 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1 de Agosto de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trata de simular el proceso de fabricación de un producto que está compuesto por 3 elementos: 2 tapas (la superior y la inferior), y el interio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Datos del Proces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s tapas llegan a la línea de fabricación según un proceso de Poisson de media 5 tapas/ho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50% son tapas superiores y el otro 50% inferi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a vez recibidas, es necesario pintarlas, para lo que pasan de una en una; por un proceso de pintura cuya duración es independiente de la clase de tapa que se trate; se ha comprobado que se distribuye según una triangular de tiempo mínimo 6, medio 9 y máximo 12 minu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ay un control de calidad del proceso de pintura que separa las tapas correctamente pintadas (el 95%) de las defectuosas, las cuales vuelven al proceso de pintura de nuev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Datos del Proces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 otra parte, el elemento interior del producto final, llega a la línea de fabricación empaquetado en cajas de 3 unidades, siguiendo una distribución exponencial de media 64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roceso de desempaquetado lo realiza una máquina que tarda en realizar el trabajo un tiempo que se distribuye según una uniforme entre 30 y 50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más, esta misma máquina separa las unidades defectuosas (el 10%) y las envía a chatar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Datos del Proces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eriormente, se tiene una máquina que hace el ensamblaje de una tapa superior, una inferior y un elemento interior para constituir 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tiempo de ensamblado se distribuye según una normal de media 15 minutos y varianza 10 minu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trata de simular el proceso para calcular cuantas unidades del producto final es posible fabricar en 1 mes (30 días) con jornadas de 8 hora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4:13:41Z</dcterms:created>
  <dc:creator>Nibaldo Retamal</dc:creator>
  <dc:description/>
  <dc:language>en-US</dc:language>
  <cp:lastModifiedBy>Nibaldo Retamal</cp:lastModifiedBy>
  <dcterms:modified xsi:type="dcterms:W3CDTF">2006-08-11T04:28:34Z</dcterms:modified>
  <cp:revision>2</cp:revision>
  <dc:subject/>
  <dc:title>Auxiliar 2:  “SIMULACIÓN DE PROCESOS DE FABRICACIÓN CON ARENA”</dc:title>
</cp:coreProperties>
</file>