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282D-AA89-45A5-9106-A88B701F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F1E33-510E-4B98-838D-8DB675CE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AD84-3829-4E46-A77F-BFC27C7D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AEA2-F396-4146-81AA-C517CA3A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B100-AC50-421B-96BE-A901CC0D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A03A-8686-4BBD-9B61-E992B3BA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C956-C5B8-4E3C-977D-E117FF26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D8F7-859D-4FA1-B71C-F5EBE8BB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AEEB-2E27-4E3E-A951-141EF8BF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4C26-FBEA-48FC-ACD6-02E36050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BA3E-93AC-482C-8B35-FB63EE01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E042-CBAC-4F84-AF07-69C538AE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4E7F-8814-49B0-89A0-C5234BCC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13B6-7373-4C10-8D72-C246693F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364E-2D31-42B4-A430-FD59C79C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3088-5342-4274-A9F3-69058DBC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5B15-911E-4154-9DC4-4D0685A9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5C2D-E6C8-47E7-9525-F2D749BB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EC589-0F7F-489C-A549-BAF53E64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CC36-DA50-4429-AAE1-B96B15F6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CE0C0-EF54-41FF-8874-8C9F3157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E4CFD-D7F0-44A5-A49F-CFD91702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4402-F8DA-4D9F-8A3B-96840451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1C4A-0E78-4A6E-9A7D-E298BC2D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1349-6178-4415-83D0-C10E1B724AF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2A21-CDFF-431B-9827-DCFAA913ACC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3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uxiliar 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“SIMULACIÓN DE PROCESOS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BRICACIÓN CON ARENA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57A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Mantención de Maquin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ibaldo Retamal 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1 de Agosto de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trata de simular el proceso de fabricación de un producto que está compuesto por 3 elementos: 2 tapas (la superior y la inferior), y el interio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Datos del Proces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tapas llegan a la línea de fabricación según un proceso de Poisson de media 5 tapas/ho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50% son tapas superiores y el otro 50% inferi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a vez recibidas, es necesario pintarlas, para lo que pasan de una en una; por un proceso de pintura cuya duración es independiente de la clase de tapa que se trate; se ha comprobado que se distribuye según una triangular de tiempo mínimo 6, medio 9 y máximo 12 minu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ay un control de calidad del proceso de pintura que separa las tapas correctamente pintadas (el 95%) de las defectuosas, las cuales vuelven al proceso de pintura de nuev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Datos del Proces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 otra parte, el elemento interior del producto final, llega a la línea de fabricación empaquetado en cajas de 3 unidades, siguiendo una distribución exponencial de media 64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roceso de desempaquetado lo realiza una máquina que tarda en realizar el trabajo un tiempo que se distribuye según una uniforme entre 30 y 50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más, esta misma máquina separa las unidades defectuosas (el 10%) y las envía a chatar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Datos del Proceso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eriormente, se tiene una máquina que hace el ensamblaje de una tapa superior, una inferior y un elemento interior para constituir 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tiempo de ensamblado se distribuye según una normal de media 15 minutos y varianza 10 minu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trata de simular el proceso para calcular cuantas unidades del producto final es posible fabricar en 1 mes (30 días) con jornadas de 8 hora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4:13:41Z</dcterms:created>
  <dc:creator>Nibaldo Retamal</dc:creator>
  <dc:description/>
  <dc:language>en-US</dc:language>
  <cp:lastModifiedBy>Nibaldo Retamal</cp:lastModifiedBy>
  <dcterms:modified xsi:type="dcterms:W3CDTF">2006-08-11T04:28:34Z</dcterms:modified>
  <cp:revision>2</cp:revision>
  <dc:subject/>
  <dc:title>Auxiliar 2:  “SIMULACIÓN DE PROCESOS DE FABRICACIÓN CON ARENA”</dc:title>
</cp:coreProperties>
</file>