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EF70-13EB-425A-A8E3-2CE33927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A33B-6413-4324-ACAB-A648F83E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41D7-BB0E-4F72-93C0-77A0C547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DEF08-4CD3-4450-87D4-ED8C5E84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0F45-454E-467C-9BD0-AFB67F13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4BF9-7AE8-4086-8B26-BBE5B4F5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3DE3-A6E7-4ED8-B718-8EE1EDFD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E813-CE6F-49C1-BD7E-F8784905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E675-AFAE-4704-8A6A-DF1C3A24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889C-C37B-4520-9493-D027A27E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22C4-F2ED-4630-9E06-B349CE3F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F74D-0E8F-4DA3-9A81-189DFFD2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F03E-30A4-497E-AA21-74135D55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9E62-CA0D-4714-97C8-7CAA94A8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EF06-AC4A-4252-86A7-7829EB26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4136-EE2E-474A-8476-2CEDDBA0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C01B-822F-4DB2-A3AD-693CB25C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A0BD6-487B-492C-975E-6F3CF5C6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4D93-740D-405D-B0EE-C69000F8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0E08-61EB-4ED8-B374-E45F666B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1212-0224-40C7-BDDA-FFD04D28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1E1E-DB64-41B3-9F5D-A573AE6E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C799-7A04-4BD0-924E-2B8FB450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8E5C-A803-4E2E-AF35-66AFE55E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0659-5544-40C0-835D-644322870C0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F72C-C280-414F-898B-3FDB7C0F7AE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3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uxiliar 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“SIMULACIÓN DE PROCESOS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BRICACIÓN CON ARENA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57A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Mantención de Maquin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ibaldo Retamal 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1 de Agosto de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trata de simular el proceso de fabricación de un producto que está compuesto por 3 elementos: 2 tapas (la superior y la inferior), y el interio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Datos del Proces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tapas llegan a la línea de fabricación según un proceso de Poisson de media 5 tapas/ho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50% son tapas superiores y el otro 50% inferi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a vez recibidas, es necesario pintarlas, para lo que pasan de una en una; por un proceso de pintura cuya duración es independiente de la clase de tapa que se trate; se ha comprobado que se distribuye según una triangular de tiempo mínimo 6, medio 9 y máximo 12 minu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ay un control de calidad del proceso de pintura que separa las tapas correctamente pintadas (el 95%) de las defectuosas, las cuales vuelven al proceso de pintura de nuev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Datos del Proces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 otra parte, el elemento interior del producto final, llega a la línea de fabricación empaquetado en cajas de 3 unidades, siguiendo una distribución exponencial de media 64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roceso de desempaquetado lo realiza una máquina que tarda en realizar el trabajo un tiempo que se distribuye según una uniforme entre 30 y 50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más, esta misma máquina separa las unidades defectuosas (el 10%) y las envía a chatar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Datos del Proces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eriormente, se tiene una máquina que hace el ensamblaje de una tapa superior, una inferior y un elemento interior para constituir 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tiempo de ensamblado se distribuye según una normal de media 15 minutos y varianza 10 minu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trata de simular el proceso para calcular cuantas unidades del producto final es posible fabricar en 1 mes (30 días) con jornadas de 8 hora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4:13:41Z</dcterms:created>
  <dc:creator>Nibaldo Retamal</dc:creator>
  <dc:description/>
  <dc:language>en-US</dc:language>
  <cp:lastModifiedBy>Nibaldo Retamal</cp:lastModifiedBy>
  <dcterms:modified xsi:type="dcterms:W3CDTF">2006-08-11T04:28:34Z</dcterms:modified>
  <cp:revision>2</cp:revision>
  <dc:subject/>
  <dc:title>Auxiliar 2:  “SIMULACIÓN DE PROCESOS DE FABRICACIÓN CON ARENA”</dc:title>
</cp:coreProperties>
</file>