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6CD1-1B08-4762-8B98-37EFDA6E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30CC-8043-41F3-B0E7-DE509786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A7DA-81AF-432A-B1E0-19099EF0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2E33-D6DB-49CF-93F9-73F48ECE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8E3A-DA86-49FE-ABF3-DA9856B2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6DE8-5BC7-4D73-86E3-4C3AB500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528F-FA3E-4E02-ADB8-1D8D92E1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96E9-A438-4F5C-AB30-D64C1E30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F692-F35B-43B9-84D1-8D9BAEB5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642F-995F-42F8-99EC-4179F866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3A98-CE3F-4356-B6FC-AD38AA7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84AA-AF2E-4B1B-B040-5CCA3A6D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6F5D-5C38-46E9-9E6C-41BA4FD5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B792-2AF8-4BF6-BE79-27E9F43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85D3-FC4C-4E65-B6F0-E1DD065A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F9B3-C7D2-4314-9C0E-D695A78C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7B97-E93B-4235-A8F0-2114946A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F975-36DD-4D4B-A007-BA510A49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5550-6B42-447E-995D-27BDE3B3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21D2-6CC6-430F-89D2-398CC780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4FDF-32F6-48A8-85F6-66C2BC63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B2F9-E23B-4ACB-9100-289A4E0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7160-22E0-49DE-BA0C-D607F19B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C0B6F-7A33-47F1-8DA7-93B92E5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BD0C-4FE4-465F-95D9-B0BA89BB26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1B51-78C4-45F6-AABB-A8ED681836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xiliar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“SIMULACIÓN DE PROCES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BRICACIÓN CON ARENA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57A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Mantención de Maqui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ibaldo Retamal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1 de Agosto de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trata de simular el proceso de fabricación de un producto que está compuesto por 3 elementos: 2 tapas (la superior y la inferior), y el interi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tapas llegan a la línea de fabricación según un proceso de Poisson de media 5 tapas/ho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50% son tapas superiores y el otro 50% inferi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a vez recibidas, es necesario pintarlas, para lo que pasan de una en una; por un proceso de pintura cuya duración es independiente de la clase de tapa que se trate; se ha comprobado que se distribuye según una triangular de tiempo mínimo 6, medio 9 y máximo 12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ay un control de calidad del proceso de pintura que separa las tapas correctamente pintadas (el 95%) de las defectuosas, las cuales vuelven al proceso de pintura de nuev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 otra parte, el elemento interior del producto final, llega a la línea de fabricación empaquetado en cajas de 3 unidades, siguiendo una distribución exponencial de media 64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oceso de desempaquetado lo realiza una máquina que tarda en realizar el trabajo un tiempo que se distribuye según una uniforme entre 30 y 50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más, esta misma máquina separa las unidades defectuosas (el 10%) y las envía a chatar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iormente, se tiene una máquina que hace el ensamblaje de una tapa superior, una inferior y un elemento interior para constituir 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tiempo de ensamblado se distribuye según una normal de media 15 minutos y varianza 10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trata de simular el proceso para calcular cuantas unidades del producto final es posible fabricar en 1 mes (30 días) con jornadas de 8 hora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4:13:41Z</dcterms:created>
  <dc:creator>Nibaldo Retamal</dc:creator>
  <dc:description/>
  <dc:language>en-US</dc:language>
  <cp:lastModifiedBy>Nibaldo Retamal</cp:lastModifiedBy>
  <dcterms:modified xsi:type="dcterms:W3CDTF">2006-08-11T04:28:34Z</dcterms:modified>
  <cp:revision>2</cp:revision>
  <dc:subject/>
  <dc:title>Auxiliar 2:  “SIMULACIÓN DE PROCESOS DE FABRICACIÓN CON ARENA”</dc:title>
</cp:coreProperties>
</file>