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69A-CCD8-49F0-BAD7-5823A09B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B9F-8A9C-4646-A883-222F40E4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80F-D9DF-47C5-882C-CB4D615F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0C8-E569-4749-AD69-B475C86A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9930-63B9-4C7C-A63A-717023F3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B3C2-F0AA-48CF-8208-D23B2182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2894-9321-431C-871C-ED3ECE89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B6DB-66C0-489C-A1E9-80C2604B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931F-8C6F-40C7-BB02-59D8DBD2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F439-4B17-4AFC-9480-B7441694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A5AB-40A7-4F9D-A242-6B24B99B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9FB-DA85-41BE-A36F-21AE466F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88D8-77E6-469E-9B2E-30B49905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5B19-5F29-4180-8F9B-12A4950B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2710-754E-4656-9444-3F5D981C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1431-3E8D-417C-A230-D592E344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8D12-05CF-4CA9-A495-74F57BDF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476-4A29-473A-AD0B-AB48EDA0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844-6A66-4F25-A063-8D66F0A8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5A2-5622-45D5-B3B4-99343A5C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247-613F-4620-8E58-5ECE1876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FB9-6456-4E20-A80A-6435470F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EDE-AD7E-4F42-A117-DA5340C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1C2-6D39-455A-A8C4-6B69D6E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46CD-A043-4E63-A965-8945DA7527D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D8B1-C710-4530-A5A1-C9EC451C7BB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uxiliar Nº 1 ME57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ergio Courtin V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Nibaldo Retamal 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03/08/06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8862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8000" y="1790640"/>
            <a:ext cx="4572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738360"/>
            <a:ext cx="698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en Ar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5438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rcicio en cl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alizar el siguiente problema en ARE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 tiene un equipo que puede tener 3 tipos distintos de falla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da falla sigue una distribución exponencial de media 4, 1 y 8 días respectivament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sten dos talleres de reparación: Mecánica (capacidad 2), Eléctrica (capacidad 2)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cánica se demora en reparar 3 días con una distribución exponencial, y Eléctrica 4 días con la misma distribución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da falla tiene una probabilidad de 0.6, 0.6 y 0.7 de requerir taller mecánico, y 0.5, 0.3, 0.4 de requerir taller eléctric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terminar el tiempo medio de espera en cola de ambos talleres y la tasa de ocupación de los talleres, si los talleres trabajan en serie y en paralelo. Para un tiempo de simulación de 200 día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trada de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Recursos del proce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iagrama de flujo del proce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istribución de las tare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obabilid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Esquema secuenci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alida de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Repor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emora en cada tare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emora tot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tilización de recurs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las en tare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s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olución económica al proble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¿Qué pasa sí...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Gran versatilida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so en innumerables proces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Crea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rea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Realiza procesos con las entidades utilizando recurs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eci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Escoge entre opcione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uplic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uplica las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Batc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Une las entida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971640" cy="552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971640" cy="852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869000"/>
            <a:ext cx="1008000" cy="760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79280" y="2708280"/>
            <a:ext cx="8654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ssig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signa atributos a las entidad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Dispo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Recibe las entidad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863640" cy="709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72072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4198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1762200"/>
            <a:ext cx="48862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so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0389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6:50:50Z</dcterms:created>
  <dc:creator>dimec</dc:creator>
  <dc:description/>
  <dc:language>en-US</dc:language>
  <cp:lastModifiedBy>dimec</cp:lastModifiedBy>
  <dcterms:modified xsi:type="dcterms:W3CDTF">2006-08-03T17:27:14Z</dcterms:modified>
  <cp:revision>8</cp:revision>
  <dc:subject/>
  <dc:title>Auxiliar Nº 1 ME57A SIMULACIÓN EN ARENA</dc:title>
</cp:coreProperties>
</file>