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64B-45DC-422E-B670-5E865D12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738-6B07-48E1-866E-57DEEE5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489-65B5-4654-8FDF-5D95649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84A-F350-4A4E-9EF2-59449ED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D4E-6FC3-459E-92F6-F6A1C49A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AF20-EBF0-4AAA-9EF3-7378FCB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AFE-2445-493C-8898-650AFD34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347-10EC-497D-ABFA-87DABD3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AD99-CE1C-4CF5-A05D-021E637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E09F-2191-44B9-9F74-560C5C9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8AC-0BDC-4A1B-ADB6-D399CB1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B76-43BC-446C-93D6-7062CA3B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693-3DE7-4F40-A1E5-A64D616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B3F7-AB70-4D39-8840-45D56309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A4D7-F6D7-4E5C-AEC2-3925F905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55A-0376-4D56-8CB3-91CD17B4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D6F7-40E8-4CCB-A0BF-53994913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8A0-1C4F-4A5E-89B6-9EC5946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641-045E-49BF-8A62-CC73645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591-D388-4B90-BECC-8DA798D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AD6-C1C5-474C-97D3-33DC9D8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5DF-00FD-4FE3-BBAE-18A18BE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EE3-A344-4012-955A-D1AC58CF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7C9-1DA4-4755-8341-18CF78FB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602C-CD89-4F90-86A2-3998463F438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90A-A447-44C3-A43C-5AFDA963A80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xiliar Nº 1 ME57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rgio Courtin V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Nibaldo Retamal 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03/08/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62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790640"/>
            <a:ext cx="45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5438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rcicio en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lizar el siguiente problema en ARE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tiene un equipo que puede tener 3 tipos distintos de fall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tra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cursos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agrama de flujo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stribución de las tar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babilid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quema secuenci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i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por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en cada tar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tot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tilización de recur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las en ta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s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olución económica al probl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¿Qué pasa sí...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ran versatilid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so en innumerables proce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re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rea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Realiza procesos con las entidades utilizando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Escoge entre opcion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uplic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uplica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Batc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Une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97164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71640" cy="85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1008000" cy="76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2708280"/>
            <a:ext cx="865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sig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igna atributos a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ispo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Recibe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63640" cy="70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7207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419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1762200"/>
            <a:ext cx="4886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0389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6:50:50Z</dcterms:created>
  <dc:creator>dimec</dc:creator>
  <dc:description/>
  <dc:language>en-US</dc:language>
  <cp:lastModifiedBy>dimec</cp:lastModifiedBy>
  <dcterms:modified xsi:type="dcterms:W3CDTF">2006-08-03T17:27:14Z</dcterms:modified>
  <cp:revision>8</cp:revision>
  <dc:subject/>
  <dc:title>Auxiliar Nº 1 ME57A SIMULACIÓN EN ARENA</dc:title>
</cp:coreProperties>
</file>