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1C9-292A-4524-A66F-2526C626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12B-5B0A-4988-B56C-236239B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F21-9DC1-4FF1-87BB-2C46153F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199-0D02-4681-9D43-633FED43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8FF5-2535-4B41-B25F-E1402066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DA03-5A2C-4A3D-9616-DDB79408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8E59-DC70-435C-9C5D-08BCE799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C21D-D495-4FB9-AF7A-B5C78FAB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C945-DF93-4473-A754-8F136B5B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8F78-EF09-4BF3-868D-DECF3A52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FDA7-565B-441C-A297-3704D9E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B7E-BA31-4208-A756-F095CB0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2E8F-2110-49AB-B741-5D9F9BAA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773B-DB7C-44A6-8B6A-5429C2C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0683-B82A-4586-8E8A-75B36C03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5FC4-DBED-4158-B03C-43D13698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ACDC-45AC-4201-A234-7F29FD7A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133-A801-4E55-B2DF-6492E951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EB8-450B-4581-9B65-D1CB7BF4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916-8E95-42BB-860A-865A1118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61F-5BDA-428F-8798-2D82CFD2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DA3-F1F1-4B47-881C-C42BA775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8DE-EC92-4A41-9E14-51407E82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310-5220-495D-B254-1D05983D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8E99-F298-495D-8702-223A1FD1E1C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D7CC-001A-4BAA-81B2-E7300BF7CB9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uxiliar Nº 1 ME57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ergio Courtin V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Nibaldo Retamal 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03/08/06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8862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8000" y="1790640"/>
            <a:ext cx="4572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5438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rcicio en cl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lizar el siguiente problema en ARE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 tiene un equipo que puede tener 3 tipos distintos de falla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trada de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Recursos del proce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iagrama de flujo del proce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istribución de las tare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obabilid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squema secuenci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alida de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Repor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emora en cada tare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emora tot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tilización de recur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las en tare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s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olución económica al proble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¿Qué pasa sí...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Gran versatilida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so en innumerables proce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rea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rea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Realiza procesos con las entidades utilizando recurs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eci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Escoge entre opcione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uplic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uplica las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Batc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Une las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971640" cy="552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971640" cy="852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869000"/>
            <a:ext cx="1008000" cy="760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79280" y="2708280"/>
            <a:ext cx="8654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ssig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signa atributos a las entida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ispo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Recibe las entida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63640" cy="709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72072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4198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1762200"/>
            <a:ext cx="48862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0389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6:50:50Z</dcterms:created>
  <dc:creator>dimec</dc:creator>
  <dc:description/>
  <dc:language>en-US</dc:language>
  <cp:lastModifiedBy>dimec</cp:lastModifiedBy>
  <dcterms:modified xsi:type="dcterms:W3CDTF">2006-08-03T17:27:14Z</dcterms:modified>
  <cp:revision>8</cp:revision>
  <dc:subject/>
  <dc:title>Auxiliar Nº 1 ME57A SIMULACIÓN EN ARENA</dc:title>
</cp:coreProperties>
</file>