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02C-79C0-4891-A42F-11E6DF8D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FEA-F7A6-44B5-B68A-012C47AB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7DC-05D6-4C75-B430-4B2A4126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231-5B8D-4011-9588-00A13C99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732C-F90F-42E3-84CE-97C7C1DE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FBD5-44C5-43C9-A65F-18A2D3B3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5261-1EFF-4FB3-BA8E-421A4E04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1230-62E0-4D40-8BEA-5574BEDB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64FD-8CB9-4009-8221-9F917435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AB16-5EA1-4307-9982-9DF5C0DE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B9C5-CBA0-4B01-A6BE-3A4DC50E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7222-4478-4F66-AA4E-F626BD44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FFA6-6761-4DD5-8703-5D7E44AD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C498-E52A-4527-8D39-ACAB0A83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9057-5D04-41FE-8D29-23644917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36A3-0C78-467B-A156-6B4A907E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7D5E-C0FE-42ED-AE65-55EEC936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60E-000D-468B-8B0E-994F030D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2CC8-F7D1-4AC4-991E-411768CF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226-11AB-4537-9213-F4C45CC8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4953-2DF0-43B2-B3A3-CF99FC5D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023C-8649-43FD-852B-508B13EB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C69-9CFB-4009-9D5F-E706388F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DC3-F453-4245-87F3-0B701AE1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D784-4880-4FA8-8DBA-CCDE59C0B1F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6F8C-E302-48C2-83E6-099F5DE7C66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uxiliar Nº 1 ME57A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IMULACIÓN EN AR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Sergio Courtin V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Nibaldo Retamal C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03/08/06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388620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8000" y="1790640"/>
            <a:ext cx="4572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en Ar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738360"/>
            <a:ext cx="69836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en Ar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5438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rcicio en cl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alizar el siguiente problema en AREN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 tiene un equipo que puede tener 3 tipos distintos de falla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da falla sigue una distribución exponencial de media 4, 1 y 8 días respectivamente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sten dos talleres de reparación: Mecánica (capacidad 2), Eléctrica (capacidad 2)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ecánica se demora en reparar 3 días con una distribución exponencial, y Eléctrica 4 días con la misma distribución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da falla tiene una probabilidad de 0.6, 0.6 y 0.7 de requerir taller mecánico, y 0.5, 0.3, 0.4 de requerir taller eléctrico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eterminar el tiempo medio de espera en cola de ambos talleres y la tasa de ocupación de los talleres, si los talleres trabajan en serie y en paralelo. Para un tiempo de simulación de 200 día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ntrada de simu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Recursos del proces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Diagrama de flujo del proces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Distribución de las tarea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Probabilida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Esquema secuenci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alida de simu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Report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Demora en cada tare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Demora tot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Utilización de recurs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olas en tare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s simu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Solución económica al proble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¿Qué pasa sí...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Gran versatilida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Uso en innumerables proces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Crea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Crea entidad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Realiza procesos con las entidades utilizando recurs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Deci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Escoge entre opcione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Duplica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Duplica las entidad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Batch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Une las entidad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971640" cy="552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971640" cy="852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869000"/>
            <a:ext cx="1008000" cy="760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79280" y="2708280"/>
            <a:ext cx="8654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Assig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Asigna atributos a las entidad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Dispo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Recibe las entidad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8000" y="1989000"/>
            <a:ext cx="863640" cy="709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72072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54198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1762200"/>
            <a:ext cx="48862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03892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6:50:50Z</dcterms:created>
  <dc:creator>dimec</dc:creator>
  <dc:description/>
  <dc:language>en-US</dc:language>
  <cp:lastModifiedBy>dimec</cp:lastModifiedBy>
  <dcterms:modified xsi:type="dcterms:W3CDTF">2006-08-03T17:27:14Z</dcterms:modified>
  <cp:revision>8</cp:revision>
  <dc:subject/>
  <dc:title>Auxiliar Nº 1 ME57A SIMULACIÓN EN ARENA</dc:title>
</cp:coreProperties>
</file>