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media/image8.png" ContentType="image/png"/>
  <Override PartName="/ppt/media/image9.wmf" ContentType="image/x-wmf"/>
  <Override PartName="/ppt/media/image10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0A05-3387-4884-BF8A-D61308DD1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6D21-AE40-48FE-B166-03E2FC6AA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241C-3430-454B-8B4F-B0BD9D6D6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1755-BBD6-472B-A740-796471374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21F78-A483-449F-AE5A-E5002EAC4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89477-0AA8-40EB-8114-1A9811706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6918D-DF97-4C17-A737-E9FD1248F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0602B-0499-40B2-93C8-9C0529282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30E63-47DD-4CC0-AB5E-D193CA9F1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3A845-1ED8-406C-86A4-B52C731B1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C024A-88FC-4BC6-BD22-E28B0274D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315E-EFA5-4CDE-A15D-EFD5D8DA1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9048C-B435-45C9-BCA9-E5DF71C72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C9612-D2E2-4F68-9117-D1C4406BA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7DB5D-ABCF-4280-9A54-D2D5C937A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47C79-7E61-4B57-9D74-821B818C7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93C1C-BF84-412F-B78F-285A2DFB2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1E2D-A6E3-424A-B61D-6F793E710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99B8-1AE4-46E1-972F-B1824450C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C9A5-74B8-458B-8713-0D5F9A653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E169-C4CC-4702-B44C-E03543AA8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B4FC-8901-4534-8902-2A6360FBD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13C8-DAAA-42E9-9984-C34CDE580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3A8C-B714-4595-8F65-0B1CA7E35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20DF5-2687-4DB1-893A-85DA3BFD333E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82FFE-F1ED-4410-84D4-E848982DCE95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Bases Generales </a:t>
            </a:r>
            <a:br>
              <a:rPr sz="4600"/>
            </a:b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(Parte I apunte Prof. Pascual: “El arte de Mantener”)</a:t>
            </a:r>
            <a:br>
              <a:rPr sz="4600"/>
            </a:b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Análisis de Modo de Fall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usa raíz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sibles efect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dios de detecció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didas de prevenció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recuenc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riticidad de los efect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Análisis de Modo de Fall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9152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tap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copilación de la información (planos, especificaciones, historial de fallas, et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reparar lista de componentes (funciones, condiciones de operación, diagrama funcional de bloq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efinir nivel de criticidad, usualmen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24000" y="4508640"/>
            <a:ext cx="8640720" cy="15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Análisis de Modo de Fall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ra definir el nivel de criticid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95280" y="2421000"/>
            <a:ext cx="8424720" cy="22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136000" cy="507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strucción del FMEC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8569080" cy="45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Árbol de Fall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1700280"/>
            <a:ext cx="9144000" cy="26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Árbol de Fall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39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Árbol de Fall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042920" y="2276640"/>
            <a:ext cx="6913800" cy="37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6633"/>
                </a:solidFill>
                <a:latin typeface="Garamond"/>
              </a:rPr>
              <a:t>Análisis de Paret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195640" y="1197000"/>
            <a:ext cx="4968720" cy="46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6633"/>
                </a:solidFill>
                <a:latin typeface="Garamond"/>
              </a:rPr>
              <a:t>Análisis de Paret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720800" y="1600200"/>
            <a:ext cx="5700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6633"/>
                </a:solidFill>
                <a:latin typeface="Garamond"/>
              </a:rPr>
              <a:t>Análisis de Paret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95280" y="1484280"/>
            <a:ext cx="8209080" cy="40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006633"/>
                </a:solidFill>
                <a:latin typeface="Garamond"/>
              </a:rPr>
              <a:t>Mantenimiento dentro de la empres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Estrateg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Mantener los equipos en oper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Reducir numero de fall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Minimizar cost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Maximizar disponibilid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006633"/>
                </a:solidFill>
                <a:latin typeface="Garamond"/>
              </a:rPr>
              <a:t>Mantenimiento dentro de la empres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8360" y="3212640"/>
            <a:ext cx="8229600" cy="30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Tipo de mantenimient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Mantenimiento preventivo (sistemático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Mantenimiento predictivo (centrado en la condición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Mantenimiento proactivo para evitar aparición o recurrenci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Mantenimiento correctivo (luego de una falla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476360" y="907920"/>
            <a:ext cx="6362640" cy="21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006633"/>
                </a:solidFill>
                <a:latin typeface="Garamond"/>
              </a:rPr>
              <a:t>Mantenimiento dentro de la empres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619280" y="1197000"/>
            <a:ext cx="590544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006633"/>
                </a:solidFill>
                <a:latin typeface="Garamond"/>
              </a:rPr>
              <a:t>Estructura de Costo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Costo global = Costo intervención + Costo de falla + Costo almacenamiento + Costo sobre-intervenció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Costo Intervención (C</a:t>
            </a:r>
            <a:r>
              <a:rPr b="0" lang="es-ES" sz="2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) (por unidad de tiempo = c</a:t>
            </a:r>
            <a:r>
              <a:rPr b="0" lang="es-ES" sz="2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Mano de ob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Material fungi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Repuest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Costo de Falla (C</a:t>
            </a:r>
            <a:r>
              <a:rPr b="0" lang="es-ES" sz="2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) (por unidad de tiempo = c</a:t>
            </a:r>
            <a:r>
              <a:rPr b="0" lang="es-ES" sz="2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Ingresos no percibid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Gastos extras de produc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Materia prima no utiliza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006633"/>
                </a:solidFill>
                <a:latin typeface="Garamond"/>
              </a:rPr>
              <a:t>Estructura de Costo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663120" indent="-3218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Costo de almacenamiento C</a:t>
            </a:r>
            <a:r>
              <a:rPr b="0" lang="es-ES" sz="2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 (por unidad de tiempo = c</a:t>
            </a:r>
            <a:r>
              <a:rPr b="0" lang="es-ES" sz="2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Interés financiero por capital deteni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Mano de obra dedicada a gestión e inventar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Costos de explotación de edificio (energía, mantenció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Depreciación comerci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Et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Costo de sobre-interven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Costo de equipos con mayores costos iniciales, pero menor costo de ciclo de vida (menores costos de mantenimiento, almacenamiento, vida útil mayor, etc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Proyecto Semestral</a:t>
            </a:r>
            <a:r>
              <a:rPr b="0" lang="es-ES_tradnl" sz="3800" spc="-1" strike="noStrike">
                <a:solidFill>
                  <a:srgbClr val="006633"/>
                </a:solidFill>
                <a:latin typeface="Garamond"/>
              </a:rPr>
              <a:t> </a:t>
            </a:r>
            <a:br>
              <a:rPr sz="3800"/>
            </a:br>
            <a:r>
              <a:rPr b="0" lang="es-ES_tradnl" sz="2400" spc="-1" strike="noStrike">
                <a:solidFill>
                  <a:srgbClr val="006633"/>
                </a:solidFill>
                <a:latin typeface="Garamond"/>
              </a:rPr>
              <a:t>Informe Nº1 </a:t>
            </a:r>
            <a:br>
              <a:rPr sz="2400"/>
            </a:br>
            <a:r>
              <a:rPr b="0" lang="es-ES_tradnl" sz="2400" spc="-1" strike="noStrike">
                <a:solidFill>
                  <a:srgbClr val="006633"/>
                </a:solidFill>
                <a:latin typeface="Garamond"/>
              </a:rPr>
              <a:t>(presentación: miércoles y viernes de la semana 3)</a:t>
            </a:r>
            <a:r>
              <a:rPr b="0" lang="es-ES_tradnl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ntrodu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ntecedentes de la empresa (breve no más de una plan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escripción del equipo (funcionamiento, propósito dentro de la empresa,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iagrama funcional de bloq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ndiciones actuales de operación y manten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nálisis de Modo de falla (FMEC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Árbol de fal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nálisis de costos (intervención, falla, almacenamiento, costo de cada fall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nálisis de Pare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nclusiones prelimina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iagrama Funcional de Bloqu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fine la relación entre los subsistemas funcionales del equip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fine las entradas y salidas del equip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843280" y="3645000"/>
            <a:ext cx="3384360" cy="244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03640" y="4149720"/>
            <a:ext cx="863640" cy="503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03640" y="5013360"/>
            <a:ext cx="863640" cy="5745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789440" y="4437000"/>
            <a:ext cx="1295280" cy="8636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195640" y="4365720"/>
            <a:ext cx="1008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" name=""/>
          <p:cNvCxnSpPr>
            <a:stCxn id="103" idx="3"/>
            <a:endCxn id="105" idx="1"/>
          </p:cNvCxnSpPr>
          <p:nvPr/>
        </p:nvCxnSpPr>
        <p:spPr>
          <a:xfrm>
            <a:off x="4067280" y="4401720"/>
            <a:ext cx="722520" cy="467640"/>
          </a:xfrm>
          <a:prstGeom prst="bentConnector3">
            <a:avLst>
              <a:gd name="adj1" fmla="val 49900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08" name=""/>
          <p:cNvCxnSpPr>
            <a:stCxn id="104" idx="3"/>
            <a:endCxn id="105" idx="1"/>
          </p:cNvCxnSpPr>
          <p:nvPr/>
        </p:nvCxnSpPr>
        <p:spPr>
          <a:xfrm flipV="1">
            <a:off x="4067280" y="4868280"/>
            <a:ext cx="722520" cy="432360"/>
          </a:xfrm>
          <a:prstGeom prst="bentConnector3">
            <a:avLst>
              <a:gd name="adj1" fmla="val 49900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109" name=""/>
          <p:cNvSpPr/>
          <p:nvPr/>
        </p:nvSpPr>
        <p:spPr>
          <a:xfrm>
            <a:off x="6084720" y="4869000"/>
            <a:ext cx="648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95640" y="5300640"/>
            <a:ext cx="1008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068720" y="3213000"/>
            <a:ext cx="97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qui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779640" y="3716280"/>
            <a:ext cx="163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siste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458000" y="3881520"/>
            <a:ext cx="109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ra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446520" y="4292640"/>
            <a:ext cx="92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i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iagrama Funcional de Bloqu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5280" y="90792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900000" y="1341360"/>
            <a:ext cx="7345440" cy="482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4T19:38:28Z</dcterms:created>
  <dc:creator>Ingenieria Mecanica</dc:creator>
  <dc:description/>
  <dc:language>en-US</dc:language>
  <cp:lastModifiedBy>vmeruane</cp:lastModifiedBy>
  <dcterms:modified xsi:type="dcterms:W3CDTF">2006-07-26T14:48:35Z</dcterms:modified>
  <cp:revision>11</cp:revision>
  <dc:subject/>
  <dc:title>Analisis de Falla</dc:title>
</cp:coreProperties>
</file>