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9DBA-E47A-44D9-9F8B-3B3848ADD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7C99-3A7E-48A3-867C-E9D1FE0E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F0A9-F5D7-40F1-9C72-BEB28BD5E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FBE4-FC45-4ED4-A527-81012ED6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651F-02F8-4613-8D29-8809D05E6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3ACA-2E04-4D8E-9391-777B4930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D068-AB3A-4802-81DE-B6E80BAC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30DD-6FA2-4C34-AB97-2CF9D3F4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5640-074F-416B-BA71-5B3688D5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D07A-8FE3-4C00-973D-E7E2145B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155B-1ED5-4D9A-BAA8-2BCBF341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5AEA-267A-4B41-A3B7-8A4F1A96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D57E-EB93-47F1-9B28-CB78ACEB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B8B3-138E-49C2-92B6-49D0375C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5F35-5997-4946-A713-A4AFD63F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14CC-E0A6-42A0-8440-8CB86DBDC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8D01-D0DA-4A8C-9FA3-9C58132FA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7789-9A81-4ECE-B01D-C2CDA5A3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CDBD-C7B9-49DC-B5B9-DA466C7A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B437-8F0C-49FB-B931-39E4F3B2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7212-D406-4509-8DC4-C7CFFE3C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A3C9-45A9-49ED-9A68-A95A423A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6A3D-A432-4C53-92C0-B0D52D86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16BF-9F00-4823-A316-C8821DDC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88F9-7DCE-4053-BF3C-8EBD4C01DBF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F8D2-0CEB-4639-871F-1D387DE84EC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Bases Generales </a:t>
            </a:r>
            <a:br>
              <a:rPr sz="4600"/>
            </a:b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(Parte I apunte Prof. Pascual: “El arte de Mantener”)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álisis de Modo de Fal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usa raí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bles efec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os de detec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das de preven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ecuenc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iticidad de los efec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álisis de Modo de Fal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91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tap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copilación de la información (planos, especificaciones, historial de fallas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parar lista de componentes (funciones, condiciones de operación, diagrama funcional de bloq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finir nivel de criticidad, usu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4508640"/>
            <a:ext cx="864072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álisis de Modo de Fal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a definir el nivel de critic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842472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13600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trucción del FME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5690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Árbol de Fal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Árbol de Fal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Árbol de Fal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6913800" cy="3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nálisis de Pare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95640" y="1197000"/>
            <a:ext cx="49687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nálisis de Pare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20800" y="1600200"/>
            <a:ext cx="5700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nálisis de Pare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20908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Mantenimiento dentro de la empres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antener los equipos en oper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ducir numero de fal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inimizar cos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aximizar disponibil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Mantenimiento dentro de la empres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3212640"/>
            <a:ext cx="822960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ipo de mantenimi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antenimiento preventivo (sistemátic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antenimiento predictivo (centrado en la condició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antenimiento proactivo para evitar aparición o recurrenc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antenimiento correctivo (luego de una fall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36264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Mantenimiento dentro de la empres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590544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Estructura de Cost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sto global = Costo intervención + Costo de falla + Costo almacenamiento + Costo sobre-intervenció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sto Intervención (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) (por unidad de tiempo = 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ano de ob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aterial fung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pues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sto de Falla (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) (por unidad de tiempo = 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gresos no percibi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Gastos extras de produc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ateria prima no utiliz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Estructura de Cost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63120" indent="-321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sto de almacenamiento 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(por unidad de tiempo = 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terés financiero por capital de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ano de obra dedicada a gestión e invent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stos de explotación de edificio (energía, mantenció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preciación comer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sto de sobre-interven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sto de equipos con mayores costos iniciales, pero menor costo de ciclo de vida (menores costos de mantenimiento, almacenamiento, vida útil mayor, etc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royecto Semestral</a:t>
            </a: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3800"/>
            </a:br>
            <a:r>
              <a:rPr b="0" lang="es-ES_tradnl" sz="2400" spc="-1" strike="noStrike">
                <a:solidFill>
                  <a:srgbClr val="006633"/>
                </a:solidFill>
                <a:latin typeface="Garamond"/>
              </a:rPr>
              <a:t>Informe Nº1 </a:t>
            </a:r>
            <a:br>
              <a:rPr sz="2400"/>
            </a:br>
            <a:r>
              <a:rPr b="0" lang="es-ES_tradnl" sz="2400" spc="-1" strike="noStrike">
                <a:solidFill>
                  <a:srgbClr val="006633"/>
                </a:solidFill>
                <a:latin typeface="Garamond"/>
              </a:rPr>
              <a:t>(presentación: miércoles y viernes de la semana 3)</a:t>
            </a: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tecedentes de la empresa (breve no más de una pla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cripción del equipo (funcionamiento, propósito dentro de la empresa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agrama funcional de blo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diciones actuales de operación y mant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álisis de Modo de falla (FME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Árbol de fal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álisis de costos (intervención, falla, almacenamiento, costo de cada fal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álisis de Par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clusiones prelimin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 Funcional de Bloqu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la relación entre los subsistemas funcionales del equip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las entradas y salidas del equip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43280" y="3645000"/>
            <a:ext cx="3384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03640" y="4149720"/>
            <a:ext cx="863640" cy="503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013360"/>
            <a:ext cx="863640" cy="5745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89440" y="4437000"/>
            <a:ext cx="1295280" cy="863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95640" y="436572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103" idx="3"/>
            <a:endCxn id="105" idx="1"/>
          </p:cNvCxnSpPr>
          <p:nvPr/>
        </p:nvCxnSpPr>
        <p:spPr>
          <a:xfrm>
            <a:off x="4067280" y="4401720"/>
            <a:ext cx="722520" cy="467640"/>
          </a:xfrm>
          <a:prstGeom prst="bentConnector3">
            <a:avLst>
              <a:gd name="adj1" fmla="val 49900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8" name=""/>
          <p:cNvCxnSpPr>
            <a:stCxn id="104" idx="3"/>
            <a:endCxn id="105" idx="1"/>
          </p:cNvCxnSpPr>
          <p:nvPr/>
        </p:nvCxnSpPr>
        <p:spPr>
          <a:xfrm flipV="1">
            <a:off x="4067280" y="4868280"/>
            <a:ext cx="722520" cy="432360"/>
          </a:xfrm>
          <a:prstGeom prst="bentConnector3">
            <a:avLst>
              <a:gd name="adj1" fmla="val 49900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09" name=""/>
          <p:cNvSpPr/>
          <p:nvPr/>
        </p:nvSpPr>
        <p:spPr>
          <a:xfrm>
            <a:off x="6084720" y="4869000"/>
            <a:ext cx="648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95640" y="530064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68720" y="321300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79640" y="3716280"/>
            <a:ext cx="16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ist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58000" y="38815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46520" y="429264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 Funcional de Bloqu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345440" cy="48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9:38:28Z</dcterms:created>
  <dc:creator>Ingenieria Mecanica</dc:creator>
  <dc:description/>
  <dc:language>en-US</dc:language>
  <cp:lastModifiedBy>vmeruane</cp:lastModifiedBy>
  <dcterms:modified xsi:type="dcterms:W3CDTF">2006-07-26T14:48:35Z</dcterms:modified>
  <cp:revision>11</cp:revision>
  <dc:subject/>
  <dc:title>Analisis de Falla</dc:title>
</cp:coreProperties>
</file>